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1f7a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7DAA-2BAD-4F35-9E2D-505105A42A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semantic search? Semantic search is search with semantics. In the context of the semantic web h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n-to-knowledge project provides one of the first suits of tools for semantic metadata acquisti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emantic content organization and retrieval engine is a commercialized technology which supports the extraction of semantic metadata from data 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848-307B-4316-854C-6F650F43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24B-A977-4770-B527-7A87D706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953-2089-40F0-95FF-00586307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C39-A894-4EB5-B59C-BD4F63DE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36DB-6F61-4319-9BC2-14BEEBB0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E73D-C632-4B32-9F52-D4FFAD9E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5F01-138A-44C7-A197-A1DEB004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B798-D0FB-4016-B3F9-8F678FB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94AC-3193-4D5B-BAE7-93455011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038120" y="228600"/>
            <a:ext cx="4800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B50D-E7CF-469B-BDE2-B5A74170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3A16-D1BF-48CA-B021-5DA57A7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BA7-39F5-4ED7-89B7-7F5B36E4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97AD-F5C4-45CB-BB0D-B247FD4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0AA3-F52C-4AF7-A6F0-C9447E3B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877C-9802-4041-9644-72A72AE7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570A-90EE-4D43-96D9-EDB857E6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645C-7C9A-42D9-9964-5EDFDADB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DA4-3063-47BD-A8E4-E3DE9DF6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A3D-8022-46E6-9996-7FFB0C43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9C7-42E5-4890-9A11-4F39145B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38120" y="228600"/>
            <a:ext cx="4800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3B0-6C75-45B2-A7D8-B6EE522B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16E-27EA-4814-8DC4-148FCE47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0F8-6EFE-442E-A377-8C881782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C76-BDC3-4B14-90F7-6FE87257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f1f7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33ED-5C68-4E22-89A7-361E43440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140360" y="623736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84360" y="6237360"/>
            <a:ext cx="1095120" cy="365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1f7a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44C4-EEDD-49F8-A6D6-055B115B4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140360" y="623736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4360" y="6237360"/>
            <a:ext cx="1095120" cy="365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f1f7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1f7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f1f7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f1f7a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1f7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emanticweb.kmi.open.ac.uk/" TargetMode="External"/><Relationship Id="rId2" Type="http://schemas.openxmlformats.org/officeDocument/2006/relationships/hyperlink" Target="http://semanticweb.kmi.open.ac.uk/" TargetMode="External"/><Relationship Id="rId3" Type="http://schemas.openxmlformats.org/officeDocument/2006/relationships/hyperlink" Target="http://semanticweb.kmi.open.ac.uk/" TargetMode="External"/><Relationship Id="rId4" Type="http://schemas.openxmlformats.org/officeDocument/2006/relationships/hyperlink" Target="http://search.eswc06.or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2666520"/>
            <a:ext cx="828036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f7a"/>
                </a:solidFill>
                <a:latin typeface="Verdana"/>
              </a:rPr>
              <a:t>Semantic Search Components: </a:t>
            </a:r>
            <a:br>
              <a:rPr sz="2000"/>
            </a:br>
            <a:r>
              <a:rPr b="1" lang="en-US" sz="2000" spc="-1" strike="noStrike">
                <a:solidFill>
                  <a:srgbClr val="0f1f7a"/>
                </a:solidFill>
                <a:latin typeface="Verdana"/>
              </a:rPr>
              <a:t>a blueprint for effective query language interfaces </a:t>
            </a:r>
            <a:br>
              <a:rPr sz="2000"/>
            </a:br>
            <a:r>
              <a:rPr b="0" lang="es-ES" sz="2000" spc="-1" strike="noStrike">
                <a:solidFill>
                  <a:srgbClr val="0f1f7a"/>
                </a:solidFill>
                <a:latin typeface="Verdana"/>
              </a:rPr>
              <a:t>Victoria Uren &amp; Enrico Motta</a:t>
            </a:r>
            <a:br>
              <a:rPr sz="2000"/>
            </a:br>
            <a:r>
              <a:rPr b="1" lang="en-GB" sz="2000" spc="-1" strike="noStrike">
                <a:solidFill>
                  <a:srgbClr val="0f1f7a"/>
                </a:solidFill>
                <a:latin typeface="Verdana"/>
              </a:rPr>
              <a:t>SemSearch: A Search Engine for the Semantic Web</a:t>
            </a: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Yuangui Lei, Victoria Uren, Enrico Motta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34920" y="5300640"/>
            <a:ext cx="58640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1f7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1f7a"/>
                </a:solidFill>
                <a:latin typeface="Verdana"/>
              </a:rPr>
              <a:t>EKAW 2006  @ Podebrady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1f7a"/>
                </a:solidFill>
                <a:latin typeface="Verdana"/>
              </a:rPr>
              <a:t>3-5 Oct. 2006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6440" y="279360"/>
            <a:ext cx="2260440" cy="208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924680" y="6248520"/>
            <a:ext cx="101628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arch Formulation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“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rel-ent” for the class of Highway Fuel Consumption measurement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30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3645000"/>
          <a:ext cx="8137440" cy="221112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LECT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?rel ?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WHERE { :HighwayFuelConsumptionMeasurement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?rel ?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owl:disjointWit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ls(CombinedFuelConsumptionMeasur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owl:disjointWit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ls(UrbanFuelConsumptionMeasur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rdfs: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bClassO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uelConsumptionMeasurem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rdf:type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ls(owl:Cla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arch Formulation 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Try a superclass query to retrieve all the possible types of measurement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8360" y="2708280"/>
          <a:ext cx="7920000" cy="319572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LECT ?anyFuelCons WHERE { ?anyFuelCons rdf:type  ?x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?x 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 Narrow"/>
                          <a:ea typeface="Times New Roman"/>
                        </a:rPr>
                        <a:t>rdfs:subClassOf</a:t>
                      </a:r>
                      <a:r>
                        <a:rPr b="0" lang="en-US" sz="1800" spc="-1" strike="noStrike">
                          <a:solidFill>
                            <a:srgbClr val="99cc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:FuelConsumptionMeasurement 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HighwayFuelConsumptionMeasurement_22 of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[Cls(HighwayFuelConsumptionMeasurement)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UrbanFuelConsumptionMeasurement_61 of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[Cls(UrbanFuelConsumptionMeasurement)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UrbanFuelConsumptionMeasurement_16 of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[Cls(UrbanFuelConsumptionMeasurement)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arch Formulation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Add the some extra constraints!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924680" y="6248520"/>
            <a:ext cx="1016280" cy="58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93840" y="304920"/>
            <a:ext cx="1358640" cy="952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24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4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3068640"/>
          <a:ext cx="8424720" cy="29275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LECT ?fuelCons ?x WHERE { ?fuelCons rdf:type  ?x . ?x rdfs:subClassOf :FuelConsumptionMeasuremen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?fuelCon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:reportedBy :TransportCanad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. ?fuelCons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:hasUnit :UnitSI_lPER100k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UrbanFuelConsumptionMeasurement_61 of [Cls(UrbanFuelConsumptionMeasurement)]) Cls(UrbanFuelConsumptionMeasur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UrbanFuelConsumptionMeasurement_16 of [Cls(UrbanFuelConsumptionMeasurement)]) Cls(UrbanFuelConsumptionMeasur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HighwayFuelConsumptionMeasurement_24 of [Cls(HighwayFuelConsumptionMeasurement)]) Cls(HighwayFuelConsumptionMeasur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6009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692360" y="3068640"/>
            <a:ext cx="718920" cy="3097080"/>
            <a:chOff x="1692360" y="3068640"/>
            <a:chExt cx="718920" cy="3097080"/>
          </a:xfrm>
        </p:grpSpPr>
        <p:sp>
          <p:nvSpPr>
            <p:cNvPr id="187" name=""/>
            <p:cNvSpPr/>
            <p:nvPr/>
          </p:nvSpPr>
          <p:spPr>
            <a:xfrm>
              <a:off x="1763640" y="3068640"/>
              <a:ext cx="287280" cy="216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63640" y="4005360"/>
              <a:ext cx="287280" cy="21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92360" y="4941720"/>
              <a:ext cx="718920" cy="28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92360" y="5877000"/>
              <a:ext cx="64764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72000" y="2637000"/>
            <a:ext cx="431640" cy="720720"/>
            <a:chOff x="6372000" y="2637000"/>
            <a:chExt cx="431640" cy="720720"/>
          </a:xfrm>
        </p:grpSpPr>
        <p:sp>
          <p:nvSpPr>
            <p:cNvPr id="192" name=""/>
            <p:cNvSpPr/>
            <p:nvPr/>
          </p:nvSpPr>
          <p:spPr>
            <a:xfrm flipH="1">
              <a:off x="6372000" y="263700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443280" y="335772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Case study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Verdana"/>
              </a:rPr>
              <a:t>Components Approa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emSear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Query Construction in SemSear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Demo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oblem Solving Methods (PSM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“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Problem solving methods are reasoning components, which specify patterns of behavior which can be reused across applications.” 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Dieter Fensel, Enrico Motta, (1998) Structured </a:t>
            </a:r>
            <a:r>
              <a:rPr b="0" i="1" lang="en-GB" sz="2000" spc="-1" strike="noStrike">
                <a:solidFill>
                  <a:srgbClr val="0f1f7a"/>
                </a:solidFill>
                <a:latin typeface="Verdana"/>
              </a:rPr>
              <a:t>Development of Problem Solving Methods</a:t>
            </a: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, Knowledge and Data Engineering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here do the components g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924680" y="6248520"/>
            <a:ext cx="1016280" cy="583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93840" y="304920"/>
            <a:ext cx="135864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151000" y="1341360"/>
            <a:ext cx="477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atterns of search behavio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1f7a"/>
                </a:solidFill>
                <a:latin typeface="Verdana"/>
              </a:rPr>
              <a:t>Reflection</a:t>
            </a: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 – local search that looks for things in the vicinity of a node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1f7a"/>
                </a:solidFill>
                <a:latin typeface="Verdana"/>
              </a:rPr>
              <a:t>Similarity</a:t>
            </a: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 – looks for things that are “like” a certain thing.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1f7a"/>
                </a:solidFill>
                <a:latin typeface="Verdana"/>
              </a:rPr>
              <a:t>Focus</a:t>
            </a: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 – refine a search by narrowing or broadening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1f7a"/>
                </a:solidFill>
                <a:latin typeface="Verdana"/>
              </a:rPr>
              <a:t>Assembly</a:t>
            </a: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 – put together search components in a complex search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1f7a"/>
                </a:solidFill>
                <a:latin typeface="Verdana"/>
              </a:rPr>
              <a:t>Select</a:t>
            </a:r>
            <a:r>
              <a:rPr b="0" lang="en-US" sz="2800" spc="-1" strike="noStrike">
                <a:solidFill>
                  <a:srgbClr val="0f1f7a"/>
                </a:solidFill>
                <a:latin typeface="Verdana"/>
              </a:rPr>
              <a:t> – select what data to view 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924680" y="6248520"/>
            <a:ext cx="1016280" cy="583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93840" y="304920"/>
            <a:ext cx="1358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arch Components for Ref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f7a"/>
                </a:solidFill>
                <a:latin typeface="Verdana"/>
              </a:rPr>
              <a:t>Rel-ent</a:t>
            </a: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 – find everything with a link </a:t>
            </a:r>
            <a:r>
              <a:rPr b="0" i="1" lang="en-US" sz="3200" spc="-1" strike="noStrike">
                <a:solidFill>
                  <a:srgbClr val="0f1f7a"/>
                </a:solidFill>
                <a:latin typeface="Verdana"/>
              </a:rPr>
              <a:t>from</a:t>
            </a: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 a known node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f7a"/>
                </a:solidFill>
                <a:latin typeface="Verdana"/>
              </a:rPr>
              <a:t>Ent-rel</a:t>
            </a: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 – Find 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everything with a link </a:t>
            </a:r>
            <a:r>
              <a:rPr b="0" i="1" lang="en-GB" sz="3200" spc="-1" strike="noStrike">
                <a:solidFill>
                  <a:srgbClr val="0f1f7a"/>
                </a:solidFill>
                <a:latin typeface="Verdana"/>
              </a:rPr>
              <a:t>to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 a known node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f7a"/>
                </a:solidFill>
                <a:latin typeface="Verdana"/>
              </a:rPr>
              <a:t>AquaLog</a:t>
            </a:r>
            <a:r>
              <a:rPr b="0" lang="en-US" sz="3200" spc="-1" strike="noStrike">
                <a:solidFill>
                  <a:srgbClr val="0f1f7a"/>
                </a:solidFill>
                <a:latin typeface="Verdana"/>
              </a:rPr>
              <a:t> – look for relations like those specified by a natural language query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More examples in the paper!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anslating to SPARQ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685800" y="1981080"/>
          <a:ext cx="7918560" cy="3322800"/>
        </p:xfrm>
        <a:graphic>
          <a:graphicData uri="http://schemas.openxmlformats.org/drawingml/2006/table">
            <a:tbl>
              <a:tblPr/>
              <a:tblGrid>
                <a:gridCol w="2025720"/>
                <a:gridCol w="1904760"/>
                <a:gridCol w="398808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8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98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-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:Behem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8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LECT ?rel ?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98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WHERE {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:Behemo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?rel ?ent 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8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mila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98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Ma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:Behem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8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LECT ?likeTh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98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WHERE {?likeThis rdf:type ?x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98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:Behemo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rdf:type ?x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067280" y="5084640"/>
            <a:ext cx="4749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More examples in the pap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Goa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83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emantic search aims to extend traditional search with semantic web technology  by exploiting the explicit meaning of documents (i.e., ontology-based metadata)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Case study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Components Approa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Verdana"/>
              </a:rPr>
              <a:t>SemSear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Query Construction in SemSear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Demo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oals of SemSear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Hide the complexity of semantic search from end users: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Low barrier to access: easy to post queries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Avoiding the form-based routine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Avoiding the view-based search routine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Dealing with relatively complex queries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Supporting multiple keywords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Precise and self-explanatory results: 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Results satisfy user queries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Results are easy to understand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Quick response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Avoiding linguistic processing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24000" y="228600"/>
            <a:ext cx="5357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Google-like query interf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1f7a"/>
                </a:solidFill>
                <a:latin typeface="Verdana"/>
              </a:rPr>
              <a:t>Extending the traditional keyword search languages by allowing the specification of query “subject”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1f7a"/>
                </a:solidFill>
                <a:latin typeface="Verdana"/>
              </a:rPr>
              <a:t>Also allows combination of keywords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1f7a"/>
                </a:solidFill>
                <a:latin typeface="Verdana"/>
              </a:rPr>
              <a:t>Three operations are used: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1f7a"/>
                </a:solidFill>
                <a:latin typeface="Verdana"/>
              </a:rPr>
              <a:t>Operator “:” captures the query subject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1f7a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0f1f7a"/>
                </a:solidFill>
                <a:latin typeface="Verdana"/>
              </a:rPr>
              <a:t>and”/”or” specifies the combination of keywords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1f7a"/>
                </a:solidFill>
                <a:latin typeface="Verdana"/>
              </a:rPr>
              <a:t>Query formats: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1f7a"/>
                </a:solidFill>
                <a:latin typeface="Verdana"/>
              </a:rPr>
              <a:t>One keyword: finding entities that have relations with the keyword match(es)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1f7a"/>
                </a:solidFill>
                <a:latin typeface="Verdana"/>
              </a:rPr>
              <a:t>Multiple keywords: “subject:keyword1 and/or keyword2 and/or keyword3”, e.g., “&lt;news: phd students&gt;”, &lt;paper: john and enrico&gt; 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Advantages: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1f7a"/>
                </a:solidFill>
                <a:latin typeface="Verdana"/>
              </a:rPr>
              <a:t>More flexible than form-based query interface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1f7a"/>
                </a:solidFill>
                <a:latin typeface="Verdana"/>
              </a:rPr>
              <a:t>More powerful than state-of-art keyword-based semantic search interfaces</a:t>
            </a:r>
            <a:endParaRPr b="0" lang="en-US" sz="16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imple query examp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748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172200" cy="48164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Refinement suppor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9760" cy="4640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Complex query examp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emSearch Architectu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1268280"/>
            <a:ext cx="720072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58920" y="1819440"/>
            <a:ext cx="48150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Google-like User Interface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58920" y="3265560"/>
            <a:ext cx="3446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Semantic Query Lay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148360" y="5726160"/>
            <a:ext cx="381960" cy="323280"/>
            <a:chOff x="5148360" y="5726160"/>
            <a:chExt cx="381960" cy="323280"/>
          </a:xfrm>
        </p:grpSpPr>
        <p:grpSp>
          <p:nvGrpSpPr>
            <p:cNvPr id="238" name=""/>
            <p:cNvGrpSpPr/>
            <p:nvPr/>
          </p:nvGrpSpPr>
          <p:grpSpPr>
            <a:xfrm>
              <a:off x="5148360" y="5726160"/>
              <a:ext cx="278280" cy="281160"/>
              <a:chOff x="5148360" y="5726160"/>
              <a:chExt cx="278280" cy="281160"/>
            </a:xfrm>
          </p:grpSpPr>
          <p:sp>
            <p:nvSpPr>
              <p:cNvPr id="239" name=""/>
              <p:cNvSpPr/>
              <p:nvPr/>
            </p:nvSpPr>
            <p:spPr>
              <a:xfrm>
                <a:off x="5148360" y="5726160"/>
                <a:ext cx="278280" cy="281160"/>
              </a:xfrm>
              <a:prstGeom prst="foldedCorner">
                <a:avLst>
                  <a:gd name="adj" fmla="val 2735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85440" y="57981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85440" y="584892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85440" y="590004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81840" y="595620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200560" y="5747760"/>
              <a:ext cx="278640" cy="281160"/>
              <a:chOff x="5200560" y="5747760"/>
              <a:chExt cx="278640" cy="281160"/>
            </a:xfrm>
          </p:grpSpPr>
          <p:sp>
            <p:nvSpPr>
              <p:cNvPr id="245" name=""/>
              <p:cNvSpPr/>
              <p:nvPr/>
            </p:nvSpPr>
            <p:spPr>
              <a:xfrm>
                <a:off x="5200560" y="5747760"/>
                <a:ext cx="278640" cy="281160"/>
              </a:xfrm>
              <a:prstGeom prst="foldedCorner">
                <a:avLst>
                  <a:gd name="adj" fmla="val 2735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237640" y="5819760"/>
                <a:ext cx="20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237640" y="5870520"/>
                <a:ext cx="20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237640" y="5921640"/>
                <a:ext cx="20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34040" y="5977800"/>
                <a:ext cx="20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5252040" y="5767920"/>
              <a:ext cx="278280" cy="281520"/>
              <a:chOff x="5252040" y="5767920"/>
              <a:chExt cx="278280" cy="281520"/>
            </a:xfrm>
          </p:grpSpPr>
          <p:sp>
            <p:nvSpPr>
              <p:cNvPr id="251" name=""/>
              <p:cNvSpPr/>
              <p:nvPr/>
            </p:nvSpPr>
            <p:spPr>
              <a:xfrm>
                <a:off x="5252040" y="5767920"/>
                <a:ext cx="278280" cy="281520"/>
              </a:xfrm>
              <a:prstGeom prst="foldedCorner">
                <a:avLst>
                  <a:gd name="adj" fmla="val 2735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89120" y="583992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89120" y="589068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289120" y="59421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85520" y="59979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1022400" y="2549520"/>
            <a:ext cx="708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73240" y="4548240"/>
            <a:ext cx="6757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Formal Query Language Layer (SPARQL, SERQL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16000" y="5187960"/>
            <a:ext cx="3328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Semantic Data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867280" y="5291280"/>
            <a:ext cx="799200" cy="593640"/>
            <a:chOff x="5867280" y="5291280"/>
            <a:chExt cx="799200" cy="593640"/>
          </a:xfrm>
        </p:grpSpPr>
        <p:grpSp>
          <p:nvGrpSpPr>
            <p:cNvPr id="260" name=""/>
            <p:cNvGrpSpPr/>
            <p:nvPr/>
          </p:nvGrpSpPr>
          <p:grpSpPr>
            <a:xfrm>
              <a:off x="6030000" y="5291280"/>
              <a:ext cx="443520" cy="324360"/>
              <a:chOff x="6030000" y="5291280"/>
              <a:chExt cx="443520" cy="32436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6030000" y="5418000"/>
                <a:ext cx="251280" cy="197640"/>
                <a:chOff x="6030000" y="5418000"/>
                <a:chExt cx="251280" cy="1976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10280" y="541800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30000" y="55501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215760" y="55501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6082200" y="548496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176160" y="548496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113160" y="5291280"/>
                <a:ext cx="251280" cy="197280"/>
                <a:chOff x="6113160" y="5291280"/>
                <a:chExt cx="251280" cy="197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193440" y="529128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13160" y="54230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298920" y="54230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>
                  <a:off x="6165360" y="535788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259320" y="535788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222240" y="5405760"/>
                <a:ext cx="251280" cy="197640"/>
                <a:chOff x="6222240" y="5405760"/>
                <a:chExt cx="251280" cy="1976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302520" y="54057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222240" y="5537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408000" y="5537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6274440" y="547272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368400" y="547272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6222960" y="5531040"/>
              <a:ext cx="443520" cy="324360"/>
              <a:chOff x="6222960" y="5531040"/>
              <a:chExt cx="443520" cy="32436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6222960" y="5657760"/>
                <a:ext cx="251280" cy="197640"/>
                <a:chOff x="6222960" y="5657760"/>
                <a:chExt cx="251280" cy="1976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6303240" y="56577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222960" y="5789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08720" y="5789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6275160" y="572472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369120" y="572472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306120" y="5531040"/>
                <a:ext cx="251280" cy="197280"/>
                <a:chOff x="6306120" y="5531040"/>
                <a:chExt cx="251280" cy="197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386400" y="553104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306120" y="56628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491880" y="56628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6358320" y="559764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452280" y="559764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6415200" y="5645520"/>
                <a:ext cx="251280" cy="197640"/>
                <a:chOff x="6415200" y="5645520"/>
                <a:chExt cx="251280" cy="1976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495480" y="564552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415200" y="57776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00960" y="57776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6467400" y="571248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561360" y="571248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5867280" y="5560560"/>
              <a:ext cx="443520" cy="324360"/>
              <a:chOff x="5867280" y="5560560"/>
              <a:chExt cx="443520" cy="3243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5867280" y="5687280"/>
                <a:ext cx="251280" cy="197640"/>
                <a:chOff x="5867280" y="5687280"/>
                <a:chExt cx="251280" cy="197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947560" y="568728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867280" y="58194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3040" y="58194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>
                  <a:off x="5919480" y="575424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013440" y="575424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950440" y="5560560"/>
                <a:ext cx="251280" cy="197280"/>
                <a:chOff x="5950440" y="5560560"/>
                <a:chExt cx="251280" cy="1972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030720" y="55605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950440" y="56923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36200" y="56923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6002640" y="562716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096600" y="562716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059520" y="5675040"/>
                <a:ext cx="251280" cy="197640"/>
                <a:chOff x="6059520" y="5675040"/>
                <a:chExt cx="251280" cy="1976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139800" y="567504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059520" y="580716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245280" y="580716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6111720" y="574200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205680" y="574200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7" name=""/>
          <p:cNvGrpSpPr/>
          <p:nvPr/>
        </p:nvGrpSpPr>
        <p:grpSpPr>
          <a:xfrm>
            <a:off x="3916440" y="5291280"/>
            <a:ext cx="798840" cy="593640"/>
            <a:chOff x="3916440" y="5291280"/>
            <a:chExt cx="798840" cy="593640"/>
          </a:xfrm>
        </p:grpSpPr>
        <p:grpSp>
          <p:nvGrpSpPr>
            <p:cNvPr id="318" name=""/>
            <p:cNvGrpSpPr/>
            <p:nvPr/>
          </p:nvGrpSpPr>
          <p:grpSpPr>
            <a:xfrm>
              <a:off x="4079160" y="5291280"/>
              <a:ext cx="443520" cy="324360"/>
              <a:chOff x="4079160" y="5291280"/>
              <a:chExt cx="443520" cy="32436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4079160" y="5418000"/>
                <a:ext cx="251280" cy="197640"/>
                <a:chOff x="4079160" y="5418000"/>
                <a:chExt cx="251280" cy="1976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159440" y="541800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079160" y="55501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264920" y="55501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4131360" y="548496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225320" y="548496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162320" y="5291280"/>
                <a:ext cx="251280" cy="197280"/>
                <a:chOff x="4162320" y="5291280"/>
                <a:chExt cx="251280" cy="1972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4242600" y="529128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62320" y="54230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348080" y="54230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>
                  <a:off x="4214520" y="535788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308480" y="535788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271400" y="5405760"/>
                <a:ext cx="251280" cy="197640"/>
                <a:chOff x="4271400" y="5405760"/>
                <a:chExt cx="251280" cy="1976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351680" y="54057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271400" y="5537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457160" y="5537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4323600" y="547272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417560" y="547272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7" name=""/>
            <p:cNvGrpSpPr/>
            <p:nvPr/>
          </p:nvGrpSpPr>
          <p:grpSpPr>
            <a:xfrm>
              <a:off x="4271760" y="5531040"/>
              <a:ext cx="443520" cy="324360"/>
              <a:chOff x="4271760" y="5531040"/>
              <a:chExt cx="443520" cy="3243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4271760" y="5657760"/>
                <a:ext cx="251280" cy="197640"/>
                <a:chOff x="4271760" y="5657760"/>
                <a:chExt cx="251280" cy="1976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352040" y="56577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271760" y="5789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57520" y="5789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4323960" y="572472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417920" y="572472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4354920" y="5531040"/>
                <a:ext cx="251280" cy="197280"/>
                <a:chOff x="4354920" y="5531040"/>
                <a:chExt cx="251280" cy="1972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435200" y="553104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354920" y="56628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540680" y="56628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4407120" y="559764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501080" y="559764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464000" y="5645520"/>
                <a:ext cx="251280" cy="197640"/>
                <a:chOff x="4464000" y="5645520"/>
                <a:chExt cx="251280" cy="197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544280" y="564552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464000" y="57776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649760" y="57776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4516200" y="571248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610160" y="571248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3916440" y="5560560"/>
              <a:ext cx="443520" cy="324360"/>
              <a:chOff x="3916440" y="5560560"/>
              <a:chExt cx="443520" cy="3243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3916440" y="5687280"/>
                <a:ext cx="251280" cy="197640"/>
                <a:chOff x="3916440" y="5687280"/>
                <a:chExt cx="251280" cy="1976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996720" y="568728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916440" y="58194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102200" y="58194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3968640" y="575424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062600" y="575424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3999600" y="5560560"/>
                <a:ext cx="251280" cy="197280"/>
                <a:chOff x="3999600" y="5560560"/>
                <a:chExt cx="251280" cy="1972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079880" y="55605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999600" y="56923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185360" y="56923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4051800" y="562716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145760" y="562716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4108680" y="5675040"/>
                <a:ext cx="251280" cy="197640"/>
                <a:chOff x="4108680" y="5675040"/>
                <a:chExt cx="251280" cy="1976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4188960" y="567504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08680" y="580716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294440" y="580716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4160880" y="574200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254840" y="574200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75" name=""/>
          <p:cNvSpPr/>
          <p:nvPr/>
        </p:nvSpPr>
        <p:spPr>
          <a:xfrm>
            <a:off x="4716360" y="5726160"/>
            <a:ext cx="2700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568840" y="5726160"/>
            <a:ext cx="27000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98640" y="1933560"/>
            <a:ext cx="7083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3640" y="1452600"/>
            <a:ext cx="541440" cy="361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06880" y="1468440"/>
            <a:ext cx="1351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End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0440" y="2637000"/>
            <a:ext cx="314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Semantic entity indexing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70440" y="2954160"/>
            <a:ext cx="3776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Semantic entity search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0440" y="3616200"/>
            <a:ext cx="3274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Formal query construction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95640" y="3892680"/>
            <a:ext cx="2735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Query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70440" y="4146480"/>
            <a:ext cx="1787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Ranking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70440" y="2179800"/>
            <a:ext cx="340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Google-like query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58920" y="2608200"/>
            <a:ext cx="2536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Text Search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30320" y="3330720"/>
            <a:ext cx="708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5400" y="4502160"/>
            <a:ext cx="708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95400" y="5099040"/>
            <a:ext cx="708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here do the components g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924680" y="6248520"/>
            <a:ext cx="1016280" cy="5839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93840" y="304920"/>
            <a:ext cx="1358640" cy="9525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2151000" y="1341360"/>
            <a:ext cx="477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emSearch Architectu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971640" y="1268280"/>
            <a:ext cx="720072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58920" y="1819440"/>
            <a:ext cx="48150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Google-like User Interface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58920" y="3265560"/>
            <a:ext cx="3446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Semantic Query Lay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148360" y="5726160"/>
            <a:ext cx="381960" cy="323280"/>
            <a:chOff x="5148360" y="5726160"/>
            <a:chExt cx="381960" cy="323280"/>
          </a:xfrm>
        </p:grpSpPr>
        <p:grpSp>
          <p:nvGrpSpPr>
            <p:cNvPr id="399" name=""/>
            <p:cNvGrpSpPr/>
            <p:nvPr/>
          </p:nvGrpSpPr>
          <p:grpSpPr>
            <a:xfrm>
              <a:off x="5148360" y="5726160"/>
              <a:ext cx="278280" cy="281160"/>
              <a:chOff x="5148360" y="5726160"/>
              <a:chExt cx="278280" cy="281160"/>
            </a:xfrm>
          </p:grpSpPr>
          <p:sp>
            <p:nvSpPr>
              <p:cNvPr id="400" name=""/>
              <p:cNvSpPr/>
              <p:nvPr/>
            </p:nvSpPr>
            <p:spPr>
              <a:xfrm>
                <a:off x="5148360" y="5726160"/>
                <a:ext cx="278280" cy="281160"/>
              </a:xfrm>
              <a:prstGeom prst="foldedCorner">
                <a:avLst>
                  <a:gd name="adj" fmla="val 2735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85440" y="57981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85440" y="584892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85440" y="590004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81840" y="595620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200560" y="5747760"/>
              <a:ext cx="278640" cy="281160"/>
              <a:chOff x="5200560" y="5747760"/>
              <a:chExt cx="278640" cy="281160"/>
            </a:xfrm>
          </p:grpSpPr>
          <p:sp>
            <p:nvSpPr>
              <p:cNvPr id="406" name=""/>
              <p:cNvSpPr/>
              <p:nvPr/>
            </p:nvSpPr>
            <p:spPr>
              <a:xfrm>
                <a:off x="5200560" y="5747760"/>
                <a:ext cx="278640" cy="281160"/>
              </a:xfrm>
              <a:prstGeom prst="foldedCorner">
                <a:avLst>
                  <a:gd name="adj" fmla="val 2735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37640" y="5819760"/>
                <a:ext cx="20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237640" y="5870520"/>
                <a:ext cx="20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237640" y="5921640"/>
                <a:ext cx="20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234040" y="5977800"/>
                <a:ext cx="20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252040" y="5767920"/>
              <a:ext cx="278280" cy="281520"/>
              <a:chOff x="5252040" y="5767920"/>
              <a:chExt cx="278280" cy="281520"/>
            </a:xfrm>
          </p:grpSpPr>
          <p:sp>
            <p:nvSpPr>
              <p:cNvPr id="412" name=""/>
              <p:cNvSpPr/>
              <p:nvPr/>
            </p:nvSpPr>
            <p:spPr>
              <a:xfrm>
                <a:off x="5252040" y="5767920"/>
                <a:ext cx="278280" cy="281520"/>
              </a:xfrm>
              <a:prstGeom prst="foldedCorner">
                <a:avLst>
                  <a:gd name="adj" fmla="val 2735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289120" y="583992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289120" y="589068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89120" y="59421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85520" y="59979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>
            <a:off x="1022400" y="2549520"/>
            <a:ext cx="708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73240" y="4548240"/>
            <a:ext cx="6757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Formal Query Language Layer (SPARQL, SERQL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5187960"/>
            <a:ext cx="3328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Semantic Data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867280" y="5291280"/>
            <a:ext cx="799200" cy="593640"/>
            <a:chOff x="5867280" y="5291280"/>
            <a:chExt cx="799200" cy="593640"/>
          </a:xfrm>
        </p:grpSpPr>
        <p:grpSp>
          <p:nvGrpSpPr>
            <p:cNvPr id="421" name=""/>
            <p:cNvGrpSpPr/>
            <p:nvPr/>
          </p:nvGrpSpPr>
          <p:grpSpPr>
            <a:xfrm>
              <a:off x="6030000" y="5291280"/>
              <a:ext cx="443520" cy="324360"/>
              <a:chOff x="6030000" y="5291280"/>
              <a:chExt cx="443520" cy="32436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6030000" y="5418000"/>
                <a:ext cx="251280" cy="197640"/>
                <a:chOff x="6030000" y="5418000"/>
                <a:chExt cx="251280" cy="1976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110280" y="541800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030000" y="55501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215760" y="55501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6082200" y="548496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176160" y="548496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113160" y="5291280"/>
                <a:ext cx="251280" cy="197280"/>
                <a:chOff x="6113160" y="5291280"/>
                <a:chExt cx="251280" cy="197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193440" y="529128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113160" y="54230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298920" y="54230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>
                  <a:off x="6165360" y="535788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259320" y="535788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222240" y="5405760"/>
                <a:ext cx="251280" cy="197640"/>
                <a:chOff x="6222240" y="5405760"/>
                <a:chExt cx="251280" cy="1976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302520" y="54057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222240" y="5537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408000" y="5537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>
                  <a:off x="6274440" y="547272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368400" y="547272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0" name=""/>
            <p:cNvGrpSpPr/>
            <p:nvPr/>
          </p:nvGrpSpPr>
          <p:grpSpPr>
            <a:xfrm>
              <a:off x="6222960" y="5531040"/>
              <a:ext cx="443520" cy="324360"/>
              <a:chOff x="6222960" y="5531040"/>
              <a:chExt cx="443520" cy="32436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6222960" y="5657760"/>
                <a:ext cx="251280" cy="197640"/>
                <a:chOff x="6222960" y="5657760"/>
                <a:chExt cx="251280" cy="1976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303240" y="56577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222960" y="5789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408720" y="5789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6275160" y="572472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369120" y="572472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6306120" y="5531040"/>
                <a:ext cx="251280" cy="197280"/>
                <a:chOff x="6306120" y="5531040"/>
                <a:chExt cx="251280" cy="1972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6386400" y="553104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306120" y="56628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491880" y="56628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6358320" y="559764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452280" y="559764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6415200" y="5645520"/>
                <a:ext cx="251280" cy="197640"/>
                <a:chOff x="6415200" y="5645520"/>
                <a:chExt cx="251280" cy="19764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495480" y="564552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415200" y="57776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600960" y="57776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6467400" y="571248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61360" y="571248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9" name=""/>
            <p:cNvGrpSpPr/>
            <p:nvPr/>
          </p:nvGrpSpPr>
          <p:grpSpPr>
            <a:xfrm>
              <a:off x="5867280" y="5560560"/>
              <a:ext cx="443520" cy="324360"/>
              <a:chOff x="5867280" y="5560560"/>
              <a:chExt cx="443520" cy="32436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5867280" y="5687280"/>
                <a:ext cx="251280" cy="197640"/>
                <a:chOff x="5867280" y="5687280"/>
                <a:chExt cx="251280" cy="197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947560" y="568728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867280" y="58194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53040" y="58194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5919480" y="575424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013440" y="575424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950440" y="5560560"/>
                <a:ext cx="251280" cy="197280"/>
                <a:chOff x="5950440" y="5560560"/>
                <a:chExt cx="251280" cy="1972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6030720" y="55605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50440" y="56923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136200" y="56923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6002640" y="562716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096600" y="562716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059520" y="5675040"/>
                <a:ext cx="251280" cy="197640"/>
                <a:chOff x="6059520" y="5675040"/>
                <a:chExt cx="251280" cy="1976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139800" y="567504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059520" y="580716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45280" y="580716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6111720" y="574200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205680" y="574200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8" name=""/>
          <p:cNvGrpSpPr/>
          <p:nvPr/>
        </p:nvGrpSpPr>
        <p:grpSpPr>
          <a:xfrm>
            <a:off x="3916440" y="5291280"/>
            <a:ext cx="798840" cy="593640"/>
            <a:chOff x="3916440" y="5291280"/>
            <a:chExt cx="798840" cy="593640"/>
          </a:xfrm>
        </p:grpSpPr>
        <p:grpSp>
          <p:nvGrpSpPr>
            <p:cNvPr id="479" name=""/>
            <p:cNvGrpSpPr/>
            <p:nvPr/>
          </p:nvGrpSpPr>
          <p:grpSpPr>
            <a:xfrm>
              <a:off x="4079160" y="5291280"/>
              <a:ext cx="443520" cy="324360"/>
              <a:chOff x="4079160" y="5291280"/>
              <a:chExt cx="443520" cy="32436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079160" y="5418000"/>
                <a:ext cx="251280" cy="197640"/>
                <a:chOff x="4079160" y="5418000"/>
                <a:chExt cx="251280" cy="1976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159440" y="541800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079160" y="55501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264920" y="55501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4131360" y="548496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225320" y="548496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162320" y="5291280"/>
                <a:ext cx="251280" cy="197280"/>
                <a:chOff x="4162320" y="5291280"/>
                <a:chExt cx="251280" cy="197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242600" y="529128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162320" y="54230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348080" y="54230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4214520" y="535788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308480" y="535788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271400" y="5405760"/>
                <a:ext cx="251280" cy="197640"/>
                <a:chOff x="4271400" y="5405760"/>
                <a:chExt cx="251280" cy="197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351680" y="54057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271400" y="5537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457160" y="5537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4323600" y="547272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417560" y="547272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4271760" y="5531040"/>
              <a:ext cx="443520" cy="324360"/>
              <a:chOff x="4271760" y="5531040"/>
              <a:chExt cx="443520" cy="32436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4271760" y="5657760"/>
                <a:ext cx="251280" cy="197640"/>
                <a:chOff x="4271760" y="5657760"/>
                <a:chExt cx="251280" cy="19764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4352040" y="56577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271760" y="5789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457520" y="578988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4323960" y="572472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4417920" y="572472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4354920" y="5531040"/>
                <a:ext cx="251280" cy="197280"/>
                <a:chOff x="4354920" y="5531040"/>
                <a:chExt cx="251280" cy="1972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4435200" y="553104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354920" y="56628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540680" y="56628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4407120" y="559764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501080" y="559764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4464000" y="5645520"/>
                <a:ext cx="251280" cy="197640"/>
                <a:chOff x="4464000" y="5645520"/>
                <a:chExt cx="251280" cy="1976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544280" y="564552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464000" y="57776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649760" y="577764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4516200" y="571248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610160" y="571248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3916440" y="5560560"/>
              <a:ext cx="443520" cy="324360"/>
              <a:chOff x="3916440" y="5560560"/>
              <a:chExt cx="443520" cy="3243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3916440" y="5687280"/>
                <a:ext cx="251280" cy="197640"/>
                <a:chOff x="3916440" y="5687280"/>
                <a:chExt cx="251280" cy="19764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3996720" y="568728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916440" y="58194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102200" y="581940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>
                  <a:off x="3968640" y="575424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062600" y="575424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3999600" y="5560560"/>
                <a:ext cx="251280" cy="197280"/>
                <a:chOff x="3999600" y="5560560"/>
                <a:chExt cx="251280" cy="1972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4079880" y="556056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999600" y="56923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185360" y="569232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4051800" y="562716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145760" y="562716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108680" y="5675040"/>
                <a:ext cx="251280" cy="197640"/>
                <a:chOff x="4108680" y="5675040"/>
                <a:chExt cx="251280" cy="1976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4188960" y="5675040"/>
                  <a:ext cx="65880" cy="65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108680" y="580716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294440" y="5807160"/>
                  <a:ext cx="65520" cy="6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4160880" y="5742000"/>
                  <a:ext cx="410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54840" y="5742000"/>
                  <a:ext cx="39240" cy="65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6" name=""/>
          <p:cNvSpPr/>
          <p:nvPr/>
        </p:nvSpPr>
        <p:spPr>
          <a:xfrm>
            <a:off x="4716360" y="5726160"/>
            <a:ext cx="2700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568840" y="5726160"/>
            <a:ext cx="27000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98640" y="1933560"/>
            <a:ext cx="7083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03640" y="1452600"/>
            <a:ext cx="541440" cy="361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06880" y="1468440"/>
            <a:ext cx="1351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End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70440" y="2637000"/>
            <a:ext cx="314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Semantic entity indexing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70440" y="2954160"/>
            <a:ext cx="3776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Semantic entity search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70440" y="3616200"/>
            <a:ext cx="3274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Formal query construction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3892680"/>
            <a:ext cx="27352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Query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70440" y="4146480"/>
            <a:ext cx="1787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Ranking 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70440" y="2179800"/>
            <a:ext cx="340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 indent="856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SimSun"/>
              </a:rPr>
              <a:t>Google-like query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58920" y="2608200"/>
            <a:ext cx="2536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Text Search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30320" y="3330720"/>
            <a:ext cx="708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95400" y="4502160"/>
            <a:ext cx="708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95400" y="5099040"/>
            <a:ext cx="708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227640" y="2276640"/>
            <a:ext cx="1719360" cy="1069560"/>
            <a:chOff x="6227640" y="2276640"/>
            <a:chExt cx="1719360" cy="1069560"/>
          </a:xfrm>
        </p:grpSpPr>
        <p:grpSp>
          <p:nvGrpSpPr>
            <p:cNvPr id="552" name=""/>
            <p:cNvGrpSpPr/>
            <p:nvPr/>
          </p:nvGrpSpPr>
          <p:grpSpPr>
            <a:xfrm>
              <a:off x="6227640" y="2276640"/>
              <a:ext cx="1719360" cy="1069560"/>
              <a:chOff x="6227640" y="2276640"/>
              <a:chExt cx="1719360" cy="1069560"/>
            </a:xfrm>
          </p:grpSpPr>
          <p:sp>
            <p:nvSpPr>
              <p:cNvPr id="553" name=""/>
              <p:cNvSpPr/>
              <p:nvPr/>
            </p:nvSpPr>
            <p:spPr>
              <a:xfrm>
                <a:off x="6227640" y="2340360"/>
                <a:ext cx="1719360" cy="10058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466040" y="2276640"/>
                <a:ext cx="20592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28160" y="2340360"/>
                <a:ext cx="20628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053480" y="2276640"/>
                <a:ext cx="20628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15600" y="2340360"/>
                <a:ext cx="20628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639840" y="2276640"/>
                <a:ext cx="20628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3040" y="2340360"/>
                <a:ext cx="20628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6372360" y="27799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SPE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156360" y="3429000"/>
            <a:ext cx="1790640" cy="1069560"/>
            <a:chOff x="6156360" y="3429000"/>
            <a:chExt cx="1790640" cy="1069560"/>
          </a:xfrm>
        </p:grpSpPr>
        <p:grpSp>
          <p:nvGrpSpPr>
            <p:cNvPr id="562" name=""/>
            <p:cNvGrpSpPr/>
            <p:nvPr/>
          </p:nvGrpSpPr>
          <p:grpSpPr>
            <a:xfrm>
              <a:off x="6227640" y="3429000"/>
              <a:ext cx="1719360" cy="1069560"/>
              <a:chOff x="6227640" y="3429000"/>
              <a:chExt cx="1719360" cy="1069560"/>
            </a:xfrm>
          </p:grpSpPr>
          <p:sp>
            <p:nvSpPr>
              <p:cNvPr id="563" name=""/>
              <p:cNvSpPr/>
              <p:nvPr/>
            </p:nvSpPr>
            <p:spPr>
              <a:xfrm>
                <a:off x="6227640" y="3492720"/>
                <a:ext cx="1719360" cy="10058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466040" y="3429000"/>
                <a:ext cx="20592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28160" y="3492720"/>
                <a:ext cx="20628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53480" y="3429000"/>
                <a:ext cx="20628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915600" y="3492720"/>
                <a:ext cx="20628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39840" y="3429000"/>
                <a:ext cx="20628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03040" y="3492720"/>
                <a:ext cx="206280" cy="18864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6156360" y="393372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SEMANT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Case study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Components Approa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emSear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Verdana"/>
              </a:rPr>
              <a:t>Query Construction in SemSear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Demo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5357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upport for end us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Form-based tools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Forms are intuitive</a:t>
            </a: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Issues: knowledge overhead; scalability</a:t>
            </a: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View-based tools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Support for domain understanding, query refinement.</a:t>
            </a: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Complex queries could be specified</a:t>
            </a: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The query construction process could be tedious and time-consuming</a:t>
            </a: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QA-based tools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Easy to use</a:t>
            </a: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Issue: heavy NLP.</a:t>
            </a: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Keyword-based tools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Easy to post queries; quick response</a:t>
            </a: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Typically one keyword only; general knowledge of the problem domain required</a:t>
            </a: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542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search pro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tep1: making sense of the user querie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tep2: translating user queries into formal querie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tep3: Querying the back-end semantic data repository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tep4: Ranking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542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search pro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tep1: making sense of the user querie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tep2: translating user queries into formal querie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tep3: Querying the back-end semantic data repository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tep4: Ranking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4926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anslating into formal que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Input: semantic entity matches of the search keyword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Each keyword -&gt; multiple matches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Output: formal </a:t>
            </a:r>
            <a:r>
              <a:rPr b="1" i="1" lang="en-GB" sz="3200" spc="-1" strike="noStrike">
                <a:solidFill>
                  <a:srgbClr val="0f1f7a"/>
                </a:solidFill>
                <a:latin typeface="Verdana"/>
              </a:rPr>
              <a:t>queries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 which reflect the user query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One user query -&gt; multiple formal queries.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50920" y="6093000"/>
            <a:ext cx="889308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imple quer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There are only two keywords involved: &lt;subject:keyword&gt;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229680" indent="-229680"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Fixed number of combination types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229680" indent="-229680"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Templates are defined for each combination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9640" y="2708280"/>
          <a:ext cx="8136000" cy="3600000"/>
        </p:xfrm>
        <a:graphic>
          <a:graphicData uri="http://schemas.openxmlformats.org/drawingml/2006/table">
            <a:tbl>
              <a:tblPr/>
              <a:tblGrid>
                <a:gridCol w="1926720"/>
                <a:gridCol w="2566440"/>
                <a:gridCol w="364284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6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word 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6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6fa"/>
                    </a:solidFill>
                  </a:tcPr>
                </a:tc>
              </a:tr>
              <a:tr h="410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news: phd students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Prope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news: author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In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news: chief scientist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In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Prope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victoria:author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In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victoria:yuangui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Prope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In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member: x-media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Prope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member: author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50920" y="6093000"/>
            <a:ext cx="889308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imple quer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There are only two keywords involved: &lt;subject:keyword&gt;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229680" indent="-229680"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Fixed number of combination types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229680" indent="-229680"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Templates are defined for each combination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539640" y="2708280"/>
          <a:ext cx="8136000" cy="3600000"/>
        </p:xfrm>
        <a:graphic>
          <a:graphicData uri="http://schemas.openxmlformats.org/drawingml/2006/table">
            <a:tbl>
              <a:tblPr/>
              <a:tblGrid>
                <a:gridCol w="1926720"/>
                <a:gridCol w="2566440"/>
                <a:gridCol w="364284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6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word 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6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6fa"/>
                    </a:solidFill>
                  </a:tcPr>
                </a:tc>
              </a:tr>
              <a:tr h="410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news: phd students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Prope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news: author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In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news: chief scientist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In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Prope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victoria:author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In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victoria:yuangui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Prope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In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member: x-media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Prope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f1f7a"/>
                          </a:solidFill>
                          <a:latin typeface="Verdana"/>
                        </a:rPr>
                        <a:t>&lt;member: author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50920" y="6093000"/>
            <a:ext cx="889308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3645000"/>
            <a:ext cx="813600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select 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{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SimSun"/>
              </a:rPr>
              <a:t>Is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}, {R}, {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  <a:ea typeface="SimSun"/>
              </a:rPr>
              <a:t>Ik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}</a:t>
            </a: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 from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SimSun"/>
              </a:rPr>
              <a:t>{Is} rdf:typ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  <a:ea typeface="SimSun"/>
              </a:rPr>
              <a:t> {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SimSun"/>
              </a:rPr>
              <a:t>C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  <a:ea typeface="SimSun"/>
              </a:rPr>
              <a:t>}</a:t>
            </a: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                                           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  <a:ea typeface="SimSun"/>
              </a:rPr>
              <a:t>{Ik} rdf:type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  <a:ea typeface="SimSun"/>
              </a:rPr>
              <a:t> {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  <a:ea typeface="SimSun"/>
              </a:rPr>
              <a:t>Ck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  <a:ea typeface="SimSun"/>
              </a:rPr>
              <a:t>}</a:t>
            </a: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                                           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{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SimSun"/>
              </a:rPr>
              <a:t>Is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} R {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  <a:ea typeface="SimSun"/>
              </a:rPr>
              <a:t>Ik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}</a:t>
            </a: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select 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{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SimSun"/>
              </a:rPr>
              <a:t>Is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}, {R}, {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  <a:ea typeface="SimSun"/>
              </a:rPr>
              <a:t>Ik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}</a:t>
            </a: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  from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  <a:ea typeface="SimSun"/>
              </a:rPr>
              <a:t>{Is} rdf:type {Cs}</a:t>
            </a: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                                            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  <a:ea typeface="SimSun"/>
              </a:rPr>
              <a:t>{Ik} rdf:type {Ck}</a:t>
            </a: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                                            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{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  <a:ea typeface="SimSun"/>
              </a:rPr>
              <a:t>Ik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} R {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SimSun"/>
              </a:rPr>
              <a:t>Is</a:t>
            </a:r>
            <a:r>
              <a:rPr b="1" lang="en-US" sz="1800" spc="-1" strike="noStrike">
                <a:solidFill>
                  <a:srgbClr val="0f1f7a"/>
                </a:solidFill>
                <a:latin typeface="Verdana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A template examp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848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Pattern: </a:t>
            </a:r>
            <a:r>
              <a:rPr b="0" i="1" lang="en-GB" sz="2000" spc="-1" strike="noStrike">
                <a:solidFill>
                  <a:srgbClr val="006600"/>
                </a:solidFill>
                <a:latin typeface="Verdana"/>
              </a:rPr>
              <a:t>Subject -&gt; Class Cs</a:t>
            </a: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;   </a:t>
            </a:r>
            <a:r>
              <a:rPr b="0" i="1" lang="en-GB" sz="2000" spc="-1" strike="noStrike">
                <a:solidFill>
                  <a:srgbClr val="990000"/>
                </a:solidFill>
                <a:latin typeface="Verdana"/>
              </a:rPr>
              <a:t>Keyword -&gt; Class Ck</a:t>
            </a:r>
            <a:r>
              <a:rPr b="0" i="1" lang="en-GB" sz="2000" spc="-1" strike="noStrike">
                <a:solidFill>
                  <a:srgbClr val="0f1f7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Results: &lt;</a:t>
            </a: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Is</a:t>
            </a: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,Relation,</a:t>
            </a:r>
            <a:r>
              <a:rPr b="0" lang="en-GB" sz="2000" spc="-1" strike="noStrike">
                <a:solidFill>
                  <a:srgbClr val="990000"/>
                </a:solidFill>
                <a:latin typeface="Verdana"/>
              </a:rPr>
              <a:t>Ik</a:t>
            </a: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&gt; 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associated with exploratory links.</a:t>
            </a: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Example: news stories about phd students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&lt;</a:t>
            </a:r>
            <a:r>
              <a:rPr b="0" lang="en-GB" sz="2000" spc="-1" strike="noStrike">
                <a:solidFill>
                  <a:srgbClr val="006600"/>
                </a:solidFill>
                <a:latin typeface="Verdana"/>
              </a:rPr>
              <a:t>news “KMi success”</a:t>
            </a: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, mentions-person, </a:t>
            </a:r>
            <a:r>
              <a:rPr b="0" lang="en-GB" sz="2000" spc="-1" strike="noStrike">
                <a:solidFill>
                  <a:srgbClr val="990000"/>
                </a:solidFill>
                <a:latin typeface="Verdana"/>
              </a:rPr>
              <a:t>Tom-Heath</a:t>
            </a: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&gt;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1f7a"/>
                </a:solidFill>
                <a:latin typeface="Verdana"/>
              </a:rPr>
              <a:t>A simplified template in Sesame SERQL:</a:t>
            </a: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1f7a"/>
              </a:solidFill>
              <a:latin typeface="Verdana"/>
            </a:endParaRPr>
          </a:p>
        </p:txBody>
      </p:sp>
      <p:sp>
        <p:nvSpPr>
          <p:cNvPr id="593" name=""/>
          <p:cNvSpPr/>
          <p:nvPr/>
        </p:nvSpPr>
        <p:spPr>
          <a:xfrm>
            <a:off x="3924360" y="4437000"/>
            <a:ext cx="194472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5640" y="5516640"/>
            <a:ext cx="194472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Case study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Components Approa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emSear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Query Construction in SemSear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Verdana"/>
              </a:rPr>
              <a:t>Demo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66920" y="2602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Contributions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set of abstract search components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keyword-based semantic search engine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Future work: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Semantic matching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Ranking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Support for domain understanding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1f7a"/>
                </a:solidFill>
                <a:latin typeface="Verdana"/>
              </a:rPr>
              <a:t>Query refinement</a:t>
            </a: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826920" y="5300640"/>
            <a:ext cx="756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Verdana"/>
              </a:rPr>
              <a:t>Thanks for your atten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Dem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KMi domain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semanticweb.kmi.open.ac.uk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/ 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f1f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and the ESWC conference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search.eswc06.org/ 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6920" y="2602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Contribution 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1f7a"/>
                </a:solidFill>
                <a:latin typeface="Verdana"/>
              </a:rPr>
              <a:t>Semantic Search Components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… 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we identified a </a:t>
            </a:r>
            <a:r>
              <a:rPr b="1" lang="en-GB" sz="3200" spc="-1" strike="noStrike">
                <a:solidFill>
                  <a:srgbClr val="0f1f7a"/>
                </a:solidFill>
                <a:latin typeface="Verdana"/>
              </a:rPr>
              <a:t>set of abstract search components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 at a higher level than the basic elements of query languages, which could underpin an interface between storage and query systems and GUI-based search facilities. 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6920" y="2602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Contribution 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1f7a"/>
                </a:solidFill>
                <a:latin typeface="Verdana"/>
              </a:rPr>
              <a:t>SemSear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… 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A keyword-based semantic search engine has been developed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Google-like query interface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Supporting relatively complex queries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f1f7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1f7a"/>
                </a:solidFill>
                <a:latin typeface="Verdana"/>
              </a:rPr>
              <a:t>Providing relatively quick response</a:t>
            </a:r>
            <a:endParaRPr b="0" lang="en-US" sz="28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Verdana"/>
              </a:rPr>
              <a:t>Case study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Components Approa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SemSear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Query Construction in SemSearch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f1f7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Demo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Fuel Consump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924680" y="6248520"/>
            <a:ext cx="1016280" cy="583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3840" y="304920"/>
            <a:ext cx="135864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067280" y="1341360"/>
            <a:ext cx="25812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0920" y="2709720"/>
            <a:ext cx="5040360" cy="2986200"/>
            <a:chOff x="250920" y="2709720"/>
            <a:chExt cx="5040360" cy="2986200"/>
          </a:xfrm>
        </p:grpSpPr>
        <p:sp>
          <p:nvSpPr>
            <p:cNvPr id="122" name=""/>
            <p:cNvSpPr/>
            <p:nvPr/>
          </p:nvSpPr>
          <p:spPr>
            <a:xfrm>
              <a:off x="4211640" y="2709720"/>
              <a:ext cx="1079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11640" y="2925720"/>
              <a:ext cx="1079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11640" y="3141720"/>
              <a:ext cx="1079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63640" y="4222800"/>
              <a:ext cx="122400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/100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125" idx="3"/>
              <a:endCxn id="123" idx="2"/>
            </p:cNvCxnSpPr>
            <p:nvPr/>
          </p:nvCxnSpPr>
          <p:spPr>
            <a:xfrm flipV="1">
              <a:off x="3000240" y="3069720"/>
              <a:ext cx="1199520" cy="13946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2195640" y="3573360"/>
              <a:ext cx="79200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p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7" idx="3"/>
              <a:endCxn id="122" idx="2"/>
            </p:cNvCxnSpPr>
            <p:nvPr/>
          </p:nvCxnSpPr>
          <p:spPr>
            <a:xfrm flipV="1">
              <a:off x="3000240" y="2853720"/>
              <a:ext cx="1199520" cy="9608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sp>
          <p:nvSpPr>
            <p:cNvPr id="129" name=""/>
            <p:cNvSpPr/>
            <p:nvPr/>
          </p:nvSpPr>
          <p:spPr>
            <a:xfrm>
              <a:off x="250920" y="4870440"/>
              <a:ext cx="273528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 US gallon = 3.79 l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 UK gallon = 4.55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9" idx="3"/>
              <a:endCxn id="124" idx="2"/>
            </p:cNvCxnSpPr>
            <p:nvPr/>
          </p:nvCxnSpPr>
          <p:spPr>
            <a:xfrm flipV="1">
              <a:off x="2998800" y="3285720"/>
              <a:ext cx="1200960" cy="20088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</p:grpSp>
      <p:grpSp>
        <p:nvGrpSpPr>
          <p:cNvPr id="131" name=""/>
          <p:cNvGrpSpPr/>
          <p:nvPr/>
        </p:nvGrpSpPr>
        <p:grpSpPr>
          <a:xfrm>
            <a:off x="179280" y="1990800"/>
            <a:ext cx="5905440" cy="1107360"/>
            <a:chOff x="179280" y="1990800"/>
            <a:chExt cx="5905440" cy="1107360"/>
          </a:xfrm>
        </p:grpSpPr>
        <p:sp>
          <p:nvSpPr>
            <p:cNvPr id="132" name=""/>
            <p:cNvSpPr/>
            <p:nvPr/>
          </p:nvSpPr>
          <p:spPr>
            <a:xfrm>
              <a:off x="4356000" y="2421000"/>
              <a:ext cx="172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00360" y="2638440"/>
              <a:ext cx="100800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ur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1990800"/>
              <a:ext cx="352764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ederal test procedure 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3" idx="3"/>
              <a:endCxn id="132" idx="2"/>
            </p:cNvCxnSpPr>
            <p:nvPr/>
          </p:nvCxnSpPr>
          <p:spPr>
            <a:xfrm flipV="1">
              <a:off x="3720600" y="2564640"/>
              <a:ext cx="623160" cy="31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36" name=""/>
            <p:cNvCxnSpPr>
              <a:stCxn id="134" idx="3"/>
              <a:endCxn id="132" idx="2"/>
            </p:cNvCxnSpPr>
            <p:nvPr/>
          </p:nvCxnSpPr>
          <p:spPr>
            <a:xfrm>
              <a:off x="3719160" y="2232000"/>
              <a:ext cx="624600" cy="334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4284720" y="1413000"/>
            <a:ext cx="4462560" cy="1610280"/>
            <a:chOff x="4284720" y="1413000"/>
            <a:chExt cx="4462560" cy="1610280"/>
          </a:xfrm>
        </p:grpSpPr>
        <p:sp>
          <p:nvSpPr>
            <p:cNvPr id="138" name=""/>
            <p:cNvSpPr/>
            <p:nvPr/>
          </p:nvSpPr>
          <p:spPr>
            <a:xfrm>
              <a:off x="4284720" y="2060280"/>
              <a:ext cx="1079280" cy="286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64360" y="1413000"/>
              <a:ext cx="15829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ustral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39" idx="1"/>
              <a:endCxn id="138" idx="6"/>
            </p:cNvCxnSpPr>
            <p:nvPr/>
          </p:nvCxnSpPr>
          <p:spPr>
            <a:xfrm flipH="1">
              <a:off x="5376600" y="1653480"/>
              <a:ext cx="1775520" cy="551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7164360" y="1989000"/>
              <a:ext cx="11527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an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64360" y="2563560"/>
              <a:ext cx="79236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3" name=""/>
            <p:cNvCxnSpPr>
              <a:stCxn id="141" idx="1"/>
              <a:endCxn id="138" idx="6"/>
            </p:cNvCxnSpPr>
            <p:nvPr/>
          </p:nvCxnSpPr>
          <p:spPr>
            <a:xfrm flipH="1" flipV="1">
              <a:off x="5376600" y="2204280"/>
              <a:ext cx="1775520" cy="25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44" name=""/>
            <p:cNvCxnSpPr>
              <a:stCxn id="142" idx="1"/>
              <a:endCxn id="138" idx="6"/>
            </p:cNvCxnSpPr>
            <p:nvPr/>
          </p:nvCxnSpPr>
          <p:spPr>
            <a:xfrm flipH="1" flipV="1">
              <a:off x="5376600" y="2204280"/>
              <a:ext cx="1775520" cy="6004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</p:grpSp>
      <p:grpSp>
        <p:nvGrpSpPr>
          <p:cNvPr id="145" name=""/>
          <p:cNvGrpSpPr/>
          <p:nvPr/>
        </p:nvGrpSpPr>
        <p:grpSpPr>
          <a:xfrm>
            <a:off x="4356000" y="3286080"/>
            <a:ext cx="3959280" cy="1755000"/>
            <a:chOff x="4356000" y="3286080"/>
            <a:chExt cx="3959280" cy="1755000"/>
          </a:xfrm>
        </p:grpSpPr>
        <p:sp>
          <p:nvSpPr>
            <p:cNvPr id="146" name=""/>
            <p:cNvSpPr/>
            <p:nvPr/>
          </p:nvSpPr>
          <p:spPr>
            <a:xfrm>
              <a:off x="4356000" y="4005360"/>
              <a:ext cx="1079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9640" y="3286080"/>
              <a:ext cx="100800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rb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9640" y="3933720"/>
              <a:ext cx="15127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ighw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59640" y="4581360"/>
              <a:ext cx="165564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bin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1"/>
              <a:endCxn id="146" idx="6"/>
            </p:cNvCxnSpPr>
            <p:nvPr/>
          </p:nvCxnSpPr>
          <p:spPr>
            <a:xfrm flipH="1" flipV="1">
              <a:off x="5447880" y="4149360"/>
              <a:ext cx="1199520" cy="673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51" name=""/>
            <p:cNvCxnSpPr>
              <a:stCxn id="148" idx="1"/>
              <a:endCxn id="146" idx="6"/>
            </p:cNvCxnSpPr>
            <p:nvPr/>
          </p:nvCxnSpPr>
          <p:spPr>
            <a:xfrm flipH="1" flipV="1">
              <a:off x="5447880" y="4149360"/>
              <a:ext cx="1199520" cy="25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52" name=""/>
            <p:cNvCxnSpPr>
              <a:stCxn id="147" idx="1"/>
              <a:endCxn id="146" idx="6"/>
            </p:cNvCxnSpPr>
            <p:nvPr/>
          </p:nvCxnSpPr>
          <p:spPr>
            <a:xfrm flipH="1">
              <a:off x="5447880" y="3526920"/>
              <a:ext cx="1199520" cy="623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</p:grp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8360" y="5229360"/>
            <a:ext cx="3743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f1f7a"/>
                </a:solidFill>
                <a:latin typeface="Verdana"/>
              </a:rPr>
              <a:t>Defining similar fuel consumption requires care</a:t>
            </a:r>
            <a:endParaRPr b="0" lang="en-US" sz="1800" spc="-1" strike="noStrike">
              <a:solidFill>
                <a:srgbClr val="0f1f7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arch Formulation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Find out more about Behemoth by exploring the relations and entities in its locality with “rel-ent”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213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3357720"/>
          <a:ext cx="8135640" cy="2592360"/>
        </p:xfrm>
        <a:graphic>
          <a:graphicData uri="http://schemas.openxmlformats.org/drawingml/2006/table">
            <a:tbl>
              <a:tblPr/>
              <a:tblGrid>
                <a:gridCol w="813564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LECT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?rel ?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WHERE { :Behemoth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?rel ?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rdf:type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ls(OffroadVehic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hasComponent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MonsterEngineB of [Cls(VehicleEngine)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hasManufacturer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MonsterMotors of [Cls(Manufacturer)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hasSpecificatio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SimpleIn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ghwayFuelConsumptionMeasurement_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of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[Cls(HighwayFuelConsumptionMeasurement)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hasSpecificatio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SimpleIn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rbanFuelConsumptionMeasurement_3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of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[Cls(UrbanFuelConsumptionMeasurement)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38120" y="22860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arch Formulation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“</a:t>
            </a:r>
            <a:r>
              <a:rPr b="0" lang="en-GB" sz="3200" spc="-1" strike="noStrike">
                <a:solidFill>
                  <a:srgbClr val="0f1f7a"/>
                </a:solidFill>
                <a:latin typeface="Verdana"/>
              </a:rPr>
              <a:t>rel-ent” for a sample fuel consumption measurement </a:t>
            </a:r>
            <a:endParaRPr b="0" lang="en-US" sz="3200" spc="-1" strike="noStrike">
              <a:solidFill>
                <a:srgbClr val="0f1f7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3840" y="304920"/>
            <a:ext cx="1358640" cy="965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238880" y="632448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55640" y="3213000"/>
          <a:ext cx="8064000" cy="2793240"/>
        </p:xfrm>
        <a:graphic>
          <a:graphicData uri="http://schemas.openxmlformats.org/drawingml/2006/table">
            <a:tbl>
              <a:tblPr/>
              <a:tblGrid>
                <a:gridCol w="806400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ELECT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?rel ?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 WHERE { :HighwayFuelConsumptionMeasurement_38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?rel ?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as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rdf:type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ghwayFuelConsumptionMeasurem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usesTestMethod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FuelConsumptionTestMethod_Canadian) of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[Cls(FuelConsumptionTestMethod)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hasUnit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tSI_lPER100k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of [Cls(UnitSI)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dataForVehicle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Behemoth of [Cls(OffroadVehicle)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lot(reportedBy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mpleIn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ransportCanad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of [Cls(TestingAgency)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9:42:56Z</dcterms:created>
  <dc:creator>Harriett Cornish</dc:creator>
  <dc:description/>
  <dc:language>en-US</dc:language>
  <cp:lastModifiedBy> </cp:lastModifiedBy>
  <dcterms:modified xsi:type="dcterms:W3CDTF">2006-11-08T11:10:30Z</dcterms:modified>
  <cp:revision>49</cp:revision>
  <dc:subject/>
  <dc:title>PowerPoint Presentation</dc:title>
</cp:coreProperties>
</file>