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4.wmf" ContentType="image/x-wmf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006-8635-42B1-B584-7B145597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05A-59E5-49A6-8E8E-C03BBA86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1C8-E0CD-41B0-A4C6-0566AB92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F99-18B3-42C4-ACFD-3946D845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8B44-5026-4C5E-8E13-290014C8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542C-0670-4DDF-A522-1F8A2D95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3486-F3A9-483D-95F5-CB6CF1A2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01C3-A650-4160-9058-B4D4D5C2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00FB-D850-46FB-96D4-42ABDD91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38120" y="228600"/>
            <a:ext cx="4800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2268-9483-4323-9EC0-094C6EAD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0F0B-BEDF-4442-9D56-CED8F3AB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1FB-2ABE-4FFB-BE8D-BDAE5CB0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F7FA-9359-4B0C-A164-84787108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598F-0010-4943-B924-0BCAD7D8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E2F6-9801-4D0D-BB3C-7392A594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A108-AE74-40AF-A958-8B1202C7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5391-C8BC-41EE-A85B-FEFB372E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DF6-F4C0-45EA-8785-345BFF08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79D8-49BE-4D71-94A6-A171227F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6E8-4333-4A12-9028-C982474D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038120" y="228600"/>
            <a:ext cx="4800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808-52FD-4B73-BCFC-E01191F8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6B6-5567-4687-81E6-8761729D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E75-B856-46B0-98D6-915E7D59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4FF-F78C-4451-841B-65826D6B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f1f7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07720" y="6219720"/>
            <a:ext cx="1703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77920" y="6312960"/>
            <a:ext cx="43768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1f7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1f7a"/>
                </a:solidFill>
                <a:latin typeface="Verdana"/>
              </a:rPr>
              <a:t>ISWC’06.  November 5-9.  Athens, Georgia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F622-456D-48C9-8A08-D37FBBC87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1f7a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7784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254320" y="6343560"/>
            <a:ext cx="41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1f7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1f7a"/>
                </a:solidFill>
                <a:latin typeface="Verdana"/>
              </a:rPr>
              <a:t>ISWC’06.  November 5-9.  Athens, Georgia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5E9D-990E-4630-A8F8-520D474A0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06440" y="279360"/>
            <a:ext cx="2260440" cy="208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f1f7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f7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f1f7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f1f7a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kmi.open.ac.uk/projects/irs" TargetMode="External"/><Relationship Id="rId2" Type="http://schemas.openxmlformats.org/officeDocument/2006/relationships/hyperlink" Target="http://kmi.open.ac.uk/projects/dip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66760" y="2652840"/>
            <a:ext cx="729144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IRS-III: A Broker for </a:t>
            </a:r>
            <a:br>
              <a:rPr sz="3200"/>
            </a:b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Semantic Web Services </a:t>
            </a:r>
            <a:br>
              <a:rPr sz="3200"/>
            </a:b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based Applications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06000" y="4586040"/>
            <a:ext cx="6877080" cy="15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Liliana Cabral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1f7a"/>
                </a:solidFill>
                <a:latin typeface="Verdana"/>
              </a:rPr>
              <a:t>John Domingue, Stefania Galizia, Alessio Gugliotta, </a:t>
            </a:r>
            <a:br>
              <a:rPr sz="1600"/>
            </a:br>
            <a:r>
              <a:rPr b="0" lang="en-US" sz="1600" spc="-1" strike="noStrike">
                <a:solidFill>
                  <a:srgbClr val="0f1f7a"/>
                </a:solidFill>
                <a:latin typeface="Verdana"/>
              </a:rPr>
              <a:t>Vlad Tanasescu, Carlos Pedrinaci, Barry Norton</a:t>
            </a:r>
            <a:r>
              <a:rPr b="0" lang="en-GB" sz="16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f1f7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1f7a"/>
                </a:solidFill>
                <a:latin typeface="Verdana"/>
              </a:rPr>
              <a:t>Knowledge Media Institute, </a:t>
            </a:r>
            <a:endParaRPr b="0" lang="en-US" sz="1600" spc="-1" strike="noStrike">
              <a:solidFill>
                <a:srgbClr val="0f1f7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1f7a"/>
                </a:solidFill>
                <a:latin typeface="Verdana"/>
              </a:rPr>
              <a:t>The Open University</a:t>
            </a:r>
            <a:endParaRPr b="0" lang="en-US" sz="16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06440" y="279360"/>
            <a:ext cx="2260440" cy="2082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SMO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p Level No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382840" y="1763640"/>
            <a:ext cx="40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f7a"/>
                </a:solidFill>
                <a:latin typeface="Verdana"/>
              </a:rPr>
              <a:t>Objectives that a client want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f7a"/>
                </a:solidFill>
                <a:latin typeface="Verdana"/>
              </a:rPr>
              <a:t>achieve by using 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8600" y="2741760"/>
            <a:ext cx="2174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f7a"/>
                </a:solidFill>
                <a:latin typeface="Verdana"/>
              </a:rPr>
              <a:t>Provide the formally specified termi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f7a"/>
                </a:solidFill>
                <a:latin typeface="Verdana"/>
              </a:rPr>
              <a:t>of the information used by all other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7920" y="2397240"/>
            <a:ext cx="3895560" cy="2060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81640" y="2814480"/>
            <a:ext cx="2644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f7a"/>
                </a:solidFill>
                <a:latin typeface="Verdana"/>
              </a:rPr>
              <a:t>Semantic description of Web Servic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f1f7a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1f7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</a:rPr>
              <a:t>Capability </a:t>
            </a:r>
            <a:r>
              <a:rPr b="0" i="1" lang="en-US" sz="1800" spc="-1" strike="noStrike">
                <a:solidFill>
                  <a:srgbClr val="0f1f7a"/>
                </a:solidFill>
                <a:latin typeface="Verdana"/>
              </a:rPr>
              <a:t>(func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f1f7a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1f7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</a:rPr>
              <a:t>Interfaces</a:t>
            </a:r>
            <a:r>
              <a:rPr b="0" i="1" lang="en-US" sz="1800" spc="-1" strike="noStrike">
                <a:solidFill>
                  <a:srgbClr val="0f1f7a"/>
                </a:solidFill>
                <a:latin typeface="Verdana"/>
              </a:rPr>
              <a:t> (usa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57056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f7a"/>
                </a:solidFill>
                <a:latin typeface="Verdana"/>
              </a:rPr>
              <a:t>Connectors between components with mediation facilities for handling heterogene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SM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 Service Descrip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365800" y="3913200"/>
            <a:ext cx="936720" cy="158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1080" y="3882960"/>
            <a:ext cx="1942920" cy="17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  <a:ea typeface="Arial"/>
              </a:rPr>
              <a:t>(not of interest in Web Service Descriptio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0920" y="3956040"/>
            <a:ext cx="1152360" cy="1584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51080" y="431640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51080" y="44607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28760" y="5600880"/>
            <a:ext cx="44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oreography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rvice Interfaces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4840" y="3062160"/>
            <a:ext cx="2271960" cy="43200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25920" y="2585880"/>
            <a:ext cx="197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apability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ctional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6160" y="420228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26160" y="46339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26160" y="50673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3" idx="4"/>
            <a:endCxn id="124" idx="0"/>
          </p:cNvCxnSpPr>
          <p:nvPr/>
        </p:nvCxnSpPr>
        <p:spPr>
          <a:xfrm>
            <a:off x="5833800" y="44179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4" idx="4"/>
            <a:endCxn id="125" idx="0"/>
          </p:cNvCxnSpPr>
          <p:nvPr/>
        </p:nvCxnSpPr>
        <p:spPr>
          <a:xfrm>
            <a:off x="5833800" y="484992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128" name=""/>
          <p:cNvGrpSpPr/>
          <p:nvPr/>
        </p:nvGrpSpPr>
        <p:grpSpPr>
          <a:xfrm>
            <a:off x="6375240" y="4130640"/>
            <a:ext cx="576360" cy="360360"/>
            <a:chOff x="6375240" y="4130640"/>
            <a:chExt cx="576360" cy="360360"/>
          </a:xfrm>
        </p:grpSpPr>
        <p:sp>
          <p:nvSpPr>
            <p:cNvPr id="129" name=""/>
            <p:cNvSpPr/>
            <p:nvPr/>
          </p:nvSpPr>
          <p:spPr>
            <a:xfrm>
              <a:off x="6375240" y="4130640"/>
              <a:ext cx="576360" cy="360360"/>
            </a:xfrm>
            <a:prstGeom prst="donut">
              <a:avLst>
                <a:gd name="adj" fmla="val 11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50840" y="420228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1" name=""/>
          <p:cNvCxnSpPr>
            <a:stCxn id="123" idx="6"/>
            <a:endCxn id="129" idx="2"/>
          </p:cNvCxnSpPr>
          <p:nvPr/>
        </p:nvCxnSpPr>
        <p:spPr>
          <a:xfrm>
            <a:off x="5941800" y="4309560"/>
            <a:ext cx="43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2" name=""/>
          <p:cNvGrpSpPr/>
          <p:nvPr/>
        </p:nvGrpSpPr>
        <p:grpSpPr>
          <a:xfrm>
            <a:off x="6375240" y="4562640"/>
            <a:ext cx="576360" cy="360360"/>
            <a:chOff x="6375240" y="4562640"/>
            <a:chExt cx="576360" cy="360360"/>
          </a:xfrm>
        </p:grpSpPr>
        <p:sp>
          <p:nvSpPr>
            <p:cNvPr id="133" name=""/>
            <p:cNvSpPr/>
            <p:nvPr/>
          </p:nvSpPr>
          <p:spPr>
            <a:xfrm>
              <a:off x="6375240" y="4562640"/>
              <a:ext cx="576360" cy="360360"/>
            </a:xfrm>
            <a:prstGeom prst="donut">
              <a:avLst>
                <a:gd name="adj" fmla="val 11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50840" y="463428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5" name=""/>
          <p:cNvCxnSpPr>
            <a:stCxn id="124" idx="6"/>
            <a:endCxn id="133" idx="2"/>
          </p:cNvCxnSpPr>
          <p:nvPr/>
        </p:nvCxnSpPr>
        <p:spPr>
          <a:xfrm>
            <a:off x="5941800" y="4741920"/>
            <a:ext cx="43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4485240" y="2104920"/>
            <a:ext cx="2108520" cy="48960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 of Web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 for WS Discov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360" y="3946680"/>
            <a:ext cx="1565280" cy="158472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-service interaction inte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onsuming W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rnal Vi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- Commun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‘Grounding’</a:t>
            </a:r>
            <a:r>
              <a:rPr b="0" lang="en-US" sz="1400" spc="-1" strike="noStrike">
                <a:solidFill>
                  <a:srgbClr val="339933"/>
                </a:solidFill>
                <a:latin typeface="Arial"/>
                <a:ea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27920" y="3927600"/>
            <a:ext cx="1708200" cy="143244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alization of functionality by aggreg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Web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a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om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S composition</a:t>
            </a:r>
            <a:r>
              <a:rPr b="0" lang="en-US" sz="1600" spc="-1" strike="noStrike">
                <a:solidFill>
                  <a:srgbClr val="339933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8720" y="417204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8720" y="4603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8720" y="50371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9" idx="4"/>
            <a:endCxn id="140" idx="0"/>
          </p:cNvCxnSpPr>
          <p:nvPr/>
        </p:nvCxnSpPr>
        <p:spPr>
          <a:xfrm>
            <a:off x="3006360" y="43876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4"/>
            <a:endCxn id="141" idx="0"/>
          </p:cNvCxnSpPr>
          <p:nvPr/>
        </p:nvCxnSpPr>
        <p:spPr>
          <a:xfrm>
            <a:off x="3006360" y="481968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251080" y="460548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51080" y="47498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51080" y="503712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51080" y="51814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81160" y="3062160"/>
            <a:ext cx="2879640" cy="43200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20760" y="2602080"/>
            <a:ext cx="27432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Non-functional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C + QoS + Version + fina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39840" y="1898640"/>
            <a:ext cx="2438280" cy="70236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lete item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ality asp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Service Manag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377040" y="5035680"/>
            <a:ext cx="576360" cy="360360"/>
            <a:chOff x="6377040" y="5035680"/>
            <a:chExt cx="576360" cy="360360"/>
          </a:xfrm>
        </p:grpSpPr>
        <p:sp>
          <p:nvSpPr>
            <p:cNvPr id="152" name=""/>
            <p:cNvSpPr/>
            <p:nvPr/>
          </p:nvSpPr>
          <p:spPr>
            <a:xfrm>
              <a:off x="6377040" y="5035680"/>
              <a:ext cx="576360" cy="360360"/>
            </a:xfrm>
            <a:prstGeom prst="donut">
              <a:avLst>
                <a:gd name="adj" fmla="val 11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52640" y="510732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endCxn id="152" idx="2"/>
          </p:cNvCxnSpPr>
          <p:nvPr/>
        </p:nvCxnSpPr>
        <p:spPr>
          <a:xfrm>
            <a:off x="5943600" y="5214960"/>
            <a:ext cx="434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5479920" y="559908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Orchestratio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8" idx="2"/>
            <a:endCxn id="116" idx="0"/>
          </p:cNvCxnSpPr>
          <p:nvPr/>
        </p:nvCxnSpPr>
        <p:spPr>
          <a:xfrm>
            <a:off x="2620800" y="3494160"/>
            <a:ext cx="177264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21" idx="2"/>
            <a:endCxn id="116" idx="0"/>
          </p:cNvCxnSpPr>
          <p:nvPr/>
        </p:nvCxnSpPr>
        <p:spPr>
          <a:xfrm flipH="1">
            <a:off x="4392000" y="3494160"/>
            <a:ext cx="108972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SMO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ediator Descrip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47840" y="1865160"/>
            <a:ext cx="587988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IRS-III Framework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82760" y="2182680"/>
            <a:ext cx="66006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horeography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n IRS-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30720" y="4363560"/>
            <a:ext cx="311292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1f7a"/>
                </a:solidFill>
                <a:latin typeface="Verdana"/>
              </a:rPr>
              <a:t>Communication primitives:</a:t>
            </a:r>
            <a:endParaRPr b="0" lang="en-US" sz="16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init-choreography</a:t>
            </a:r>
            <a:endParaRPr b="0" lang="en-US" sz="1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send-message </a:t>
            </a:r>
            <a:endParaRPr b="0" lang="en-US" sz="1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received-message</a:t>
            </a:r>
            <a:endParaRPr b="0" lang="en-US" sz="1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received-error  </a:t>
            </a:r>
            <a:endParaRPr b="0" lang="en-US" sz="1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end-choreography</a:t>
            </a:r>
            <a:endParaRPr b="0" lang="en-US" sz="14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20000" y="1515960"/>
            <a:ext cx="1942920" cy="17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  <a:ea typeface="Arial"/>
              </a:rPr>
              <a:t>(not of interest in Web Service Descriptio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19840" y="1589040"/>
            <a:ext cx="1152360" cy="1584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50000" y="194940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50000" y="209376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97640" y="18050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97640" y="2236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97640" y="26701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8" idx="4"/>
            <a:endCxn id="169" idx="0"/>
          </p:cNvCxnSpPr>
          <p:nvPr/>
        </p:nvCxnSpPr>
        <p:spPr>
          <a:xfrm>
            <a:off x="6605280" y="20206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4"/>
            <a:endCxn id="170" idx="0"/>
          </p:cNvCxnSpPr>
          <p:nvPr/>
        </p:nvCxnSpPr>
        <p:spPr>
          <a:xfrm>
            <a:off x="6605280" y="245268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850000" y="223848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50000" y="23828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0000" y="267012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50000" y="281448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44400" y="32432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hor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638080"/>
            <a:ext cx="5446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DEF-CLA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ANGE-CITIZEN-DETAILS-WS-CHOREOGRAPHY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OREOGRAPH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S-GROUND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: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OUNDED-TO-WSD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ANGE-DETAILS-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ttp://changeDetails.wsdl "changeDetails" "changeDetailsPor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sap.com/research/dip/wp9/elmdb "AXIS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WER-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HAS_CLIENT_ADDRESS "STRING"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FT-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HAS_ACKNOWLEDGMENT "STRING"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S-GUARDED-TRANSITI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: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(RUL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IT-CHOREOGRAPH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-MESS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'CHANGE-DETAILS-OPERATION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01600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unding and Transition 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rchestration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n IRS-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0" y="1546200"/>
            <a:ext cx="936720" cy="158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1680" y="1515960"/>
            <a:ext cx="1943280" cy="17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  <a:ea typeface="Arial"/>
              </a:rPr>
              <a:t>(not of interest in Web Service Descriptio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16760" y="183528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16760" y="22669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16760" y="27003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3" idx="4"/>
            <a:endCxn id="184" idx="0"/>
          </p:cNvCxnSpPr>
          <p:nvPr/>
        </p:nvCxnSpPr>
        <p:spPr>
          <a:xfrm>
            <a:off x="8024400" y="20509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4" idx="4"/>
            <a:endCxn id="185" idx="0"/>
          </p:cNvCxnSpPr>
          <p:nvPr/>
        </p:nvCxnSpPr>
        <p:spPr>
          <a:xfrm>
            <a:off x="8024400" y="248292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188" name=""/>
          <p:cNvGrpSpPr/>
          <p:nvPr/>
        </p:nvGrpSpPr>
        <p:grpSpPr>
          <a:xfrm>
            <a:off x="8566200" y="1763640"/>
            <a:ext cx="576360" cy="360360"/>
            <a:chOff x="8566200" y="1763640"/>
            <a:chExt cx="576360" cy="360360"/>
          </a:xfrm>
        </p:grpSpPr>
        <p:sp>
          <p:nvSpPr>
            <p:cNvPr id="189" name=""/>
            <p:cNvSpPr/>
            <p:nvPr/>
          </p:nvSpPr>
          <p:spPr>
            <a:xfrm>
              <a:off x="8566200" y="1763640"/>
              <a:ext cx="576360" cy="360360"/>
            </a:xfrm>
            <a:prstGeom prst="donut">
              <a:avLst>
                <a:gd name="adj" fmla="val 11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41800" y="183528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1" name=""/>
          <p:cNvCxnSpPr>
            <a:stCxn id="183" idx="6"/>
            <a:endCxn id="189" idx="2"/>
          </p:cNvCxnSpPr>
          <p:nvPr/>
        </p:nvCxnSpPr>
        <p:spPr>
          <a:xfrm>
            <a:off x="8132760" y="1943280"/>
            <a:ext cx="434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2" name=""/>
          <p:cNvGrpSpPr/>
          <p:nvPr/>
        </p:nvGrpSpPr>
        <p:grpSpPr>
          <a:xfrm>
            <a:off x="8566200" y="2195640"/>
            <a:ext cx="576360" cy="360360"/>
            <a:chOff x="8566200" y="2195640"/>
            <a:chExt cx="576360" cy="360360"/>
          </a:xfrm>
        </p:grpSpPr>
        <p:sp>
          <p:nvSpPr>
            <p:cNvPr id="193" name=""/>
            <p:cNvSpPr/>
            <p:nvPr/>
          </p:nvSpPr>
          <p:spPr>
            <a:xfrm>
              <a:off x="8566200" y="2195640"/>
              <a:ext cx="576360" cy="360360"/>
            </a:xfrm>
            <a:prstGeom prst="donut">
              <a:avLst>
                <a:gd name="adj" fmla="val 11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41800" y="226728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5" name=""/>
          <p:cNvCxnSpPr>
            <a:stCxn id="184" idx="6"/>
            <a:endCxn id="193" idx="2"/>
          </p:cNvCxnSpPr>
          <p:nvPr/>
        </p:nvCxnSpPr>
        <p:spPr>
          <a:xfrm>
            <a:off x="8132760" y="2374920"/>
            <a:ext cx="434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567640" y="2668680"/>
            <a:ext cx="576360" cy="360360"/>
            <a:chOff x="8567640" y="2668680"/>
            <a:chExt cx="576360" cy="360360"/>
          </a:xfrm>
        </p:grpSpPr>
        <p:sp>
          <p:nvSpPr>
            <p:cNvPr id="197" name=""/>
            <p:cNvSpPr/>
            <p:nvPr/>
          </p:nvSpPr>
          <p:spPr>
            <a:xfrm>
              <a:off x="8567640" y="2668680"/>
              <a:ext cx="576360" cy="360360"/>
            </a:xfrm>
            <a:prstGeom prst="donut">
              <a:avLst>
                <a:gd name="adj" fmla="val 11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643240" y="274032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endCxn id="197" idx="2"/>
          </p:cNvCxnSpPr>
          <p:nvPr/>
        </p:nvCxnSpPr>
        <p:spPr>
          <a:xfrm>
            <a:off x="8134200" y="2847960"/>
            <a:ext cx="434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5871960" y="331956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Orchestratio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452320"/>
            <a:ext cx="5064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F-CLA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ANGE-ADDRESS-WS-ORCHESTRATION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CHESTR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S-PROBLEM-SOLVING-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VALUE CHANGE-ADDRESS-WS-ORCHESTRATION-PROBLEM-SOLVING-PATTERN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F-CLA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ANGE-ADDRESS-WS-ORCHESTRATION-PROBLEM-SOLVING-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BLEM-SOLVING-PATTER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(HAS-BODY :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CH-SEQU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-CITIZEN-DETAILS-GO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IRECT-EQUIPMENT-GO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CH-RETUR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CH-GET-GOAL-VALU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DIRECT-EQUIPMENT-GOAL))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97360" y="4176720"/>
            <a:ext cx="31132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1f7a"/>
                </a:solidFill>
                <a:latin typeface="Verdana"/>
              </a:rPr>
              <a:t>Control flow primitiv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orch-sequence</a:t>
            </a:r>
            <a:r>
              <a:rPr b="0" lang="en-GB" sz="14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orch-if</a:t>
            </a:r>
            <a:r>
              <a:rPr b="0" lang="en-GB" sz="14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orch-repeat</a:t>
            </a:r>
            <a:r>
              <a:rPr b="0" lang="en-GB" sz="14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orch-get-goal-value</a:t>
            </a:r>
            <a:r>
              <a:rPr b="0" lang="en-GB" sz="14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orch-return</a:t>
            </a:r>
            <a:r>
              <a:rPr b="0" lang="en-GB" sz="14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6398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flow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ediation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n IRS-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5827680" y="5222880"/>
            <a:ext cx="29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1f7a"/>
                </a:solidFill>
                <a:latin typeface="Verdana"/>
              </a:rPr>
              <a:t>Mapping primitiv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maps-to</a:t>
            </a:r>
            <a:r>
              <a:rPr b="0" lang="en-GB" sz="14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def-concept-mapping</a:t>
            </a:r>
            <a:r>
              <a:rPr b="0" lang="en-GB" sz="14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1f7a"/>
                </a:solidFill>
                <a:latin typeface="Verdana"/>
              </a:rPr>
              <a:t>def-relation-mapping</a:t>
            </a:r>
            <a:r>
              <a:rPr b="0" lang="en-GB" sz="14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921280" y="2092320"/>
            <a:ext cx="2521080" cy="1582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4038840"/>
            <a:ext cx="5392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-CLA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DDRESS-MEDIATOR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G-MEDI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?ME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S-SOURCE-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VALUE CHANGE-ADDRESS-GO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S-TARGET-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VALUE REDIRECT-EQUIPMENT-GO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S-MEDIATION-SERV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VALUE ADDRESS-MEDIATION-SERVICE-GO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S-NON-FUNCTIONAL-PROPER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-MEDIATOR-MEDIATOR-NON-FUNCTIONAL-PROPERTIES)))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89000" y="1928880"/>
            <a:ext cx="3654360" cy="1797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072120" y="1387440"/>
            <a:ext cx="2719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1f7a"/>
                </a:solidFill>
                <a:latin typeface="Verdana"/>
              </a:rPr>
              <a:t>Mapping ru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1f7a"/>
                </a:solidFill>
                <a:latin typeface="Verdana"/>
              </a:rPr>
              <a:t>(OO-Mediato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600" y="1374840"/>
            <a:ext cx="2735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1f7a"/>
                </a:solidFill>
                <a:latin typeface="Verdana"/>
              </a:rPr>
              <a:t>Mediation Serv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1f7a"/>
                </a:solidFill>
                <a:latin typeface="Verdana"/>
              </a:rPr>
              <a:t>(GG-Mediato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9760" y="3906000"/>
            <a:ext cx="3414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-concept-mapp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izen cli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-relation-mapp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izen-client-name-m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has-client-name ?client ?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ps-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?client ?citiz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as-citizen-name ?citizen ?value)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146040"/>
            <a:ext cx="77724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1f7a"/>
                </a:solidFill>
                <a:latin typeface="Verdana"/>
              </a:rPr>
              <a:t>How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does one build</a:t>
            </a:r>
            <a:br>
              <a:rPr sz="3200"/>
            </a:br>
            <a:r>
              <a:rPr b="1" lang="en-GB" sz="3200" spc="-1" strike="noStrike">
                <a:solidFill>
                  <a:srgbClr val="0f1f7a"/>
                </a:solidFill>
                <a:latin typeface="Verdana"/>
              </a:rPr>
              <a:t>Applications</a:t>
            </a:r>
            <a:br>
              <a:rPr sz="3200"/>
            </a:b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using </a:t>
            </a:r>
            <a:br>
              <a:rPr sz="3200"/>
            </a:br>
            <a:r>
              <a:rPr b="1" lang="en-GB" sz="3200" spc="-1" strike="noStrike">
                <a:solidFill>
                  <a:srgbClr val="0f1f7a"/>
                </a:solidFill>
                <a:latin typeface="Verdana"/>
              </a:rPr>
              <a:t>IRS-III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eveloping Applic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28640" y="1574640"/>
            <a:ext cx="655812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esentation layer: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r Interf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13600" y="1525680"/>
            <a:ext cx="2695320" cy="1744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010200" y="1407960"/>
            <a:ext cx="3133800" cy="44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22120" y="1465200"/>
            <a:ext cx="554040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25520" y="27936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IRS-III as a Broker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Framework Overview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Choreography, Orchestration, Mediation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Using IRS-III for creating SWS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Building applications 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with IRS-III 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Use case on E-government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Conclusions 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WS layer: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RS-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952960" y="1511280"/>
            <a:ext cx="3016440" cy="1952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837400" y="1681200"/>
            <a:ext cx="3306600" cy="725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44520" y="1413000"/>
            <a:ext cx="46512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ervice abstraction layer: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80120" y="1468440"/>
            <a:ext cx="2757600" cy="1784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145200" y="2205000"/>
            <a:ext cx="2809800" cy="511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73000"/>
            <a:ext cx="622152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15876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?xml version="1.0" encoding="ISO-8859-1" ?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wsdl:definitions xmlns:wsdl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http://schemas.xmlsoap.org/wsdl/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 xmlns:p1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http://sap.com/research/dip/wp9/swiftdb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 nam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ChangeDetailsOfCitizenInterfaceOut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 targetNamespac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http://sap.com/research/dip/wp9/swiftdb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wsdl:typ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xsd:schema xmlns:xsd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http://www.w3.org/2001/XMLSchema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 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xsd:element nam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ChangeDetailsOfCitizenRequestMessage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 typ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ChangeDetailsOfCitizenRequestType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xsd:complexType nam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ChangeDetailsOfCitizenRequestType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xsd:sequen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xsd:element nam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AddressKey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 typ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xsd:integer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 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/xsd:ele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xsd:element nam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NewAddress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xsd:sequen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xsd:element nam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PostCode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 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/xsd:ele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xsd:element nam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PremiseNumber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 typ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xsd:string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 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/xsd:ele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&lt;xsd:element nam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PremiseName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 type="</a:t>
            </a:r>
            <a:r>
              <a:rPr b="1" lang="en-GB" sz="1200" spc="-1" strike="noStrike">
                <a:solidFill>
                  <a:srgbClr val="0f1f7a"/>
                </a:solidFill>
                <a:latin typeface="Verdana"/>
              </a:rPr>
              <a:t>xsd:string</a:t>
            </a:r>
            <a:r>
              <a:rPr b="0" lang="en-GB" sz="1200" spc="-1" strike="noStrike">
                <a:solidFill>
                  <a:srgbClr val="0f1f7a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6240" y="1422360"/>
            <a:ext cx="50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f1f7a"/>
                </a:solidFill>
                <a:latin typeface="Verdana"/>
              </a:rPr>
              <a:t>WSDL for ChangeCitizenDetails Web Serv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Legacy System layer: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atabases, IT syste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099120" y="1584360"/>
            <a:ext cx="2798640" cy="1811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53040" y="2684520"/>
            <a:ext cx="2843280" cy="885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74680" y="1639800"/>
          <a:ext cx="5500800" cy="4421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680" y="1639800"/>
                    <a:ext cx="550080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case 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-gover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03240" y="1734840"/>
            <a:ext cx="73216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Prototype created for the case study within the DIP project 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Two governmental agencies in UK: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Essex County Council  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Community Care department   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Scenario “Change of circumstances”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Applying methodology to use-case =&gt; follow back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UMMARY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IRS-III: comprehensive infrastructure for Description, publication and execution of SWS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Developing applications using IRS-III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Architecture for applications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IRS-III as a broker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Goal based invocation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Choreography, orchestration and mediation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Application in eGovernment, 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Relevant URL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IRS –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kmi.open.ac.uk/projects/irs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DIP -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kmi.open.ac.uk/projects/dip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WSMO – 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  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http://www.wsmo.org/ 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cknowledg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98440" y="1717560"/>
            <a:ext cx="83152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f7a"/>
                </a:solidFill>
                <a:latin typeface="Verdana"/>
              </a:rPr>
              <a:t>This work is funded by the European Commission under the </a:t>
            </a:r>
            <a:r>
              <a:rPr b="1" lang="en-US" sz="2400" spc="-1" strike="noStrike">
                <a:solidFill>
                  <a:srgbClr val="0f1f7a"/>
                </a:solidFill>
                <a:latin typeface="Verdana"/>
              </a:rPr>
              <a:t>DIP</a:t>
            </a:r>
            <a:r>
              <a:rPr b="0" lang="en-US" sz="2400" spc="-1" strike="noStrike">
                <a:solidFill>
                  <a:srgbClr val="0f1f7a"/>
                </a:solidFill>
                <a:latin typeface="Verdana"/>
              </a:rPr>
              <a:t> Integrated Project and by EPSRC under the AKT Project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f7a"/>
                </a:solidFill>
                <a:latin typeface="Verdana"/>
              </a:rPr>
              <a:t>The Semantic Web Services group at KMi is: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f7a"/>
                </a:solidFill>
                <a:latin typeface="Verdana"/>
              </a:rPr>
              <a:t>John Domingue, Liliana Cabral, Stefania Galizia, Alessio Gugliotta, Barry Norton, Vlad Tanasescu, Carlos Pedrinaci, Roxana Balacheanu, Enrico Motta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f7a"/>
                </a:solidFill>
                <a:latin typeface="Verdana"/>
              </a:rPr>
              <a:t>WSMO slides adapted from Michael Stollberg, Deri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f1f7a"/>
                </a:solidFill>
                <a:latin typeface="Verdana"/>
              </a:rPr>
              <a:t>Thanks</a:t>
            </a:r>
            <a:endParaRPr b="0" lang="en-US" sz="44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042920" y="1263600"/>
            <a:ext cx="70106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at’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emantic Web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12560"/>
            <a:ext cx="755496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WS 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emantic Web technologies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+ 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Web Service technologies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hat’s IRS-II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25440" y="3096720"/>
            <a:ext cx="649440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1f7a"/>
                </a:solidFill>
                <a:latin typeface="Verdana"/>
              </a:rPr>
              <a:t>A framework and platform</a:t>
            </a: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for building 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1f7a"/>
                </a:solidFill>
                <a:latin typeface="Verdana"/>
              </a:rPr>
              <a:t>Semantic Web Services</a:t>
            </a: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according to the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1f7a"/>
                </a:solidFill>
                <a:latin typeface="Verdana"/>
              </a:rPr>
              <a:t>WSMO conceptual model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01800" y="1568520"/>
            <a:ext cx="36021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IRS-III as a Brok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25080" y="1892160"/>
            <a:ext cx="7148520" cy="38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Approach to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f7a"/>
                </a:solidFill>
                <a:latin typeface="Verdana"/>
              </a:rPr>
              <a:t>creating applications</a:t>
            </a: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from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f7a"/>
                </a:solidFill>
                <a:latin typeface="Verdana"/>
              </a:rPr>
              <a:t>Semantic Web Services</a:t>
            </a: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which  uses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f7a"/>
                </a:solidFill>
                <a:latin typeface="Verdana"/>
              </a:rPr>
              <a:t>IRS-III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for mediating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between a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f7a"/>
                </a:solidFill>
                <a:latin typeface="Verdana"/>
              </a:rPr>
              <a:t>service requester</a:t>
            </a: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and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f7a"/>
                </a:solidFill>
                <a:latin typeface="Verdana"/>
              </a:rPr>
              <a:t>one or more service providers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IRS-III as a Brok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6600" y="3295800"/>
            <a:ext cx="85024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3144960"/>
            <a:ext cx="7612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1f7a"/>
                </a:solidFill>
                <a:latin typeface="Verdana"/>
              </a:rPr>
              <a:t>How</a:t>
            </a:r>
            <a:br>
              <a:rPr sz="3200"/>
            </a:b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 does one create</a:t>
            </a:r>
            <a:br>
              <a:rPr sz="3200"/>
            </a:b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0f1f7a"/>
                </a:solidFill>
                <a:latin typeface="Verdana"/>
              </a:rPr>
              <a:t>Semantic Web Services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with </a:t>
            </a:r>
            <a:br>
              <a:rPr sz="3200"/>
            </a:br>
            <a:r>
              <a:rPr b="1" lang="en-GB" sz="3200" spc="-1" strike="noStrike">
                <a:solidFill>
                  <a:srgbClr val="0f1f7a"/>
                </a:solidFill>
                <a:latin typeface="Verdana"/>
              </a:rPr>
              <a:t>IRS-III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reating SWS with IRS-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10840" y="2141280"/>
            <a:ext cx="7047000" cy="36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From an user requirements specification: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f7a"/>
                </a:solidFill>
                <a:latin typeface="Verdana"/>
              </a:rPr>
              <a:t>Use/Create domain ontologies 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f7a"/>
                </a:solidFill>
                <a:latin typeface="Verdana"/>
              </a:rPr>
              <a:t>Describe client requests as goals  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f7a"/>
                </a:solidFill>
                <a:latin typeface="Verdana"/>
              </a:rPr>
              <a:t>Semantically describe deployed Web Services  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f7a"/>
                </a:solidFill>
                <a:latin typeface="Verdana"/>
              </a:rPr>
              <a:t>Resolve conceptual mismatches 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f7a"/>
                </a:solidFill>
                <a:latin typeface="Verdana"/>
              </a:rPr>
              <a:t>Publish semantically described Web Services 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3280" y="427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WSMO </a:t>
            </a:r>
            <a:br>
              <a:rPr sz="3200"/>
            </a:b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Web Service Modelling Ontology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75160" y="2486160"/>
            <a:ext cx="169056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9:42:56Z</dcterms:created>
  <dc:creator>Harriett Cornish</dc:creator>
  <dc:description/>
  <dc:language>en-US</dc:language>
  <cp:lastModifiedBy>lc2676</cp:lastModifiedBy>
  <dcterms:modified xsi:type="dcterms:W3CDTF">2006-10-17T23:14:28Z</dcterms:modified>
  <cp:revision>106</cp:revision>
  <dc:subject/>
  <dc:title>PowerPoint Presentation</dc:title>
</cp:coreProperties>
</file>