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465F-63FF-4F7C-B1F5-5CA79268F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87E1-00BE-43DE-802F-31AAAAE80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132B-E2B8-4EE6-B160-86B7A7B0D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D320-A8A8-4F96-9E48-D579B3EA6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2E3AE-7184-448A-B7DE-0EE22156C2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CF8D5-9F9D-49A4-8D1D-570C662F77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CC800-26E0-47E8-9007-9107482550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7B1D2-ABA5-4A3E-B9C2-9C2551E66F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87720-E33A-4349-ADAF-8DFFCB1EAE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47840" y="283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51CF2-EF17-425D-85CB-C1AE4EA94B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5337A-6346-4FF6-8AC3-0A690F7B2F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2A5C-D2A2-4827-855A-8B4566E00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3AC1F-1382-480D-80ED-DBB0120233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722DF-2734-46E5-876C-912934D064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66C1E-0D27-442C-9DAF-4983785536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9734E-6E87-44DA-B9A1-7115C362A2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E3715-DC7B-4BA7-8C3A-985F068245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0233-0277-4C2A-91FD-28D819BC8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C8C8-E701-4E53-8A73-BEEA78206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CE41-9725-4ADF-A23F-C467C5FC1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283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3FB1-4A99-46FB-A7B1-6F765BEDC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DC69-79BB-4DAF-B651-4B53C2A12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2E99-DE69-4FC2-88ED-9D6DD3E6A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FDA3-4CC0-4EF0-B4D5-EA9A70C3C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1A51-80F3-4F2F-BF7B-1B90EBE34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66560" y="1266840"/>
            <a:ext cx="8224920" cy="36360"/>
          </a:xfrm>
          <a:prstGeom prst="rect">
            <a:avLst/>
          </a:prstGeom>
          <a:gradFill rotWithShape="0">
            <a:gsLst>
              <a:gs pos="0">
                <a:srgbClr val="9db5fe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44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7F6F-97D6-4A1F-AF86-3CB4A0C2A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28600" y="1068480"/>
            <a:ext cx="8674200" cy="1814400"/>
            <a:chOff x="228600" y="1068480"/>
            <a:chExt cx="8674200" cy="1814400"/>
          </a:xfrm>
        </p:grpSpPr>
        <p:sp>
          <p:nvSpPr>
            <p:cNvPr id="82" name=""/>
            <p:cNvSpPr/>
            <p:nvPr/>
          </p:nvSpPr>
          <p:spPr>
            <a:xfrm>
              <a:off x="228600" y="1068480"/>
              <a:ext cx="8674200" cy="181440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8600" y="1374840"/>
              <a:ext cx="867420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Structure Analysis of </a:t>
              </a:r>
              <a:br>
                <a:rPr sz="4000"/>
              </a:b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Large Software System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124080" y="3352680"/>
            <a:ext cx="2819520" cy="1261080"/>
            <a:chOff x="3124080" y="3352680"/>
            <a:chExt cx="2819520" cy="1261080"/>
          </a:xfrm>
        </p:grpSpPr>
        <p:sp>
          <p:nvSpPr>
            <p:cNvPr id="85" name=""/>
            <p:cNvSpPr/>
            <p:nvPr/>
          </p:nvSpPr>
          <p:spPr>
            <a:xfrm>
              <a:off x="3124080" y="3352680"/>
              <a:ext cx="2819520" cy="119520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3352680"/>
              <a:ext cx="2819520" cy="12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325440" indent="-325440" algn="ctr">
                <a:lnSpc>
                  <a:spcPct val="93000"/>
                </a:lnSpc>
                <a:spcBef>
                  <a:spcPts val="601"/>
                </a:spcBef>
                <a:tabLst>
                  <a:tab algn="l" pos="0"/>
                  <a:tab algn="l" pos="325440"/>
                  <a:tab algn="l" pos="782640"/>
                  <a:tab algn="l" pos="1239840"/>
                  <a:tab algn="l" pos="1697040"/>
                  <a:tab algn="l" pos="2154240"/>
                  <a:tab algn="l" pos="2611440"/>
                  <a:tab algn="l" pos="3068640"/>
                  <a:tab algn="l" pos="3525840"/>
                  <a:tab algn="l" pos="3983040"/>
                  <a:tab algn="l" pos="4440240"/>
                  <a:tab algn="l" pos="4897440"/>
                  <a:tab algn="l" pos="5354640"/>
                  <a:tab algn="l" pos="5811840"/>
                  <a:tab algn="l" pos="6269040"/>
                  <a:tab algn="l" pos="6726240"/>
                  <a:tab algn="l" pos="7183440"/>
                  <a:tab algn="l" pos="7640640"/>
                  <a:tab algn="l" pos="8097840"/>
                  <a:tab algn="l" pos="8555040"/>
                  <a:tab algn="l" pos="9012240"/>
                  <a:tab algn="l" pos="946944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3366"/>
                  </a:solidFill>
                  <a:latin typeface="Arial"/>
                </a:rPr>
                <a:t>Dirk Bey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25440" indent="-325440" algn="ctr">
                <a:lnSpc>
                  <a:spcPct val="93000"/>
                </a:lnSpc>
                <a:spcBef>
                  <a:spcPts val="601"/>
                </a:spcBef>
                <a:tabLst>
                  <a:tab algn="l" pos="0"/>
                  <a:tab algn="l" pos="325440"/>
                  <a:tab algn="l" pos="782640"/>
                  <a:tab algn="l" pos="1239840"/>
                  <a:tab algn="l" pos="1697040"/>
                  <a:tab algn="l" pos="2154240"/>
                  <a:tab algn="l" pos="2611440"/>
                  <a:tab algn="l" pos="3068640"/>
                  <a:tab algn="l" pos="3525840"/>
                  <a:tab algn="l" pos="3983040"/>
                  <a:tab algn="l" pos="4440240"/>
                  <a:tab algn="l" pos="4897440"/>
                  <a:tab algn="l" pos="5354640"/>
                  <a:tab algn="l" pos="5811840"/>
                  <a:tab algn="l" pos="6269040"/>
                  <a:tab algn="l" pos="6726240"/>
                  <a:tab algn="l" pos="7183440"/>
                  <a:tab algn="l" pos="7640640"/>
                  <a:tab algn="l" pos="8097840"/>
                  <a:tab algn="l" pos="8555040"/>
                  <a:tab algn="l" pos="9012240"/>
                  <a:tab algn="l" pos="946944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3366"/>
                  </a:solidFill>
                  <a:latin typeface="Arial"/>
                </a:rPr>
                <a:t>EPFL, Lausan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25440" indent="-325440" algn="ctr">
                <a:lnSpc>
                  <a:spcPct val="93000"/>
                </a:lnSpc>
                <a:spcBef>
                  <a:spcPts val="601"/>
                </a:spcBef>
                <a:tabLst>
                  <a:tab algn="l" pos="0"/>
                  <a:tab algn="l" pos="325440"/>
                  <a:tab algn="l" pos="782640"/>
                  <a:tab algn="l" pos="1239840"/>
                  <a:tab algn="l" pos="1697040"/>
                  <a:tab algn="l" pos="2154240"/>
                  <a:tab algn="l" pos="2611440"/>
                  <a:tab algn="l" pos="3068640"/>
                  <a:tab algn="l" pos="3525840"/>
                  <a:tab algn="l" pos="3983040"/>
                  <a:tab algn="l" pos="4440240"/>
                  <a:tab algn="l" pos="4897440"/>
                  <a:tab algn="l" pos="5354640"/>
                  <a:tab algn="l" pos="5811840"/>
                  <a:tab algn="l" pos="6269040"/>
                  <a:tab algn="l" pos="6726240"/>
                  <a:tab algn="l" pos="7183440"/>
                  <a:tab algn="l" pos="7640640"/>
                  <a:tab algn="l" pos="8097840"/>
                  <a:tab algn="l" pos="8555040"/>
                  <a:tab algn="l" pos="9012240"/>
                  <a:tab algn="l" pos="946944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3366"/>
                  </a:solidFill>
                  <a:latin typeface="Arial"/>
                </a:rPr>
                <a:t>Switzer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Relational Programming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rite algorithms as abstract as we think about th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pplications in Graph Analys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hortest path, diameter, BFS, transitive closure, Warshall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trongly connected components, subgraph match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pplications in Software Engineer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oftware graphs as abstract model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nalysis of design pattern, architecture matching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patterns of problematic desig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Why New Tool ?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4280" cy="23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rebuchet MS"/>
              </a:rPr>
              <a:t>Transitive Closur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Heap tables, proper index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Quintus Prolo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mmercial reference implemen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3886200"/>
            <a:ext cx="7773480" cy="2227320"/>
            <a:chOff x="685800" y="3886200"/>
            <a:chExt cx="7773480" cy="2227320"/>
          </a:xfrm>
        </p:grpSpPr>
        <p:grpSp>
          <p:nvGrpSpPr>
            <p:cNvPr id="116" name=""/>
            <p:cNvGrpSpPr/>
            <p:nvPr/>
          </p:nvGrpSpPr>
          <p:grpSpPr>
            <a:xfrm>
              <a:off x="6291000" y="5734080"/>
              <a:ext cx="971280" cy="378000"/>
              <a:chOff x="6291000" y="5734080"/>
              <a:chExt cx="971280" cy="378000"/>
            </a:xfrm>
          </p:grpSpPr>
          <p:sp>
            <p:nvSpPr>
              <p:cNvPr id="117" name=""/>
              <p:cNvSpPr/>
              <p:nvPr/>
            </p:nvSpPr>
            <p:spPr>
              <a:xfrm>
                <a:off x="6291000" y="5734080"/>
                <a:ext cx="97128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91000" y="5734080"/>
                <a:ext cx="9712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&gt; 5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291000" y="5356440"/>
              <a:ext cx="971280" cy="377640"/>
              <a:chOff x="6291000" y="5356440"/>
              <a:chExt cx="971280" cy="377640"/>
            </a:xfrm>
          </p:grpSpPr>
          <p:sp>
            <p:nvSpPr>
              <p:cNvPr id="120" name=""/>
              <p:cNvSpPr/>
              <p:nvPr/>
            </p:nvSpPr>
            <p:spPr>
              <a:xfrm>
                <a:off x="6291000" y="5356440"/>
                <a:ext cx="97128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91000" y="5356440"/>
                <a:ext cx="9712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99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91000" y="4961160"/>
              <a:ext cx="971280" cy="395280"/>
              <a:chOff x="6291000" y="4961160"/>
              <a:chExt cx="971280" cy="395280"/>
            </a:xfrm>
          </p:grpSpPr>
          <p:sp>
            <p:nvSpPr>
              <p:cNvPr id="123" name=""/>
              <p:cNvSpPr/>
              <p:nvPr/>
            </p:nvSpPr>
            <p:spPr>
              <a:xfrm>
                <a:off x="6291000" y="4961160"/>
                <a:ext cx="9712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91000" y="4961160"/>
                <a:ext cx="9712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2.13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291000" y="4265640"/>
              <a:ext cx="971280" cy="695520"/>
              <a:chOff x="6291000" y="4265640"/>
              <a:chExt cx="971280" cy="695520"/>
            </a:xfrm>
          </p:grpSpPr>
          <p:sp>
            <p:nvSpPr>
              <p:cNvPr id="126" name=""/>
              <p:cNvSpPr/>
              <p:nvPr/>
            </p:nvSpPr>
            <p:spPr>
              <a:xfrm>
                <a:off x="6291000" y="4265640"/>
                <a:ext cx="971280" cy="69552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91000" y="4265640"/>
                <a:ext cx="9712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11.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291000" y="3886200"/>
              <a:ext cx="971280" cy="379440"/>
              <a:chOff x="6291000" y="3886200"/>
              <a:chExt cx="971280" cy="379440"/>
            </a:xfrm>
          </p:grpSpPr>
          <p:sp>
            <p:nvSpPr>
              <p:cNvPr id="129" name=""/>
              <p:cNvSpPr/>
              <p:nvPr/>
            </p:nvSpPr>
            <p:spPr>
              <a:xfrm>
                <a:off x="6291000" y="3886200"/>
                <a:ext cx="97128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91000" y="3886200"/>
                <a:ext cx="9712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MySQ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262640" y="5734080"/>
              <a:ext cx="1194840" cy="3780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62640" y="5356440"/>
              <a:ext cx="1194840" cy="3776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262640" y="4961160"/>
              <a:ext cx="1194840" cy="395280"/>
              <a:chOff x="7262640" y="4961160"/>
              <a:chExt cx="1194840" cy="39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7262640" y="4961160"/>
                <a:ext cx="119484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62640" y="4961160"/>
                <a:ext cx="11948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7262640" y="4265640"/>
              <a:ext cx="1194840" cy="695520"/>
            </a:xfrm>
            <a:prstGeom prst="roundRect">
              <a:avLst>
                <a:gd name="adj" fmla="val 22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262640" y="3886200"/>
              <a:ext cx="1194840" cy="379440"/>
              <a:chOff x="7262640" y="3886200"/>
              <a:chExt cx="1194840" cy="379440"/>
            </a:xfrm>
          </p:grpSpPr>
          <p:sp>
            <p:nvSpPr>
              <p:cNvPr id="138" name=""/>
              <p:cNvSpPr/>
              <p:nvPr/>
            </p:nvSpPr>
            <p:spPr>
              <a:xfrm>
                <a:off x="7262640" y="3886200"/>
                <a:ext cx="119484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62640" y="3886200"/>
                <a:ext cx="119484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410080" y="5356440"/>
              <a:ext cx="880560" cy="377640"/>
              <a:chOff x="5410080" y="5356440"/>
              <a:chExt cx="880560" cy="377640"/>
            </a:xfrm>
          </p:grpSpPr>
          <p:sp>
            <p:nvSpPr>
              <p:cNvPr id="141" name=""/>
              <p:cNvSpPr/>
              <p:nvPr/>
            </p:nvSpPr>
            <p:spPr>
              <a:xfrm>
                <a:off x="5410080" y="5356440"/>
                <a:ext cx="88056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10080" y="5356440"/>
                <a:ext cx="880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158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124160" y="5356440"/>
              <a:ext cx="1285560" cy="377640"/>
              <a:chOff x="4124160" y="5356440"/>
              <a:chExt cx="1285560" cy="377640"/>
            </a:xfrm>
          </p:grpSpPr>
          <p:sp>
            <p:nvSpPr>
              <p:cNvPr id="144" name=""/>
              <p:cNvSpPr/>
              <p:nvPr/>
            </p:nvSpPr>
            <p:spPr>
              <a:xfrm>
                <a:off x="4124160" y="5356440"/>
                <a:ext cx="128556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24160" y="5356440"/>
                <a:ext cx="1285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784 24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227040" y="5356440"/>
              <a:ext cx="896760" cy="377640"/>
              <a:chOff x="3227040" y="5356440"/>
              <a:chExt cx="896760" cy="377640"/>
            </a:xfrm>
          </p:grpSpPr>
          <p:sp>
            <p:nvSpPr>
              <p:cNvPr id="147" name=""/>
              <p:cNvSpPr/>
              <p:nvPr/>
            </p:nvSpPr>
            <p:spPr>
              <a:xfrm>
                <a:off x="3227040" y="5356440"/>
                <a:ext cx="89676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27040" y="5356440"/>
                <a:ext cx="8967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12 94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209680" y="5356440"/>
              <a:ext cx="1017000" cy="377640"/>
              <a:chOff x="2209680" y="5356440"/>
              <a:chExt cx="1017000" cy="377640"/>
            </a:xfrm>
          </p:grpSpPr>
          <p:sp>
            <p:nvSpPr>
              <p:cNvPr id="150" name=""/>
              <p:cNvSpPr/>
              <p:nvPr/>
            </p:nvSpPr>
            <p:spPr>
              <a:xfrm>
                <a:off x="2209680" y="5356440"/>
                <a:ext cx="101700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09680" y="5356440"/>
                <a:ext cx="1017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2 26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85800" y="5356440"/>
              <a:ext cx="1523880" cy="377640"/>
              <a:chOff x="685800" y="5356440"/>
              <a:chExt cx="1523880" cy="377640"/>
            </a:xfrm>
          </p:grpSpPr>
          <p:sp>
            <p:nvSpPr>
              <p:cNvPr id="153" name=""/>
              <p:cNvSpPr/>
              <p:nvPr/>
            </p:nvSpPr>
            <p:spPr>
              <a:xfrm>
                <a:off x="685800" y="5356440"/>
                <a:ext cx="152388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85800" y="5356440"/>
                <a:ext cx="15238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JDK 1.4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124160" y="5734080"/>
              <a:ext cx="1285560" cy="378000"/>
              <a:chOff x="4124160" y="5734080"/>
              <a:chExt cx="1285560" cy="378000"/>
            </a:xfrm>
          </p:grpSpPr>
          <p:sp>
            <p:nvSpPr>
              <p:cNvPr id="156" name=""/>
              <p:cNvSpPr/>
              <p:nvPr/>
            </p:nvSpPr>
            <p:spPr>
              <a:xfrm>
                <a:off x="4124160" y="5734080"/>
                <a:ext cx="128556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24160" y="5734080"/>
                <a:ext cx="1285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1 440 34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124160" y="4961160"/>
              <a:ext cx="1285560" cy="395280"/>
              <a:chOff x="4124160" y="4961160"/>
              <a:chExt cx="1285560" cy="395280"/>
            </a:xfrm>
          </p:grpSpPr>
          <p:sp>
            <p:nvSpPr>
              <p:cNvPr id="159" name=""/>
              <p:cNvSpPr/>
              <p:nvPr/>
            </p:nvSpPr>
            <p:spPr>
              <a:xfrm>
                <a:off x="4124160" y="4961160"/>
                <a:ext cx="128556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124160" y="4961160"/>
                <a:ext cx="1285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201 13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124160" y="4265640"/>
              <a:ext cx="1285560" cy="695520"/>
              <a:chOff x="4124160" y="4265640"/>
              <a:chExt cx="1285560" cy="695520"/>
            </a:xfrm>
          </p:grpSpPr>
          <p:sp>
            <p:nvSpPr>
              <p:cNvPr id="162" name=""/>
              <p:cNvSpPr/>
              <p:nvPr/>
            </p:nvSpPr>
            <p:spPr>
              <a:xfrm>
                <a:off x="4124160" y="4265640"/>
                <a:ext cx="1285560" cy="69552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24160" y="4265640"/>
                <a:ext cx="1285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142 83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124160" y="3886200"/>
              <a:ext cx="1285560" cy="379440"/>
              <a:chOff x="4124160" y="3886200"/>
              <a:chExt cx="1285560" cy="379440"/>
            </a:xfrm>
          </p:grpSpPr>
          <p:sp>
            <p:nvSpPr>
              <p:cNvPr id="165" name=""/>
              <p:cNvSpPr/>
              <p:nvPr/>
            </p:nvSpPr>
            <p:spPr>
              <a:xfrm>
                <a:off x="4124160" y="3886200"/>
                <a:ext cx="128556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124160" y="3886200"/>
                <a:ext cx="1285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LO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410080" y="5734080"/>
              <a:ext cx="880560" cy="378000"/>
              <a:chOff x="5410080" y="5734080"/>
              <a:chExt cx="880560" cy="378000"/>
            </a:xfrm>
          </p:grpSpPr>
          <p:sp>
            <p:nvSpPr>
              <p:cNvPr id="168" name=""/>
              <p:cNvSpPr/>
              <p:nvPr/>
            </p:nvSpPr>
            <p:spPr>
              <a:xfrm>
                <a:off x="5410080" y="5734080"/>
                <a:ext cx="88056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10080" y="5734080"/>
                <a:ext cx="880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4 360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4961160"/>
              <a:ext cx="880560" cy="395280"/>
              <a:chOff x="5410080" y="4961160"/>
              <a:chExt cx="880560" cy="3952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4961160"/>
                <a:ext cx="88056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4961160"/>
                <a:ext cx="880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2.10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410080" y="4265640"/>
              <a:ext cx="880560" cy="695520"/>
              <a:chOff x="5410080" y="4265640"/>
              <a:chExt cx="880560" cy="695520"/>
            </a:xfrm>
          </p:grpSpPr>
          <p:sp>
            <p:nvSpPr>
              <p:cNvPr id="174" name=""/>
              <p:cNvSpPr/>
              <p:nvPr/>
            </p:nvSpPr>
            <p:spPr>
              <a:xfrm>
                <a:off x="5410080" y="4265640"/>
                <a:ext cx="880560" cy="69552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10080" y="4265640"/>
                <a:ext cx="880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0.82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410080" y="3886200"/>
              <a:ext cx="880560" cy="379440"/>
              <a:chOff x="5410080" y="3886200"/>
              <a:chExt cx="880560" cy="379440"/>
            </a:xfrm>
          </p:grpSpPr>
          <p:sp>
            <p:nvSpPr>
              <p:cNvPr id="177" name=""/>
              <p:cNvSpPr/>
              <p:nvPr/>
            </p:nvSpPr>
            <p:spPr>
              <a:xfrm>
                <a:off x="5410080" y="3886200"/>
                <a:ext cx="88056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10080" y="3886200"/>
                <a:ext cx="880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Prolo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227040" y="5734080"/>
              <a:ext cx="896760" cy="378000"/>
              <a:chOff x="3227040" y="5734080"/>
              <a:chExt cx="896760" cy="378000"/>
            </a:xfrm>
          </p:grpSpPr>
          <p:sp>
            <p:nvSpPr>
              <p:cNvPr id="180" name=""/>
              <p:cNvSpPr/>
              <p:nvPr/>
            </p:nvSpPr>
            <p:spPr>
              <a:xfrm>
                <a:off x="3227040" y="5734080"/>
                <a:ext cx="89676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27040" y="5734080"/>
                <a:ext cx="8967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59 34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2209680" y="5734080"/>
              <a:ext cx="1017000" cy="378000"/>
              <a:chOff x="2209680" y="5734080"/>
              <a:chExt cx="1017000" cy="378000"/>
            </a:xfrm>
          </p:grpSpPr>
          <p:sp>
            <p:nvSpPr>
              <p:cNvPr id="183" name=""/>
              <p:cNvSpPr/>
              <p:nvPr/>
            </p:nvSpPr>
            <p:spPr>
              <a:xfrm>
                <a:off x="2209680" y="5734080"/>
                <a:ext cx="101700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09680" y="5734080"/>
                <a:ext cx="1017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7 08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85800" y="5734080"/>
              <a:ext cx="1523880" cy="378000"/>
              <a:chOff x="685800" y="5734080"/>
              <a:chExt cx="1523880" cy="378000"/>
            </a:xfrm>
          </p:grpSpPr>
          <p:sp>
            <p:nvSpPr>
              <p:cNvPr id="186" name=""/>
              <p:cNvSpPr/>
              <p:nvPr/>
            </p:nvSpPr>
            <p:spPr>
              <a:xfrm>
                <a:off x="685800" y="5734080"/>
                <a:ext cx="152388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5800" y="5734080"/>
                <a:ext cx="15238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Eclipse 2.1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227040" y="4961160"/>
              <a:ext cx="896760" cy="395280"/>
              <a:chOff x="3227040" y="4961160"/>
              <a:chExt cx="896760" cy="395280"/>
            </a:xfrm>
          </p:grpSpPr>
          <p:sp>
            <p:nvSpPr>
              <p:cNvPr id="189" name=""/>
              <p:cNvSpPr/>
              <p:nvPr/>
            </p:nvSpPr>
            <p:spPr>
              <a:xfrm>
                <a:off x="3227040" y="4961160"/>
                <a:ext cx="89676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27040" y="4961160"/>
                <a:ext cx="8967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4 1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09680" y="4961160"/>
              <a:ext cx="1017000" cy="395280"/>
              <a:chOff x="2209680" y="4961160"/>
              <a:chExt cx="1017000" cy="39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09680" y="4961160"/>
                <a:ext cx="101700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09680" y="4961160"/>
                <a:ext cx="1017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9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85800" y="4961160"/>
              <a:ext cx="1523880" cy="395280"/>
              <a:chOff x="685800" y="4961160"/>
              <a:chExt cx="1523880" cy="395280"/>
            </a:xfrm>
          </p:grpSpPr>
          <p:sp>
            <p:nvSpPr>
              <p:cNvPr id="195" name=""/>
              <p:cNvSpPr/>
              <p:nvPr/>
            </p:nvSpPr>
            <p:spPr>
              <a:xfrm>
                <a:off x="685800" y="4961160"/>
                <a:ext cx="15238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5800" y="4961160"/>
                <a:ext cx="15238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JWAM 1.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227040" y="4265640"/>
              <a:ext cx="896760" cy="695520"/>
              <a:chOff x="3227040" y="4265640"/>
              <a:chExt cx="896760" cy="695520"/>
            </a:xfrm>
          </p:grpSpPr>
          <p:sp>
            <p:nvSpPr>
              <p:cNvPr id="198" name=""/>
              <p:cNvSpPr/>
              <p:nvPr/>
            </p:nvSpPr>
            <p:spPr>
              <a:xfrm>
                <a:off x="3227040" y="4265640"/>
                <a:ext cx="896760" cy="69552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27040" y="4265640"/>
                <a:ext cx="8967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98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209680" y="4265640"/>
              <a:ext cx="1017000" cy="695520"/>
              <a:chOff x="2209680" y="4265640"/>
              <a:chExt cx="1017000" cy="695520"/>
            </a:xfrm>
          </p:grpSpPr>
          <p:sp>
            <p:nvSpPr>
              <p:cNvPr id="201" name=""/>
              <p:cNvSpPr/>
              <p:nvPr/>
            </p:nvSpPr>
            <p:spPr>
              <a:xfrm>
                <a:off x="2209680" y="4265640"/>
                <a:ext cx="1017000" cy="69552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09680" y="4265640"/>
                <a:ext cx="1017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3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85800" y="4265640"/>
              <a:ext cx="1523880" cy="695520"/>
              <a:chOff x="685800" y="4265640"/>
              <a:chExt cx="1523880" cy="695520"/>
            </a:xfrm>
          </p:grpSpPr>
          <p:sp>
            <p:nvSpPr>
              <p:cNvPr id="204" name=""/>
              <p:cNvSpPr/>
              <p:nvPr/>
            </p:nvSpPr>
            <p:spPr>
              <a:xfrm>
                <a:off x="685800" y="4265640"/>
                <a:ext cx="1523880" cy="69552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5800" y="4265640"/>
                <a:ext cx="15238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JDK A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227040" y="3886200"/>
              <a:ext cx="896760" cy="379440"/>
              <a:chOff x="3227040" y="3886200"/>
              <a:chExt cx="896760" cy="379440"/>
            </a:xfrm>
          </p:grpSpPr>
          <p:sp>
            <p:nvSpPr>
              <p:cNvPr id="207" name=""/>
              <p:cNvSpPr/>
              <p:nvPr/>
            </p:nvSpPr>
            <p:spPr>
              <a:xfrm>
                <a:off x="3227040" y="3886200"/>
                <a:ext cx="89676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27040" y="3886200"/>
                <a:ext cx="8967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Cal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209680" y="3886200"/>
              <a:ext cx="1017000" cy="379440"/>
              <a:chOff x="2209680" y="3886200"/>
              <a:chExt cx="1017000" cy="379440"/>
            </a:xfrm>
          </p:grpSpPr>
          <p:sp>
            <p:nvSpPr>
              <p:cNvPr id="210" name=""/>
              <p:cNvSpPr/>
              <p:nvPr/>
            </p:nvSpPr>
            <p:spPr>
              <a:xfrm>
                <a:off x="2209680" y="3886200"/>
                <a:ext cx="101700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09680" y="3886200"/>
                <a:ext cx="1017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Clas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85800" y="3886200"/>
              <a:ext cx="1523880" cy="379440"/>
              <a:chOff x="685800" y="3886200"/>
              <a:chExt cx="1523880" cy="379440"/>
            </a:xfrm>
          </p:grpSpPr>
          <p:sp>
            <p:nvSpPr>
              <p:cNvPr id="213" name=""/>
              <p:cNvSpPr/>
              <p:nvPr/>
            </p:nvSpPr>
            <p:spPr>
              <a:xfrm>
                <a:off x="685800" y="3886200"/>
                <a:ext cx="152388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5800" y="3886200"/>
                <a:ext cx="15238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yste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685800" y="3886200"/>
              <a:ext cx="7772040" cy="1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800" y="4265640"/>
              <a:ext cx="7772040" cy="18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5800" y="4961160"/>
              <a:ext cx="6576840" cy="14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" y="5356440"/>
              <a:ext cx="6576840" cy="14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5800" y="3886200"/>
              <a:ext cx="1440" cy="22258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09680" y="3886200"/>
              <a:ext cx="1080" cy="2225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7040" y="3886200"/>
              <a:ext cx="1440" cy="2225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24160" y="3886200"/>
              <a:ext cx="1080" cy="2225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91000" y="3886200"/>
              <a:ext cx="1080" cy="2225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10080" y="3886200"/>
              <a:ext cx="1080" cy="2225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" y="5734080"/>
              <a:ext cx="6576840" cy="18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62640" y="3886200"/>
              <a:ext cx="1080" cy="2225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57840" y="4265640"/>
              <a:ext cx="1440" cy="1846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57840" y="3886200"/>
              <a:ext cx="1440" cy="379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62640" y="6112080"/>
              <a:ext cx="1194840" cy="1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6112080"/>
              <a:ext cx="6576840" cy="1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Language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7600" indent="-327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Relational Programming” proposed early [MacLennan77]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7600" indent="-327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QL: too lengthy, no complement, iterations, quantific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7600" indent="-327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Graph analysis tools: no n-ary rel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7600" indent="-327600">
              <a:lnSpc>
                <a:spcPct val="93000"/>
              </a:lnSpc>
              <a:spcBef>
                <a:spcPts val="601"/>
              </a:spcBef>
              <a:buClr>
                <a:srgbClr val="00cc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Trebuchet MS"/>
              </a:rPr>
              <a:t>Predicate Calculus, extended by iterations and TC 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imple no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ell-know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7600" indent="-327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hy not </a:t>
            </a:r>
            <a:r>
              <a:rPr b="0" lang="en-GB" sz="2400" spc="-1" strike="noStrike">
                <a:solidFill>
                  <a:srgbClr val="ff0000"/>
                </a:solidFill>
                <a:latin typeface="Trebuchet MS"/>
              </a:rPr>
              <a:t>Prolog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erformance issu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rolog aims at different applic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Solution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RML: Relation Manipulation Languag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CrocoPat: interpreter for RML based o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Binary Decision Diagrams (BDD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Examples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dding element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ale("John"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ale("Joe"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Female("Alice"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Female("Jane"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Female("Mary"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entOf("John", "Alice"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entOf("John", "Joe"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entOf("Mary", "Alice"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entOf("Mary", "Joe"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entOf("Joe", "Jane"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Examples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ssignments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JoesParent(x) :=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entOf(x, "Joe"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hildOf(x,y) :=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entOf(y,x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FatherOf("John", x) :=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entOf("John", x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FatherOf("Joe", x) :=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entOf("Joe", x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asic Relational Operators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FatherOf(x,y) :=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entOf(x,y) AND Male(x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otherOf(x,y) :=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entOf(x,y) AND Female(x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entOf(x,y) :=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otherOf(x,y) OR FatherOf(x,y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Examples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39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oolean expressions, result in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RUE() or FALSE(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74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randparentOf(x,y) &lt;= AncestorOf(x,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74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randparentOf(x,y) = AncestorOf(x,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tatements: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RINT, WHILE, FOR, I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Numerical expressions (as usual):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put and Outpu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of relations in standard format RS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Examples – Cycle of length 4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6928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QL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SERT INTO Cycle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ELECT DISTINCT C1.x, C2.x, C3.x, C4.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FROM Call C1, Call C2, Call C3, Call C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HERE C1.y=C2.x AND C2.y=C3.x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ND C3.y=C4.x AND C4.y=C1.x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RML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ycle4(w,x,y,z) :=   Call(w,x) AND Call(x,y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ND Call(y,z)  AND Call(z,w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Examples – Design Pattern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28800" y="3657240"/>
            <a:ext cx="6934320" cy="23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mpPat(component, composite, leaf) :=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herit(composite, componen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ND Contain(composite, componen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ND Inherit(leaf, componen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ND ! Contain(leaf, component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RINT CompPat(component, composite, leaf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029200" cy="16844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72600" y="4114800"/>
            <a:ext cx="18313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SF in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herit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A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herit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B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ain  A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ain  B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Transitive Closure – Algorithm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692840" cy="39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gorithm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put: given relation R,   example:  {(1,2), (2,3), (3,4)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look for pairs that form ‘longer’ paths, add them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until fixed point is reached, i.e., cannot add new pai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utput: transitive closure R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 baseline="30000">
                <a:solidFill>
                  <a:srgbClr val="000000"/>
                </a:solidFill>
                <a:latin typeface="Trebuchet MS"/>
              </a:rPr>
              <a:t>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xample: {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1,2), (2,3), 3,4)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1,3), (2,4)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1,4)                      }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52388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and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Functionali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fordability in today’s products and infra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ac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tacle to re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overruns (due to bad de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Buggy, brittle, insecure, and not 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Transitive Closure – one step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692840" cy="39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2" marL="104004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QL:  code for one step (given relation TCall)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SERT INTO TCallNew (x,y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ELECT * FROM TCall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SERT INTO TCallNew (x,y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ELECT DISTINCT l.x, r.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FROM TCall l, TCall 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HERE l.y = r.x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DELETE FROM TCall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SERT INTO TCall (x,y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ELECT DISTINCT * FROM TCallNew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DELETE FROM TCallNew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Transitive Closure – one step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ML (given relation R)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sult(x,z) := PrevResult(x,z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R     EX(y, PrevResult(x,y) AND PrevResult(y,z)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Transitive Closure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ML (given relation R)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sult(x,y) := R(x,y);     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revResult(x,y) := FALSE(x,y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HILE (PrevResult(x,y) != Result(x,y)) {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revResult(x,y) := Result(x,y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sult(x,z) := PrevResult(x,z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R     EX(y, PrevResult(x,y) AND PrevResult(y,z)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rebuchet MS"/>
              </a:rPr>
              <a:t>Tool Support  (Transitive Closure)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4280" cy="23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Heap tables, proper index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Quintus Prolo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mmercial reference implemen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85800" y="3657600"/>
            <a:ext cx="7773480" cy="2229840"/>
            <a:chOff x="685800" y="3657600"/>
            <a:chExt cx="7773480" cy="2229840"/>
          </a:xfrm>
        </p:grpSpPr>
        <p:grpSp>
          <p:nvGrpSpPr>
            <p:cNvPr id="258" name=""/>
            <p:cNvGrpSpPr/>
            <p:nvPr/>
          </p:nvGrpSpPr>
          <p:grpSpPr>
            <a:xfrm>
              <a:off x="6291000" y="5505480"/>
              <a:ext cx="971280" cy="378000"/>
              <a:chOff x="6291000" y="5505480"/>
              <a:chExt cx="971280" cy="378000"/>
            </a:xfrm>
          </p:grpSpPr>
          <p:sp>
            <p:nvSpPr>
              <p:cNvPr id="259" name=""/>
              <p:cNvSpPr/>
              <p:nvPr/>
            </p:nvSpPr>
            <p:spPr>
              <a:xfrm>
                <a:off x="6291000" y="5505480"/>
                <a:ext cx="97128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91000" y="5505480"/>
                <a:ext cx="9712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&gt; 5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291000" y="5127840"/>
              <a:ext cx="971280" cy="377640"/>
              <a:chOff x="6291000" y="5127840"/>
              <a:chExt cx="971280" cy="377640"/>
            </a:xfrm>
          </p:grpSpPr>
          <p:sp>
            <p:nvSpPr>
              <p:cNvPr id="262" name=""/>
              <p:cNvSpPr/>
              <p:nvPr/>
            </p:nvSpPr>
            <p:spPr>
              <a:xfrm>
                <a:off x="6291000" y="5127840"/>
                <a:ext cx="97128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91000" y="5127840"/>
                <a:ext cx="9712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99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291000" y="4732560"/>
              <a:ext cx="971280" cy="395280"/>
              <a:chOff x="6291000" y="4732560"/>
              <a:chExt cx="971280" cy="395280"/>
            </a:xfrm>
          </p:grpSpPr>
          <p:sp>
            <p:nvSpPr>
              <p:cNvPr id="265" name=""/>
              <p:cNvSpPr/>
              <p:nvPr/>
            </p:nvSpPr>
            <p:spPr>
              <a:xfrm>
                <a:off x="6291000" y="4732560"/>
                <a:ext cx="9712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91000" y="4732560"/>
                <a:ext cx="9712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2.13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6291000" y="4037040"/>
              <a:ext cx="971280" cy="695520"/>
              <a:chOff x="6291000" y="4037040"/>
              <a:chExt cx="971280" cy="695520"/>
            </a:xfrm>
          </p:grpSpPr>
          <p:sp>
            <p:nvSpPr>
              <p:cNvPr id="268" name=""/>
              <p:cNvSpPr/>
              <p:nvPr/>
            </p:nvSpPr>
            <p:spPr>
              <a:xfrm>
                <a:off x="6291000" y="4037040"/>
                <a:ext cx="971280" cy="69552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1000" y="4037040"/>
                <a:ext cx="9712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11.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291000" y="3657600"/>
              <a:ext cx="971280" cy="379440"/>
              <a:chOff x="6291000" y="3657600"/>
              <a:chExt cx="971280" cy="379440"/>
            </a:xfrm>
          </p:grpSpPr>
          <p:sp>
            <p:nvSpPr>
              <p:cNvPr id="271" name=""/>
              <p:cNvSpPr/>
              <p:nvPr/>
            </p:nvSpPr>
            <p:spPr>
              <a:xfrm>
                <a:off x="6291000" y="3657600"/>
                <a:ext cx="97128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291000" y="3657600"/>
                <a:ext cx="9712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MySQ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262640" y="5505480"/>
              <a:ext cx="1194840" cy="3780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62640" y="5127840"/>
              <a:ext cx="1194840" cy="3776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7262640" y="4732560"/>
              <a:ext cx="1194840" cy="1154880"/>
              <a:chOff x="7262640" y="4732560"/>
              <a:chExt cx="1194840" cy="1154880"/>
            </a:xfrm>
          </p:grpSpPr>
          <p:sp>
            <p:nvSpPr>
              <p:cNvPr id="276" name=""/>
              <p:cNvSpPr/>
              <p:nvPr/>
            </p:nvSpPr>
            <p:spPr>
              <a:xfrm>
                <a:off x="7262640" y="4732560"/>
                <a:ext cx="119484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262640" y="4732560"/>
                <a:ext cx="1194840" cy="11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cc00"/>
                    </a:solidFill>
                    <a:latin typeface="Arial"/>
                    <a:ea typeface="Arial"/>
                  </a:rPr>
                  <a:t>0.48 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cc00"/>
                    </a:solidFill>
                    <a:latin typeface="Arial"/>
                    <a:ea typeface="Arial"/>
                  </a:rPr>
                  <a:t>3.85 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cc00"/>
                    </a:solidFill>
                    <a:latin typeface="Arial"/>
                    <a:ea typeface="Arial"/>
                  </a:rPr>
                  <a:t>52.5 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7262640" y="4037040"/>
              <a:ext cx="1194840" cy="695520"/>
            </a:xfrm>
            <a:prstGeom prst="roundRect">
              <a:avLst>
                <a:gd name="adj" fmla="val 22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7262640" y="3657600"/>
              <a:ext cx="1194840" cy="379440"/>
              <a:chOff x="7262640" y="3657600"/>
              <a:chExt cx="1194840" cy="379440"/>
            </a:xfrm>
          </p:grpSpPr>
          <p:sp>
            <p:nvSpPr>
              <p:cNvPr id="280" name=""/>
              <p:cNvSpPr/>
              <p:nvPr/>
            </p:nvSpPr>
            <p:spPr>
              <a:xfrm>
                <a:off x="7262640" y="3657600"/>
                <a:ext cx="119484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62640" y="3657600"/>
                <a:ext cx="119484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CrocoP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410080" y="5127840"/>
              <a:ext cx="880560" cy="377640"/>
              <a:chOff x="5410080" y="5127840"/>
              <a:chExt cx="880560" cy="377640"/>
            </a:xfrm>
          </p:grpSpPr>
          <p:sp>
            <p:nvSpPr>
              <p:cNvPr id="283" name=""/>
              <p:cNvSpPr/>
              <p:nvPr/>
            </p:nvSpPr>
            <p:spPr>
              <a:xfrm>
                <a:off x="5410080" y="5127840"/>
                <a:ext cx="88056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10080" y="5127840"/>
                <a:ext cx="880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158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124160" y="5127840"/>
              <a:ext cx="1285560" cy="377640"/>
              <a:chOff x="4124160" y="5127840"/>
              <a:chExt cx="1285560" cy="377640"/>
            </a:xfrm>
          </p:grpSpPr>
          <p:sp>
            <p:nvSpPr>
              <p:cNvPr id="286" name=""/>
              <p:cNvSpPr/>
              <p:nvPr/>
            </p:nvSpPr>
            <p:spPr>
              <a:xfrm>
                <a:off x="4124160" y="5127840"/>
                <a:ext cx="128556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24160" y="5127840"/>
                <a:ext cx="1285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784 24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27040" y="5127840"/>
              <a:ext cx="896760" cy="377640"/>
              <a:chOff x="3227040" y="5127840"/>
              <a:chExt cx="896760" cy="377640"/>
            </a:xfrm>
          </p:grpSpPr>
          <p:sp>
            <p:nvSpPr>
              <p:cNvPr id="289" name=""/>
              <p:cNvSpPr/>
              <p:nvPr/>
            </p:nvSpPr>
            <p:spPr>
              <a:xfrm>
                <a:off x="3227040" y="5127840"/>
                <a:ext cx="89676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27040" y="5127840"/>
                <a:ext cx="8967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12 94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209680" y="5127840"/>
              <a:ext cx="1017000" cy="377640"/>
              <a:chOff x="2209680" y="5127840"/>
              <a:chExt cx="1017000" cy="377640"/>
            </a:xfrm>
          </p:grpSpPr>
          <p:sp>
            <p:nvSpPr>
              <p:cNvPr id="292" name=""/>
              <p:cNvSpPr/>
              <p:nvPr/>
            </p:nvSpPr>
            <p:spPr>
              <a:xfrm>
                <a:off x="2209680" y="5127840"/>
                <a:ext cx="101700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09680" y="5127840"/>
                <a:ext cx="1017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2 26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85800" y="5127840"/>
              <a:ext cx="1523880" cy="377640"/>
              <a:chOff x="685800" y="5127840"/>
              <a:chExt cx="1523880" cy="377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85800" y="5127840"/>
                <a:ext cx="152388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5800" y="5127840"/>
                <a:ext cx="15238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JDK 1.4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124160" y="5505480"/>
              <a:ext cx="1285560" cy="378000"/>
              <a:chOff x="4124160" y="5505480"/>
              <a:chExt cx="1285560" cy="378000"/>
            </a:xfrm>
          </p:grpSpPr>
          <p:sp>
            <p:nvSpPr>
              <p:cNvPr id="298" name=""/>
              <p:cNvSpPr/>
              <p:nvPr/>
            </p:nvSpPr>
            <p:spPr>
              <a:xfrm>
                <a:off x="4124160" y="5505480"/>
                <a:ext cx="128556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24160" y="5505480"/>
                <a:ext cx="1285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1 440 34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124160" y="4732560"/>
              <a:ext cx="1285560" cy="395280"/>
              <a:chOff x="4124160" y="4732560"/>
              <a:chExt cx="1285560" cy="39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4124160" y="4732560"/>
                <a:ext cx="128556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24160" y="4732560"/>
                <a:ext cx="1285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201 13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124160" y="4037040"/>
              <a:ext cx="1285560" cy="695520"/>
              <a:chOff x="4124160" y="4037040"/>
              <a:chExt cx="1285560" cy="695520"/>
            </a:xfrm>
          </p:grpSpPr>
          <p:sp>
            <p:nvSpPr>
              <p:cNvPr id="304" name=""/>
              <p:cNvSpPr/>
              <p:nvPr/>
            </p:nvSpPr>
            <p:spPr>
              <a:xfrm>
                <a:off x="4124160" y="4037040"/>
                <a:ext cx="1285560" cy="69552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24160" y="4037040"/>
                <a:ext cx="12855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142 83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124160" y="3657600"/>
              <a:ext cx="1285560" cy="379440"/>
              <a:chOff x="4124160" y="3657600"/>
              <a:chExt cx="1285560" cy="379440"/>
            </a:xfrm>
          </p:grpSpPr>
          <p:sp>
            <p:nvSpPr>
              <p:cNvPr id="307" name=""/>
              <p:cNvSpPr/>
              <p:nvPr/>
            </p:nvSpPr>
            <p:spPr>
              <a:xfrm>
                <a:off x="4124160" y="3657600"/>
                <a:ext cx="128556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24160" y="3657600"/>
                <a:ext cx="1285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LO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410080" y="5505480"/>
              <a:ext cx="880560" cy="378000"/>
              <a:chOff x="5410080" y="5505480"/>
              <a:chExt cx="880560" cy="378000"/>
            </a:xfrm>
          </p:grpSpPr>
          <p:sp>
            <p:nvSpPr>
              <p:cNvPr id="310" name=""/>
              <p:cNvSpPr/>
              <p:nvPr/>
            </p:nvSpPr>
            <p:spPr>
              <a:xfrm>
                <a:off x="5410080" y="5505480"/>
                <a:ext cx="88056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10080" y="5505480"/>
                <a:ext cx="880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4 360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410080" y="4732560"/>
              <a:ext cx="880560" cy="395280"/>
              <a:chOff x="5410080" y="4732560"/>
              <a:chExt cx="880560" cy="395280"/>
            </a:xfrm>
          </p:grpSpPr>
          <p:sp>
            <p:nvSpPr>
              <p:cNvPr id="313" name=""/>
              <p:cNvSpPr/>
              <p:nvPr/>
            </p:nvSpPr>
            <p:spPr>
              <a:xfrm>
                <a:off x="5410080" y="4732560"/>
                <a:ext cx="88056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10080" y="4732560"/>
                <a:ext cx="880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2.10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410080" y="4037040"/>
              <a:ext cx="880560" cy="695520"/>
              <a:chOff x="5410080" y="4037040"/>
              <a:chExt cx="880560" cy="695520"/>
            </a:xfrm>
          </p:grpSpPr>
          <p:sp>
            <p:nvSpPr>
              <p:cNvPr id="316" name=""/>
              <p:cNvSpPr/>
              <p:nvPr/>
            </p:nvSpPr>
            <p:spPr>
              <a:xfrm>
                <a:off x="5410080" y="4037040"/>
                <a:ext cx="880560" cy="69552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10080" y="4037040"/>
                <a:ext cx="880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0.82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410080" y="3657600"/>
              <a:ext cx="880560" cy="379440"/>
              <a:chOff x="5410080" y="3657600"/>
              <a:chExt cx="880560" cy="379440"/>
            </a:xfrm>
          </p:grpSpPr>
          <p:sp>
            <p:nvSpPr>
              <p:cNvPr id="319" name=""/>
              <p:cNvSpPr/>
              <p:nvPr/>
            </p:nvSpPr>
            <p:spPr>
              <a:xfrm>
                <a:off x="5410080" y="3657600"/>
                <a:ext cx="88056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10080" y="3657600"/>
                <a:ext cx="880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Prolo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227040" y="5505480"/>
              <a:ext cx="896760" cy="378000"/>
              <a:chOff x="3227040" y="5505480"/>
              <a:chExt cx="896760" cy="378000"/>
            </a:xfrm>
          </p:grpSpPr>
          <p:sp>
            <p:nvSpPr>
              <p:cNvPr id="322" name=""/>
              <p:cNvSpPr/>
              <p:nvPr/>
            </p:nvSpPr>
            <p:spPr>
              <a:xfrm>
                <a:off x="3227040" y="5505480"/>
                <a:ext cx="89676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27040" y="5505480"/>
                <a:ext cx="8967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59 34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209680" y="5505480"/>
              <a:ext cx="1017000" cy="378000"/>
              <a:chOff x="2209680" y="5505480"/>
              <a:chExt cx="1017000" cy="378000"/>
            </a:xfrm>
          </p:grpSpPr>
          <p:sp>
            <p:nvSpPr>
              <p:cNvPr id="325" name=""/>
              <p:cNvSpPr/>
              <p:nvPr/>
            </p:nvSpPr>
            <p:spPr>
              <a:xfrm>
                <a:off x="2209680" y="5505480"/>
                <a:ext cx="101700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209680" y="5505480"/>
                <a:ext cx="1017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7 08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85800" y="5505480"/>
              <a:ext cx="1523880" cy="378000"/>
              <a:chOff x="685800" y="5505480"/>
              <a:chExt cx="1523880" cy="378000"/>
            </a:xfrm>
          </p:grpSpPr>
          <p:sp>
            <p:nvSpPr>
              <p:cNvPr id="328" name=""/>
              <p:cNvSpPr/>
              <p:nvPr/>
            </p:nvSpPr>
            <p:spPr>
              <a:xfrm>
                <a:off x="685800" y="5505480"/>
                <a:ext cx="152388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85800" y="5505480"/>
                <a:ext cx="15238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Eclipse 2.1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227040" y="4732560"/>
              <a:ext cx="896760" cy="395280"/>
              <a:chOff x="3227040" y="4732560"/>
              <a:chExt cx="896760" cy="395280"/>
            </a:xfrm>
          </p:grpSpPr>
          <p:sp>
            <p:nvSpPr>
              <p:cNvPr id="331" name=""/>
              <p:cNvSpPr/>
              <p:nvPr/>
            </p:nvSpPr>
            <p:spPr>
              <a:xfrm>
                <a:off x="3227040" y="4732560"/>
                <a:ext cx="89676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27040" y="4732560"/>
                <a:ext cx="8967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4 1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209680" y="4732560"/>
              <a:ext cx="1017000" cy="395280"/>
              <a:chOff x="2209680" y="4732560"/>
              <a:chExt cx="1017000" cy="395280"/>
            </a:xfrm>
          </p:grpSpPr>
          <p:sp>
            <p:nvSpPr>
              <p:cNvPr id="334" name=""/>
              <p:cNvSpPr/>
              <p:nvPr/>
            </p:nvSpPr>
            <p:spPr>
              <a:xfrm>
                <a:off x="2209680" y="4732560"/>
                <a:ext cx="101700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209680" y="4732560"/>
                <a:ext cx="1017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9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85800" y="4732560"/>
              <a:ext cx="1523880" cy="395280"/>
              <a:chOff x="685800" y="4732560"/>
              <a:chExt cx="1523880" cy="395280"/>
            </a:xfrm>
          </p:grpSpPr>
          <p:sp>
            <p:nvSpPr>
              <p:cNvPr id="337" name=""/>
              <p:cNvSpPr/>
              <p:nvPr/>
            </p:nvSpPr>
            <p:spPr>
              <a:xfrm>
                <a:off x="685800" y="4732560"/>
                <a:ext cx="15238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" y="4732560"/>
                <a:ext cx="15238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JWAM 1.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227040" y="4037040"/>
              <a:ext cx="896760" cy="695520"/>
              <a:chOff x="3227040" y="4037040"/>
              <a:chExt cx="896760" cy="695520"/>
            </a:xfrm>
          </p:grpSpPr>
          <p:sp>
            <p:nvSpPr>
              <p:cNvPr id="340" name=""/>
              <p:cNvSpPr/>
              <p:nvPr/>
            </p:nvSpPr>
            <p:spPr>
              <a:xfrm>
                <a:off x="3227040" y="4037040"/>
                <a:ext cx="896760" cy="69552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27040" y="4037040"/>
                <a:ext cx="8967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98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2209680" y="4037040"/>
              <a:ext cx="1017000" cy="695520"/>
              <a:chOff x="2209680" y="4037040"/>
              <a:chExt cx="1017000" cy="695520"/>
            </a:xfrm>
          </p:grpSpPr>
          <p:sp>
            <p:nvSpPr>
              <p:cNvPr id="343" name=""/>
              <p:cNvSpPr/>
              <p:nvPr/>
            </p:nvSpPr>
            <p:spPr>
              <a:xfrm>
                <a:off x="2209680" y="4037040"/>
                <a:ext cx="1017000" cy="69552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09680" y="4037040"/>
                <a:ext cx="1017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3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685800" y="4037040"/>
              <a:ext cx="1523880" cy="695520"/>
              <a:chOff x="685800" y="4037040"/>
              <a:chExt cx="1523880" cy="695520"/>
            </a:xfrm>
          </p:grpSpPr>
          <p:sp>
            <p:nvSpPr>
              <p:cNvPr id="346" name=""/>
              <p:cNvSpPr/>
              <p:nvPr/>
            </p:nvSpPr>
            <p:spPr>
              <a:xfrm>
                <a:off x="685800" y="4037040"/>
                <a:ext cx="1523880" cy="69552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5800" y="4037040"/>
                <a:ext cx="15238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JDK A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227040" y="3657600"/>
              <a:ext cx="896760" cy="379440"/>
              <a:chOff x="3227040" y="3657600"/>
              <a:chExt cx="896760" cy="379440"/>
            </a:xfrm>
          </p:grpSpPr>
          <p:sp>
            <p:nvSpPr>
              <p:cNvPr id="349" name=""/>
              <p:cNvSpPr/>
              <p:nvPr/>
            </p:nvSpPr>
            <p:spPr>
              <a:xfrm>
                <a:off x="3227040" y="3657600"/>
                <a:ext cx="89676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227040" y="3657600"/>
                <a:ext cx="8967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Cal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209680" y="3657600"/>
              <a:ext cx="1017000" cy="379440"/>
              <a:chOff x="2209680" y="3657600"/>
              <a:chExt cx="1017000" cy="379440"/>
            </a:xfrm>
          </p:grpSpPr>
          <p:sp>
            <p:nvSpPr>
              <p:cNvPr id="352" name=""/>
              <p:cNvSpPr/>
              <p:nvPr/>
            </p:nvSpPr>
            <p:spPr>
              <a:xfrm>
                <a:off x="2209680" y="3657600"/>
                <a:ext cx="101700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209680" y="3657600"/>
                <a:ext cx="1017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Clas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85800" y="3657600"/>
              <a:ext cx="1523880" cy="379440"/>
              <a:chOff x="685800" y="3657600"/>
              <a:chExt cx="1523880" cy="379440"/>
            </a:xfrm>
          </p:grpSpPr>
          <p:sp>
            <p:nvSpPr>
              <p:cNvPr id="355" name=""/>
              <p:cNvSpPr/>
              <p:nvPr/>
            </p:nvSpPr>
            <p:spPr>
              <a:xfrm>
                <a:off x="685800" y="3657600"/>
                <a:ext cx="152388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85800" y="3657600"/>
                <a:ext cx="15238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yste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685800" y="3657600"/>
              <a:ext cx="7772040" cy="1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4037040"/>
              <a:ext cx="7772040" cy="18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4732560"/>
              <a:ext cx="6576840" cy="14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" y="5127840"/>
              <a:ext cx="6576840" cy="14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3657600"/>
              <a:ext cx="1440" cy="22258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3657600"/>
              <a:ext cx="1080" cy="2225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27040" y="3657600"/>
              <a:ext cx="1440" cy="2225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24160" y="3657600"/>
              <a:ext cx="1080" cy="2225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91000" y="3657600"/>
              <a:ext cx="1080" cy="2225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10080" y="3657600"/>
              <a:ext cx="1080" cy="2225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5800" y="5505480"/>
              <a:ext cx="6576840" cy="18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62640" y="3657600"/>
              <a:ext cx="1080" cy="2225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457840" y="4037040"/>
              <a:ext cx="1440" cy="1846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457840" y="3657600"/>
              <a:ext cx="1440" cy="379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62640" y="5883480"/>
              <a:ext cx="1194840" cy="1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800" y="5883480"/>
              <a:ext cx="6576840" cy="1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7534080" y="4146480"/>
            <a:ext cx="942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cc00"/>
                </a:solidFill>
                <a:latin typeface="Arial"/>
                <a:ea typeface="Arial"/>
              </a:rPr>
              <a:t>0.11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Summary: CrocoPat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RML = general, expressive languag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for relational comput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rocoPat = efficient, lightweight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ommand-line based RML-interpret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Efficient relational programm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Efficient relational computation (BDD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[ICSE’06]  [Trans. Softw. Eng.’05]  [WCRE’03]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You want to check static structural propertie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  <a:ea typeface="Arial"/>
              </a:rPr>
              <a:t>Join CrocoPat’s user community</a:t>
            </a:r>
            <a:br>
              <a:rPr sz="2400"/>
            </a:br>
            <a:r>
              <a:rPr b="0" lang="en-GB" sz="2400" spc="-1" strike="noStrike">
                <a:solidFill>
                  <a:srgbClr val="009900"/>
                </a:solidFill>
                <a:latin typeface="Arial"/>
                <a:ea typeface="Arial"/>
              </a:rPr>
              <a:t>Used in industry and academia for SW analys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-64800"/>
            <a:ext cx="9143640" cy="4098960"/>
            <a:chOff x="0" y="-64800"/>
            <a:chExt cx="9143640" cy="4098960"/>
          </a:xfrm>
        </p:grpSpPr>
        <p:sp>
          <p:nvSpPr>
            <p:cNvPr id="377" name=""/>
            <p:cNvSpPr/>
            <p:nvPr/>
          </p:nvSpPr>
          <p:spPr>
            <a:xfrm>
              <a:off x="0" y="1068480"/>
              <a:ext cx="9143640" cy="181440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-64800"/>
              <a:ext cx="9143640" cy="40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Part II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0000ff"/>
                  </a:solidFill>
                  <a:latin typeface="Arial"/>
                </a:rPr>
                <a:t>CCVisu: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Software Clustering b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Co-Change Visualiz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37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Reverse engineering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What is the subsystem structure of the system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Program understanding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I want to change X, what else shall I change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Software quality assessment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as-built versus as-designed desig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Problem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Given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Set of artefact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Sparse document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sked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Which artefacts form a subsystem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w are subsystems related to each other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 want to change an artefact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which others  shall I look at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rebuchet MS"/>
                <a:ea typeface="Arial"/>
              </a:rPr>
              <a:t>→ </a:t>
            </a:r>
            <a:r>
              <a:rPr b="0" lang="en-GB" sz="2400" spc="-1" strike="noStrike">
                <a:solidFill>
                  <a:srgbClr val="009900"/>
                </a:solidFill>
                <a:latin typeface="Trebuchet MS"/>
                <a:ea typeface="Arial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7840" y="28404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Model: Co-Change Graph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5029200" cy="2535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Version repository is (almost) always avail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xtract: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    Graph (undirected, bipartite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Why based on change history?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37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5640" indent="-3056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Scope of changes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hould be local, mostly in one subsystem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otherwise expensive and risk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5640" indent="-3056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Program language independ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++, Java, COBOL, Assembl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5640" indent="-3056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Not restricted to program code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est data, documentation, shell script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SQL query files, examp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5640" indent="-3056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Easy to extract, only one inpu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VS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og fi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371760" y="0"/>
            <a:ext cx="5772240" cy="8877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295280" y="-1905120"/>
            <a:ext cx="5829120" cy="8877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1120" y="4572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nch Guyana, June 4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360" y="838080"/>
            <a:ext cx="39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00 million softwar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838080" y="1447920"/>
            <a:ext cx="7848720" cy="37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Graph: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(inpu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Layout: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(outpu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nergy model: a function that assign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 real number to each layout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Minimiz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Energy-based Graph Layout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1738440" cy="396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2638440" y="1562040"/>
            <a:ext cx="91440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8080" y="1447920"/>
            <a:ext cx="7848720" cy="37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Graph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Layout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nergy model :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[Noack’05]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Energy-based Layout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1738440" cy="3967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936800" y="4572000"/>
            <a:ext cx="6678720" cy="8128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990720" y="3505320"/>
            <a:ext cx="4787640" cy="7617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2666880" y="1562040"/>
            <a:ext cx="914400" cy="333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59360" y="6019920"/>
            <a:ext cx="763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want visualizations with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ormal seman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Intuition: Cut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914400" y="2666880"/>
            <a:ext cx="1979640" cy="1325520"/>
            <a:chOff x="914400" y="2666880"/>
            <a:chExt cx="1979640" cy="1325520"/>
          </a:xfrm>
        </p:grpSpPr>
        <p:sp>
          <p:nvSpPr>
            <p:cNvPr id="401" name=""/>
            <p:cNvSpPr/>
            <p:nvPr/>
          </p:nvSpPr>
          <p:spPr>
            <a:xfrm>
              <a:off x="914400" y="2666880"/>
              <a:ext cx="1979640" cy="1325520"/>
            </a:xfrm>
            <a:custGeom>
              <a:avLst/>
              <a:gdLst/>
              <a:ahLst/>
              <a:rect l="l" t="t" r="r" b="b"/>
              <a:pathLst>
                <a:path w="5504" h="3687">
                  <a:moveTo>
                    <a:pt x="511" y="1224"/>
                  </a:moveTo>
                  <a:lnTo>
                    <a:pt x="484" y="1227"/>
                  </a:lnTo>
                  <a:lnTo>
                    <a:pt x="456" y="1231"/>
                  </a:lnTo>
                  <a:lnTo>
                    <a:pt x="429" y="1236"/>
                  </a:lnTo>
                  <a:lnTo>
                    <a:pt x="402" y="1242"/>
                  </a:lnTo>
                  <a:lnTo>
                    <a:pt x="376" y="1250"/>
                  </a:lnTo>
                  <a:lnTo>
                    <a:pt x="349" y="1259"/>
                  </a:lnTo>
                  <a:lnTo>
                    <a:pt x="324" y="1269"/>
                  </a:lnTo>
                  <a:lnTo>
                    <a:pt x="299" y="1280"/>
                  </a:lnTo>
                  <a:lnTo>
                    <a:pt x="275" y="1292"/>
                  </a:lnTo>
                  <a:lnTo>
                    <a:pt x="251" y="1305"/>
                  </a:lnTo>
                  <a:lnTo>
                    <a:pt x="228" y="1320"/>
                  </a:lnTo>
                  <a:lnTo>
                    <a:pt x="206" y="1335"/>
                  </a:lnTo>
                  <a:lnTo>
                    <a:pt x="185" y="1352"/>
                  </a:lnTo>
                  <a:lnTo>
                    <a:pt x="165" y="1369"/>
                  </a:lnTo>
                  <a:lnTo>
                    <a:pt x="145" y="1387"/>
                  </a:lnTo>
                  <a:lnTo>
                    <a:pt x="127" y="1407"/>
                  </a:lnTo>
                  <a:lnTo>
                    <a:pt x="110" y="1427"/>
                  </a:lnTo>
                  <a:lnTo>
                    <a:pt x="94" y="1447"/>
                  </a:lnTo>
                  <a:lnTo>
                    <a:pt x="79" y="1469"/>
                  </a:lnTo>
                  <a:lnTo>
                    <a:pt x="65" y="1491"/>
                  </a:lnTo>
                  <a:lnTo>
                    <a:pt x="53" y="1514"/>
                  </a:lnTo>
                  <a:lnTo>
                    <a:pt x="42" y="1537"/>
                  </a:lnTo>
                  <a:lnTo>
                    <a:pt x="32" y="1561"/>
                  </a:lnTo>
                  <a:lnTo>
                    <a:pt x="23" y="1585"/>
                  </a:lnTo>
                  <a:lnTo>
                    <a:pt x="16" y="1610"/>
                  </a:lnTo>
                  <a:lnTo>
                    <a:pt x="10" y="1635"/>
                  </a:lnTo>
                  <a:lnTo>
                    <a:pt x="5" y="1660"/>
                  </a:lnTo>
                  <a:lnTo>
                    <a:pt x="2" y="1685"/>
                  </a:lnTo>
                  <a:lnTo>
                    <a:pt x="0" y="1711"/>
                  </a:lnTo>
                  <a:lnTo>
                    <a:pt x="0" y="1736"/>
                  </a:lnTo>
                  <a:lnTo>
                    <a:pt x="1" y="1761"/>
                  </a:lnTo>
                  <a:lnTo>
                    <a:pt x="3" y="1787"/>
                  </a:lnTo>
                  <a:lnTo>
                    <a:pt x="7" y="1812"/>
                  </a:lnTo>
                  <a:lnTo>
                    <a:pt x="12" y="1837"/>
                  </a:lnTo>
                  <a:lnTo>
                    <a:pt x="19" y="1862"/>
                  </a:lnTo>
                  <a:lnTo>
                    <a:pt x="27" y="1886"/>
                  </a:lnTo>
                  <a:lnTo>
                    <a:pt x="36" y="1910"/>
                  </a:lnTo>
                  <a:lnTo>
                    <a:pt x="47" y="1934"/>
                  </a:lnTo>
                  <a:lnTo>
                    <a:pt x="58" y="1957"/>
                  </a:lnTo>
                  <a:lnTo>
                    <a:pt x="72" y="1979"/>
                  </a:lnTo>
                  <a:lnTo>
                    <a:pt x="86" y="2001"/>
                  </a:lnTo>
                  <a:lnTo>
                    <a:pt x="101" y="2022"/>
                  </a:lnTo>
                  <a:lnTo>
                    <a:pt x="118" y="2043"/>
                  </a:lnTo>
                  <a:lnTo>
                    <a:pt x="135" y="2062"/>
                  </a:lnTo>
                  <a:lnTo>
                    <a:pt x="154" y="2081"/>
                  </a:lnTo>
                  <a:lnTo>
                    <a:pt x="174" y="2099"/>
                  </a:lnTo>
                  <a:lnTo>
                    <a:pt x="195" y="2116"/>
                  </a:lnTo>
                  <a:lnTo>
                    <a:pt x="216" y="2132"/>
                  </a:lnTo>
                  <a:lnTo>
                    <a:pt x="239" y="2147"/>
                  </a:lnTo>
                  <a:lnTo>
                    <a:pt x="262" y="2161"/>
                  </a:lnTo>
                  <a:lnTo>
                    <a:pt x="286" y="2174"/>
                  </a:lnTo>
                  <a:lnTo>
                    <a:pt x="311" y="2186"/>
                  </a:lnTo>
                  <a:lnTo>
                    <a:pt x="336" y="2196"/>
                  </a:lnTo>
                  <a:lnTo>
                    <a:pt x="333" y="2111"/>
                  </a:lnTo>
                  <a:lnTo>
                    <a:pt x="312" y="2127"/>
                  </a:lnTo>
                  <a:lnTo>
                    <a:pt x="291" y="2144"/>
                  </a:lnTo>
                  <a:lnTo>
                    <a:pt x="272" y="2162"/>
                  </a:lnTo>
                  <a:lnTo>
                    <a:pt x="253" y="2181"/>
                  </a:lnTo>
                  <a:lnTo>
                    <a:pt x="235" y="2201"/>
                  </a:lnTo>
                  <a:lnTo>
                    <a:pt x="219" y="2221"/>
                  </a:lnTo>
                  <a:lnTo>
                    <a:pt x="204" y="2243"/>
                  </a:lnTo>
                  <a:lnTo>
                    <a:pt x="190" y="2264"/>
                  </a:lnTo>
                  <a:lnTo>
                    <a:pt x="177" y="2287"/>
                  </a:lnTo>
                  <a:lnTo>
                    <a:pt x="165" y="2310"/>
                  </a:lnTo>
                  <a:lnTo>
                    <a:pt x="155" y="2334"/>
                  </a:lnTo>
                  <a:lnTo>
                    <a:pt x="146" y="2358"/>
                  </a:lnTo>
                  <a:lnTo>
                    <a:pt x="139" y="2382"/>
                  </a:lnTo>
                  <a:lnTo>
                    <a:pt x="132" y="2407"/>
                  </a:lnTo>
                  <a:lnTo>
                    <a:pt x="127" y="2432"/>
                  </a:lnTo>
                  <a:lnTo>
                    <a:pt x="124" y="2457"/>
                  </a:lnTo>
                  <a:lnTo>
                    <a:pt x="122" y="2482"/>
                  </a:lnTo>
                  <a:lnTo>
                    <a:pt x="121" y="2508"/>
                  </a:lnTo>
                  <a:lnTo>
                    <a:pt x="122" y="2533"/>
                  </a:lnTo>
                  <a:lnTo>
                    <a:pt x="124" y="2558"/>
                  </a:lnTo>
                  <a:lnTo>
                    <a:pt x="127" y="2583"/>
                  </a:lnTo>
                  <a:lnTo>
                    <a:pt x="132" y="2608"/>
                  </a:lnTo>
                  <a:lnTo>
                    <a:pt x="138" y="2633"/>
                  </a:lnTo>
                  <a:lnTo>
                    <a:pt x="146" y="2658"/>
                  </a:lnTo>
                  <a:lnTo>
                    <a:pt x="155" y="2682"/>
                  </a:lnTo>
                  <a:lnTo>
                    <a:pt x="165" y="2705"/>
                  </a:lnTo>
                  <a:lnTo>
                    <a:pt x="177" y="2728"/>
                  </a:lnTo>
                  <a:lnTo>
                    <a:pt x="189" y="2751"/>
                  </a:lnTo>
                  <a:lnTo>
                    <a:pt x="203" y="2773"/>
                  </a:lnTo>
                  <a:lnTo>
                    <a:pt x="219" y="2794"/>
                  </a:lnTo>
                  <a:lnTo>
                    <a:pt x="235" y="2815"/>
                  </a:lnTo>
                  <a:lnTo>
                    <a:pt x="252" y="2834"/>
                  </a:lnTo>
                  <a:lnTo>
                    <a:pt x="271" y="2853"/>
                  </a:lnTo>
                  <a:lnTo>
                    <a:pt x="291" y="2871"/>
                  </a:lnTo>
                  <a:lnTo>
                    <a:pt x="311" y="2889"/>
                  </a:lnTo>
                  <a:lnTo>
                    <a:pt x="333" y="2905"/>
                  </a:lnTo>
                  <a:lnTo>
                    <a:pt x="355" y="2920"/>
                  </a:lnTo>
                  <a:lnTo>
                    <a:pt x="378" y="2934"/>
                  </a:lnTo>
                  <a:lnTo>
                    <a:pt x="402" y="2947"/>
                  </a:lnTo>
                  <a:lnTo>
                    <a:pt x="426" y="2959"/>
                  </a:lnTo>
                  <a:lnTo>
                    <a:pt x="452" y="2970"/>
                  </a:lnTo>
                  <a:lnTo>
                    <a:pt x="477" y="2980"/>
                  </a:lnTo>
                  <a:lnTo>
                    <a:pt x="504" y="2988"/>
                  </a:lnTo>
                  <a:lnTo>
                    <a:pt x="530" y="2995"/>
                  </a:lnTo>
                  <a:lnTo>
                    <a:pt x="558" y="3001"/>
                  </a:lnTo>
                  <a:lnTo>
                    <a:pt x="585" y="3006"/>
                  </a:lnTo>
                  <a:lnTo>
                    <a:pt x="613" y="3010"/>
                  </a:lnTo>
                  <a:lnTo>
                    <a:pt x="640" y="3012"/>
                  </a:lnTo>
                  <a:lnTo>
                    <a:pt x="668" y="3013"/>
                  </a:lnTo>
                  <a:lnTo>
                    <a:pt x="696" y="3013"/>
                  </a:lnTo>
                  <a:lnTo>
                    <a:pt x="724" y="3011"/>
                  </a:lnTo>
                  <a:lnTo>
                    <a:pt x="817" y="3120"/>
                  </a:lnTo>
                  <a:lnTo>
                    <a:pt x="850" y="3157"/>
                  </a:lnTo>
                  <a:lnTo>
                    <a:pt x="885" y="3192"/>
                  </a:lnTo>
                  <a:lnTo>
                    <a:pt x="922" y="3225"/>
                  </a:lnTo>
                  <a:lnTo>
                    <a:pt x="961" y="3256"/>
                  </a:lnTo>
                  <a:lnTo>
                    <a:pt x="1002" y="3286"/>
                  </a:lnTo>
                  <a:lnTo>
                    <a:pt x="1045" y="3313"/>
                  </a:lnTo>
                  <a:lnTo>
                    <a:pt x="1089" y="3339"/>
                  </a:lnTo>
                  <a:lnTo>
                    <a:pt x="1134" y="3362"/>
                  </a:lnTo>
                  <a:lnTo>
                    <a:pt x="1180" y="3383"/>
                  </a:lnTo>
                  <a:lnTo>
                    <a:pt x="1228" y="3401"/>
                  </a:lnTo>
                  <a:lnTo>
                    <a:pt x="1277" y="3418"/>
                  </a:lnTo>
                  <a:lnTo>
                    <a:pt x="1327" y="3432"/>
                  </a:lnTo>
                  <a:lnTo>
                    <a:pt x="1377" y="3443"/>
                  </a:lnTo>
                  <a:lnTo>
                    <a:pt x="1428" y="3453"/>
                  </a:lnTo>
                  <a:lnTo>
                    <a:pt x="1479" y="3459"/>
                  </a:lnTo>
                  <a:lnTo>
                    <a:pt x="1531" y="3463"/>
                  </a:lnTo>
                  <a:lnTo>
                    <a:pt x="1583" y="3465"/>
                  </a:lnTo>
                  <a:lnTo>
                    <a:pt x="1635" y="3464"/>
                  </a:lnTo>
                  <a:lnTo>
                    <a:pt x="1687" y="3461"/>
                  </a:lnTo>
                  <a:lnTo>
                    <a:pt x="1738" y="3455"/>
                  </a:lnTo>
                  <a:lnTo>
                    <a:pt x="1789" y="3446"/>
                  </a:lnTo>
                  <a:lnTo>
                    <a:pt x="1840" y="3436"/>
                  </a:lnTo>
                  <a:lnTo>
                    <a:pt x="1890" y="3422"/>
                  </a:lnTo>
                  <a:lnTo>
                    <a:pt x="1939" y="3407"/>
                  </a:lnTo>
                  <a:lnTo>
                    <a:pt x="1987" y="3389"/>
                  </a:lnTo>
                  <a:lnTo>
                    <a:pt x="2177" y="3430"/>
                  </a:lnTo>
                  <a:lnTo>
                    <a:pt x="2208" y="3459"/>
                  </a:lnTo>
                  <a:lnTo>
                    <a:pt x="2240" y="3487"/>
                  </a:lnTo>
                  <a:lnTo>
                    <a:pt x="2274" y="3513"/>
                  </a:lnTo>
                  <a:lnTo>
                    <a:pt x="2309" y="3538"/>
                  </a:lnTo>
                  <a:lnTo>
                    <a:pt x="2346" y="3560"/>
                  </a:lnTo>
                  <a:lnTo>
                    <a:pt x="2384" y="3582"/>
                  </a:lnTo>
                  <a:lnTo>
                    <a:pt x="2423" y="3601"/>
                  </a:lnTo>
                  <a:lnTo>
                    <a:pt x="2463" y="3618"/>
                  </a:lnTo>
                  <a:lnTo>
                    <a:pt x="2504" y="3634"/>
                  </a:lnTo>
                  <a:lnTo>
                    <a:pt x="2545" y="3647"/>
                  </a:lnTo>
                  <a:lnTo>
                    <a:pt x="2588" y="3659"/>
                  </a:lnTo>
                  <a:lnTo>
                    <a:pt x="2631" y="3668"/>
                  </a:lnTo>
                  <a:lnTo>
                    <a:pt x="2674" y="3676"/>
                  </a:lnTo>
                  <a:lnTo>
                    <a:pt x="2718" y="3681"/>
                  </a:lnTo>
                  <a:lnTo>
                    <a:pt x="2762" y="3685"/>
                  </a:lnTo>
                  <a:lnTo>
                    <a:pt x="2807" y="3686"/>
                  </a:lnTo>
                  <a:lnTo>
                    <a:pt x="2851" y="3685"/>
                  </a:lnTo>
                  <a:lnTo>
                    <a:pt x="2895" y="3682"/>
                  </a:lnTo>
                  <a:lnTo>
                    <a:pt x="2939" y="3677"/>
                  </a:lnTo>
                  <a:lnTo>
                    <a:pt x="2983" y="3670"/>
                  </a:lnTo>
                  <a:lnTo>
                    <a:pt x="3026" y="3661"/>
                  </a:lnTo>
                  <a:lnTo>
                    <a:pt x="3069" y="3650"/>
                  </a:lnTo>
                  <a:lnTo>
                    <a:pt x="3111" y="3637"/>
                  </a:lnTo>
                  <a:lnTo>
                    <a:pt x="3152" y="3622"/>
                  </a:lnTo>
                  <a:lnTo>
                    <a:pt x="3192" y="3605"/>
                  </a:lnTo>
                  <a:lnTo>
                    <a:pt x="3231" y="3586"/>
                  </a:lnTo>
                  <a:lnTo>
                    <a:pt x="3269" y="3566"/>
                  </a:lnTo>
                  <a:lnTo>
                    <a:pt x="3306" y="3543"/>
                  </a:lnTo>
                  <a:lnTo>
                    <a:pt x="3342" y="3519"/>
                  </a:lnTo>
                  <a:lnTo>
                    <a:pt x="3376" y="3493"/>
                  </a:lnTo>
                  <a:lnTo>
                    <a:pt x="3409" y="3466"/>
                  </a:lnTo>
                  <a:lnTo>
                    <a:pt x="3440" y="3437"/>
                  </a:lnTo>
                  <a:lnTo>
                    <a:pt x="3469" y="3407"/>
                  </a:lnTo>
                  <a:lnTo>
                    <a:pt x="3497" y="3375"/>
                  </a:lnTo>
                  <a:lnTo>
                    <a:pt x="3523" y="3343"/>
                  </a:lnTo>
                  <a:lnTo>
                    <a:pt x="3547" y="3309"/>
                  </a:lnTo>
                  <a:lnTo>
                    <a:pt x="3569" y="3273"/>
                  </a:lnTo>
                  <a:lnTo>
                    <a:pt x="3589" y="3237"/>
                  </a:lnTo>
                  <a:lnTo>
                    <a:pt x="3607" y="3200"/>
                  </a:lnTo>
                  <a:lnTo>
                    <a:pt x="3719" y="3174"/>
                  </a:lnTo>
                  <a:lnTo>
                    <a:pt x="3754" y="3187"/>
                  </a:lnTo>
                  <a:lnTo>
                    <a:pt x="3789" y="3199"/>
                  </a:lnTo>
                  <a:lnTo>
                    <a:pt x="3825" y="3209"/>
                  </a:lnTo>
                  <a:lnTo>
                    <a:pt x="3862" y="3218"/>
                  </a:lnTo>
                  <a:lnTo>
                    <a:pt x="3899" y="3225"/>
                  </a:lnTo>
                  <a:lnTo>
                    <a:pt x="3936" y="3230"/>
                  </a:lnTo>
                  <a:lnTo>
                    <a:pt x="3973" y="3233"/>
                  </a:lnTo>
                  <a:lnTo>
                    <a:pt x="4011" y="3235"/>
                  </a:lnTo>
                  <a:lnTo>
                    <a:pt x="4048" y="3235"/>
                  </a:lnTo>
                  <a:lnTo>
                    <a:pt x="4086" y="3233"/>
                  </a:lnTo>
                  <a:lnTo>
                    <a:pt x="4123" y="3229"/>
                  </a:lnTo>
                  <a:lnTo>
                    <a:pt x="4161" y="3224"/>
                  </a:lnTo>
                  <a:lnTo>
                    <a:pt x="4197" y="3217"/>
                  </a:lnTo>
                  <a:lnTo>
                    <a:pt x="4234" y="3208"/>
                  </a:lnTo>
                  <a:lnTo>
                    <a:pt x="4270" y="3198"/>
                  </a:lnTo>
                  <a:lnTo>
                    <a:pt x="4305" y="3185"/>
                  </a:lnTo>
                  <a:lnTo>
                    <a:pt x="4339" y="3172"/>
                  </a:lnTo>
                  <a:lnTo>
                    <a:pt x="4373" y="3156"/>
                  </a:lnTo>
                  <a:lnTo>
                    <a:pt x="4406" y="3140"/>
                  </a:lnTo>
                  <a:lnTo>
                    <a:pt x="4437" y="3121"/>
                  </a:lnTo>
                  <a:lnTo>
                    <a:pt x="4468" y="3101"/>
                  </a:lnTo>
                  <a:lnTo>
                    <a:pt x="4498" y="3080"/>
                  </a:lnTo>
                  <a:lnTo>
                    <a:pt x="4526" y="3058"/>
                  </a:lnTo>
                  <a:lnTo>
                    <a:pt x="4553" y="3034"/>
                  </a:lnTo>
                  <a:lnTo>
                    <a:pt x="4579" y="3009"/>
                  </a:lnTo>
                  <a:lnTo>
                    <a:pt x="4603" y="2982"/>
                  </a:lnTo>
                  <a:lnTo>
                    <a:pt x="4626" y="2955"/>
                  </a:lnTo>
                  <a:lnTo>
                    <a:pt x="4647" y="2927"/>
                  </a:lnTo>
                  <a:lnTo>
                    <a:pt x="4666" y="2897"/>
                  </a:lnTo>
                  <a:lnTo>
                    <a:pt x="4684" y="2867"/>
                  </a:lnTo>
                  <a:lnTo>
                    <a:pt x="4700" y="2836"/>
                  </a:lnTo>
                  <a:lnTo>
                    <a:pt x="4715" y="2804"/>
                  </a:lnTo>
                  <a:lnTo>
                    <a:pt x="4727" y="2772"/>
                  </a:lnTo>
                  <a:lnTo>
                    <a:pt x="4738" y="2739"/>
                  </a:lnTo>
                  <a:lnTo>
                    <a:pt x="4747" y="2706"/>
                  </a:lnTo>
                  <a:lnTo>
                    <a:pt x="4754" y="2672"/>
                  </a:lnTo>
                  <a:lnTo>
                    <a:pt x="4759" y="2638"/>
                  </a:lnTo>
                  <a:lnTo>
                    <a:pt x="4763" y="2604"/>
                  </a:lnTo>
                  <a:lnTo>
                    <a:pt x="4764" y="2570"/>
                  </a:lnTo>
                  <a:lnTo>
                    <a:pt x="4730" y="2570"/>
                  </a:lnTo>
                  <a:lnTo>
                    <a:pt x="4774" y="2565"/>
                  </a:lnTo>
                  <a:lnTo>
                    <a:pt x="4817" y="2557"/>
                  </a:lnTo>
                  <a:lnTo>
                    <a:pt x="4859" y="2548"/>
                  </a:lnTo>
                  <a:lnTo>
                    <a:pt x="4901" y="2537"/>
                  </a:lnTo>
                  <a:lnTo>
                    <a:pt x="4942" y="2524"/>
                  </a:lnTo>
                  <a:lnTo>
                    <a:pt x="4982" y="2509"/>
                  </a:lnTo>
                  <a:lnTo>
                    <a:pt x="5022" y="2493"/>
                  </a:lnTo>
                  <a:lnTo>
                    <a:pt x="5061" y="2474"/>
                  </a:lnTo>
                  <a:lnTo>
                    <a:pt x="5098" y="2454"/>
                  </a:lnTo>
                  <a:lnTo>
                    <a:pt x="5134" y="2432"/>
                  </a:lnTo>
                  <a:lnTo>
                    <a:pt x="5169" y="2408"/>
                  </a:lnTo>
                  <a:lnTo>
                    <a:pt x="5203" y="2383"/>
                  </a:lnTo>
                  <a:lnTo>
                    <a:pt x="5236" y="2357"/>
                  </a:lnTo>
                  <a:lnTo>
                    <a:pt x="5266" y="2328"/>
                  </a:lnTo>
                  <a:lnTo>
                    <a:pt x="5295" y="2299"/>
                  </a:lnTo>
                  <a:lnTo>
                    <a:pt x="5323" y="2268"/>
                  </a:lnTo>
                  <a:lnTo>
                    <a:pt x="5349" y="2236"/>
                  </a:lnTo>
                  <a:lnTo>
                    <a:pt x="5373" y="2203"/>
                  </a:lnTo>
                  <a:lnTo>
                    <a:pt x="5395" y="2169"/>
                  </a:lnTo>
                  <a:lnTo>
                    <a:pt x="5415" y="2133"/>
                  </a:lnTo>
                  <a:lnTo>
                    <a:pt x="5433" y="2097"/>
                  </a:lnTo>
                  <a:lnTo>
                    <a:pt x="5449" y="2060"/>
                  </a:lnTo>
                  <a:lnTo>
                    <a:pt x="5463" y="2023"/>
                  </a:lnTo>
                  <a:lnTo>
                    <a:pt x="5475" y="1985"/>
                  </a:lnTo>
                  <a:lnTo>
                    <a:pt x="5485" y="1946"/>
                  </a:lnTo>
                  <a:lnTo>
                    <a:pt x="5493" y="1907"/>
                  </a:lnTo>
                  <a:lnTo>
                    <a:pt x="5498" y="1867"/>
                  </a:lnTo>
                  <a:lnTo>
                    <a:pt x="5502" y="1828"/>
                  </a:lnTo>
                  <a:lnTo>
                    <a:pt x="5503" y="1788"/>
                  </a:lnTo>
                  <a:lnTo>
                    <a:pt x="5502" y="1748"/>
                  </a:lnTo>
                  <a:lnTo>
                    <a:pt x="5499" y="1709"/>
                  </a:lnTo>
                  <a:lnTo>
                    <a:pt x="5493" y="1669"/>
                  </a:lnTo>
                  <a:lnTo>
                    <a:pt x="5486" y="1630"/>
                  </a:lnTo>
                  <a:lnTo>
                    <a:pt x="5476" y="1591"/>
                  </a:lnTo>
                  <a:lnTo>
                    <a:pt x="5464" y="1553"/>
                  </a:lnTo>
                  <a:lnTo>
                    <a:pt x="5450" y="1515"/>
                  </a:lnTo>
                  <a:lnTo>
                    <a:pt x="5434" y="1478"/>
                  </a:lnTo>
                  <a:lnTo>
                    <a:pt x="5416" y="1442"/>
                  </a:lnTo>
                  <a:lnTo>
                    <a:pt x="5396" y="1407"/>
                  </a:lnTo>
                  <a:lnTo>
                    <a:pt x="5374" y="1373"/>
                  </a:lnTo>
                  <a:lnTo>
                    <a:pt x="5350" y="1339"/>
                  </a:lnTo>
                  <a:lnTo>
                    <a:pt x="5324" y="1307"/>
                  </a:lnTo>
                  <a:lnTo>
                    <a:pt x="5297" y="1276"/>
                  </a:lnTo>
                  <a:lnTo>
                    <a:pt x="5268" y="1247"/>
                  </a:lnTo>
                  <a:lnTo>
                    <a:pt x="5237" y="1219"/>
                  </a:lnTo>
                  <a:lnTo>
                    <a:pt x="5285" y="1376"/>
                  </a:lnTo>
                  <a:lnTo>
                    <a:pt x="5301" y="1348"/>
                  </a:lnTo>
                  <a:lnTo>
                    <a:pt x="5317" y="1319"/>
                  </a:lnTo>
                  <a:lnTo>
                    <a:pt x="5330" y="1290"/>
                  </a:lnTo>
                  <a:lnTo>
                    <a:pt x="5342" y="1260"/>
                  </a:lnTo>
                  <a:lnTo>
                    <a:pt x="5352" y="1229"/>
                  </a:lnTo>
                  <a:lnTo>
                    <a:pt x="5361" y="1198"/>
                  </a:lnTo>
                  <a:lnTo>
                    <a:pt x="5367" y="1167"/>
                  </a:lnTo>
                  <a:lnTo>
                    <a:pt x="5372" y="1135"/>
                  </a:lnTo>
                  <a:lnTo>
                    <a:pt x="5376" y="1104"/>
                  </a:lnTo>
                  <a:lnTo>
                    <a:pt x="5377" y="1072"/>
                  </a:lnTo>
                  <a:lnTo>
                    <a:pt x="5377" y="1040"/>
                  </a:lnTo>
                  <a:lnTo>
                    <a:pt x="5374" y="1008"/>
                  </a:lnTo>
                  <a:lnTo>
                    <a:pt x="5370" y="976"/>
                  </a:lnTo>
                  <a:lnTo>
                    <a:pt x="5365" y="945"/>
                  </a:lnTo>
                  <a:lnTo>
                    <a:pt x="5357" y="914"/>
                  </a:lnTo>
                  <a:lnTo>
                    <a:pt x="5348" y="883"/>
                  </a:lnTo>
                  <a:lnTo>
                    <a:pt x="5337" y="853"/>
                  </a:lnTo>
                  <a:lnTo>
                    <a:pt x="5324" y="823"/>
                  </a:lnTo>
                  <a:lnTo>
                    <a:pt x="5310" y="794"/>
                  </a:lnTo>
                  <a:lnTo>
                    <a:pt x="5294" y="766"/>
                  </a:lnTo>
                  <a:lnTo>
                    <a:pt x="5277" y="738"/>
                  </a:lnTo>
                  <a:lnTo>
                    <a:pt x="5258" y="711"/>
                  </a:lnTo>
                  <a:lnTo>
                    <a:pt x="5237" y="685"/>
                  </a:lnTo>
                  <a:lnTo>
                    <a:pt x="5215" y="661"/>
                  </a:lnTo>
                  <a:lnTo>
                    <a:pt x="5192" y="637"/>
                  </a:lnTo>
                  <a:lnTo>
                    <a:pt x="5167" y="614"/>
                  </a:lnTo>
                  <a:lnTo>
                    <a:pt x="5142" y="593"/>
                  </a:lnTo>
                  <a:lnTo>
                    <a:pt x="5115" y="573"/>
                  </a:lnTo>
                  <a:lnTo>
                    <a:pt x="5087" y="554"/>
                  </a:lnTo>
                  <a:lnTo>
                    <a:pt x="5057" y="536"/>
                  </a:lnTo>
                  <a:lnTo>
                    <a:pt x="5027" y="520"/>
                  </a:lnTo>
                  <a:lnTo>
                    <a:pt x="4996" y="505"/>
                  </a:lnTo>
                  <a:lnTo>
                    <a:pt x="4965" y="492"/>
                  </a:lnTo>
                  <a:lnTo>
                    <a:pt x="4932" y="480"/>
                  </a:lnTo>
                  <a:lnTo>
                    <a:pt x="4899" y="470"/>
                  </a:lnTo>
                  <a:lnTo>
                    <a:pt x="4866" y="461"/>
                  </a:lnTo>
                  <a:lnTo>
                    <a:pt x="4832" y="454"/>
                  </a:lnTo>
                  <a:lnTo>
                    <a:pt x="4872" y="429"/>
                  </a:lnTo>
                  <a:lnTo>
                    <a:pt x="4864" y="401"/>
                  </a:lnTo>
                  <a:lnTo>
                    <a:pt x="4854" y="374"/>
                  </a:lnTo>
                  <a:lnTo>
                    <a:pt x="4843" y="347"/>
                  </a:lnTo>
                  <a:lnTo>
                    <a:pt x="4830" y="320"/>
                  </a:lnTo>
                  <a:lnTo>
                    <a:pt x="4815" y="295"/>
                  </a:lnTo>
                  <a:lnTo>
                    <a:pt x="4799" y="270"/>
                  </a:lnTo>
                  <a:lnTo>
                    <a:pt x="4782" y="246"/>
                  </a:lnTo>
                  <a:lnTo>
                    <a:pt x="4764" y="222"/>
                  </a:lnTo>
                  <a:lnTo>
                    <a:pt x="4744" y="200"/>
                  </a:lnTo>
                  <a:lnTo>
                    <a:pt x="4723" y="178"/>
                  </a:lnTo>
                  <a:lnTo>
                    <a:pt x="4701" y="158"/>
                  </a:lnTo>
                  <a:lnTo>
                    <a:pt x="4677" y="138"/>
                  </a:lnTo>
                  <a:lnTo>
                    <a:pt x="4653" y="120"/>
                  </a:lnTo>
                  <a:lnTo>
                    <a:pt x="4628" y="103"/>
                  </a:lnTo>
                  <a:lnTo>
                    <a:pt x="4601" y="87"/>
                  </a:lnTo>
                  <a:lnTo>
                    <a:pt x="4574" y="72"/>
                  </a:lnTo>
                  <a:lnTo>
                    <a:pt x="4546" y="59"/>
                  </a:lnTo>
                  <a:lnTo>
                    <a:pt x="4518" y="47"/>
                  </a:lnTo>
                  <a:lnTo>
                    <a:pt x="4488" y="36"/>
                  </a:lnTo>
                  <a:lnTo>
                    <a:pt x="4458" y="26"/>
                  </a:lnTo>
                  <a:lnTo>
                    <a:pt x="4428" y="18"/>
                  </a:lnTo>
                  <a:lnTo>
                    <a:pt x="4397" y="12"/>
                  </a:lnTo>
                  <a:lnTo>
                    <a:pt x="4366" y="7"/>
                  </a:lnTo>
                  <a:lnTo>
                    <a:pt x="4335" y="3"/>
                  </a:lnTo>
                  <a:lnTo>
                    <a:pt x="4303" y="1"/>
                  </a:lnTo>
                  <a:lnTo>
                    <a:pt x="4271" y="0"/>
                  </a:lnTo>
                  <a:lnTo>
                    <a:pt x="4240" y="1"/>
                  </a:lnTo>
                  <a:lnTo>
                    <a:pt x="4208" y="3"/>
                  </a:lnTo>
                  <a:lnTo>
                    <a:pt x="4177" y="7"/>
                  </a:lnTo>
                  <a:lnTo>
                    <a:pt x="4146" y="12"/>
                  </a:lnTo>
                  <a:lnTo>
                    <a:pt x="4115" y="18"/>
                  </a:lnTo>
                  <a:lnTo>
                    <a:pt x="4084" y="26"/>
                  </a:lnTo>
                  <a:lnTo>
                    <a:pt x="4055" y="36"/>
                  </a:lnTo>
                  <a:lnTo>
                    <a:pt x="4025" y="46"/>
                  </a:lnTo>
                  <a:lnTo>
                    <a:pt x="3996" y="58"/>
                  </a:lnTo>
                  <a:lnTo>
                    <a:pt x="3968" y="72"/>
                  </a:lnTo>
                  <a:lnTo>
                    <a:pt x="3941" y="87"/>
                  </a:lnTo>
                  <a:lnTo>
                    <a:pt x="3915" y="102"/>
                  </a:lnTo>
                  <a:lnTo>
                    <a:pt x="3889" y="120"/>
                  </a:lnTo>
                  <a:lnTo>
                    <a:pt x="3865" y="138"/>
                  </a:lnTo>
                  <a:lnTo>
                    <a:pt x="3742" y="142"/>
                  </a:lnTo>
                  <a:lnTo>
                    <a:pt x="3721" y="124"/>
                  </a:lnTo>
                  <a:lnTo>
                    <a:pt x="3699" y="108"/>
                  </a:lnTo>
                  <a:lnTo>
                    <a:pt x="3677" y="92"/>
                  </a:lnTo>
                  <a:lnTo>
                    <a:pt x="3653" y="78"/>
                  </a:lnTo>
                  <a:lnTo>
                    <a:pt x="3628" y="65"/>
                  </a:lnTo>
                  <a:lnTo>
                    <a:pt x="3603" y="52"/>
                  </a:lnTo>
                  <a:lnTo>
                    <a:pt x="3577" y="42"/>
                  </a:lnTo>
                  <a:lnTo>
                    <a:pt x="3551" y="32"/>
                  </a:lnTo>
                  <a:lnTo>
                    <a:pt x="3524" y="23"/>
                  </a:lnTo>
                  <a:lnTo>
                    <a:pt x="3497" y="16"/>
                  </a:lnTo>
                  <a:lnTo>
                    <a:pt x="3469" y="10"/>
                  </a:lnTo>
                  <a:lnTo>
                    <a:pt x="3441" y="6"/>
                  </a:lnTo>
                  <a:lnTo>
                    <a:pt x="3413" y="3"/>
                  </a:lnTo>
                  <a:lnTo>
                    <a:pt x="3385" y="1"/>
                  </a:lnTo>
                  <a:lnTo>
                    <a:pt x="3356" y="0"/>
                  </a:lnTo>
                  <a:lnTo>
                    <a:pt x="3328" y="1"/>
                  </a:lnTo>
                  <a:lnTo>
                    <a:pt x="3299" y="3"/>
                  </a:lnTo>
                  <a:lnTo>
                    <a:pt x="3271" y="6"/>
                  </a:lnTo>
                  <a:lnTo>
                    <a:pt x="3243" y="11"/>
                  </a:lnTo>
                  <a:lnTo>
                    <a:pt x="3215" y="17"/>
                  </a:lnTo>
                  <a:lnTo>
                    <a:pt x="3188" y="24"/>
                  </a:lnTo>
                  <a:lnTo>
                    <a:pt x="3161" y="32"/>
                  </a:lnTo>
                  <a:lnTo>
                    <a:pt x="3135" y="42"/>
                  </a:lnTo>
                  <a:lnTo>
                    <a:pt x="3109" y="53"/>
                  </a:lnTo>
                  <a:lnTo>
                    <a:pt x="3084" y="65"/>
                  </a:lnTo>
                  <a:lnTo>
                    <a:pt x="3060" y="79"/>
                  </a:lnTo>
                  <a:lnTo>
                    <a:pt x="3036" y="93"/>
                  </a:lnTo>
                  <a:lnTo>
                    <a:pt x="3013" y="109"/>
                  </a:lnTo>
                  <a:lnTo>
                    <a:pt x="2991" y="125"/>
                  </a:lnTo>
                  <a:lnTo>
                    <a:pt x="2970" y="143"/>
                  </a:lnTo>
                  <a:lnTo>
                    <a:pt x="2950" y="161"/>
                  </a:lnTo>
                  <a:lnTo>
                    <a:pt x="2931" y="181"/>
                  </a:lnTo>
                  <a:lnTo>
                    <a:pt x="2914" y="201"/>
                  </a:lnTo>
                  <a:lnTo>
                    <a:pt x="2897" y="222"/>
                  </a:lnTo>
                  <a:lnTo>
                    <a:pt x="2783" y="228"/>
                  </a:lnTo>
                  <a:lnTo>
                    <a:pt x="2754" y="210"/>
                  </a:lnTo>
                  <a:lnTo>
                    <a:pt x="2725" y="194"/>
                  </a:lnTo>
                  <a:lnTo>
                    <a:pt x="2695" y="179"/>
                  </a:lnTo>
                  <a:lnTo>
                    <a:pt x="2664" y="165"/>
                  </a:lnTo>
                  <a:lnTo>
                    <a:pt x="2632" y="153"/>
                  </a:lnTo>
                  <a:lnTo>
                    <a:pt x="2600" y="142"/>
                  </a:lnTo>
                  <a:lnTo>
                    <a:pt x="2567" y="133"/>
                  </a:lnTo>
                  <a:lnTo>
                    <a:pt x="2533" y="125"/>
                  </a:lnTo>
                  <a:lnTo>
                    <a:pt x="2500" y="119"/>
                  </a:lnTo>
                  <a:lnTo>
                    <a:pt x="2465" y="114"/>
                  </a:lnTo>
                  <a:lnTo>
                    <a:pt x="2431" y="111"/>
                  </a:lnTo>
                  <a:lnTo>
                    <a:pt x="2397" y="110"/>
                  </a:lnTo>
                  <a:lnTo>
                    <a:pt x="2362" y="110"/>
                  </a:lnTo>
                  <a:lnTo>
                    <a:pt x="2328" y="112"/>
                  </a:lnTo>
                  <a:lnTo>
                    <a:pt x="2294" y="116"/>
                  </a:lnTo>
                  <a:lnTo>
                    <a:pt x="2260" y="120"/>
                  </a:lnTo>
                  <a:lnTo>
                    <a:pt x="2226" y="127"/>
                  </a:lnTo>
                  <a:lnTo>
                    <a:pt x="2193" y="135"/>
                  </a:lnTo>
                  <a:lnTo>
                    <a:pt x="2160" y="145"/>
                  </a:lnTo>
                  <a:lnTo>
                    <a:pt x="2128" y="156"/>
                  </a:lnTo>
                  <a:lnTo>
                    <a:pt x="2096" y="168"/>
                  </a:lnTo>
                  <a:lnTo>
                    <a:pt x="2065" y="183"/>
                  </a:lnTo>
                  <a:lnTo>
                    <a:pt x="2035" y="198"/>
                  </a:lnTo>
                  <a:lnTo>
                    <a:pt x="2006" y="215"/>
                  </a:lnTo>
                  <a:lnTo>
                    <a:pt x="1978" y="233"/>
                  </a:lnTo>
                  <a:lnTo>
                    <a:pt x="1951" y="252"/>
                  </a:lnTo>
                  <a:lnTo>
                    <a:pt x="1925" y="273"/>
                  </a:lnTo>
                  <a:lnTo>
                    <a:pt x="1900" y="295"/>
                  </a:lnTo>
                  <a:lnTo>
                    <a:pt x="1877" y="318"/>
                  </a:lnTo>
                  <a:lnTo>
                    <a:pt x="1855" y="342"/>
                  </a:lnTo>
                  <a:lnTo>
                    <a:pt x="1834" y="367"/>
                  </a:lnTo>
                  <a:lnTo>
                    <a:pt x="1688" y="400"/>
                  </a:lnTo>
                  <a:lnTo>
                    <a:pt x="1648" y="385"/>
                  </a:lnTo>
                  <a:lnTo>
                    <a:pt x="1607" y="373"/>
                  </a:lnTo>
                  <a:lnTo>
                    <a:pt x="1565" y="362"/>
                  </a:lnTo>
                  <a:lnTo>
                    <a:pt x="1523" y="353"/>
                  </a:lnTo>
                  <a:lnTo>
                    <a:pt x="1481" y="346"/>
                  </a:lnTo>
                  <a:lnTo>
                    <a:pt x="1438" y="340"/>
                  </a:lnTo>
                  <a:lnTo>
                    <a:pt x="1395" y="337"/>
                  </a:lnTo>
                  <a:lnTo>
                    <a:pt x="1351" y="336"/>
                  </a:lnTo>
                  <a:lnTo>
                    <a:pt x="1308" y="337"/>
                  </a:lnTo>
                  <a:lnTo>
                    <a:pt x="1265" y="340"/>
                  </a:lnTo>
                  <a:lnTo>
                    <a:pt x="1222" y="344"/>
                  </a:lnTo>
                  <a:lnTo>
                    <a:pt x="1180" y="351"/>
                  </a:lnTo>
                  <a:lnTo>
                    <a:pt x="1137" y="360"/>
                  </a:lnTo>
                  <a:lnTo>
                    <a:pt x="1096" y="370"/>
                  </a:lnTo>
                  <a:lnTo>
                    <a:pt x="1055" y="383"/>
                  </a:lnTo>
                  <a:lnTo>
                    <a:pt x="1014" y="397"/>
                  </a:lnTo>
                  <a:lnTo>
                    <a:pt x="975" y="413"/>
                  </a:lnTo>
                  <a:lnTo>
                    <a:pt x="937" y="431"/>
                  </a:lnTo>
                  <a:lnTo>
                    <a:pt x="899" y="451"/>
                  </a:lnTo>
                  <a:lnTo>
                    <a:pt x="863" y="472"/>
                  </a:lnTo>
                  <a:lnTo>
                    <a:pt x="828" y="495"/>
                  </a:lnTo>
                  <a:lnTo>
                    <a:pt x="794" y="520"/>
                  </a:lnTo>
                  <a:lnTo>
                    <a:pt x="761" y="546"/>
                  </a:lnTo>
                  <a:lnTo>
                    <a:pt x="731" y="573"/>
                  </a:lnTo>
                  <a:lnTo>
                    <a:pt x="701" y="602"/>
                  </a:lnTo>
                  <a:lnTo>
                    <a:pt x="673" y="633"/>
                  </a:lnTo>
                  <a:lnTo>
                    <a:pt x="647" y="664"/>
                  </a:lnTo>
                  <a:lnTo>
                    <a:pt x="623" y="697"/>
                  </a:lnTo>
                  <a:lnTo>
                    <a:pt x="601" y="730"/>
                  </a:lnTo>
                  <a:lnTo>
                    <a:pt x="580" y="765"/>
                  </a:lnTo>
                  <a:lnTo>
                    <a:pt x="562" y="801"/>
                  </a:lnTo>
                  <a:lnTo>
                    <a:pt x="545" y="837"/>
                  </a:lnTo>
                  <a:lnTo>
                    <a:pt x="530" y="874"/>
                  </a:lnTo>
                  <a:lnTo>
                    <a:pt x="518" y="912"/>
                  </a:lnTo>
                  <a:lnTo>
                    <a:pt x="507" y="950"/>
                  </a:lnTo>
                  <a:lnTo>
                    <a:pt x="499" y="989"/>
                  </a:lnTo>
                  <a:lnTo>
                    <a:pt x="493" y="1028"/>
                  </a:lnTo>
                  <a:lnTo>
                    <a:pt x="489" y="1067"/>
                  </a:lnTo>
                  <a:lnTo>
                    <a:pt x="487" y="1106"/>
                  </a:lnTo>
                  <a:lnTo>
                    <a:pt x="487" y="1146"/>
                  </a:lnTo>
                  <a:lnTo>
                    <a:pt x="490" y="1185"/>
                  </a:lnTo>
                  <a:lnTo>
                    <a:pt x="495" y="1224"/>
                  </a:lnTo>
                  <a:lnTo>
                    <a:pt x="501" y="1263"/>
                  </a:lnTo>
                  <a:lnTo>
                    <a:pt x="511" y="12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34640" y="3456360"/>
              <a:ext cx="88560" cy="15480"/>
            </a:xfrm>
            <a:custGeom>
              <a:avLst/>
              <a:gdLst/>
              <a:ahLst/>
              <a:rect l="l" t="t" r="r" b="b"/>
              <a:pathLst>
                <a:path w="249" h="42">
                  <a:moveTo>
                    <a:pt x="0" y="0"/>
                  </a:moveTo>
                  <a:lnTo>
                    <a:pt x="16" y="6"/>
                  </a:lnTo>
                  <a:lnTo>
                    <a:pt x="31" y="12"/>
                  </a:lnTo>
                  <a:lnTo>
                    <a:pt x="48" y="17"/>
                  </a:lnTo>
                  <a:lnTo>
                    <a:pt x="64" y="21"/>
                  </a:lnTo>
                  <a:lnTo>
                    <a:pt x="80" y="25"/>
                  </a:lnTo>
                  <a:lnTo>
                    <a:pt x="97" y="29"/>
                  </a:lnTo>
                  <a:lnTo>
                    <a:pt x="113" y="32"/>
                  </a:lnTo>
                  <a:lnTo>
                    <a:pt x="130" y="35"/>
                  </a:lnTo>
                  <a:lnTo>
                    <a:pt x="147" y="37"/>
                  </a:lnTo>
                  <a:lnTo>
                    <a:pt x="164" y="39"/>
                  </a:lnTo>
                  <a:lnTo>
                    <a:pt x="181" y="40"/>
                  </a:lnTo>
                  <a:lnTo>
                    <a:pt x="198" y="41"/>
                  </a:lnTo>
                  <a:lnTo>
                    <a:pt x="215" y="41"/>
                  </a:lnTo>
                  <a:lnTo>
                    <a:pt x="232" y="41"/>
                  </a:lnTo>
                  <a:lnTo>
                    <a:pt x="248" y="4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74680" y="3742920"/>
              <a:ext cx="39240" cy="7560"/>
            </a:xfrm>
            <a:custGeom>
              <a:avLst/>
              <a:gdLst/>
              <a:ahLst/>
              <a:rect l="l" t="t" r="r" b="b"/>
              <a:pathLst>
                <a:path w="110" h="20">
                  <a:moveTo>
                    <a:pt x="0" y="19"/>
                  </a:moveTo>
                  <a:lnTo>
                    <a:pt x="7" y="18"/>
                  </a:lnTo>
                  <a:lnTo>
                    <a:pt x="15" y="18"/>
                  </a:lnTo>
                  <a:lnTo>
                    <a:pt x="22" y="17"/>
                  </a:lnTo>
                  <a:lnTo>
                    <a:pt x="29" y="16"/>
                  </a:lnTo>
                  <a:lnTo>
                    <a:pt x="37" y="15"/>
                  </a:lnTo>
                  <a:lnTo>
                    <a:pt x="44" y="14"/>
                  </a:lnTo>
                  <a:lnTo>
                    <a:pt x="51" y="13"/>
                  </a:lnTo>
                  <a:lnTo>
                    <a:pt x="59" y="12"/>
                  </a:lnTo>
                  <a:lnTo>
                    <a:pt x="66" y="10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88" y="6"/>
                  </a:lnTo>
                  <a:lnTo>
                    <a:pt x="95" y="4"/>
                  </a:lnTo>
                  <a:lnTo>
                    <a:pt x="102" y="2"/>
                  </a:lnTo>
                  <a:lnTo>
                    <a:pt x="109" y="0"/>
                  </a:lnTo>
                  <a:lnTo>
                    <a:pt x="0" y="1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53480" y="3843000"/>
              <a:ext cx="44280" cy="56880"/>
            </a:xfrm>
            <a:custGeom>
              <a:avLst/>
              <a:gdLst/>
              <a:ahLst/>
              <a:rect l="l" t="t" r="r" b="b"/>
              <a:pathLst>
                <a:path w="123" h="158">
                  <a:moveTo>
                    <a:pt x="0" y="0"/>
                  </a:moveTo>
                  <a:lnTo>
                    <a:pt x="7" y="11"/>
                  </a:lnTo>
                  <a:lnTo>
                    <a:pt x="14" y="22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6" y="55"/>
                  </a:lnTo>
                  <a:lnTo>
                    <a:pt x="44" y="66"/>
                  </a:lnTo>
                  <a:lnTo>
                    <a:pt x="52" y="77"/>
                  </a:lnTo>
                  <a:lnTo>
                    <a:pt x="60" y="87"/>
                  </a:lnTo>
                  <a:lnTo>
                    <a:pt x="68" y="97"/>
                  </a:lnTo>
                  <a:lnTo>
                    <a:pt x="77" y="108"/>
                  </a:lnTo>
                  <a:lnTo>
                    <a:pt x="85" y="118"/>
                  </a:lnTo>
                  <a:lnTo>
                    <a:pt x="94" y="128"/>
                  </a:lnTo>
                  <a:lnTo>
                    <a:pt x="103" y="138"/>
                  </a:lnTo>
                  <a:lnTo>
                    <a:pt x="113" y="148"/>
                  </a:lnTo>
                  <a:lnTo>
                    <a:pt x="122" y="15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11480" y="3741480"/>
              <a:ext cx="21960" cy="75600"/>
            </a:xfrm>
            <a:custGeom>
              <a:avLst/>
              <a:gdLst/>
              <a:ahLst/>
              <a:rect l="l" t="t" r="r" b="b"/>
              <a:pathLst>
                <a:path w="61" h="213">
                  <a:moveTo>
                    <a:pt x="0" y="212"/>
                  </a:moveTo>
                  <a:lnTo>
                    <a:pt x="6" y="199"/>
                  </a:lnTo>
                  <a:lnTo>
                    <a:pt x="11" y="185"/>
                  </a:lnTo>
                  <a:lnTo>
                    <a:pt x="17" y="171"/>
                  </a:lnTo>
                  <a:lnTo>
                    <a:pt x="22" y="157"/>
                  </a:lnTo>
                  <a:lnTo>
                    <a:pt x="27" y="143"/>
                  </a:lnTo>
                  <a:lnTo>
                    <a:pt x="31" y="129"/>
                  </a:lnTo>
                  <a:lnTo>
                    <a:pt x="36" y="115"/>
                  </a:lnTo>
                  <a:lnTo>
                    <a:pt x="40" y="101"/>
                  </a:lnTo>
                  <a:lnTo>
                    <a:pt x="43" y="87"/>
                  </a:lnTo>
                  <a:lnTo>
                    <a:pt x="47" y="73"/>
                  </a:lnTo>
                  <a:lnTo>
                    <a:pt x="50" y="58"/>
                  </a:lnTo>
                  <a:lnTo>
                    <a:pt x="53" y="44"/>
                  </a:lnTo>
                  <a:lnTo>
                    <a:pt x="55" y="29"/>
                  </a:lnTo>
                  <a:lnTo>
                    <a:pt x="58" y="15"/>
                  </a:lnTo>
                  <a:lnTo>
                    <a:pt x="60" y="0"/>
                  </a:lnTo>
                  <a:lnTo>
                    <a:pt x="0" y="21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53040" y="3360960"/>
              <a:ext cx="175680" cy="230040"/>
            </a:xfrm>
            <a:custGeom>
              <a:avLst/>
              <a:gdLst/>
              <a:ahLst/>
              <a:rect l="l" t="t" r="r" b="b"/>
              <a:pathLst>
                <a:path w="489" h="641">
                  <a:moveTo>
                    <a:pt x="488" y="640"/>
                  </a:moveTo>
                  <a:lnTo>
                    <a:pt x="487" y="605"/>
                  </a:lnTo>
                  <a:lnTo>
                    <a:pt x="485" y="571"/>
                  </a:lnTo>
                  <a:lnTo>
                    <a:pt x="480" y="536"/>
                  </a:lnTo>
                  <a:lnTo>
                    <a:pt x="474" y="502"/>
                  </a:lnTo>
                  <a:lnTo>
                    <a:pt x="466" y="468"/>
                  </a:lnTo>
                  <a:lnTo>
                    <a:pt x="455" y="435"/>
                  </a:lnTo>
                  <a:lnTo>
                    <a:pt x="443" y="402"/>
                  </a:lnTo>
                  <a:lnTo>
                    <a:pt x="429" y="370"/>
                  </a:lnTo>
                  <a:lnTo>
                    <a:pt x="413" y="338"/>
                  </a:lnTo>
                  <a:lnTo>
                    <a:pt x="396" y="308"/>
                  </a:lnTo>
                  <a:lnTo>
                    <a:pt x="377" y="278"/>
                  </a:lnTo>
                  <a:lnTo>
                    <a:pt x="356" y="249"/>
                  </a:lnTo>
                  <a:lnTo>
                    <a:pt x="333" y="221"/>
                  </a:lnTo>
                  <a:lnTo>
                    <a:pt x="309" y="194"/>
                  </a:lnTo>
                  <a:lnTo>
                    <a:pt x="284" y="169"/>
                  </a:lnTo>
                  <a:lnTo>
                    <a:pt x="257" y="144"/>
                  </a:lnTo>
                  <a:lnTo>
                    <a:pt x="228" y="121"/>
                  </a:lnTo>
                  <a:lnTo>
                    <a:pt x="199" y="99"/>
                  </a:lnTo>
                  <a:lnTo>
                    <a:pt x="168" y="79"/>
                  </a:lnTo>
                  <a:lnTo>
                    <a:pt x="136" y="60"/>
                  </a:lnTo>
                  <a:lnTo>
                    <a:pt x="103" y="43"/>
                  </a:lnTo>
                  <a:lnTo>
                    <a:pt x="70" y="27"/>
                  </a:lnTo>
                  <a:lnTo>
                    <a:pt x="35" y="13"/>
                  </a:lnTo>
                  <a:lnTo>
                    <a:pt x="0" y="0"/>
                  </a:lnTo>
                  <a:lnTo>
                    <a:pt x="488" y="64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33480" y="3161520"/>
              <a:ext cx="82440" cy="7740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0" y="214"/>
                  </a:moveTo>
                  <a:lnTo>
                    <a:pt x="19" y="203"/>
                  </a:lnTo>
                  <a:lnTo>
                    <a:pt x="37" y="192"/>
                  </a:lnTo>
                  <a:lnTo>
                    <a:pt x="54" y="180"/>
                  </a:lnTo>
                  <a:lnTo>
                    <a:pt x="72" y="167"/>
                  </a:lnTo>
                  <a:lnTo>
                    <a:pt x="88" y="154"/>
                  </a:lnTo>
                  <a:lnTo>
                    <a:pt x="105" y="141"/>
                  </a:lnTo>
                  <a:lnTo>
                    <a:pt x="121" y="127"/>
                  </a:lnTo>
                  <a:lnTo>
                    <a:pt x="136" y="112"/>
                  </a:lnTo>
                  <a:lnTo>
                    <a:pt x="151" y="97"/>
                  </a:lnTo>
                  <a:lnTo>
                    <a:pt x="165" y="82"/>
                  </a:lnTo>
                  <a:lnTo>
                    <a:pt x="179" y="66"/>
                  </a:lnTo>
                  <a:lnTo>
                    <a:pt x="192" y="50"/>
                  </a:lnTo>
                  <a:lnTo>
                    <a:pt x="204" y="34"/>
                  </a:lnTo>
                  <a:lnTo>
                    <a:pt x="216" y="17"/>
                  </a:lnTo>
                  <a:lnTo>
                    <a:pt x="228" y="0"/>
                  </a:lnTo>
                  <a:lnTo>
                    <a:pt x="0" y="2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66880" y="2820600"/>
              <a:ext cx="6120" cy="51840"/>
            </a:xfrm>
            <a:custGeom>
              <a:avLst/>
              <a:gdLst/>
              <a:ahLst/>
              <a:rect l="l" t="t" r="r" b="b"/>
              <a:pathLst>
                <a:path w="19" h="146">
                  <a:moveTo>
                    <a:pt x="18" y="145"/>
                  </a:moveTo>
                  <a:lnTo>
                    <a:pt x="18" y="135"/>
                  </a:lnTo>
                  <a:lnTo>
                    <a:pt x="18" y="125"/>
                  </a:lnTo>
                  <a:lnTo>
                    <a:pt x="18" y="115"/>
                  </a:lnTo>
                  <a:lnTo>
                    <a:pt x="17" y="106"/>
                  </a:lnTo>
                  <a:lnTo>
                    <a:pt x="17" y="96"/>
                  </a:lnTo>
                  <a:lnTo>
                    <a:pt x="16" y="86"/>
                  </a:lnTo>
                  <a:lnTo>
                    <a:pt x="15" y="76"/>
                  </a:lnTo>
                  <a:lnTo>
                    <a:pt x="14" y="67"/>
                  </a:lnTo>
                  <a:lnTo>
                    <a:pt x="12" y="57"/>
                  </a:lnTo>
                  <a:lnTo>
                    <a:pt x="11" y="47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5" y="19"/>
                  </a:lnTo>
                  <a:lnTo>
                    <a:pt x="3" y="9"/>
                  </a:lnTo>
                  <a:lnTo>
                    <a:pt x="0" y="0"/>
                  </a:lnTo>
                  <a:lnTo>
                    <a:pt x="18" y="145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59360" y="2715840"/>
              <a:ext cx="45720" cy="48600"/>
            </a:xfrm>
            <a:custGeom>
              <a:avLst/>
              <a:gdLst/>
              <a:ahLst/>
              <a:rect l="l" t="t" r="r" b="b"/>
              <a:pathLst>
                <a:path w="127" h="138">
                  <a:moveTo>
                    <a:pt x="126" y="0"/>
                  </a:moveTo>
                  <a:lnTo>
                    <a:pt x="116" y="8"/>
                  </a:lnTo>
                  <a:lnTo>
                    <a:pt x="107" y="16"/>
                  </a:lnTo>
                  <a:lnTo>
                    <a:pt x="97" y="24"/>
                  </a:lnTo>
                  <a:lnTo>
                    <a:pt x="88" y="33"/>
                  </a:lnTo>
                  <a:lnTo>
                    <a:pt x="79" y="41"/>
                  </a:lnTo>
                  <a:lnTo>
                    <a:pt x="70" y="50"/>
                  </a:lnTo>
                  <a:lnTo>
                    <a:pt x="61" y="59"/>
                  </a:lnTo>
                  <a:lnTo>
                    <a:pt x="53" y="68"/>
                  </a:lnTo>
                  <a:lnTo>
                    <a:pt x="45" y="78"/>
                  </a:lnTo>
                  <a:lnTo>
                    <a:pt x="37" y="87"/>
                  </a:lnTo>
                  <a:lnTo>
                    <a:pt x="29" y="97"/>
                  </a:lnTo>
                  <a:lnTo>
                    <a:pt x="22" y="107"/>
                  </a:lnTo>
                  <a:lnTo>
                    <a:pt x="14" y="116"/>
                  </a:lnTo>
                  <a:lnTo>
                    <a:pt x="7" y="127"/>
                  </a:lnTo>
                  <a:lnTo>
                    <a:pt x="0" y="137"/>
                  </a:lnTo>
                  <a:lnTo>
                    <a:pt x="126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29600" y="2745720"/>
              <a:ext cx="26640" cy="50760"/>
            </a:xfrm>
            <a:custGeom>
              <a:avLst/>
              <a:gdLst/>
              <a:ahLst/>
              <a:rect l="l" t="t" r="r" b="b"/>
              <a:pathLst>
                <a:path w="74" h="142">
                  <a:moveTo>
                    <a:pt x="73" y="0"/>
                  </a:moveTo>
                  <a:lnTo>
                    <a:pt x="67" y="9"/>
                  </a:lnTo>
                  <a:lnTo>
                    <a:pt x="61" y="18"/>
                  </a:lnTo>
                  <a:lnTo>
                    <a:pt x="55" y="26"/>
                  </a:lnTo>
                  <a:lnTo>
                    <a:pt x="49" y="36"/>
                  </a:lnTo>
                  <a:lnTo>
                    <a:pt x="43" y="45"/>
                  </a:lnTo>
                  <a:lnTo>
                    <a:pt x="38" y="54"/>
                  </a:lnTo>
                  <a:lnTo>
                    <a:pt x="33" y="63"/>
                  </a:lnTo>
                  <a:lnTo>
                    <a:pt x="28" y="73"/>
                  </a:lnTo>
                  <a:lnTo>
                    <a:pt x="23" y="82"/>
                  </a:lnTo>
                  <a:lnTo>
                    <a:pt x="19" y="92"/>
                  </a:lnTo>
                  <a:lnTo>
                    <a:pt x="15" y="102"/>
                  </a:lnTo>
                  <a:lnTo>
                    <a:pt x="11" y="111"/>
                  </a:lnTo>
                  <a:lnTo>
                    <a:pt x="7" y="121"/>
                  </a:lnTo>
                  <a:lnTo>
                    <a:pt x="3" y="131"/>
                  </a:lnTo>
                  <a:lnTo>
                    <a:pt x="0" y="141"/>
                  </a:lnTo>
                  <a:lnTo>
                    <a:pt x="73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21720" y="2810880"/>
              <a:ext cx="58320" cy="29880"/>
            </a:xfrm>
            <a:custGeom>
              <a:avLst/>
              <a:gdLst/>
              <a:ahLst/>
              <a:rect l="l" t="t" r="r" b="b"/>
              <a:pathLst>
                <a:path w="161" h="84">
                  <a:moveTo>
                    <a:pt x="160" y="83"/>
                  </a:moveTo>
                  <a:lnTo>
                    <a:pt x="150" y="77"/>
                  </a:lnTo>
                  <a:lnTo>
                    <a:pt x="140" y="70"/>
                  </a:lnTo>
                  <a:lnTo>
                    <a:pt x="130" y="64"/>
                  </a:lnTo>
                  <a:lnTo>
                    <a:pt x="120" y="58"/>
                  </a:lnTo>
                  <a:lnTo>
                    <a:pt x="109" y="52"/>
                  </a:lnTo>
                  <a:lnTo>
                    <a:pt x="99" y="46"/>
                  </a:lnTo>
                  <a:lnTo>
                    <a:pt x="88" y="40"/>
                  </a:lnTo>
                  <a:lnTo>
                    <a:pt x="77" y="35"/>
                  </a:lnTo>
                  <a:lnTo>
                    <a:pt x="66" y="30"/>
                  </a:lnTo>
                  <a:lnTo>
                    <a:pt x="55" y="24"/>
                  </a:lnTo>
                  <a:lnTo>
                    <a:pt x="44" y="19"/>
                  </a:lnTo>
                  <a:lnTo>
                    <a:pt x="33" y="14"/>
                  </a:lnTo>
                  <a:lnTo>
                    <a:pt x="22" y="9"/>
                  </a:lnTo>
                  <a:lnTo>
                    <a:pt x="11" y="5"/>
                  </a:lnTo>
                  <a:lnTo>
                    <a:pt x="0" y="0"/>
                  </a:lnTo>
                  <a:lnTo>
                    <a:pt x="160" y="83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95120" y="3120120"/>
              <a:ext cx="18720" cy="56880"/>
            </a:xfrm>
            <a:custGeom>
              <a:avLst/>
              <a:gdLst/>
              <a:ahLst/>
              <a:rect l="l" t="t" r="r" b="b"/>
              <a:pathLst>
                <a:path w="52" h="157">
                  <a:moveTo>
                    <a:pt x="0" y="0"/>
                  </a:moveTo>
                  <a:lnTo>
                    <a:pt x="3" y="11"/>
                  </a:lnTo>
                  <a:lnTo>
                    <a:pt x="5" y="21"/>
                  </a:lnTo>
                  <a:lnTo>
                    <a:pt x="8" y="32"/>
                  </a:lnTo>
                  <a:lnTo>
                    <a:pt x="10" y="43"/>
                  </a:lnTo>
                  <a:lnTo>
                    <a:pt x="13" y="53"/>
                  </a:lnTo>
                  <a:lnTo>
                    <a:pt x="16" y="64"/>
                  </a:lnTo>
                  <a:lnTo>
                    <a:pt x="20" y="74"/>
                  </a:lnTo>
                  <a:lnTo>
                    <a:pt x="23" y="85"/>
                  </a:lnTo>
                  <a:lnTo>
                    <a:pt x="27" y="95"/>
                  </a:lnTo>
                  <a:lnTo>
                    <a:pt x="30" y="105"/>
                  </a:lnTo>
                  <a:lnTo>
                    <a:pt x="34" y="116"/>
                  </a:lnTo>
                  <a:lnTo>
                    <a:pt x="38" y="126"/>
                  </a:lnTo>
                  <a:lnTo>
                    <a:pt x="42" y="136"/>
                  </a:lnTo>
                  <a:lnTo>
                    <a:pt x="47" y="146"/>
                  </a:lnTo>
                  <a:lnTo>
                    <a:pt x="51" y="15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895480" y="3333600"/>
            <a:ext cx="3048120" cy="18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867280" y="2666880"/>
            <a:ext cx="1979640" cy="1325520"/>
            <a:chOff x="5867280" y="2666880"/>
            <a:chExt cx="1979640" cy="1325520"/>
          </a:xfrm>
        </p:grpSpPr>
        <p:sp>
          <p:nvSpPr>
            <p:cNvPr id="415" name=""/>
            <p:cNvSpPr/>
            <p:nvPr/>
          </p:nvSpPr>
          <p:spPr>
            <a:xfrm>
              <a:off x="5867280" y="2666880"/>
              <a:ext cx="1979640" cy="1325520"/>
            </a:xfrm>
            <a:custGeom>
              <a:avLst/>
              <a:gdLst/>
              <a:ahLst/>
              <a:rect l="l" t="t" r="r" b="b"/>
              <a:pathLst>
                <a:path w="5503" h="3687">
                  <a:moveTo>
                    <a:pt x="511" y="1224"/>
                  </a:moveTo>
                  <a:lnTo>
                    <a:pt x="484" y="1227"/>
                  </a:lnTo>
                  <a:lnTo>
                    <a:pt x="456" y="1231"/>
                  </a:lnTo>
                  <a:lnTo>
                    <a:pt x="429" y="1236"/>
                  </a:lnTo>
                  <a:lnTo>
                    <a:pt x="402" y="1242"/>
                  </a:lnTo>
                  <a:lnTo>
                    <a:pt x="376" y="1250"/>
                  </a:lnTo>
                  <a:lnTo>
                    <a:pt x="349" y="1259"/>
                  </a:lnTo>
                  <a:lnTo>
                    <a:pt x="324" y="1269"/>
                  </a:lnTo>
                  <a:lnTo>
                    <a:pt x="299" y="1280"/>
                  </a:lnTo>
                  <a:lnTo>
                    <a:pt x="275" y="1292"/>
                  </a:lnTo>
                  <a:lnTo>
                    <a:pt x="251" y="1305"/>
                  </a:lnTo>
                  <a:lnTo>
                    <a:pt x="228" y="1320"/>
                  </a:lnTo>
                  <a:lnTo>
                    <a:pt x="206" y="1335"/>
                  </a:lnTo>
                  <a:lnTo>
                    <a:pt x="185" y="1352"/>
                  </a:lnTo>
                  <a:lnTo>
                    <a:pt x="165" y="1369"/>
                  </a:lnTo>
                  <a:lnTo>
                    <a:pt x="145" y="1387"/>
                  </a:lnTo>
                  <a:lnTo>
                    <a:pt x="127" y="1407"/>
                  </a:lnTo>
                  <a:lnTo>
                    <a:pt x="110" y="1427"/>
                  </a:lnTo>
                  <a:lnTo>
                    <a:pt x="94" y="1447"/>
                  </a:lnTo>
                  <a:lnTo>
                    <a:pt x="79" y="1469"/>
                  </a:lnTo>
                  <a:lnTo>
                    <a:pt x="65" y="1491"/>
                  </a:lnTo>
                  <a:lnTo>
                    <a:pt x="53" y="1514"/>
                  </a:lnTo>
                  <a:lnTo>
                    <a:pt x="42" y="1537"/>
                  </a:lnTo>
                  <a:lnTo>
                    <a:pt x="32" y="1561"/>
                  </a:lnTo>
                  <a:lnTo>
                    <a:pt x="23" y="1585"/>
                  </a:lnTo>
                  <a:lnTo>
                    <a:pt x="16" y="1610"/>
                  </a:lnTo>
                  <a:lnTo>
                    <a:pt x="10" y="1635"/>
                  </a:lnTo>
                  <a:lnTo>
                    <a:pt x="5" y="1660"/>
                  </a:lnTo>
                  <a:lnTo>
                    <a:pt x="2" y="1685"/>
                  </a:lnTo>
                  <a:lnTo>
                    <a:pt x="0" y="1711"/>
                  </a:lnTo>
                  <a:lnTo>
                    <a:pt x="0" y="1736"/>
                  </a:lnTo>
                  <a:lnTo>
                    <a:pt x="1" y="1761"/>
                  </a:lnTo>
                  <a:lnTo>
                    <a:pt x="3" y="1787"/>
                  </a:lnTo>
                  <a:lnTo>
                    <a:pt x="7" y="1812"/>
                  </a:lnTo>
                  <a:lnTo>
                    <a:pt x="12" y="1837"/>
                  </a:lnTo>
                  <a:lnTo>
                    <a:pt x="19" y="1862"/>
                  </a:lnTo>
                  <a:lnTo>
                    <a:pt x="27" y="1886"/>
                  </a:lnTo>
                  <a:lnTo>
                    <a:pt x="36" y="1910"/>
                  </a:lnTo>
                  <a:lnTo>
                    <a:pt x="47" y="1934"/>
                  </a:lnTo>
                  <a:lnTo>
                    <a:pt x="58" y="1957"/>
                  </a:lnTo>
                  <a:lnTo>
                    <a:pt x="72" y="1979"/>
                  </a:lnTo>
                  <a:lnTo>
                    <a:pt x="86" y="2001"/>
                  </a:lnTo>
                  <a:lnTo>
                    <a:pt x="101" y="2022"/>
                  </a:lnTo>
                  <a:lnTo>
                    <a:pt x="118" y="2043"/>
                  </a:lnTo>
                  <a:lnTo>
                    <a:pt x="135" y="2062"/>
                  </a:lnTo>
                  <a:lnTo>
                    <a:pt x="154" y="2081"/>
                  </a:lnTo>
                  <a:lnTo>
                    <a:pt x="174" y="2099"/>
                  </a:lnTo>
                  <a:lnTo>
                    <a:pt x="195" y="2116"/>
                  </a:lnTo>
                  <a:lnTo>
                    <a:pt x="216" y="2132"/>
                  </a:lnTo>
                  <a:lnTo>
                    <a:pt x="239" y="2147"/>
                  </a:lnTo>
                  <a:lnTo>
                    <a:pt x="262" y="2161"/>
                  </a:lnTo>
                  <a:lnTo>
                    <a:pt x="286" y="2174"/>
                  </a:lnTo>
                  <a:lnTo>
                    <a:pt x="311" y="2186"/>
                  </a:lnTo>
                  <a:lnTo>
                    <a:pt x="336" y="2196"/>
                  </a:lnTo>
                  <a:lnTo>
                    <a:pt x="333" y="2111"/>
                  </a:lnTo>
                  <a:lnTo>
                    <a:pt x="312" y="2127"/>
                  </a:lnTo>
                  <a:lnTo>
                    <a:pt x="291" y="2144"/>
                  </a:lnTo>
                  <a:lnTo>
                    <a:pt x="272" y="2162"/>
                  </a:lnTo>
                  <a:lnTo>
                    <a:pt x="253" y="2181"/>
                  </a:lnTo>
                  <a:lnTo>
                    <a:pt x="235" y="2201"/>
                  </a:lnTo>
                  <a:lnTo>
                    <a:pt x="219" y="2221"/>
                  </a:lnTo>
                  <a:lnTo>
                    <a:pt x="204" y="2243"/>
                  </a:lnTo>
                  <a:lnTo>
                    <a:pt x="190" y="2264"/>
                  </a:lnTo>
                  <a:lnTo>
                    <a:pt x="177" y="2287"/>
                  </a:lnTo>
                  <a:lnTo>
                    <a:pt x="165" y="2310"/>
                  </a:lnTo>
                  <a:lnTo>
                    <a:pt x="155" y="2334"/>
                  </a:lnTo>
                  <a:lnTo>
                    <a:pt x="146" y="2358"/>
                  </a:lnTo>
                  <a:lnTo>
                    <a:pt x="139" y="2382"/>
                  </a:lnTo>
                  <a:lnTo>
                    <a:pt x="132" y="2407"/>
                  </a:lnTo>
                  <a:lnTo>
                    <a:pt x="127" y="2432"/>
                  </a:lnTo>
                  <a:lnTo>
                    <a:pt x="124" y="2457"/>
                  </a:lnTo>
                  <a:lnTo>
                    <a:pt x="122" y="2482"/>
                  </a:lnTo>
                  <a:lnTo>
                    <a:pt x="121" y="2508"/>
                  </a:lnTo>
                  <a:lnTo>
                    <a:pt x="122" y="2533"/>
                  </a:lnTo>
                  <a:lnTo>
                    <a:pt x="124" y="2558"/>
                  </a:lnTo>
                  <a:lnTo>
                    <a:pt x="127" y="2583"/>
                  </a:lnTo>
                  <a:lnTo>
                    <a:pt x="132" y="2608"/>
                  </a:lnTo>
                  <a:lnTo>
                    <a:pt x="138" y="2633"/>
                  </a:lnTo>
                  <a:lnTo>
                    <a:pt x="146" y="2658"/>
                  </a:lnTo>
                  <a:lnTo>
                    <a:pt x="155" y="2682"/>
                  </a:lnTo>
                  <a:lnTo>
                    <a:pt x="165" y="2705"/>
                  </a:lnTo>
                  <a:lnTo>
                    <a:pt x="177" y="2728"/>
                  </a:lnTo>
                  <a:lnTo>
                    <a:pt x="189" y="2751"/>
                  </a:lnTo>
                  <a:lnTo>
                    <a:pt x="203" y="2773"/>
                  </a:lnTo>
                  <a:lnTo>
                    <a:pt x="219" y="2794"/>
                  </a:lnTo>
                  <a:lnTo>
                    <a:pt x="235" y="2815"/>
                  </a:lnTo>
                  <a:lnTo>
                    <a:pt x="252" y="2834"/>
                  </a:lnTo>
                  <a:lnTo>
                    <a:pt x="271" y="2853"/>
                  </a:lnTo>
                  <a:lnTo>
                    <a:pt x="291" y="2871"/>
                  </a:lnTo>
                  <a:lnTo>
                    <a:pt x="311" y="2889"/>
                  </a:lnTo>
                  <a:lnTo>
                    <a:pt x="333" y="2905"/>
                  </a:lnTo>
                  <a:lnTo>
                    <a:pt x="355" y="2920"/>
                  </a:lnTo>
                  <a:lnTo>
                    <a:pt x="378" y="2934"/>
                  </a:lnTo>
                  <a:lnTo>
                    <a:pt x="402" y="2947"/>
                  </a:lnTo>
                  <a:lnTo>
                    <a:pt x="426" y="2959"/>
                  </a:lnTo>
                  <a:lnTo>
                    <a:pt x="452" y="2970"/>
                  </a:lnTo>
                  <a:lnTo>
                    <a:pt x="477" y="2980"/>
                  </a:lnTo>
                  <a:lnTo>
                    <a:pt x="504" y="2988"/>
                  </a:lnTo>
                  <a:lnTo>
                    <a:pt x="530" y="2995"/>
                  </a:lnTo>
                  <a:lnTo>
                    <a:pt x="558" y="3001"/>
                  </a:lnTo>
                  <a:lnTo>
                    <a:pt x="585" y="3006"/>
                  </a:lnTo>
                  <a:lnTo>
                    <a:pt x="613" y="3010"/>
                  </a:lnTo>
                  <a:lnTo>
                    <a:pt x="640" y="3012"/>
                  </a:lnTo>
                  <a:lnTo>
                    <a:pt x="668" y="3013"/>
                  </a:lnTo>
                  <a:lnTo>
                    <a:pt x="696" y="3013"/>
                  </a:lnTo>
                  <a:lnTo>
                    <a:pt x="724" y="3011"/>
                  </a:lnTo>
                  <a:lnTo>
                    <a:pt x="817" y="3120"/>
                  </a:lnTo>
                  <a:lnTo>
                    <a:pt x="850" y="3157"/>
                  </a:lnTo>
                  <a:lnTo>
                    <a:pt x="885" y="3192"/>
                  </a:lnTo>
                  <a:lnTo>
                    <a:pt x="922" y="3225"/>
                  </a:lnTo>
                  <a:lnTo>
                    <a:pt x="961" y="3256"/>
                  </a:lnTo>
                  <a:lnTo>
                    <a:pt x="1002" y="3286"/>
                  </a:lnTo>
                  <a:lnTo>
                    <a:pt x="1045" y="3313"/>
                  </a:lnTo>
                  <a:lnTo>
                    <a:pt x="1089" y="3339"/>
                  </a:lnTo>
                  <a:lnTo>
                    <a:pt x="1134" y="3362"/>
                  </a:lnTo>
                  <a:lnTo>
                    <a:pt x="1180" y="3383"/>
                  </a:lnTo>
                  <a:lnTo>
                    <a:pt x="1228" y="3401"/>
                  </a:lnTo>
                  <a:lnTo>
                    <a:pt x="1277" y="3418"/>
                  </a:lnTo>
                  <a:lnTo>
                    <a:pt x="1327" y="3432"/>
                  </a:lnTo>
                  <a:lnTo>
                    <a:pt x="1377" y="3443"/>
                  </a:lnTo>
                  <a:lnTo>
                    <a:pt x="1428" y="3453"/>
                  </a:lnTo>
                  <a:lnTo>
                    <a:pt x="1479" y="3459"/>
                  </a:lnTo>
                  <a:lnTo>
                    <a:pt x="1531" y="3463"/>
                  </a:lnTo>
                  <a:lnTo>
                    <a:pt x="1583" y="3465"/>
                  </a:lnTo>
                  <a:lnTo>
                    <a:pt x="1635" y="3464"/>
                  </a:lnTo>
                  <a:lnTo>
                    <a:pt x="1687" y="3461"/>
                  </a:lnTo>
                  <a:lnTo>
                    <a:pt x="1738" y="3455"/>
                  </a:lnTo>
                  <a:lnTo>
                    <a:pt x="1789" y="3446"/>
                  </a:lnTo>
                  <a:lnTo>
                    <a:pt x="1840" y="3436"/>
                  </a:lnTo>
                  <a:lnTo>
                    <a:pt x="1890" y="3422"/>
                  </a:lnTo>
                  <a:lnTo>
                    <a:pt x="1939" y="3407"/>
                  </a:lnTo>
                  <a:lnTo>
                    <a:pt x="1987" y="3389"/>
                  </a:lnTo>
                  <a:lnTo>
                    <a:pt x="2176" y="3430"/>
                  </a:lnTo>
                  <a:lnTo>
                    <a:pt x="2207" y="3460"/>
                  </a:lnTo>
                  <a:lnTo>
                    <a:pt x="2239" y="3487"/>
                  </a:lnTo>
                  <a:lnTo>
                    <a:pt x="2273" y="3513"/>
                  </a:lnTo>
                  <a:lnTo>
                    <a:pt x="2309" y="3538"/>
                  </a:lnTo>
                  <a:lnTo>
                    <a:pt x="2345" y="3561"/>
                  </a:lnTo>
                  <a:lnTo>
                    <a:pt x="2383" y="3582"/>
                  </a:lnTo>
                  <a:lnTo>
                    <a:pt x="2422" y="3601"/>
                  </a:lnTo>
                  <a:lnTo>
                    <a:pt x="2462" y="3618"/>
                  </a:lnTo>
                  <a:lnTo>
                    <a:pt x="2503" y="3634"/>
                  </a:lnTo>
                  <a:lnTo>
                    <a:pt x="2545" y="3647"/>
                  </a:lnTo>
                  <a:lnTo>
                    <a:pt x="2587" y="3659"/>
                  </a:lnTo>
                  <a:lnTo>
                    <a:pt x="2630" y="3668"/>
                  </a:lnTo>
                  <a:lnTo>
                    <a:pt x="2674" y="3676"/>
                  </a:lnTo>
                  <a:lnTo>
                    <a:pt x="2718" y="3681"/>
                  </a:lnTo>
                  <a:lnTo>
                    <a:pt x="2762" y="3685"/>
                  </a:lnTo>
                  <a:lnTo>
                    <a:pt x="2806" y="3686"/>
                  </a:lnTo>
                  <a:lnTo>
                    <a:pt x="2850" y="3685"/>
                  </a:lnTo>
                  <a:lnTo>
                    <a:pt x="2894" y="3682"/>
                  </a:lnTo>
                  <a:lnTo>
                    <a:pt x="2938" y="3677"/>
                  </a:lnTo>
                  <a:lnTo>
                    <a:pt x="2982" y="3670"/>
                  </a:lnTo>
                  <a:lnTo>
                    <a:pt x="3025" y="3661"/>
                  </a:lnTo>
                  <a:lnTo>
                    <a:pt x="3068" y="3650"/>
                  </a:lnTo>
                  <a:lnTo>
                    <a:pt x="3110" y="3637"/>
                  </a:lnTo>
                  <a:lnTo>
                    <a:pt x="3151" y="3622"/>
                  </a:lnTo>
                  <a:lnTo>
                    <a:pt x="3191" y="3605"/>
                  </a:lnTo>
                  <a:lnTo>
                    <a:pt x="3230" y="3586"/>
                  </a:lnTo>
                  <a:lnTo>
                    <a:pt x="3268" y="3566"/>
                  </a:lnTo>
                  <a:lnTo>
                    <a:pt x="3305" y="3543"/>
                  </a:lnTo>
                  <a:lnTo>
                    <a:pt x="3341" y="3519"/>
                  </a:lnTo>
                  <a:lnTo>
                    <a:pt x="3375" y="3493"/>
                  </a:lnTo>
                  <a:lnTo>
                    <a:pt x="3408" y="3466"/>
                  </a:lnTo>
                  <a:lnTo>
                    <a:pt x="3439" y="3437"/>
                  </a:lnTo>
                  <a:lnTo>
                    <a:pt x="3468" y="3407"/>
                  </a:lnTo>
                  <a:lnTo>
                    <a:pt x="3496" y="3375"/>
                  </a:lnTo>
                  <a:lnTo>
                    <a:pt x="3522" y="3342"/>
                  </a:lnTo>
                  <a:lnTo>
                    <a:pt x="3546" y="3308"/>
                  </a:lnTo>
                  <a:lnTo>
                    <a:pt x="3568" y="3273"/>
                  </a:lnTo>
                  <a:lnTo>
                    <a:pt x="3588" y="3237"/>
                  </a:lnTo>
                  <a:lnTo>
                    <a:pt x="3606" y="3200"/>
                  </a:lnTo>
                  <a:lnTo>
                    <a:pt x="3718" y="3174"/>
                  </a:lnTo>
                  <a:lnTo>
                    <a:pt x="3753" y="3187"/>
                  </a:lnTo>
                  <a:lnTo>
                    <a:pt x="3788" y="3199"/>
                  </a:lnTo>
                  <a:lnTo>
                    <a:pt x="3824" y="3209"/>
                  </a:lnTo>
                  <a:lnTo>
                    <a:pt x="3861" y="3218"/>
                  </a:lnTo>
                  <a:lnTo>
                    <a:pt x="3898" y="3225"/>
                  </a:lnTo>
                  <a:lnTo>
                    <a:pt x="3935" y="3230"/>
                  </a:lnTo>
                  <a:lnTo>
                    <a:pt x="3972" y="3233"/>
                  </a:lnTo>
                  <a:lnTo>
                    <a:pt x="4010" y="3235"/>
                  </a:lnTo>
                  <a:lnTo>
                    <a:pt x="4047" y="3235"/>
                  </a:lnTo>
                  <a:lnTo>
                    <a:pt x="4085" y="3233"/>
                  </a:lnTo>
                  <a:lnTo>
                    <a:pt x="4122" y="3229"/>
                  </a:lnTo>
                  <a:lnTo>
                    <a:pt x="4160" y="3224"/>
                  </a:lnTo>
                  <a:lnTo>
                    <a:pt x="4196" y="3217"/>
                  </a:lnTo>
                  <a:lnTo>
                    <a:pt x="4233" y="3208"/>
                  </a:lnTo>
                  <a:lnTo>
                    <a:pt x="4269" y="3198"/>
                  </a:lnTo>
                  <a:lnTo>
                    <a:pt x="4304" y="3185"/>
                  </a:lnTo>
                  <a:lnTo>
                    <a:pt x="4338" y="3172"/>
                  </a:lnTo>
                  <a:lnTo>
                    <a:pt x="4372" y="3156"/>
                  </a:lnTo>
                  <a:lnTo>
                    <a:pt x="4405" y="3140"/>
                  </a:lnTo>
                  <a:lnTo>
                    <a:pt x="4436" y="3121"/>
                  </a:lnTo>
                  <a:lnTo>
                    <a:pt x="4467" y="3101"/>
                  </a:lnTo>
                  <a:lnTo>
                    <a:pt x="4497" y="3080"/>
                  </a:lnTo>
                  <a:lnTo>
                    <a:pt x="4525" y="3058"/>
                  </a:lnTo>
                  <a:lnTo>
                    <a:pt x="4552" y="3034"/>
                  </a:lnTo>
                  <a:lnTo>
                    <a:pt x="4578" y="3009"/>
                  </a:lnTo>
                  <a:lnTo>
                    <a:pt x="4602" y="2982"/>
                  </a:lnTo>
                  <a:lnTo>
                    <a:pt x="4625" y="2955"/>
                  </a:lnTo>
                  <a:lnTo>
                    <a:pt x="4646" y="2927"/>
                  </a:lnTo>
                  <a:lnTo>
                    <a:pt x="4665" y="2897"/>
                  </a:lnTo>
                  <a:lnTo>
                    <a:pt x="4683" y="2867"/>
                  </a:lnTo>
                  <a:lnTo>
                    <a:pt x="4699" y="2836"/>
                  </a:lnTo>
                  <a:lnTo>
                    <a:pt x="4714" y="2804"/>
                  </a:lnTo>
                  <a:lnTo>
                    <a:pt x="4726" y="2772"/>
                  </a:lnTo>
                  <a:lnTo>
                    <a:pt x="4737" y="2739"/>
                  </a:lnTo>
                  <a:lnTo>
                    <a:pt x="4746" y="2706"/>
                  </a:lnTo>
                  <a:lnTo>
                    <a:pt x="4753" y="2672"/>
                  </a:lnTo>
                  <a:lnTo>
                    <a:pt x="4758" y="2638"/>
                  </a:lnTo>
                  <a:lnTo>
                    <a:pt x="4762" y="2604"/>
                  </a:lnTo>
                  <a:lnTo>
                    <a:pt x="4763" y="2570"/>
                  </a:lnTo>
                  <a:lnTo>
                    <a:pt x="4729" y="2570"/>
                  </a:lnTo>
                  <a:lnTo>
                    <a:pt x="4773" y="2565"/>
                  </a:lnTo>
                  <a:lnTo>
                    <a:pt x="4816" y="2557"/>
                  </a:lnTo>
                  <a:lnTo>
                    <a:pt x="4858" y="2548"/>
                  </a:lnTo>
                  <a:lnTo>
                    <a:pt x="4900" y="2537"/>
                  </a:lnTo>
                  <a:lnTo>
                    <a:pt x="4941" y="2524"/>
                  </a:lnTo>
                  <a:lnTo>
                    <a:pt x="4981" y="2509"/>
                  </a:lnTo>
                  <a:lnTo>
                    <a:pt x="5021" y="2493"/>
                  </a:lnTo>
                  <a:lnTo>
                    <a:pt x="5060" y="2474"/>
                  </a:lnTo>
                  <a:lnTo>
                    <a:pt x="5097" y="2454"/>
                  </a:lnTo>
                  <a:lnTo>
                    <a:pt x="5133" y="2432"/>
                  </a:lnTo>
                  <a:lnTo>
                    <a:pt x="5168" y="2408"/>
                  </a:lnTo>
                  <a:lnTo>
                    <a:pt x="5202" y="2383"/>
                  </a:lnTo>
                  <a:lnTo>
                    <a:pt x="5234" y="2357"/>
                  </a:lnTo>
                  <a:lnTo>
                    <a:pt x="5265" y="2328"/>
                  </a:lnTo>
                  <a:lnTo>
                    <a:pt x="5294" y="2299"/>
                  </a:lnTo>
                  <a:lnTo>
                    <a:pt x="5322" y="2268"/>
                  </a:lnTo>
                  <a:lnTo>
                    <a:pt x="5348" y="2236"/>
                  </a:lnTo>
                  <a:lnTo>
                    <a:pt x="5372" y="2203"/>
                  </a:lnTo>
                  <a:lnTo>
                    <a:pt x="5394" y="2169"/>
                  </a:lnTo>
                  <a:lnTo>
                    <a:pt x="5414" y="2133"/>
                  </a:lnTo>
                  <a:lnTo>
                    <a:pt x="5432" y="2097"/>
                  </a:lnTo>
                  <a:lnTo>
                    <a:pt x="5448" y="2060"/>
                  </a:lnTo>
                  <a:lnTo>
                    <a:pt x="5462" y="2023"/>
                  </a:lnTo>
                  <a:lnTo>
                    <a:pt x="5474" y="1985"/>
                  </a:lnTo>
                  <a:lnTo>
                    <a:pt x="5484" y="1946"/>
                  </a:lnTo>
                  <a:lnTo>
                    <a:pt x="5492" y="1907"/>
                  </a:lnTo>
                  <a:lnTo>
                    <a:pt x="5497" y="1867"/>
                  </a:lnTo>
                  <a:lnTo>
                    <a:pt x="5501" y="1828"/>
                  </a:lnTo>
                  <a:lnTo>
                    <a:pt x="5502" y="1788"/>
                  </a:lnTo>
                  <a:lnTo>
                    <a:pt x="5501" y="1748"/>
                  </a:lnTo>
                  <a:lnTo>
                    <a:pt x="5498" y="1709"/>
                  </a:lnTo>
                  <a:lnTo>
                    <a:pt x="5492" y="1669"/>
                  </a:lnTo>
                  <a:lnTo>
                    <a:pt x="5485" y="1630"/>
                  </a:lnTo>
                  <a:lnTo>
                    <a:pt x="5475" y="1591"/>
                  </a:lnTo>
                  <a:lnTo>
                    <a:pt x="5463" y="1553"/>
                  </a:lnTo>
                  <a:lnTo>
                    <a:pt x="5449" y="1516"/>
                  </a:lnTo>
                  <a:lnTo>
                    <a:pt x="5433" y="1479"/>
                  </a:lnTo>
                  <a:lnTo>
                    <a:pt x="5415" y="1442"/>
                  </a:lnTo>
                  <a:lnTo>
                    <a:pt x="5395" y="1407"/>
                  </a:lnTo>
                  <a:lnTo>
                    <a:pt x="5373" y="1373"/>
                  </a:lnTo>
                  <a:lnTo>
                    <a:pt x="5349" y="1340"/>
                  </a:lnTo>
                  <a:lnTo>
                    <a:pt x="5323" y="1307"/>
                  </a:lnTo>
                  <a:lnTo>
                    <a:pt x="5296" y="1277"/>
                  </a:lnTo>
                  <a:lnTo>
                    <a:pt x="5267" y="1247"/>
                  </a:lnTo>
                  <a:lnTo>
                    <a:pt x="5236" y="1219"/>
                  </a:lnTo>
                  <a:lnTo>
                    <a:pt x="5284" y="1376"/>
                  </a:lnTo>
                  <a:lnTo>
                    <a:pt x="5300" y="1348"/>
                  </a:lnTo>
                  <a:lnTo>
                    <a:pt x="5316" y="1319"/>
                  </a:lnTo>
                  <a:lnTo>
                    <a:pt x="5329" y="1290"/>
                  </a:lnTo>
                  <a:lnTo>
                    <a:pt x="5341" y="1260"/>
                  </a:lnTo>
                  <a:lnTo>
                    <a:pt x="5351" y="1229"/>
                  </a:lnTo>
                  <a:lnTo>
                    <a:pt x="5360" y="1198"/>
                  </a:lnTo>
                  <a:lnTo>
                    <a:pt x="5366" y="1167"/>
                  </a:lnTo>
                  <a:lnTo>
                    <a:pt x="5371" y="1135"/>
                  </a:lnTo>
                  <a:lnTo>
                    <a:pt x="5375" y="1104"/>
                  </a:lnTo>
                  <a:lnTo>
                    <a:pt x="5376" y="1072"/>
                  </a:lnTo>
                  <a:lnTo>
                    <a:pt x="5376" y="1040"/>
                  </a:lnTo>
                  <a:lnTo>
                    <a:pt x="5373" y="1008"/>
                  </a:lnTo>
                  <a:lnTo>
                    <a:pt x="5369" y="976"/>
                  </a:lnTo>
                  <a:lnTo>
                    <a:pt x="5364" y="945"/>
                  </a:lnTo>
                  <a:lnTo>
                    <a:pt x="5356" y="914"/>
                  </a:lnTo>
                  <a:lnTo>
                    <a:pt x="5347" y="883"/>
                  </a:lnTo>
                  <a:lnTo>
                    <a:pt x="5336" y="853"/>
                  </a:lnTo>
                  <a:lnTo>
                    <a:pt x="5323" y="823"/>
                  </a:lnTo>
                  <a:lnTo>
                    <a:pt x="5309" y="794"/>
                  </a:lnTo>
                  <a:lnTo>
                    <a:pt x="5293" y="766"/>
                  </a:lnTo>
                  <a:lnTo>
                    <a:pt x="5276" y="738"/>
                  </a:lnTo>
                  <a:lnTo>
                    <a:pt x="5257" y="711"/>
                  </a:lnTo>
                  <a:lnTo>
                    <a:pt x="5236" y="685"/>
                  </a:lnTo>
                  <a:lnTo>
                    <a:pt x="5214" y="661"/>
                  </a:lnTo>
                  <a:lnTo>
                    <a:pt x="5191" y="637"/>
                  </a:lnTo>
                  <a:lnTo>
                    <a:pt x="5166" y="614"/>
                  </a:lnTo>
                  <a:lnTo>
                    <a:pt x="5141" y="593"/>
                  </a:lnTo>
                  <a:lnTo>
                    <a:pt x="5114" y="573"/>
                  </a:lnTo>
                  <a:lnTo>
                    <a:pt x="5086" y="554"/>
                  </a:lnTo>
                  <a:lnTo>
                    <a:pt x="5056" y="536"/>
                  </a:lnTo>
                  <a:lnTo>
                    <a:pt x="5026" y="520"/>
                  </a:lnTo>
                  <a:lnTo>
                    <a:pt x="4995" y="505"/>
                  </a:lnTo>
                  <a:lnTo>
                    <a:pt x="4964" y="492"/>
                  </a:lnTo>
                  <a:lnTo>
                    <a:pt x="4931" y="480"/>
                  </a:lnTo>
                  <a:lnTo>
                    <a:pt x="4898" y="470"/>
                  </a:lnTo>
                  <a:lnTo>
                    <a:pt x="4865" y="461"/>
                  </a:lnTo>
                  <a:lnTo>
                    <a:pt x="4831" y="454"/>
                  </a:lnTo>
                  <a:lnTo>
                    <a:pt x="4871" y="429"/>
                  </a:lnTo>
                  <a:lnTo>
                    <a:pt x="4863" y="401"/>
                  </a:lnTo>
                  <a:lnTo>
                    <a:pt x="4853" y="374"/>
                  </a:lnTo>
                  <a:lnTo>
                    <a:pt x="4842" y="347"/>
                  </a:lnTo>
                  <a:lnTo>
                    <a:pt x="4829" y="321"/>
                  </a:lnTo>
                  <a:lnTo>
                    <a:pt x="4814" y="295"/>
                  </a:lnTo>
                  <a:lnTo>
                    <a:pt x="4799" y="270"/>
                  </a:lnTo>
                  <a:lnTo>
                    <a:pt x="4781" y="246"/>
                  </a:lnTo>
                  <a:lnTo>
                    <a:pt x="4763" y="222"/>
                  </a:lnTo>
                  <a:lnTo>
                    <a:pt x="4743" y="200"/>
                  </a:lnTo>
                  <a:lnTo>
                    <a:pt x="4722" y="178"/>
                  </a:lnTo>
                  <a:lnTo>
                    <a:pt x="4700" y="158"/>
                  </a:lnTo>
                  <a:lnTo>
                    <a:pt x="4677" y="138"/>
                  </a:lnTo>
                  <a:lnTo>
                    <a:pt x="4652" y="120"/>
                  </a:lnTo>
                  <a:lnTo>
                    <a:pt x="4627" y="103"/>
                  </a:lnTo>
                  <a:lnTo>
                    <a:pt x="4601" y="87"/>
                  </a:lnTo>
                  <a:lnTo>
                    <a:pt x="4573" y="72"/>
                  </a:lnTo>
                  <a:lnTo>
                    <a:pt x="4545" y="59"/>
                  </a:lnTo>
                  <a:lnTo>
                    <a:pt x="4517" y="47"/>
                  </a:lnTo>
                  <a:lnTo>
                    <a:pt x="4487" y="36"/>
                  </a:lnTo>
                  <a:lnTo>
                    <a:pt x="4458" y="26"/>
                  </a:lnTo>
                  <a:lnTo>
                    <a:pt x="4427" y="18"/>
                  </a:lnTo>
                  <a:lnTo>
                    <a:pt x="4396" y="12"/>
                  </a:lnTo>
                  <a:lnTo>
                    <a:pt x="4365" y="7"/>
                  </a:lnTo>
                  <a:lnTo>
                    <a:pt x="4334" y="3"/>
                  </a:lnTo>
                  <a:lnTo>
                    <a:pt x="4302" y="1"/>
                  </a:lnTo>
                  <a:lnTo>
                    <a:pt x="4271" y="0"/>
                  </a:lnTo>
                  <a:lnTo>
                    <a:pt x="4239" y="1"/>
                  </a:lnTo>
                  <a:lnTo>
                    <a:pt x="4208" y="3"/>
                  </a:lnTo>
                  <a:lnTo>
                    <a:pt x="4176" y="7"/>
                  </a:lnTo>
                  <a:lnTo>
                    <a:pt x="4145" y="12"/>
                  </a:lnTo>
                  <a:lnTo>
                    <a:pt x="4114" y="18"/>
                  </a:lnTo>
                  <a:lnTo>
                    <a:pt x="4084" y="26"/>
                  </a:lnTo>
                  <a:lnTo>
                    <a:pt x="4054" y="35"/>
                  </a:lnTo>
                  <a:lnTo>
                    <a:pt x="4025" y="46"/>
                  </a:lnTo>
                  <a:lnTo>
                    <a:pt x="3996" y="58"/>
                  </a:lnTo>
                  <a:lnTo>
                    <a:pt x="3968" y="72"/>
                  </a:lnTo>
                  <a:lnTo>
                    <a:pt x="3941" y="86"/>
                  </a:lnTo>
                  <a:lnTo>
                    <a:pt x="3914" y="102"/>
                  </a:lnTo>
                  <a:lnTo>
                    <a:pt x="3889" y="119"/>
                  </a:lnTo>
                  <a:lnTo>
                    <a:pt x="3864" y="138"/>
                  </a:lnTo>
                  <a:lnTo>
                    <a:pt x="3742" y="142"/>
                  </a:lnTo>
                  <a:lnTo>
                    <a:pt x="3721" y="124"/>
                  </a:lnTo>
                  <a:lnTo>
                    <a:pt x="3699" y="108"/>
                  </a:lnTo>
                  <a:lnTo>
                    <a:pt x="3676" y="92"/>
                  </a:lnTo>
                  <a:lnTo>
                    <a:pt x="3652" y="78"/>
                  </a:lnTo>
                  <a:lnTo>
                    <a:pt x="3628" y="65"/>
                  </a:lnTo>
                  <a:lnTo>
                    <a:pt x="3603" y="53"/>
                  </a:lnTo>
                  <a:lnTo>
                    <a:pt x="3577" y="42"/>
                  </a:lnTo>
                  <a:lnTo>
                    <a:pt x="3551" y="32"/>
                  </a:lnTo>
                  <a:lnTo>
                    <a:pt x="3524" y="24"/>
                  </a:lnTo>
                  <a:lnTo>
                    <a:pt x="3496" y="16"/>
                  </a:lnTo>
                  <a:lnTo>
                    <a:pt x="3469" y="10"/>
                  </a:lnTo>
                  <a:lnTo>
                    <a:pt x="3441" y="6"/>
                  </a:lnTo>
                  <a:lnTo>
                    <a:pt x="3412" y="3"/>
                  </a:lnTo>
                  <a:lnTo>
                    <a:pt x="3384" y="1"/>
                  </a:lnTo>
                  <a:lnTo>
                    <a:pt x="3355" y="0"/>
                  </a:lnTo>
                  <a:lnTo>
                    <a:pt x="3327" y="1"/>
                  </a:lnTo>
                  <a:lnTo>
                    <a:pt x="3299" y="3"/>
                  </a:lnTo>
                  <a:lnTo>
                    <a:pt x="3270" y="6"/>
                  </a:lnTo>
                  <a:lnTo>
                    <a:pt x="3242" y="11"/>
                  </a:lnTo>
                  <a:lnTo>
                    <a:pt x="3215" y="17"/>
                  </a:lnTo>
                  <a:lnTo>
                    <a:pt x="3187" y="24"/>
                  </a:lnTo>
                  <a:lnTo>
                    <a:pt x="3160" y="32"/>
                  </a:lnTo>
                  <a:lnTo>
                    <a:pt x="3134" y="42"/>
                  </a:lnTo>
                  <a:lnTo>
                    <a:pt x="3108" y="53"/>
                  </a:lnTo>
                  <a:lnTo>
                    <a:pt x="3083" y="65"/>
                  </a:lnTo>
                  <a:lnTo>
                    <a:pt x="3059" y="79"/>
                  </a:lnTo>
                  <a:lnTo>
                    <a:pt x="3035" y="93"/>
                  </a:lnTo>
                  <a:lnTo>
                    <a:pt x="3012" y="109"/>
                  </a:lnTo>
                  <a:lnTo>
                    <a:pt x="2990" y="125"/>
                  </a:lnTo>
                  <a:lnTo>
                    <a:pt x="2969" y="143"/>
                  </a:lnTo>
                  <a:lnTo>
                    <a:pt x="2949" y="161"/>
                  </a:lnTo>
                  <a:lnTo>
                    <a:pt x="2930" y="181"/>
                  </a:lnTo>
                  <a:lnTo>
                    <a:pt x="2913" y="201"/>
                  </a:lnTo>
                  <a:lnTo>
                    <a:pt x="2896" y="222"/>
                  </a:lnTo>
                  <a:lnTo>
                    <a:pt x="2782" y="228"/>
                  </a:lnTo>
                  <a:lnTo>
                    <a:pt x="2754" y="210"/>
                  </a:lnTo>
                  <a:lnTo>
                    <a:pt x="2724" y="194"/>
                  </a:lnTo>
                  <a:lnTo>
                    <a:pt x="2694" y="178"/>
                  </a:lnTo>
                  <a:lnTo>
                    <a:pt x="2663" y="165"/>
                  </a:lnTo>
                  <a:lnTo>
                    <a:pt x="2631" y="153"/>
                  </a:lnTo>
                  <a:lnTo>
                    <a:pt x="2599" y="142"/>
                  </a:lnTo>
                  <a:lnTo>
                    <a:pt x="2566" y="133"/>
                  </a:lnTo>
                  <a:lnTo>
                    <a:pt x="2533" y="125"/>
                  </a:lnTo>
                  <a:lnTo>
                    <a:pt x="2499" y="119"/>
                  </a:lnTo>
                  <a:lnTo>
                    <a:pt x="2465" y="114"/>
                  </a:lnTo>
                  <a:lnTo>
                    <a:pt x="2431" y="111"/>
                  </a:lnTo>
                  <a:lnTo>
                    <a:pt x="2396" y="110"/>
                  </a:lnTo>
                  <a:lnTo>
                    <a:pt x="2362" y="110"/>
                  </a:lnTo>
                  <a:lnTo>
                    <a:pt x="2327" y="112"/>
                  </a:lnTo>
                  <a:lnTo>
                    <a:pt x="2293" y="116"/>
                  </a:lnTo>
                  <a:lnTo>
                    <a:pt x="2259" y="121"/>
                  </a:lnTo>
                  <a:lnTo>
                    <a:pt x="2225" y="127"/>
                  </a:lnTo>
                  <a:lnTo>
                    <a:pt x="2192" y="135"/>
                  </a:lnTo>
                  <a:lnTo>
                    <a:pt x="2159" y="145"/>
                  </a:lnTo>
                  <a:lnTo>
                    <a:pt x="2127" y="156"/>
                  </a:lnTo>
                  <a:lnTo>
                    <a:pt x="2096" y="169"/>
                  </a:lnTo>
                  <a:lnTo>
                    <a:pt x="2065" y="183"/>
                  </a:lnTo>
                  <a:lnTo>
                    <a:pt x="2035" y="198"/>
                  </a:lnTo>
                  <a:lnTo>
                    <a:pt x="2006" y="215"/>
                  </a:lnTo>
                  <a:lnTo>
                    <a:pt x="1978" y="233"/>
                  </a:lnTo>
                  <a:lnTo>
                    <a:pt x="1951" y="253"/>
                  </a:lnTo>
                  <a:lnTo>
                    <a:pt x="1925" y="273"/>
                  </a:lnTo>
                  <a:lnTo>
                    <a:pt x="1900" y="295"/>
                  </a:lnTo>
                  <a:lnTo>
                    <a:pt x="1876" y="318"/>
                  </a:lnTo>
                  <a:lnTo>
                    <a:pt x="1854" y="342"/>
                  </a:lnTo>
                  <a:lnTo>
                    <a:pt x="1833" y="367"/>
                  </a:lnTo>
                  <a:lnTo>
                    <a:pt x="1687" y="400"/>
                  </a:lnTo>
                  <a:lnTo>
                    <a:pt x="1647" y="385"/>
                  </a:lnTo>
                  <a:lnTo>
                    <a:pt x="1606" y="372"/>
                  </a:lnTo>
                  <a:lnTo>
                    <a:pt x="1565" y="361"/>
                  </a:lnTo>
                  <a:lnTo>
                    <a:pt x="1522" y="352"/>
                  </a:lnTo>
                  <a:lnTo>
                    <a:pt x="1480" y="345"/>
                  </a:lnTo>
                  <a:lnTo>
                    <a:pt x="1437" y="340"/>
                  </a:lnTo>
                  <a:lnTo>
                    <a:pt x="1394" y="337"/>
                  </a:lnTo>
                  <a:lnTo>
                    <a:pt x="1351" y="336"/>
                  </a:lnTo>
                  <a:lnTo>
                    <a:pt x="1308" y="337"/>
                  </a:lnTo>
                  <a:lnTo>
                    <a:pt x="1265" y="340"/>
                  </a:lnTo>
                  <a:lnTo>
                    <a:pt x="1222" y="344"/>
                  </a:lnTo>
                  <a:lnTo>
                    <a:pt x="1179" y="351"/>
                  </a:lnTo>
                  <a:lnTo>
                    <a:pt x="1137" y="360"/>
                  </a:lnTo>
                  <a:lnTo>
                    <a:pt x="1095" y="370"/>
                  </a:lnTo>
                  <a:lnTo>
                    <a:pt x="1054" y="383"/>
                  </a:lnTo>
                  <a:lnTo>
                    <a:pt x="1014" y="397"/>
                  </a:lnTo>
                  <a:lnTo>
                    <a:pt x="975" y="413"/>
                  </a:lnTo>
                  <a:lnTo>
                    <a:pt x="936" y="431"/>
                  </a:lnTo>
                  <a:lnTo>
                    <a:pt x="899" y="451"/>
                  </a:lnTo>
                  <a:lnTo>
                    <a:pt x="862" y="472"/>
                  </a:lnTo>
                  <a:lnTo>
                    <a:pt x="827" y="495"/>
                  </a:lnTo>
                  <a:lnTo>
                    <a:pt x="794" y="520"/>
                  </a:lnTo>
                  <a:lnTo>
                    <a:pt x="761" y="546"/>
                  </a:lnTo>
                  <a:lnTo>
                    <a:pt x="730" y="574"/>
                  </a:lnTo>
                  <a:lnTo>
                    <a:pt x="701" y="602"/>
                  </a:lnTo>
                  <a:lnTo>
                    <a:pt x="673" y="633"/>
                  </a:lnTo>
                  <a:lnTo>
                    <a:pt x="647" y="664"/>
                  </a:lnTo>
                  <a:lnTo>
                    <a:pt x="623" y="697"/>
                  </a:lnTo>
                  <a:lnTo>
                    <a:pt x="601" y="730"/>
                  </a:lnTo>
                  <a:lnTo>
                    <a:pt x="580" y="765"/>
                  </a:lnTo>
                  <a:lnTo>
                    <a:pt x="562" y="801"/>
                  </a:lnTo>
                  <a:lnTo>
                    <a:pt x="545" y="837"/>
                  </a:lnTo>
                  <a:lnTo>
                    <a:pt x="530" y="874"/>
                  </a:lnTo>
                  <a:lnTo>
                    <a:pt x="518" y="912"/>
                  </a:lnTo>
                  <a:lnTo>
                    <a:pt x="507" y="950"/>
                  </a:lnTo>
                  <a:lnTo>
                    <a:pt x="499" y="989"/>
                  </a:lnTo>
                  <a:lnTo>
                    <a:pt x="493" y="1028"/>
                  </a:lnTo>
                  <a:lnTo>
                    <a:pt x="489" y="1067"/>
                  </a:lnTo>
                  <a:lnTo>
                    <a:pt x="487" y="1106"/>
                  </a:lnTo>
                  <a:lnTo>
                    <a:pt x="487" y="1146"/>
                  </a:lnTo>
                  <a:lnTo>
                    <a:pt x="490" y="1185"/>
                  </a:lnTo>
                  <a:lnTo>
                    <a:pt x="495" y="1224"/>
                  </a:lnTo>
                  <a:lnTo>
                    <a:pt x="501" y="1263"/>
                  </a:lnTo>
                  <a:lnTo>
                    <a:pt x="511" y="12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87520" y="3456360"/>
              <a:ext cx="88560" cy="15480"/>
            </a:xfrm>
            <a:custGeom>
              <a:avLst/>
              <a:gdLst/>
              <a:ahLst/>
              <a:rect l="l" t="t" r="r" b="b"/>
              <a:pathLst>
                <a:path w="249" h="42">
                  <a:moveTo>
                    <a:pt x="0" y="0"/>
                  </a:moveTo>
                  <a:lnTo>
                    <a:pt x="16" y="6"/>
                  </a:lnTo>
                  <a:lnTo>
                    <a:pt x="31" y="12"/>
                  </a:lnTo>
                  <a:lnTo>
                    <a:pt x="48" y="17"/>
                  </a:lnTo>
                  <a:lnTo>
                    <a:pt x="64" y="21"/>
                  </a:lnTo>
                  <a:lnTo>
                    <a:pt x="80" y="25"/>
                  </a:lnTo>
                  <a:lnTo>
                    <a:pt x="97" y="29"/>
                  </a:lnTo>
                  <a:lnTo>
                    <a:pt x="113" y="32"/>
                  </a:lnTo>
                  <a:lnTo>
                    <a:pt x="130" y="35"/>
                  </a:lnTo>
                  <a:lnTo>
                    <a:pt x="147" y="37"/>
                  </a:lnTo>
                  <a:lnTo>
                    <a:pt x="164" y="39"/>
                  </a:lnTo>
                  <a:lnTo>
                    <a:pt x="181" y="40"/>
                  </a:lnTo>
                  <a:lnTo>
                    <a:pt x="198" y="41"/>
                  </a:lnTo>
                  <a:lnTo>
                    <a:pt x="215" y="41"/>
                  </a:lnTo>
                  <a:lnTo>
                    <a:pt x="232" y="41"/>
                  </a:lnTo>
                  <a:lnTo>
                    <a:pt x="248" y="4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27200" y="3742920"/>
              <a:ext cx="39240" cy="612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0" y="18"/>
                  </a:moveTo>
                  <a:lnTo>
                    <a:pt x="7" y="17"/>
                  </a:lnTo>
                  <a:lnTo>
                    <a:pt x="15" y="17"/>
                  </a:lnTo>
                  <a:lnTo>
                    <a:pt x="22" y="16"/>
                  </a:lnTo>
                  <a:lnTo>
                    <a:pt x="29" y="15"/>
                  </a:lnTo>
                  <a:lnTo>
                    <a:pt x="36" y="14"/>
                  </a:lnTo>
                  <a:lnTo>
                    <a:pt x="44" y="13"/>
                  </a:lnTo>
                  <a:lnTo>
                    <a:pt x="51" y="12"/>
                  </a:lnTo>
                  <a:lnTo>
                    <a:pt x="58" y="11"/>
                  </a:lnTo>
                  <a:lnTo>
                    <a:pt x="65" y="9"/>
                  </a:lnTo>
                  <a:lnTo>
                    <a:pt x="73" y="8"/>
                  </a:lnTo>
                  <a:lnTo>
                    <a:pt x="80" y="6"/>
                  </a:lnTo>
                  <a:lnTo>
                    <a:pt x="87" y="5"/>
                  </a:lnTo>
                  <a:lnTo>
                    <a:pt x="94" y="3"/>
                  </a:lnTo>
                  <a:lnTo>
                    <a:pt x="101" y="1"/>
                  </a:lnTo>
                  <a:lnTo>
                    <a:pt x="108" y="0"/>
                  </a:lnTo>
                  <a:lnTo>
                    <a:pt x="0" y="1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06360" y="3843000"/>
              <a:ext cx="43920" cy="56880"/>
            </a:xfrm>
            <a:custGeom>
              <a:avLst/>
              <a:gdLst/>
              <a:ahLst/>
              <a:rect l="l" t="t" r="r" b="b"/>
              <a:pathLst>
                <a:path w="123" h="158">
                  <a:moveTo>
                    <a:pt x="0" y="0"/>
                  </a:moveTo>
                  <a:lnTo>
                    <a:pt x="7" y="11"/>
                  </a:lnTo>
                  <a:lnTo>
                    <a:pt x="14" y="23"/>
                  </a:lnTo>
                  <a:lnTo>
                    <a:pt x="21" y="34"/>
                  </a:lnTo>
                  <a:lnTo>
                    <a:pt x="28" y="45"/>
                  </a:lnTo>
                  <a:lnTo>
                    <a:pt x="36" y="56"/>
                  </a:lnTo>
                  <a:lnTo>
                    <a:pt x="44" y="66"/>
                  </a:lnTo>
                  <a:lnTo>
                    <a:pt x="52" y="77"/>
                  </a:lnTo>
                  <a:lnTo>
                    <a:pt x="60" y="87"/>
                  </a:lnTo>
                  <a:lnTo>
                    <a:pt x="68" y="98"/>
                  </a:lnTo>
                  <a:lnTo>
                    <a:pt x="77" y="108"/>
                  </a:lnTo>
                  <a:lnTo>
                    <a:pt x="86" y="118"/>
                  </a:lnTo>
                  <a:lnTo>
                    <a:pt x="95" y="128"/>
                  </a:lnTo>
                  <a:lnTo>
                    <a:pt x="104" y="138"/>
                  </a:lnTo>
                  <a:lnTo>
                    <a:pt x="113" y="148"/>
                  </a:lnTo>
                  <a:lnTo>
                    <a:pt x="122" y="15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164720" y="3741480"/>
              <a:ext cx="21960" cy="75600"/>
            </a:xfrm>
            <a:custGeom>
              <a:avLst/>
              <a:gdLst/>
              <a:ahLst/>
              <a:rect l="l" t="t" r="r" b="b"/>
              <a:pathLst>
                <a:path w="61" h="213">
                  <a:moveTo>
                    <a:pt x="0" y="212"/>
                  </a:moveTo>
                  <a:lnTo>
                    <a:pt x="6" y="199"/>
                  </a:lnTo>
                  <a:lnTo>
                    <a:pt x="11" y="185"/>
                  </a:lnTo>
                  <a:lnTo>
                    <a:pt x="17" y="171"/>
                  </a:lnTo>
                  <a:lnTo>
                    <a:pt x="22" y="157"/>
                  </a:lnTo>
                  <a:lnTo>
                    <a:pt x="27" y="143"/>
                  </a:lnTo>
                  <a:lnTo>
                    <a:pt x="31" y="129"/>
                  </a:lnTo>
                  <a:lnTo>
                    <a:pt x="36" y="115"/>
                  </a:lnTo>
                  <a:lnTo>
                    <a:pt x="40" y="101"/>
                  </a:lnTo>
                  <a:lnTo>
                    <a:pt x="43" y="87"/>
                  </a:lnTo>
                  <a:lnTo>
                    <a:pt x="47" y="72"/>
                  </a:lnTo>
                  <a:lnTo>
                    <a:pt x="50" y="58"/>
                  </a:lnTo>
                  <a:lnTo>
                    <a:pt x="53" y="44"/>
                  </a:lnTo>
                  <a:lnTo>
                    <a:pt x="55" y="29"/>
                  </a:lnTo>
                  <a:lnTo>
                    <a:pt x="58" y="15"/>
                  </a:lnTo>
                  <a:lnTo>
                    <a:pt x="60" y="0"/>
                  </a:lnTo>
                  <a:lnTo>
                    <a:pt x="0" y="21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5560" y="3360960"/>
              <a:ext cx="176040" cy="230040"/>
            </a:xfrm>
            <a:custGeom>
              <a:avLst/>
              <a:gdLst/>
              <a:ahLst/>
              <a:rect l="l" t="t" r="r" b="b"/>
              <a:pathLst>
                <a:path w="489" h="641">
                  <a:moveTo>
                    <a:pt x="488" y="640"/>
                  </a:moveTo>
                  <a:lnTo>
                    <a:pt x="487" y="605"/>
                  </a:lnTo>
                  <a:lnTo>
                    <a:pt x="485" y="571"/>
                  </a:lnTo>
                  <a:lnTo>
                    <a:pt x="480" y="536"/>
                  </a:lnTo>
                  <a:lnTo>
                    <a:pt x="474" y="502"/>
                  </a:lnTo>
                  <a:lnTo>
                    <a:pt x="466" y="468"/>
                  </a:lnTo>
                  <a:lnTo>
                    <a:pt x="455" y="435"/>
                  </a:lnTo>
                  <a:lnTo>
                    <a:pt x="443" y="402"/>
                  </a:lnTo>
                  <a:lnTo>
                    <a:pt x="429" y="370"/>
                  </a:lnTo>
                  <a:lnTo>
                    <a:pt x="413" y="338"/>
                  </a:lnTo>
                  <a:lnTo>
                    <a:pt x="396" y="308"/>
                  </a:lnTo>
                  <a:lnTo>
                    <a:pt x="377" y="278"/>
                  </a:lnTo>
                  <a:lnTo>
                    <a:pt x="356" y="249"/>
                  </a:lnTo>
                  <a:lnTo>
                    <a:pt x="333" y="221"/>
                  </a:lnTo>
                  <a:lnTo>
                    <a:pt x="309" y="194"/>
                  </a:lnTo>
                  <a:lnTo>
                    <a:pt x="284" y="169"/>
                  </a:lnTo>
                  <a:lnTo>
                    <a:pt x="257" y="144"/>
                  </a:lnTo>
                  <a:lnTo>
                    <a:pt x="228" y="121"/>
                  </a:lnTo>
                  <a:lnTo>
                    <a:pt x="199" y="99"/>
                  </a:lnTo>
                  <a:lnTo>
                    <a:pt x="168" y="79"/>
                  </a:lnTo>
                  <a:lnTo>
                    <a:pt x="136" y="60"/>
                  </a:lnTo>
                  <a:lnTo>
                    <a:pt x="103" y="43"/>
                  </a:lnTo>
                  <a:lnTo>
                    <a:pt x="70" y="27"/>
                  </a:lnTo>
                  <a:lnTo>
                    <a:pt x="35" y="13"/>
                  </a:lnTo>
                  <a:lnTo>
                    <a:pt x="0" y="0"/>
                  </a:lnTo>
                  <a:lnTo>
                    <a:pt x="488" y="64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86720" y="3161520"/>
              <a:ext cx="82080" cy="7740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0" y="214"/>
                  </a:moveTo>
                  <a:lnTo>
                    <a:pt x="19" y="203"/>
                  </a:lnTo>
                  <a:lnTo>
                    <a:pt x="37" y="192"/>
                  </a:lnTo>
                  <a:lnTo>
                    <a:pt x="54" y="180"/>
                  </a:lnTo>
                  <a:lnTo>
                    <a:pt x="72" y="167"/>
                  </a:lnTo>
                  <a:lnTo>
                    <a:pt x="88" y="154"/>
                  </a:lnTo>
                  <a:lnTo>
                    <a:pt x="105" y="141"/>
                  </a:lnTo>
                  <a:lnTo>
                    <a:pt x="121" y="127"/>
                  </a:lnTo>
                  <a:lnTo>
                    <a:pt x="136" y="112"/>
                  </a:lnTo>
                  <a:lnTo>
                    <a:pt x="151" y="97"/>
                  </a:lnTo>
                  <a:lnTo>
                    <a:pt x="165" y="82"/>
                  </a:lnTo>
                  <a:lnTo>
                    <a:pt x="179" y="66"/>
                  </a:lnTo>
                  <a:lnTo>
                    <a:pt x="192" y="50"/>
                  </a:lnTo>
                  <a:lnTo>
                    <a:pt x="204" y="34"/>
                  </a:lnTo>
                  <a:lnTo>
                    <a:pt x="216" y="17"/>
                  </a:lnTo>
                  <a:lnTo>
                    <a:pt x="228" y="0"/>
                  </a:lnTo>
                  <a:lnTo>
                    <a:pt x="0" y="2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19760" y="2820600"/>
              <a:ext cx="6120" cy="51840"/>
            </a:xfrm>
            <a:custGeom>
              <a:avLst/>
              <a:gdLst/>
              <a:ahLst/>
              <a:rect l="l" t="t" r="r" b="b"/>
              <a:pathLst>
                <a:path w="19" h="146">
                  <a:moveTo>
                    <a:pt x="18" y="145"/>
                  </a:moveTo>
                  <a:lnTo>
                    <a:pt x="18" y="135"/>
                  </a:lnTo>
                  <a:lnTo>
                    <a:pt x="18" y="125"/>
                  </a:lnTo>
                  <a:lnTo>
                    <a:pt x="18" y="115"/>
                  </a:lnTo>
                  <a:lnTo>
                    <a:pt x="17" y="106"/>
                  </a:lnTo>
                  <a:lnTo>
                    <a:pt x="17" y="96"/>
                  </a:lnTo>
                  <a:lnTo>
                    <a:pt x="16" y="86"/>
                  </a:lnTo>
                  <a:lnTo>
                    <a:pt x="15" y="76"/>
                  </a:lnTo>
                  <a:lnTo>
                    <a:pt x="14" y="67"/>
                  </a:lnTo>
                  <a:lnTo>
                    <a:pt x="12" y="57"/>
                  </a:lnTo>
                  <a:lnTo>
                    <a:pt x="11" y="47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5" y="19"/>
                  </a:lnTo>
                  <a:lnTo>
                    <a:pt x="3" y="9"/>
                  </a:lnTo>
                  <a:lnTo>
                    <a:pt x="0" y="0"/>
                  </a:lnTo>
                  <a:lnTo>
                    <a:pt x="18" y="145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212240" y="2715840"/>
              <a:ext cx="45720" cy="48600"/>
            </a:xfrm>
            <a:custGeom>
              <a:avLst/>
              <a:gdLst/>
              <a:ahLst/>
              <a:rect l="l" t="t" r="r" b="b"/>
              <a:pathLst>
                <a:path w="127" h="138">
                  <a:moveTo>
                    <a:pt x="126" y="0"/>
                  </a:moveTo>
                  <a:lnTo>
                    <a:pt x="117" y="8"/>
                  </a:lnTo>
                  <a:lnTo>
                    <a:pt x="107" y="16"/>
                  </a:lnTo>
                  <a:lnTo>
                    <a:pt x="97" y="24"/>
                  </a:lnTo>
                  <a:lnTo>
                    <a:pt x="88" y="33"/>
                  </a:lnTo>
                  <a:lnTo>
                    <a:pt x="79" y="41"/>
                  </a:lnTo>
                  <a:lnTo>
                    <a:pt x="70" y="50"/>
                  </a:lnTo>
                  <a:lnTo>
                    <a:pt x="62" y="59"/>
                  </a:lnTo>
                  <a:lnTo>
                    <a:pt x="53" y="68"/>
                  </a:lnTo>
                  <a:lnTo>
                    <a:pt x="45" y="78"/>
                  </a:lnTo>
                  <a:lnTo>
                    <a:pt x="37" y="87"/>
                  </a:lnTo>
                  <a:lnTo>
                    <a:pt x="29" y="97"/>
                  </a:lnTo>
                  <a:lnTo>
                    <a:pt x="22" y="106"/>
                  </a:lnTo>
                  <a:lnTo>
                    <a:pt x="14" y="116"/>
                  </a:lnTo>
                  <a:lnTo>
                    <a:pt x="7" y="126"/>
                  </a:lnTo>
                  <a:lnTo>
                    <a:pt x="0" y="137"/>
                  </a:lnTo>
                  <a:lnTo>
                    <a:pt x="126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2120" y="2745720"/>
              <a:ext cx="26640" cy="50760"/>
            </a:xfrm>
            <a:custGeom>
              <a:avLst/>
              <a:gdLst/>
              <a:ahLst/>
              <a:rect l="l" t="t" r="r" b="b"/>
              <a:pathLst>
                <a:path w="74" h="142">
                  <a:moveTo>
                    <a:pt x="73" y="0"/>
                  </a:moveTo>
                  <a:lnTo>
                    <a:pt x="67" y="9"/>
                  </a:lnTo>
                  <a:lnTo>
                    <a:pt x="61" y="18"/>
                  </a:lnTo>
                  <a:lnTo>
                    <a:pt x="55" y="26"/>
                  </a:lnTo>
                  <a:lnTo>
                    <a:pt x="49" y="35"/>
                  </a:lnTo>
                  <a:lnTo>
                    <a:pt x="43" y="45"/>
                  </a:lnTo>
                  <a:lnTo>
                    <a:pt x="38" y="54"/>
                  </a:lnTo>
                  <a:lnTo>
                    <a:pt x="33" y="63"/>
                  </a:lnTo>
                  <a:lnTo>
                    <a:pt x="28" y="73"/>
                  </a:lnTo>
                  <a:lnTo>
                    <a:pt x="23" y="82"/>
                  </a:lnTo>
                  <a:lnTo>
                    <a:pt x="19" y="92"/>
                  </a:lnTo>
                  <a:lnTo>
                    <a:pt x="15" y="101"/>
                  </a:lnTo>
                  <a:lnTo>
                    <a:pt x="11" y="111"/>
                  </a:lnTo>
                  <a:lnTo>
                    <a:pt x="7" y="121"/>
                  </a:lnTo>
                  <a:lnTo>
                    <a:pt x="3" y="131"/>
                  </a:lnTo>
                  <a:lnTo>
                    <a:pt x="0" y="141"/>
                  </a:lnTo>
                  <a:lnTo>
                    <a:pt x="73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74600" y="2810880"/>
              <a:ext cx="58320" cy="29880"/>
            </a:xfrm>
            <a:custGeom>
              <a:avLst/>
              <a:gdLst/>
              <a:ahLst/>
              <a:rect l="l" t="t" r="r" b="b"/>
              <a:pathLst>
                <a:path w="162" h="84">
                  <a:moveTo>
                    <a:pt x="161" y="83"/>
                  </a:moveTo>
                  <a:lnTo>
                    <a:pt x="151" y="77"/>
                  </a:lnTo>
                  <a:lnTo>
                    <a:pt x="141" y="70"/>
                  </a:lnTo>
                  <a:lnTo>
                    <a:pt x="131" y="64"/>
                  </a:lnTo>
                  <a:lnTo>
                    <a:pt x="120" y="58"/>
                  </a:lnTo>
                  <a:lnTo>
                    <a:pt x="110" y="52"/>
                  </a:lnTo>
                  <a:lnTo>
                    <a:pt x="99" y="46"/>
                  </a:lnTo>
                  <a:lnTo>
                    <a:pt x="89" y="40"/>
                  </a:lnTo>
                  <a:lnTo>
                    <a:pt x="78" y="35"/>
                  </a:lnTo>
                  <a:lnTo>
                    <a:pt x="67" y="29"/>
                  </a:lnTo>
                  <a:lnTo>
                    <a:pt x="56" y="24"/>
                  </a:lnTo>
                  <a:lnTo>
                    <a:pt x="45" y="19"/>
                  </a:lnTo>
                  <a:lnTo>
                    <a:pt x="34" y="14"/>
                  </a:lnTo>
                  <a:lnTo>
                    <a:pt x="23" y="9"/>
                  </a:lnTo>
                  <a:lnTo>
                    <a:pt x="11" y="4"/>
                  </a:lnTo>
                  <a:lnTo>
                    <a:pt x="0" y="0"/>
                  </a:lnTo>
                  <a:lnTo>
                    <a:pt x="161" y="83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47640" y="3120120"/>
              <a:ext cx="18720" cy="56880"/>
            </a:xfrm>
            <a:custGeom>
              <a:avLst/>
              <a:gdLst/>
              <a:ahLst/>
              <a:rect l="l" t="t" r="r" b="b"/>
              <a:pathLst>
                <a:path w="52" h="157">
                  <a:moveTo>
                    <a:pt x="0" y="0"/>
                  </a:moveTo>
                  <a:lnTo>
                    <a:pt x="3" y="11"/>
                  </a:lnTo>
                  <a:lnTo>
                    <a:pt x="5" y="21"/>
                  </a:lnTo>
                  <a:lnTo>
                    <a:pt x="8" y="32"/>
                  </a:lnTo>
                  <a:lnTo>
                    <a:pt x="10" y="43"/>
                  </a:lnTo>
                  <a:lnTo>
                    <a:pt x="13" y="53"/>
                  </a:lnTo>
                  <a:lnTo>
                    <a:pt x="16" y="64"/>
                  </a:lnTo>
                  <a:lnTo>
                    <a:pt x="20" y="74"/>
                  </a:lnTo>
                  <a:lnTo>
                    <a:pt x="23" y="85"/>
                  </a:lnTo>
                  <a:lnTo>
                    <a:pt x="27" y="95"/>
                  </a:lnTo>
                  <a:lnTo>
                    <a:pt x="30" y="105"/>
                  </a:lnTo>
                  <a:lnTo>
                    <a:pt x="34" y="116"/>
                  </a:lnTo>
                  <a:lnTo>
                    <a:pt x="38" y="126"/>
                  </a:lnTo>
                  <a:lnTo>
                    <a:pt x="42" y="136"/>
                  </a:lnTo>
                  <a:lnTo>
                    <a:pt x="47" y="146"/>
                  </a:lnTo>
                  <a:lnTo>
                    <a:pt x="51" y="15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4343400" y="2590920"/>
            <a:ext cx="1440" cy="1981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33520" cy="4824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533520" cy="4824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276720" y="4952880"/>
            <a:ext cx="2209680" cy="4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7840" y="28404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Model: Co-Change Graph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502920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Why Energy-based?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Result is not a partition, but a layou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Easy to understa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igh-level: separation, relatedness of clust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ow-level: artefact in the center, between clust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Interpretable distan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Many co-changes between cluster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close posi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Few co-changes between cluster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distant posi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rebuchet MS"/>
              </a:rPr>
              <a:t>Example: Mozilla – Mail &amp; News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270’000 lines of log info (13MB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1’804 files            (here: artefacts = file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9’950 commi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30’938 edges (change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-7920" y="146160"/>
            <a:ext cx="9096480" cy="6511680"/>
          </a:xfrm>
          <a:prstGeom prst="rect">
            <a:avLst/>
          </a:prstGeom>
          <a:ln w="0">
            <a:noFill/>
          </a:ln>
        </p:spPr>
      </p:pic>
      <p:grpSp>
        <p:nvGrpSpPr>
          <p:cNvPr id="441" name=""/>
          <p:cNvGrpSpPr/>
          <p:nvPr/>
        </p:nvGrpSpPr>
        <p:grpSpPr>
          <a:xfrm>
            <a:off x="533520" y="152280"/>
            <a:ext cx="7924680" cy="1143000"/>
            <a:chOff x="533520" y="152280"/>
            <a:chExt cx="7924680" cy="1143000"/>
          </a:xfrm>
        </p:grpSpPr>
        <p:sp>
          <p:nvSpPr>
            <p:cNvPr id="442" name=""/>
            <p:cNvSpPr/>
            <p:nvPr/>
          </p:nvSpPr>
          <p:spPr>
            <a:xfrm>
              <a:off x="533520" y="152280"/>
              <a:ext cx="7924680" cy="114300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3520" y="421920"/>
              <a:ext cx="79246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Mozilla - Mai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9160"/>
          </a:xfrm>
          <a:prstGeom prst="rect">
            <a:avLst/>
          </a:prstGeom>
          <a:ln w="0">
            <a:noFill/>
          </a:ln>
        </p:spPr>
      </p:pic>
      <p:grpSp>
        <p:nvGrpSpPr>
          <p:cNvPr id="446" name=""/>
          <p:cNvGrpSpPr/>
          <p:nvPr/>
        </p:nvGrpSpPr>
        <p:grpSpPr>
          <a:xfrm>
            <a:off x="533520" y="152280"/>
            <a:ext cx="7924680" cy="1143000"/>
            <a:chOff x="533520" y="152280"/>
            <a:chExt cx="7924680" cy="1143000"/>
          </a:xfrm>
        </p:grpSpPr>
        <p:sp>
          <p:nvSpPr>
            <p:cNvPr id="447" name=""/>
            <p:cNvSpPr/>
            <p:nvPr/>
          </p:nvSpPr>
          <p:spPr>
            <a:xfrm>
              <a:off x="533520" y="152280"/>
              <a:ext cx="7924680" cy="114300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3520" y="421920"/>
              <a:ext cx="79246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Mozilla - Mai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Example: CrocoPat 2.1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114’000 lines of cod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60 fil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140 commi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800 edges (change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8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91040" y="504036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4 billion developmen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9600" y="542124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system integration &amp; validatio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7644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533520" y="152280"/>
            <a:ext cx="7924680" cy="1143000"/>
            <a:chOff x="533520" y="152280"/>
            <a:chExt cx="7924680" cy="1143000"/>
          </a:xfrm>
        </p:grpSpPr>
        <p:sp>
          <p:nvSpPr>
            <p:cNvPr id="454" name=""/>
            <p:cNvSpPr/>
            <p:nvPr/>
          </p:nvSpPr>
          <p:spPr>
            <a:xfrm>
              <a:off x="533520" y="152280"/>
              <a:ext cx="7924680" cy="114300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3520" y="421920"/>
              <a:ext cx="79246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CrocoPat 2.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Example: Blast (Model Checker)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3’970’000 lines of cod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3’900 fil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900 commi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6’800 edges (change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610480" cy="686124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533520" y="152280"/>
            <a:ext cx="7924680" cy="1143000"/>
            <a:chOff x="533520" y="152280"/>
            <a:chExt cx="7924680" cy="1143000"/>
          </a:xfrm>
        </p:grpSpPr>
        <p:sp>
          <p:nvSpPr>
            <p:cNvPr id="461" name=""/>
            <p:cNvSpPr/>
            <p:nvPr/>
          </p:nvSpPr>
          <p:spPr>
            <a:xfrm>
              <a:off x="533520" y="152280"/>
              <a:ext cx="7924680" cy="114300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3520" y="421920"/>
              <a:ext cx="79246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Blast 1.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5720" indent="-315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Co-change graph   (but tool general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             energy-based graph layout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720" indent="-315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Clustering layout according to energy mod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7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→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[IWPC’05]  [ICSM’05]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5720" indent="-315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Groups artefacts of one subsystem togeth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720" indent="-315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Interpretable distances between subsystem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nd between artefacts within the subsystem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048120" y="1676520"/>
            <a:ext cx="2590560" cy="4724280"/>
          </a:xfrm>
          <a:prstGeom prst="rect">
            <a:avLst/>
          </a:prstGeom>
          <a:solidFill>
            <a:srgbClr val="dad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Approaches to SW Quality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67" name=""/>
          <p:cNvSpPr/>
          <p:nvPr/>
        </p:nvSpPr>
        <p:spPr>
          <a:xfrm>
            <a:off x="3430080" y="3505320"/>
            <a:ext cx="178380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38400" y="1371600"/>
            <a:ext cx="3187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the t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Design structur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(Croco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Structure visu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(CCVis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744880" y="4419720"/>
            <a:ext cx="3400920" cy="22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the bott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l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ftware model 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Bl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51200" y="2514600"/>
            <a:ext cx="2658600" cy="26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ob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n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che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face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h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hank you!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585800" y="284040"/>
            <a:ext cx="5962680" cy="5842080"/>
          </a:xfrm>
          <a:prstGeom prst="rect">
            <a:avLst/>
          </a:prstGeom>
          <a:ln w="0">
            <a:noFill/>
          </a:ln>
        </p:spPr>
      </p:pic>
      <p:grpSp>
        <p:nvGrpSpPr>
          <p:cNvPr id="475" name=""/>
          <p:cNvGrpSpPr/>
          <p:nvPr/>
        </p:nvGrpSpPr>
        <p:grpSpPr>
          <a:xfrm>
            <a:off x="533520" y="152280"/>
            <a:ext cx="7924680" cy="1143000"/>
            <a:chOff x="533520" y="152280"/>
            <a:chExt cx="7924680" cy="1143000"/>
          </a:xfrm>
        </p:grpSpPr>
        <p:sp>
          <p:nvSpPr>
            <p:cNvPr id="476" name=""/>
            <p:cNvSpPr/>
            <p:nvPr/>
          </p:nvSpPr>
          <p:spPr>
            <a:xfrm>
              <a:off x="533520" y="152280"/>
              <a:ext cx="7924680" cy="114300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3520" y="421920"/>
              <a:ext cx="79246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rgoUM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782720" y="507960"/>
            <a:ext cx="5568840" cy="539280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533520" y="152280"/>
            <a:ext cx="7924680" cy="1143000"/>
            <a:chOff x="533520" y="152280"/>
            <a:chExt cx="7924680" cy="1143000"/>
          </a:xfrm>
        </p:grpSpPr>
        <p:sp>
          <p:nvSpPr>
            <p:cNvPr id="481" name=""/>
            <p:cNvSpPr/>
            <p:nvPr/>
          </p:nvSpPr>
          <p:spPr>
            <a:xfrm>
              <a:off x="533520" y="152280"/>
              <a:ext cx="7924680" cy="114300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520" y="421920"/>
              <a:ext cx="79246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PostgreSQ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33520" y="152280"/>
            <a:ext cx="7924680" cy="1143000"/>
            <a:chOff x="533520" y="152280"/>
            <a:chExt cx="7924680" cy="1143000"/>
          </a:xfrm>
        </p:grpSpPr>
        <p:sp>
          <p:nvSpPr>
            <p:cNvPr id="485" name=""/>
            <p:cNvSpPr/>
            <p:nvPr/>
          </p:nvSpPr>
          <p:spPr>
            <a:xfrm>
              <a:off x="533520" y="152280"/>
              <a:ext cx="7924680" cy="114300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3520" y="421920"/>
              <a:ext cx="79246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PostgreSQL backe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89924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47920" y="533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Something rel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49528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ptime: 68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9360" y="-9360"/>
            <a:ext cx="9153360" cy="69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intain the initially good desig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eep an eye on the system’s structur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void degeneration of the structu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s-designed’ versus ‘as-built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8120" y="1676520"/>
            <a:ext cx="2590560" cy="4724280"/>
          </a:xfrm>
          <a:prstGeom prst="rect">
            <a:avLst/>
          </a:prstGeom>
          <a:solidFill>
            <a:srgbClr val="dad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Approaches to SW Quality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3430080" y="3505320"/>
            <a:ext cx="178380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38400" y="1371600"/>
            <a:ext cx="3187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the t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Design structur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(Croco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Structure visu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(CCVis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44880" y="4419720"/>
            <a:ext cx="3400920" cy="22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the bott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l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ftware model 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Bl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00" y="2514600"/>
            <a:ext cx="2658600" cy="26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ob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n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che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face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h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228600" y="-64800"/>
            <a:ext cx="8674200" cy="4098960"/>
            <a:chOff x="228600" y="-64800"/>
            <a:chExt cx="8674200" cy="4098960"/>
          </a:xfrm>
        </p:grpSpPr>
        <p:sp>
          <p:nvSpPr>
            <p:cNvPr id="109" name=""/>
            <p:cNvSpPr/>
            <p:nvPr/>
          </p:nvSpPr>
          <p:spPr>
            <a:xfrm>
              <a:off x="228600" y="1068480"/>
              <a:ext cx="8674200" cy="181440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" y="-64800"/>
              <a:ext cx="8674200" cy="40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Part I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0000ff"/>
                  </a:solidFill>
                  <a:latin typeface="Arial"/>
                </a:rPr>
                <a:t>CrocoPat: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An Efficient Calculat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for Relational Program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8:20:31Z</dcterms:created>
  <dc:creator>db</dc:creator>
  <dc:description/>
  <dc:language>en-US</dc:language>
  <cp:lastModifiedBy>Dirk Beyer</cp:lastModifiedBy>
  <dcterms:modified xsi:type="dcterms:W3CDTF">2006-03-31T04:23:52Z</dcterms:modified>
  <cp:revision>305</cp:revision>
  <dc:subject/>
  <dc:title>Slide 1</dc:title>
</cp:coreProperties>
</file>