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5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11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34920" y="6453360"/>
            <a:ext cx="1522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© Yijun 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68360" y="6453360"/>
            <a:ext cx="44658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pril 25, 2006 @ Ope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0E9E-568F-44C5-8159-170BD7FA39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of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gcc.gnu.org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distcc.samba.org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yijun@cs.toronto.edu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vim.org/" TargetMode="External"/><Relationship Id="rId2" Type="http://schemas.openxmlformats.org/officeDocument/2006/relationships/hyperlink" Target="http://www.vim.org/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precc" TargetMode="External"/><Relationship Id="rId2" Type="http://schemas.openxmlformats.org/officeDocument/2006/relationships/hyperlink" Target="http://sourceforge.net/projects/precc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6.png"/><Relationship Id="rId8" Type="http://schemas.openxmlformats.org/officeDocument/2006/relationships/image" Target="../media/image38.png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formatik.uni-trier.de/%7Eley/db/indices/a-tree/b/Beyls:Kristof.html" TargetMode="External"/><Relationship Id="rId2" Type="http://schemas.openxmlformats.org/officeDocument/2006/relationships/hyperlink" Target="http://www.informatik.uni-trier.de/%7Eley/db/indices/a-tree/b/Beyls:Kristof.html" TargetMode="External"/><Relationship Id="rId3" Type="http://schemas.openxmlformats.org/officeDocument/2006/relationships/hyperlink" Target="http://www.informatik.uni-trier.de/%7Eley/db/indices/a-tree/b/Beyls:Kristof.html" TargetMode="External"/><Relationship Id="rId4" Type="http://schemas.openxmlformats.org/officeDocument/2006/relationships/hyperlink" Target="http://www.informatik.uni-trier.de/%7Eley/db/indices/a-tree/d/D=Hollander:Erik_H=.html" TargetMode="External"/><Relationship Id="rId5" Type="http://schemas.openxmlformats.org/officeDocument/2006/relationships/hyperlink" Target="http://www.informatik.uni-trier.de/%7Eley/db/indices/a-tree/d/D=Hollander:Erik_H=.html" TargetMode="External"/><Relationship Id="rId6" Type="http://schemas.openxmlformats.org/officeDocument/2006/relationships/hyperlink" Target="http://www.informatik.uni-trier.de/%7Eley/db/conf/pdcs/pdcs2002.html#BeylsDY02" TargetMode="External"/><Relationship Id="rId7" Type="http://schemas.openxmlformats.org/officeDocument/2006/relationships/hyperlink" Target="http://www.informatik.uni-trier.de/%7Eley/db/indices/a-tree/l/Leite:Julio_Cesar_Sampaio_do_Prado.html" TargetMode="External"/><Relationship Id="rId8" Type="http://schemas.openxmlformats.org/officeDocument/2006/relationships/hyperlink" Target="http://www.informatik.uni-trier.de/%7Eley/db/indices/a-tree/l/Leite:Julio_Cesar_Sampaio_do_Prado.html" TargetMode="External"/><Relationship Id="rId9" Type="http://schemas.openxmlformats.org/officeDocument/2006/relationships/hyperlink" Target="http://www.informatik.uni-trier.de/%7Eley/db/indices/a-tree/l/Leite:Julio_Cesar_Sampaio_do_Prado.html" TargetMode="External"/><Relationship Id="rId10" Type="http://schemas.openxmlformats.org/officeDocument/2006/relationships/hyperlink" Target="http://www.informatik.uni-trier.de/%7Eley/db/indices/a-tree/l/Leite:Julio_Cesar_Sampaio_do_Prado.html" TargetMode="External"/><Relationship Id="rId11" Type="http://schemas.openxmlformats.org/officeDocument/2006/relationships/hyperlink" Target="http://www.informatik.uni-trier.de/%7Eley/db/indices/a-tree/l/Leite:Julio_Cesar_Sampaio_do_Prado.html" TargetMode="External"/><Relationship Id="rId12" Type="http://schemas.openxmlformats.org/officeDocument/2006/relationships/hyperlink" Target="http://www.informatik.uni-trier.de/%7Eley/db/indices/a-tree/l/Leite:Julio_Cesar_Sampaio_do_Prado.html" TargetMode="External"/><Relationship Id="rId13" Type="http://schemas.openxmlformats.org/officeDocument/2006/relationships/hyperlink" Target="http://www.informatik.uni-trier.de/%7Eley/db/indices/a-tree/m/Mylopoulos:John.html" TargetMode="External"/><Relationship Id="rId14" Type="http://schemas.openxmlformats.org/officeDocument/2006/relationships/hyperlink" Target="http://www.informatik.uni-trier.de/%7Eley/db/indices/a-tree/m/Mylopoulos:John.html" TargetMode="External"/><Relationship Id="rId15" Type="http://schemas.openxmlformats.org/officeDocument/2006/relationships/hyperlink" Target="http://www.informatik.uni-trier.de/%7Eley/db/conf/re/re2004.html#YuLM04" TargetMode="External"/><Relationship Id="rId16" Type="http://schemas.openxmlformats.org/officeDocument/2006/relationships/hyperlink" Target="http://www.informatik.uni-trier.de/%7Eley/db/indices/a-tree/w/Wang:Yiqiao.html" TargetMode="External"/><Relationship Id="rId17" Type="http://schemas.openxmlformats.org/officeDocument/2006/relationships/hyperlink" Target="http://www.informatik.uni-trier.de/%7Eley/db/indices/a-tree/w/Wang:Yiqiao.html" TargetMode="External"/><Relationship Id="rId18" Type="http://schemas.openxmlformats.org/officeDocument/2006/relationships/hyperlink" Target="http://www.informatik.uni-trier.de/%7Eley/db/indices/a-tree/m/Mylopoulos:John.html" TargetMode="External"/><Relationship Id="rId19" Type="http://schemas.openxmlformats.org/officeDocument/2006/relationships/hyperlink" Target="http://www.informatik.uni-trier.de/%7Eley/db/indices/a-tree/m/Mylopoulos:John.html" TargetMode="External"/><Relationship Id="rId20" Type="http://schemas.openxmlformats.org/officeDocument/2006/relationships/hyperlink" Target="http://www.informatik.uni-trier.de/%7Eley/db/indices/a-tree/l/Liaskos:Sotirios.html" TargetMode="External"/><Relationship Id="rId21" Type="http://schemas.openxmlformats.org/officeDocument/2006/relationships/hyperlink" Target="http://www.informatik.uni-trier.de/%7Eley/db/indices/a-tree/l/Liaskos:Sotirios.html" TargetMode="External"/><Relationship Id="rId22" Type="http://schemas.openxmlformats.org/officeDocument/2006/relationships/hyperlink" Target="http://www.informatik.uni-trier.de/%7Eley/db/indices/a-tree/l/Liaskos:Sotirios.html" TargetMode="External"/><Relationship Id="rId23" Type="http://schemas.openxmlformats.org/officeDocument/2006/relationships/hyperlink" Target="http://www.informatik.uni-trier.de/%7Eley/db/indices/a-tree/l/Lapouchnian:Alexei.html" TargetMode="External"/><Relationship Id="rId24" Type="http://schemas.openxmlformats.org/officeDocument/2006/relationships/hyperlink" Target="http://www.informatik.uni-trier.de/%7Eley/db/indices/a-tree/l/Lapouchnian:Alexei.html" TargetMode="External"/><Relationship Id="rId25" Type="http://schemas.openxmlformats.org/officeDocument/2006/relationships/hyperlink" Target="http://www.informatik.uni-trier.de/%7Eley/db/indices/a-tree/l/Leite:Julio_Cesar_Sampaio_do_Prado.html" TargetMode="External"/><Relationship Id="rId26" Type="http://schemas.openxmlformats.org/officeDocument/2006/relationships/hyperlink" Target="http://www.informatik.uni-trier.de/%7Eley/db/indices/a-tree/l/Leite:Julio_Cesar_Sampaio_do_Prado.html" TargetMode="External"/><Relationship Id="rId27" Type="http://schemas.openxmlformats.org/officeDocument/2006/relationships/hyperlink" Target="http://www.informatik.uni-trier.de/%7Eley/db/indices/a-tree/l/Leite:Julio_Cesar_Sampaio_do_Prado.html" TargetMode="External"/><Relationship Id="rId28" Type="http://schemas.openxmlformats.org/officeDocument/2006/relationships/hyperlink" Target="http://www.informatik.uni-trier.de/%7Eley/db/indices/a-tree/l/Leite:Julio_Cesar_Sampaio_do_Prado.html" TargetMode="External"/><Relationship Id="rId29" Type="http://schemas.openxmlformats.org/officeDocument/2006/relationships/hyperlink" Target="http://www.informatik.uni-trier.de/%7Eley/db/indices/a-tree/l/Leite:Julio_Cesar_Sampaio_do_Prado.html" TargetMode="External"/><Relationship Id="rId30" Type="http://schemas.openxmlformats.org/officeDocument/2006/relationships/hyperlink" Target="http://www.informatik.uni-trier.de/%7Eley/db/indices/a-tree/l/Leite:Julio_Cesar_Sampaio_do_Prado.html" TargetMode="External"/><Relationship Id="rId31" Type="http://schemas.openxmlformats.org/officeDocument/2006/relationships/hyperlink" Target="http://www.informatik.uni-trier.de/%7Eley/db/conf/re/re2005.html#YuWMLLL05" TargetMode="External"/><Relationship Id="rId32" Type="http://schemas.openxmlformats.org/officeDocument/2006/relationships/hyperlink" Target="http://www.informatik.uni-trier.de/%7Eley/db/indices/a-tree/l/Liaskos:Sotirios.html" TargetMode="External"/><Relationship Id="rId33" Type="http://schemas.openxmlformats.org/officeDocument/2006/relationships/hyperlink" Target="http://www.informatik.uni-trier.de/%7Eley/db/indices/a-tree/l/Liaskos:Sotirios.html" TargetMode="External"/><Relationship Id="rId34" Type="http://schemas.openxmlformats.org/officeDocument/2006/relationships/hyperlink" Target="http://www.informatik.uni-trier.de/%7Eley/db/indices/a-tree/l/Liaskos:Sotirios.html" TargetMode="External"/><Relationship Id="rId35" Type="http://schemas.openxmlformats.org/officeDocument/2006/relationships/hyperlink" Target="http://www.informatik.uni-trier.de/%7Eley/db/indices/a-tree/l/Lapouchnian:Alexei.html" TargetMode="External"/><Relationship Id="rId36" Type="http://schemas.openxmlformats.org/officeDocument/2006/relationships/hyperlink" Target="http://www.informatik.uni-trier.de/%7Eley/db/indices/a-tree/l/Lapouchnian:Alexei.html" TargetMode="External"/><Relationship Id="rId37" Type="http://schemas.openxmlformats.org/officeDocument/2006/relationships/hyperlink" Target="http://www.informatik.uni-trier.de/%7Eley/db/indices/a-tree/w/Wang:Yiqiao.html" TargetMode="External"/><Relationship Id="rId38" Type="http://schemas.openxmlformats.org/officeDocument/2006/relationships/hyperlink" Target="http://www.informatik.uni-trier.de/%7Eley/db/indices/a-tree/w/Wang:Yiqiao.html" TargetMode="External"/><Relationship Id="rId39" Type="http://schemas.openxmlformats.org/officeDocument/2006/relationships/hyperlink" Target="http://www.informatik.uni-trier.de/%7Eley/db/indices/a-tree/e/Easterbrook:Steve_M=.html" TargetMode="External"/><Relationship Id="rId40" Type="http://schemas.openxmlformats.org/officeDocument/2006/relationships/hyperlink" Target="http://www.informatik.uni-trier.de/%7Eley/db/conf/re/re2005.html#LiaskosLWYE05" TargetMode="External"/><Relationship Id="rId41" Type="http://schemas.openxmlformats.org/officeDocument/2006/relationships/hyperlink" Target="http://www.informatik.uni-trier.de/%7Eley/db/indices/a-tree/l/Leite:Julio_Cesar_Sampaio_do_Prado.html" TargetMode="External"/><Relationship Id="rId42" Type="http://schemas.openxmlformats.org/officeDocument/2006/relationships/hyperlink" Target="http://www.informatik.uni-trier.de/%7Eley/db/indices/a-tree/l/Leite:Julio_Cesar_Sampaio_do_Prado.html" TargetMode="External"/><Relationship Id="rId43" Type="http://schemas.openxmlformats.org/officeDocument/2006/relationships/hyperlink" Target="http://www.informatik.uni-trier.de/%7Eley/db/indices/a-tree/l/Leite:Julio_Cesar_Sampaio_do_Prado.html" TargetMode="External"/><Relationship Id="rId44" Type="http://schemas.openxmlformats.org/officeDocument/2006/relationships/hyperlink" Target="http://www.informatik.uni-trier.de/%7Eley/db/indices/a-tree/l/Leite:Julio_Cesar_Sampaio_do_Prado.html" TargetMode="External"/><Relationship Id="rId45" Type="http://schemas.openxmlformats.org/officeDocument/2006/relationships/hyperlink" Target="http://www.informatik.uni-trier.de/%7Eley/db/indices/a-tree/l/Leite:Julio_Cesar_Sampaio_do_Prado.html" TargetMode="External"/><Relationship Id="rId46" Type="http://schemas.openxmlformats.org/officeDocument/2006/relationships/hyperlink" Target="http://www.informatik.uni-trier.de/%7Eley/db/indices/a-tree/l/Leite:Julio_Cesar_Sampaio_do_Prado.html" TargetMode="External"/><Relationship Id="rId47" Type="http://schemas.openxmlformats.org/officeDocument/2006/relationships/hyperlink" Target="http://www.informatik.uni-trier.de/%7Eley/db/indices/a-tree/l/Liu:Lin.html" TargetMode="External"/><Relationship Id="rId48" Type="http://schemas.openxmlformats.org/officeDocument/2006/relationships/hyperlink" Target="http://www.informatik.uni-trier.de/%7Eley/db/indices/a-tree/y/Yu:Eric_S=_K=.html" TargetMode="External"/><Relationship Id="rId49" Type="http://schemas.openxmlformats.org/officeDocument/2006/relationships/hyperlink" Target="http://www.informatik.uni-trier.de/%7Eley/db/indices/a-tree/m/Mylopoulos:John.html" TargetMode="External"/><Relationship Id="rId50" Type="http://schemas.openxmlformats.org/officeDocument/2006/relationships/hyperlink" Target="http://www.informatik.uni-trier.de/%7Eley/db/indices/a-tree/m/Mylopoulos:John.html" TargetMode="External"/><Relationship Id="rId51" Type="http://schemas.openxmlformats.org/officeDocument/2006/relationships/hyperlink" Target="http://www.informatik.uni-trier.de/%7Eley/db/conf/caise/caise2005.html#LeiteYLYM05" TargetMode="External"/><Relationship Id="rId52" Type="http://schemas.openxmlformats.org/officeDocument/2006/relationships/hyperlink" Target="http://www.informatik.uni-trier.de/%7Eley/db/conf/caise/caise2005.html#LeiteYLYM05" TargetMode="External"/><Relationship Id="rId53" Type="http://schemas.openxmlformats.org/officeDocument/2006/relationships/hyperlink" Target="http://www.informatik.uni-trier.de/%7Eley/db/indices/a-tree/b/Beyls:Kristof.html" TargetMode="External"/><Relationship Id="rId54" Type="http://schemas.openxmlformats.org/officeDocument/2006/relationships/hyperlink" Target="http://www.informatik.uni-trier.de/%7Eley/db/indices/a-tree/b/Beyls:Kristof.html" TargetMode="External"/><Relationship Id="rId55" Type="http://schemas.openxmlformats.org/officeDocument/2006/relationships/hyperlink" Target="http://www.informatik.uni-trier.de/%7Eley/db/indices/a-tree/b/Beyls:Kristof.html" TargetMode="External"/><Relationship Id="rId56" Type="http://schemas.openxmlformats.org/officeDocument/2006/relationships/hyperlink" Target="http://www.informatik.uni-trier.de/%7Eley/db/indices/a-tree/d/D=Hollander:Erik_H=.html" TargetMode="External"/><Relationship Id="rId57" Type="http://schemas.openxmlformats.org/officeDocument/2006/relationships/hyperlink" Target="http://www.informatik.uni-trier.de/%7Eley/db/indices/a-tree/d/D=Hollander:Erik_H=.html" TargetMode="External"/><Relationship Id="rId58" Type="http://schemas.openxmlformats.org/officeDocument/2006/relationships/hyperlink" Target="http://www.informatik.uni-trier.de/%7Eley/db/conf/iv/iv2004.html#YuBD04" TargetMode="External"/><Relationship Id="rId59" Type="http://schemas.openxmlformats.org/officeDocument/2006/relationships/hyperlink" Target="http://www.informatik.uni-trier.de/%7Eley/db/indices/a-tree/l/Lu:Jianguo.html" TargetMode="External"/><Relationship Id="rId60" Type="http://schemas.openxmlformats.org/officeDocument/2006/relationships/hyperlink" Target="http://www.informatik.uni-trier.de/%7Eley/db/indices/a-tree/l/Lu:Jianguo.html" TargetMode="External"/><Relationship Id="rId61" Type="http://schemas.openxmlformats.org/officeDocument/2006/relationships/hyperlink" Target="http://www.informatik.uni-trier.de/%7Eley/db/indices/a-tree/m/Mylopoulos:John.html" TargetMode="External"/><Relationship Id="rId62" Type="http://schemas.openxmlformats.org/officeDocument/2006/relationships/hyperlink" Target="http://www.informatik.uni-trier.de/%7Eley/db/indices/a-tree/m/Mylopoulos:John.html" TargetMode="External"/><Relationship Id="rId63" Type="http://schemas.openxmlformats.org/officeDocument/2006/relationships/hyperlink" Target="http://www.informatik.uni-trier.de/%7Eley/db/indices/a-tree/s/Sun:Weiwei.html" TargetMode="External"/><Relationship Id="rId64" Type="http://schemas.openxmlformats.org/officeDocument/2006/relationships/hyperlink" Target="http://www.informatik.uni-trier.de/%7Eley/db/indices/a-tree/s/Sun:Weiwei.html" TargetMode="External"/><Relationship Id="rId65" Type="http://schemas.openxmlformats.org/officeDocument/2006/relationships/hyperlink" Target="http://www.informatik.uni-trier.de/%7Eley/db/indices/a-tree/x/Xue:Jing=Hao.html" TargetMode="External"/><Relationship Id="rId66" Type="http://schemas.openxmlformats.org/officeDocument/2006/relationships/hyperlink" Target="http://www.informatik.uni-trier.de/%7Eley/db/indices/a-tree/x/Xue:Jing=Hao.html" TargetMode="External"/><Relationship Id="rId67" Type="http://schemas.openxmlformats.org/officeDocument/2006/relationships/hyperlink" Target="http://www.informatik.uni-trier.de/%7Eley/db/indices/a-tree/x/Xue:Jing=Hao.html" TargetMode="External"/><Relationship Id="rId68" Type="http://schemas.openxmlformats.org/officeDocument/2006/relationships/hyperlink" Target="http://www.informatik.uni-trier.de/%7Eley/db/indices/a-tree/d/D=Hollander:Erik_H=.html" TargetMode="External"/><Relationship Id="rId69" Type="http://schemas.openxmlformats.org/officeDocument/2006/relationships/hyperlink" Target="http://www.informatik.uni-trier.de/%7Eley/db/indices/a-tree/d/D=Hollander:Erik_H=.html" TargetMode="External"/><Relationship Id="rId70" Type="http://schemas.openxmlformats.org/officeDocument/2006/relationships/hyperlink" Target="http://www.informatik.uni-trier.de/%7Eley/db/journals/spe/spe35.html#YuLMSXD05" TargetMode="External"/><Relationship Id="rId71" Type="http://schemas.openxmlformats.org/officeDocument/2006/relationships/hyperlink" Target="http://www.informatik.uni-trier.de/%7Eley/db/journals/spe/spe35.html#YuLMSXD05" TargetMode="External"/><Relationship Id="rId72" Type="http://schemas.openxmlformats.org/officeDocument/2006/relationships/hyperlink" Target="http://www.informatik.uni-trier.de/%7Eley/db/journals/spe/spe35.html#YuLMSXD05" TargetMode="External"/><Relationship Id="rId73" Type="http://schemas.openxmlformats.org/officeDocument/2006/relationships/hyperlink" Target="http://www.informatik.uni-trier.de/%7Eley/db/journals/spe/spe35.html#YuLMSXD05" TargetMode="External"/><Relationship Id="rId74" Type="http://schemas.openxmlformats.org/officeDocument/2006/relationships/hyperlink" Target="http://www.informatik.uni-trier.de/%7Eley/db/journals/spe/spe35.html#YuLMSXD05" TargetMode="External"/><Relationship Id="rId75" Type="http://schemas.openxmlformats.org/officeDocument/2006/relationships/hyperlink" Target="http://www.informatik.uni-trier.de/%7Eley/db/journals/spe/spe35.html#YuLMSXD05" TargetMode="External"/><Relationship Id="rId76" Type="http://schemas.openxmlformats.org/officeDocument/2006/relationships/hyperlink" Target="http://www.informatik.uni-trier.de/%7Eley/db/indices/a-tree/l/Lu:Jianguo.html" TargetMode="External"/><Relationship Id="rId77" Type="http://schemas.openxmlformats.org/officeDocument/2006/relationships/hyperlink" Target="http://www.informatik.uni-trier.de/%7Eley/db/indices/a-tree/l/Lu:Jianguo.html" TargetMode="External"/><Relationship Id="rId78" Type="http://schemas.openxmlformats.org/officeDocument/2006/relationships/hyperlink" Target="http://www.informatik.uni-trier.de/%7Eley/db/indices/a-tree/m/Mylopoulos:John.html" TargetMode="External"/><Relationship Id="rId79" Type="http://schemas.openxmlformats.org/officeDocument/2006/relationships/hyperlink" Target="http://www.informatik.uni-trier.de/%7Eley/db/indices/a-tree/m/Mylopoulos:John.html" TargetMode="External"/><Relationship Id="rId80" Type="http://schemas.openxmlformats.org/officeDocument/2006/relationships/hyperlink" Target="http://www.informatik.uni-trier.de/%7Eley/db/conf/wiri/wiri2005.html#LuYM05" TargetMode="External"/><Relationship Id="rId81" Type="http://schemas.openxmlformats.org/officeDocument/2006/relationships/hyperlink" Target="http://www.informatik.uni-trier.de/%7Eley/db/indices/a-tree/d/Dayani=Fard:Homayoun.html" TargetMode="External"/><Relationship Id="rId82" Type="http://schemas.openxmlformats.org/officeDocument/2006/relationships/hyperlink" Target="http://www.informatik.uni-trier.de/%7Eley/db/indices/a-tree/d/Dayani=Fard:Homayoun.html" TargetMode="External"/><Relationship Id="rId83" Type="http://schemas.openxmlformats.org/officeDocument/2006/relationships/hyperlink" Target="http://www.informatik.uni-trier.de/%7Eley/db/indices/a-tree/d/Dayani=Fard:Homayoun.html" TargetMode="External"/><Relationship Id="rId84" Type="http://schemas.openxmlformats.org/officeDocument/2006/relationships/hyperlink" Target="http://www.informatik.uni-trier.de/%7Eley/db/indices/a-tree/m/Mylopoulos:John.html" TargetMode="External"/><Relationship Id="rId85" Type="http://schemas.openxmlformats.org/officeDocument/2006/relationships/hyperlink" Target="http://www.informatik.uni-trier.de/%7Eley/db/indices/a-tree/m/Mylopoulos:John.html" TargetMode="External"/><Relationship Id="rId86" Type="http://schemas.openxmlformats.org/officeDocument/2006/relationships/hyperlink" Target="http://www.informatik.uni-trier.de/%7Eley/db/conf/cascon/cascon2003.html#YuDM03" TargetMode="External"/><Relationship Id="rId87" Type="http://schemas.openxmlformats.org/officeDocument/2006/relationships/hyperlink" Target="http://www.informatik.uni-trier.de/%7Eley/db/indices/a-tree/d/Dayani=Fard:Homayoun.html" TargetMode="External"/><Relationship Id="rId88" Type="http://schemas.openxmlformats.org/officeDocument/2006/relationships/hyperlink" Target="http://www.informatik.uni-trier.de/%7Eley/db/indices/a-tree/d/Dayani=Fard:Homayoun.html" TargetMode="External"/><Relationship Id="rId89" Type="http://schemas.openxmlformats.org/officeDocument/2006/relationships/hyperlink" Target="http://www.informatik.uni-trier.de/%7Eley/db/indices/a-tree/d/Dayani=Fard:Homayoun.html" TargetMode="External"/><Relationship Id="rId90" Type="http://schemas.openxmlformats.org/officeDocument/2006/relationships/hyperlink" Target="http://www.informatik.uni-trier.de/%7Eley/db/indices/a-tree/m/Mylopoulos:John.html" TargetMode="External"/><Relationship Id="rId91" Type="http://schemas.openxmlformats.org/officeDocument/2006/relationships/hyperlink" Target="http://www.informatik.uni-trier.de/%7Eley/db/indices/a-tree/m/Mylopoulos:John.html" TargetMode="External"/><Relationship Id="rId92" Type="http://schemas.openxmlformats.org/officeDocument/2006/relationships/hyperlink" Target="http://www.informatik.uni-trier.de/%7Eley/db/indices/a-tree/a/Andritsos:Periklis.html" TargetMode="External"/><Relationship Id="rId93" Type="http://schemas.openxmlformats.org/officeDocument/2006/relationships/hyperlink" Target="http://www.informatik.uni-trier.de/%7Eley/db/indices/a-tree/a/Andritsos:Periklis.html" TargetMode="External"/><Relationship Id="rId94" Type="http://schemas.openxmlformats.org/officeDocument/2006/relationships/hyperlink" Target="http://www.informatik.uni-trier.de/%7Eley/db/indices/a-tree/a/Andritsos:Periklis.html" TargetMode="External"/><Relationship Id="rId95" Type="http://schemas.openxmlformats.org/officeDocument/2006/relationships/hyperlink" Target="http://www.informatik.uni-trier.de/%7Eley/db/conf/fase/fase2005.html#Dayani-FardYMA05" TargetMode="External"/><Relationship Id="rId96" Type="http://schemas.openxmlformats.org/officeDocument/2006/relationships/hyperlink" Target="http://www.informatik.uni-trier.de/%7Eley/db/indices/a-tree/d/Dayani=Fard:Homayoun.html" TargetMode="External"/><Relationship Id="rId97" Type="http://schemas.openxmlformats.org/officeDocument/2006/relationships/hyperlink" Target="http://www.informatik.uni-trier.de/%7Eley/db/indices/a-tree/d/Dayani=Fard:Homayoun.html" TargetMode="External"/><Relationship Id="rId98" Type="http://schemas.openxmlformats.org/officeDocument/2006/relationships/hyperlink" Target="http://www.informatik.uni-trier.de/%7Eley/db/indices/a-tree/d/Dayani=Fard:Homayoun.html" TargetMode="External"/><Relationship Id="rId99" Type="http://schemas.openxmlformats.org/officeDocument/2006/relationships/hyperlink" Target="http://www.informatik.uni-trier.de/%7Eley/db/indices/a-tree/m/Mylopoulos:John.html" TargetMode="External"/><Relationship Id="rId100" Type="http://schemas.openxmlformats.org/officeDocument/2006/relationships/hyperlink" Target="http://www.informatik.uni-trier.de/%7Eley/db/indices/a-tree/m/Mylopoulos:John.html" TargetMode="External"/><Relationship Id="rId101" Type="http://schemas.openxmlformats.org/officeDocument/2006/relationships/hyperlink" Target="http://www.informatik.uni-trier.de/%7Eley/db/indices/a-tree/a/Andritsos:Periklis.html" TargetMode="External"/><Relationship Id="rId102" Type="http://schemas.openxmlformats.org/officeDocument/2006/relationships/hyperlink" Target="http://www.informatik.uni-trier.de/%7Eley/db/indices/a-tree/a/Andritsos:Periklis.html" TargetMode="External"/><Relationship Id="rId103" Type="http://schemas.openxmlformats.org/officeDocument/2006/relationships/hyperlink" Target="http://www.informatik.uni-trier.de/%7Eley/db/indices/a-tree/a/Andritsos:Periklis.html" TargetMode="External"/><Relationship Id="rId104" Type="http://schemas.openxmlformats.org/officeDocument/2006/relationships/hyperlink" Target="http://www.informatik.uni-trier.de/%7Eley/db/conf/icsm/icsm2005.html#YuDMA05" TargetMode="External"/><Relationship Id="rId10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ourceforge.net/projects/precc" TargetMode="External"/><Relationship Id="rId3" Type="http://schemas.openxmlformats.org/officeDocument/2006/relationships/hyperlink" Target="http://sourceforge.net/projects/precc" TargetMode="External"/><Relationship Id="rId4" Type="http://schemas.openxmlformats.org/officeDocument/2006/relationships/hyperlink" Target="http://www.cs.toronto.edu/km/precc" TargetMode="External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6840" y="189000"/>
            <a:ext cx="8435880" cy="5937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7487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Research proble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Do you have a solution to improve the quality of the build process? More specifical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o improve build performance (productivity): </a:t>
            </a:r>
            <a:br>
              <a:rPr sz="2000"/>
            </a:br>
            <a:r>
              <a:rPr b="0" i="1" lang="en-CA" sz="2000" spc="-1" strike="noStrike">
                <a:solidFill>
                  <a:srgbClr val="000000"/>
                </a:solidFill>
                <a:latin typeface="Comic Sans MS"/>
              </a:rPr>
              <a:t> Can you help us shorten the build tim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o reduce the complexity: </a:t>
            </a:r>
            <a:br>
              <a:rPr sz="2000"/>
            </a:br>
            <a:r>
              <a:rPr b="0" i="1" lang="en-CA" sz="2000" spc="-1" strike="noStrike">
                <a:solidFill>
                  <a:srgbClr val="000000"/>
                </a:solidFill>
                <a:latin typeface="Comic Sans MS"/>
              </a:rPr>
              <a:t> Can you help us clean up the component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o support parallel development:</a:t>
            </a:r>
            <a:br>
              <a:rPr sz="2000"/>
            </a:br>
            <a:r>
              <a:rPr b="0" i="1" lang="en-CA" sz="2000" spc="-1" strike="noStrike">
                <a:solidFill>
                  <a:srgbClr val="000000"/>
                </a:solidFill>
                <a:latin typeface="Comic Sans MS"/>
              </a:rPr>
              <a:t>Can you help us clean up the component dependencies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o improve maintainability:</a:t>
            </a:r>
            <a:br>
              <a:rPr sz="2000"/>
            </a:br>
            <a:r>
              <a:rPr b="0" i="1" lang="en-CA" sz="2000" spc="-1" strike="noStrike">
                <a:solidFill>
                  <a:srgbClr val="000000"/>
                </a:solidFill>
                <a:latin typeface="Comic Sans MS"/>
              </a:rPr>
              <a:t>Can you help us reduce the component interfac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omic Sans MS"/>
              </a:rPr>
              <a:t>2. Programming Language (C/C++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File unit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header units (.h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ompilation units (.c, .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Program unit: an entity that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  defines or declares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  a symb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Redunda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False depend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124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Problem 1. Redundancy in preprocessed im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6994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 main (int argc, char ** argv)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intf (”Hello, world!’’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3860640"/>
            <a:ext cx="878544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 __attribute__((__cdecl__)) printf( const char*,..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 main (int argc, char ** argv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intf (”Hello, world!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8680" y="1268280"/>
            <a:ext cx="26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After pre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LOC = 8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2200" y="4675320"/>
            <a:ext cx="244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After preprocessing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LOC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717720" y="2554560"/>
            <a:ext cx="966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9999"/>
                </a:solidFill>
                <a:latin typeface="Arial"/>
                <a:ea typeface="宋体"/>
              </a:rPr>
              <a:t>=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4560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Problem 2. False dependency in file inclu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360" y="1311120"/>
            <a:ext cx="88916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Why is FD interest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Observation 1: Redundancy makes compilation absolutely slower, false dependency leads to extra recompi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For VIM 6.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Fresh build can be 2~8x sl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Incremental build can be 10x sl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Observation 2: Finer-grain dependency analysis can lead to cleaner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For a randomly picked IBM compon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KLOCWORK reduces its size by ~37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We reduce its size by &gt; 50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96360" y="2708280"/>
            <a:ext cx="1123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A usual compilation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5730840" y="907920"/>
            <a:ext cx="863640" cy="307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1989000"/>
            <a:ext cx="2298600" cy="733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#include “header.h”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1()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42000" y="836640"/>
            <a:ext cx="2106720" cy="1159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#ifndef HEADER_H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#define HEADER_H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void necessary();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int unnecessary();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2757600"/>
            <a:ext cx="2301840" cy="733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#include “header.h”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2()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0000" y="3716280"/>
            <a:ext cx="1901880" cy="1615320"/>
            <a:chOff x="900000" y="3716280"/>
            <a:chExt cx="1901880" cy="1615320"/>
          </a:xfrm>
        </p:grpSpPr>
        <p:sp>
          <p:nvSpPr>
            <p:cNvPr id="129" name=""/>
            <p:cNvSpPr/>
            <p:nvPr/>
          </p:nvSpPr>
          <p:spPr>
            <a:xfrm>
              <a:off x="900000" y="4149720"/>
              <a:ext cx="1211400" cy="4237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ptimiz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84240" y="5024520"/>
              <a:ext cx="960480" cy="307080"/>
            </a:xfrm>
            <a:prstGeom prst="rect">
              <a:avLst/>
            </a:prstGeom>
            <a:solidFill>
              <a:srgbClr val="fea0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"/>
            <p:cNvCxnSpPr>
              <a:stCxn id="132" idx="2"/>
              <a:endCxn id="129" idx="0"/>
            </p:cNvCxnSpPr>
            <p:nvPr/>
          </p:nvCxnSpPr>
          <p:spPr>
            <a:xfrm flipH="1">
              <a:off x="1506240" y="3716280"/>
              <a:ext cx="1296000" cy="434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/>
            <p:nvPr/>
          </p:nvCxnSpPr>
          <p:spPr>
            <a:xfrm flipH="1">
              <a:off x="1464840" y="4573080"/>
              <a:ext cx="41760" cy="4518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34" name=""/>
          <p:cNvGrpSpPr/>
          <p:nvPr/>
        </p:nvGrpSpPr>
        <p:grpSpPr>
          <a:xfrm>
            <a:off x="874800" y="5373360"/>
            <a:ext cx="1209600" cy="1242360"/>
            <a:chOff x="874800" y="5373360"/>
            <a:chExt cx="1209600" cy="1242360"/>
          </a:xfrm>
        </p:grpSpPr>
        <p:sp>
          <p:nvSpPr>
            <p:cNvPr id="135" name=""/>
            <p:cNvSpPr/>
            <p:nvPr/>
          </p:nvSpPr>
          <p:spPr>
            <a:xfrm>
              <a:off x="1042920" y="6308640"/>
              <a:ext cx="976320" cy="307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74800" y="5648400"/>
              <a:ext cx="1209600" cy="4237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ack-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"/>
            <p:cNvCxnSpPr/>
            <p:nvPr/>
          </p:nvCxnSpPr>
          <p:spPr>
            <a:xfrm flipH="1">
              <a:off x="1479240" y="6072120"/>
              <a:ext cx="2160" cy="270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/>
            <p:nvPr/>
          </p:nvCxnSpPr>
          <p:spPr>
            <a:xfrm>
              <a:off x="1465200" y="5373360"/>
              <a:ext cx="16560" cy="276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2000160" y="1088640"/>
            <a:ext cx="1247760" cy="1188000"/>
            <a:chOff x="2000160" y="1088640"/>
            <a:chExt cx="1247760" cy="1188000"/>
          </a:xfrm>
        </p:grpSpPr>
        <p:sp>
          <p:nvSpPr>
            <p:cNvPr id="140" name=""/>
            <p:cNvSpPr/>
            <p:nvPr/>
          </p:nvSpPr>
          <p:spPr>
            <a:xfrm>
              <a:off x="2268360" y="1854360"/>
              <a:ext cx="979560" cy="42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ar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/>
            <p:nvPr/>
          </p:nvCxnSpPr>
          <p:spPr>
            <a:xfrm>
              <a:off x="2000160" y="1088640"/>
              <a:ext cx="750240" cy="772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4046400" y="836640"/>
            <a:ext cx="2612880" cy="1523520"/>
            <a:chOff x="4046400" y="836640"/>
            <a:chExt cx="2612880" cy="1523520"/>
          </a:xfrm>
        </p:grpSpPr>
        <p:sp>
          <p:nvSpPr>
            <p:cNvPr id="143" name=""/>
            <p:cNvSpPr/>
            <p:nvPr/>
          </p:nvSpPr>
          <p:spPr>
            <a:xfrm>
              <a:off x="4046400" y="836640"/>
              <a:ext cx="1386000" cy="42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e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>
              <a:stCxn id="125" idx="1"/>
              <a:endCxn id="143" idx="6"/>
            </p:cNvCxnSpPr>
            <p:nvPr/>
          </p:nvCxnSpPr>
          <p:spPr>
            <a:xfrm flipH="1" flipV="1">
              <a:off x="5431680" y="1046880"/>
              <a:ext cx="1227960" cy="13136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45" name=""/>
          <p:cNvCxnSpPr/>
          <p:nvPr/>
        </p:nvCxnSpPr>
        <p:spPr>
          <a:xfrm flipH="1" flipV="1">
            <a:off x="5292000" y="1196280"/>
            <a:ext cx="1367640" cy="193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6" name=""/>
          <p:cNvGrpSpPr/>
          <p:nvPr/>
        </p:nvGrpSpPr>
        <p:grpSpPr>
          <a:xfrm>
            <a:off x="2340000" y="2276280"/>
            <a:ext cx="1643040" cy="1429200"/>
            <a:chOff x="2340000" y="2276280"/>
            <a:chExt cx="1643040" cy="1429200"/>
          </a:xfrm>
        </p:grpSpPr>
        <p:sp>
          <p:nvSpPr>
            <p:cNvPr id="132" name=""/>
            <p:cNvSpPr/>
            <p:nvPr/>
          </p:nvSpPr>
          <p:spPr>
            <a:xfrm>
              <a:off x="2340000" y="3246480"/>
              <a:ext cx="923760" cy="459000"/>
            </a:xfrm>
            <a:prstGeom prst="rect">
              <a:avLst/>
            </a:prstGeom>
            <a:solidFill>
              <a:srgbClr val="fea0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bstract synt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40" idx="4"/>
              <a:endCxn id="132" idx="0"/>
            </p:cNvCxnSpPr>
            <p:nvPr/>
          </p:nvCxnSpPr>
          <p:spPr>
            <a:xfrm>
              <a:off x="2758680" y="2276640"/>
              <a:ext cx="43560" cy="970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32" idx="0"/>
              <a:endCxn id="149" idx="2"/>
            </p:cNvCxnSpPr>
            <p:nvPr/>
          </p:nvCxnSpPr>
          <p:spPr>
            <a:xfrm flipV="1">
              <a:off x="2801520" y="2962080"/>
              <a:ext cx="793080" cy="28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>
              <a:off x="3203640" y="2492280"/>
              <a:ext cx="779400" cy="459000"/>
            </a:xfrm>
            <a:prstGeom prst="rect">
              <a:avLst/>
            </a:prstGeom>
            <a:solidFill>
              <a:srgbClr val="fea0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ymbol</a:t>
              </a:r>
              <a:br>
                <a:rPr sz="1200"/>
              </a:br>
              <a:r>
                <a:rPr b="1" lang="en-CA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"/>
            <p:cNvCxnSpPr>
              <a:stCxn id="140" idx="4"/>
              <a:endCxn id="149" idx="0"/>
            </p:cNvCxnSpPr>
            <p:nvPr/>
          </p:nvCxnSpPr>
          <p:spPr>
            <a:xfrm>
              <a:off x="2759040" y="2276280"/>
              <a:ext cx="835920" cy="216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5280" y="4149720"/>
            <a:ext cx="1619280" cy="190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651640" y="4941720"/>
            <a:ext cx="327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cc.gnu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489040"/>
            <a:ext cx="2200320" cy="10674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宋体"/>
              </a:rPr>
              <a:t>void necessary();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宋体"/>
              </a:rPr>
              <a:t>int unnecessary();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2()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907920"/>
            <a:ext cx="4046400" cy="1424880"/>
            <a:chOff x="0" y="907920"/>
            <a:chExt cx="4046400" cy="1424880"/>
          </a:xfrm>
        </p:grpSpPr>
        <p:sp>
          <p:nvSpPr>
            <p:cNvPr id="155" name=""/>
            <p:cNvSpPr/>
            <p:nvPr/>
          </p:nvSpPr>
          <p:spPr>
            <a:xfrm>
              <a:off x="545400" y="907920"/>
              <a:ext cx="1358640" cy="307080"/>
            </a:xfrm>
            <a:prstGeom prst="rect">
              <a:avLst/>
            </a:prstGeom>
            <a:solidFill>
              <a:srgbClr val="fea0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eproces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1265400"/>
              <a:ext cx="2200320" cy="106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oid necessary();</a:t>
              </a:r>
              <a:br>
                <a:rPr sz="1600"/>
              </a:br>
              <a:r>
                <a:rPr b="0" lang="en-CA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 unnecessary();</a:t>
              </a:r>
              <a:br>
                <a:rPr sz="1600"/>
              </a:br>
              <a:r>
                <a:rPr b="0" lang="en-CA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 compilation_unit1()</a:t>
              </a:r>
              <a:br>
                <a:rPr sz="1600"/>
              </a:br>
              <a:r>
                <a:rPr b="0" lang="en-CA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{ necessary(); 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/>
            <p:nvPr/>
          </p:nvCxnSpPr>
          <p:spPr>
            <a:xfrm flipH="1">
              <a:off x="1999800" y="1047240"/>
              <a:ext cx="2046960" cy="41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Related build optimization 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046400" y="860400"/>
            <a:ext cx="1386000" cy="4222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Pre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59000" y="1884240"/>
            <a:ext cx="979560" cy="4222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Par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4173480"/>
            <a:ext cx="1211400" cy="4240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Optimiz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84240" y="5048280"/>
            <a:ext cx="960480" cy="21564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RT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30840" y="907920"/>
            <a:ext cx="78408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宋体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42000" y="1709640"/>
            <a:ext cx="1675080" cy="550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#include “header.h”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1()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42000" y="860400"/>
            <a:ext cx="1535040" cy="855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#ifndef HEADER_H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#define HEADER_H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void necessary();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int unnecessary();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#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2320" y="971640"/>
            <a:ext cx="1015920" cy="24624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Preproc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268280"/>
            <a:ext cx="1442880" cy="642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void necessary();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int unnecessary();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1()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24240" y="3230640"/>
            <a:ext cx="768240" cy="36828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Abstract syn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74600" y="6267600"/>
            <a:ext cx="80820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宋体"/>
              </a:rPr>
              <a:t>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42000" y="2249640"/>
            <a:ext cx="1676520" cy="550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#include “header.h”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2()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992240"/>
            <a:ext cx="1442880" cy="642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void necessary();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int unnecessary();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2()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74800" y="5573880"/>
            <a:ext cx="1209600" cy="423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/>
          <p:nvPr/>
        </p:nvCxnSpPr>
        <p:spPr>
          <a:xfrm flipH="1">
            <a:off x="1999800" y="1071720"/>
            <a:ext cx="2046960" cy="41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/>
          <p:nvPr/>
        </p:nvCxnSpPr>
        <p:spPr>
          <a:xfrm>
            <a:off x="2749320" y="2306160"/>
            <a:ext cx="59400" cy="924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>
            <a:off x="1505880" y="3419640"/>
            <a:ext cx="918360" cy="7545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/>
          <p:nvPr/>
        </p:nvCxnSpPr>
        <p:spPr>
          <a:xfrm flipH="1">
            <a:off x="1464840" y="4597560"/>
            <a:ext cx="41760" cy="45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flipH="1">
            <a:off x="1479240" y="5997600"/>
            <a:ext cx="2160" cy="270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/>
          <p:nvPr/>
        </p:nvCxnSpPr>
        <p:spPr>
          <a:xfrm>
            <a:off x="1465200" y="5297400"/>
            <a:ext cx="16560" cy="277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>
            <a:off x="2000160" y="1112400"/>
            <a:ext cx="750240" cy="772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489640" y="1463760"/>
            <a:ext cx="749160" cy="4204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Parall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/>
          <p:nvPr/>
        </p:nvCxnSpPr>
        <p:spPr>
          <a:xfrm flipH="1">
            <a:off x="1999800" y="1071720"/>
            <a:ext cx="2046960" cy="41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>
            <a:off x="2749320" y="2306160"/>
            <a:ext cx="59400" cy="924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>
            <a:off x="1505880" y="3419640"/>
            <a:ext cx="918360" cy="7545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H="1">
            <a:off x="1464840" y="4597560"/>
            <a:ext cx="41760" cy="45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 flipH="1">
            <a:off x="1479240" y="5997600"/>
            <a:ext cx="2160" cy="270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1465200" y="5297400"/>
            <a:ext cx="16560" cy="277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2000160" y="1112400"/>
            <a:ext cx="750240" cy="772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0" idx="0"/>
          </p:cNvCxnSpPr>
          <p:nvPr/>
        </p:nvCxnSpPr>
        <p:spPr>
          <a:xfrm flipH="1" flipV="1">
            <a:off x="5432040" y="1071000"/>
            <a:ext cx="432720" cy="392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8" idx="0"/>
            <a:endCxn id="190" idx="2"/>
          </p:cNvCxnSpPr>
          <p:nvPr/>
        </p:nvCxnSpPr>
        <p:spPr>
          <a:xfrm flipV="1">
            <a:off x="2808000" y="3038040"/>
            <a:ext cx="786600" cy="1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203640" y="2660760"/>
            <a:ext cx="779400" cy="36828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Symbol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endCxn id="190" idx="0"/>
          </p:cNvCxnSpPr>
          <p:nvPr/>
        </p:nvCxnSpPr>
        <p:spPr>
          <a:xfrm>
            <a:off x="2944800" y="2300040"/>
            <a:ext cx="65016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635280" y="4005360"/>
            <a:ext cx="16192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6129000" y="1674360"/>
            <a:ext cx="513000" cy="833400"/>
            <a:chOff x="6129000" y="1674360"/>
            <a:chExt cx="513000" cy="833400"/>
          </a:xfrm>
        </p:grpSpPr>
        <p:cxnSp>
          <p:nvCxnSpPr>
            <p:cNvPr id="194" name=""/>
            <p:cNvCxnSpPr>
              <a:endCxn id="180" idx="5"/>
            </p:cNvCxnSpPr>
            <p:nvPr/>
          </p:nvCxnSpPr>
          <p:spPr>
            <a:xfrm flipH="1" flipV="1">
              <a:off x="6129000" y="1821600"/>
              <a:ext cx="513360" cy="686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endCxn id="180" idx="6"/>
            </p:cNvCxnSpPr>
            <p:nvPr/>
          </p:nvCxnSpPr>
          <p:spPr>
            <a:xfrm flipH="1" flipV="1">
              <a:off x="6238440" y="1674360"/>
              <a:ext cx="403920" cy="2944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6" name=""/>
          <p:cNvGrpSpPr/>
          <p:nvPr/>
        </p:nvGrpSpPr>
        <p:grpSpPr>
          <a:xfrm>
            <a:off x="755640" y="2306520"/>
            <a:ext cx="7993080" cy="2927160"/>
            <a:chOff x="755640" y="2306520"/>
            <a:chExt cx="7993080" cy="2927160"/>
          </a:xfrm>
        </p:grpSpPr>
        <p:grpSp>
          <p:nvGrpSpPr>
            <p:cNvPr id="197" name=""/>
            <p:cNvGrpSpPr/>
            <p:nvPr/>
          </p:nvGrpSpPr>
          <p:grpSpPr>
            <a:xfrm>
              <a:off x="755640" y="2306520"/>
              <a:ext cx="1993680" cy="1389240"/>
              <a:chOff x="755640" y="2306520"/>
              <a:chExt cx="1993680" cy="1389240"/>
            </a:xfrm>
          </p:grpSpPr>
          <p:sp>
            <p:nvSpPr>
              <p:cNvPr id="198" name=""/>
              <p:cNvSpPr/>
              <p:nvPr/>
            </p:nvSpPr>
            <p:spPr>
              <a:xfrm>
                <a:off x="900000" y="3236760"/>
                <a:ext cx="939960" cy="459000"/>
              </a:xfrm>
              <a:prstGeom prst="rect">
                <a:avLst/>
              </a:prstGeom>
              <a:solidFill>
                <a:srgbClr val="fea0f1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ached Symbol</a:t>
                </a:r>
                <a:br>
                  <a:rPr sz="800"/>
                </a:br>
                <a:r>
                  <a:rPr b="1" lang="en-CA" sz="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ab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55640" y="2660760"/>
                <a:ext cx="1846440" cy="422280"/>
              </a:xfrm>
              <a:prstGeom prst="ellipse">
                <a:avLst/>
              </a:prstGeom>
              <a:solidFill>
                <a:srgbClr val="dee1bd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Precompiled headers (PCH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"/>
              <p:cNvCxnSpPr>
                <a:stCxn id="160" idx="4"/>
                <a:endCxn id="199" idx="0"/>
              </p:cNvCxnSpPr>
              <p:nvPr/>
            </p:nvCxnSpPr>
            <p:spPr>
              <a:xfrm flipH="1">
                <a:off x="1678680" y="2306520"/>
                <a:ext cx="1071000" cy="3549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01" name=""/>
              <p:cNvCxnSpPr>
                <a:stCxn id="199" idx="4"/>
                <a:endCxn id="198" idx="0"/>
              </p:cNvCxnSpPr>
              <p:nvPr/>
            </p:nvCxnSpPr>
            <p:spPr>
              <a:xfrm flipH="1">
                <a:off x="1369440" y="3082680"/>
                <a:ext cx="309960" cy="154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02" name=""/>
              <p:cNvCxnSpPr>
                <a:stCxn id="198" idx="3"/>
                <a:endCxn id="168" idx="1"/>
              </p:cNvCxnSpPr>
              <p:nvPr/>
            </p:nvCxnSpPr>
            <p:spPr>
              <a:xfrm flipV="1">
                <a:off x="1839600" y="3418920"/>
                <a:ext cx="585000" cy="543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203" name=""/>
            <p:cNvSpPr/>
            <p:nvPr/>
          </p:nvSpPr>
          <p:spPr>
            <a:xfrm>
              <a:off x="5508720" y="4653000"/>
              <a:ext cx="32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33"/>
                  </a:solidFill>
                  <a:latin typeface="Arial"/>
                </a:rPr>
                <a:t>http://gcc.gnu.or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33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33"/>
                  </a:solidFill>
                  <a:latin typeface="Arial"/>
                </a:rPr>
                <a:t>gcc –c foo.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050560" y="1149120"/>
            <a:ext cx="6698160" cy="3365280"/>
            <a:chOff x="2050560" y="1149120"/>
            <a:chExt cx="6698160" cy="3365280"/>
          </a:xfrm>
        </p:grpSpPr>
        <p:sp>
          <p:nvSpPr>
            <p:cNvPr id="205" name=""/>
            <p:cNvSpPr/>
            <p:nvPr/>
          </p:nvSpPr>
          <p:spPr>
            <a:xfrm>
              <a:off x="3757680" y="1522440"/>
              <a:ext cx="958680" cy="505440"/>
            </a:xfrm>
            <a:prstGeom prst="rect">
              <a:avLst/>
            </a:prstGeom>
            <a:solidFill>
              <a:srgbClr val="fea0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ched</a:t>
              </a:r>
              <a:br>
                <a:rPr sz="900"/>
              </a:br>
              <a:r>
                <a:rPr b="1" lang="en-CA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ecompiled</a:t>
              </a:r>
              <a:br>
                <a:rPr sz="900"/>
              </a:br>
              <a:r>
                <a:rPr b="1" lang="en-CA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m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050560" y="1149120"/>
              <a:ext cx="6698160" cy="3365280"/>
              <a:chOff x="2050560" y="1149120"/>
              <a:chExt cx="6698160" cy="336528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2050560" y="1149120"/>
                <a:ext cx="1707120" cy="709920"/>
                <a:chOff x="2050560" y="1149120"/>
                <a:chExt cx="1707120" cy="7099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603520" y="1220760"/>
                  <a:ext cx="865080" cy="423720"/>
                </a:xfrm>
                <a:prstGeom prst="ellipse">
                  <a:avLst/>
                </a:prstGeom>
                <a:solidFill>
                  <a:srgbClr val="dee1bd"/>
                </a:solidFill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Cach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2050560" y="1149120"/>
                  <a:ext cx="1707120" cy="709920"/>
                  <a:chOff x="2050560" y="1149120"/>
                  <a:chExt cx="1707120" cy="709920"/>
                </a:xfrm>
              </p:grpSpPr>
              <p:cxnSp>
                <p:nvCxnSpPr>
                  <p:cNvPr id="210" name=""/>
                  <p:cNvCxnSpPr>
                    <a:stCxn id="208" idx="6"/>
                    <a:endCxn id="205" idx="1"/>
                  </p:cNvCxnSpPr>
                  <p:nvPr/>
                </p:nvCxnSpPr>
                <p:spPr>
                  <a:xfrm>
                    <a:off x="3468240" y="1433160"/>
                    <a:ext cx="289440" cy="346680"/>
                  </a:xfrm>
                  <a:prstGeom prst="straightConnector1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1" name=""/>
                  <p:cNvCxnSpPr>
                    <a:stCxn id="205" idx="1"/>
                  </p:cNvCxnSpPr>
                  <p:nvPr/>
                </p:nvCxnSpPr>
                <p:spPr>
                  <a:xfrm flipH="1">
                    <a:off x="2749320" y="1779120"/>
                    <a:ext cx="1008720" cy="80280"/>
                  </a:xfrm>
                  <a:prstGeom prst="straightConnector1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2" name=""/>
                  <p:cNvCxnSpPr>
                    <a:endCxn id="208" idx="2"/>
                  </p:cNvCxnSpPr>
                  <p:nvPr/>
                </p:nvCxnSpPr>
                <p:spPr>
                  <a:xfrm>
                    <a:off x="2050560" y="1149120"/>
                    <a:ext cx="553320" cy="284400"/>
                  </a:xfrm>
                  <a:prstGeom prst="straightConnector1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</p:grpSp>
          </p:grpSp>
          <p:sp>
            <p:nvSpPr>
              <p:cNvPr id="213" name=""/>
              <p:cNvSpPr/>
              <p:nvPr/>
            </p:nvSpPr>
            <p:spPr>
              <a:xfrm>
                <a:off x="5508720" y="3933720"/>
                <a:ext cx="3240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9933"/>
                    </a:solidFill>
                    <a:latin typeface="Arial"/>
                  </a:rPr>
                  <a:t>http://ccache.samba.or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33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ff9933"/>
                    </a:solidFill>
                    <a:latin typeface="Arial"/>
                  </a:rPr>
                  <a:t>make CC=“ccache gcc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5508720" y="1695240"/>
            <a:ext cx="3240000" cy="2093760"/>
            <a:chOff x="5508720" y="1695240"/>
            <a:chExt cx="3240000" cy="2093760"/>
          </a:xfrm>
        </p:grpSpPr>
        <p:sp>
          <p:nvSpPr>
            <p:cNvPr id="215" name=""/>
            <p:cNvSpPr/>
            <p:nvPr/>
          </p:nvSpPr>
          <p:spPr>
            <a:xfrm>
              <a:off x="5508720" y="3208320"/>
              <a:ext cx="32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http://distcc.samba.or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9933"/>
                  </a:solidFill>
                  <a:latin typeface="Arial"/>
                </a:rPr>
                <a:t>make CC=“distcc gcc” -j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156000" y="1695240"/>
              <a:ext cx="513000" cy="833400"/>
              <a:chOff x="6156000" y="1695240"/>
              <a:chExt cx="513000" cy="833400"/>
            </a:xfrm>
          </p:grpSpPr>
          <p:cxnSp>
            <p:nvCxnSpPr>
              <p:cNvPr id="217" name=""/>
              <p:cNvCxnSpPr/>
              <p:nvPr/>
            </p:nvCxnSpPr>
            <p:spPr>
              <a:xfrm flipH="1" flipV="1">
                <a:off x="6156000" y="1842480"/>
                <a:ext cx="513360" cy="68652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18" name=""/>
              <p:cNvCxnSpPr/>
              <p:nvPr/>
            </p:nvCxnSpPr>
            <p:spPr>
              <a:xfrm flipH="1" flipV="1">
                <a:off x="6265440" y="1695240"/>
                <a:ext cx="403920" cy="294480"/>
              </a:xfrm>
              <a:prstGeom prst="straightConnector1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449600" y="2522520"/>
            <a:ext cx="1614600" cy="3193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33"/>
                </a:solidFill>
                <a:latin typeface="Comic Sans MS"/>
              </a:rPr>
              <a:t>This work is orthog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4046400" y="836640"/>
            <a:ext cx="1386000" cy="4222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Pre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59000" y="1860480"/>
            <a:ext cx="979560" cy="4222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Par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149720"/>
            <a:ext cx="1211400" cy="423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Optimiz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84240" y="5024520"/>
            <a:ext cx="960480" cy="21564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RT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4040" y="984240"/>
            <a:ext cx="659160" cy="246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Orig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42000" y="1685880"/>
            <a:ext cx="1384560" cy="459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#include “header.h”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1()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42000" y="836640"/>
            <a:ext cx="1268640" cy="702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#ifndef HEADER_H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#define HEADER_H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void necessary();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int unnecessary();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#end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22320" y="947880"/>
            <a:ext cx="1015920" cy="24624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Preproc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7080" y="1284120"/>
            <a:ext cx="1443240" cy="580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void necessary();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int unnecessary();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1()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24240" y="3206880"/>
            <a:ext cx="768240" cy="36828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Abstract syn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74600" y="6243480"/>
            <a:ext cx="808200" cy="246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ob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42000" y="2225520"/>
            <a:ext cx="1386000" cy="459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#include “header.h”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2()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7080" y="2008080"/>
            <a:ext cx="1443240" cy="580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void necessary();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int unnecessary();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int compilation_unit2()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{ necessary(); 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800" y="5549760"/>
            <a:ext cx="1209600" cy="4240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/>
          <p:nvPr/>
        </p:nvCxnSpPr>
        <p:spPr>
          <a:xfrm flipH="1">
            <a:off x="1999800" y="1047240"/>
            <a:ext cx="2046960" cy="41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/>
          <p:nvPr/>
        </p:nvCxnSpPr>
        <p:spPr>
          <a:xfrm>
            <a:off x="2749320" y="2282400"/>
            <a:ext cx="59400" cy="924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/>
          <p:nvPr/>
        </p:nvCxnSpPr>
        <p:spPr>
          <a:xfrm flipH="1">
            <a:off x="1505880" y="3395160"/>
            <a:ext cx="918360" cy="754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/>
          <p:nvPr/>
        </p:nvCxnSpPr>
        <p:spPr>
          <a:xfrm flipH="1">
            <a:off x="1464840" y="4573080"/>
            <a:ext cx="41760" cy="451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9" name=""/>
          <p:cNvCxnSpPr/>
          <p:nvPr/>
        </p:nvCxnSpPr>
        <p:spPr>
          <a:xfrm flipH="1">
            <a:off x="1479240" y="5973480"/>
            <a:ext cx="2160" cy="270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/>
          <p:nvPr/>
        </p:nvCxnSpPr>
        <p:spPr>
          <a:xfrm>
            <a:off x="1465200" y="5273280"/>
            <a:ext cx="16560" cy="276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/>
          <p:nvPr/>
        </p:nvCxnSpPr>
        <p:spPr>
          <a:xfrm>
            <a:off x="2000160" y="1088640"/>
            <a:ext cx="750240" cy="772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endCxn id="243" idx="5"/>
          </p:cNvCxnSpPr>
          <p:nvPr/>
        </p:nvCxnSpPr>
        <p:spPr>
          <a:xfrm flipH="1" flipV="1">
            <a:off x="6129000" y="1797840"/>
            <a:ext cx="5133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5489640" y="1440000"/>
            <a:ext cx="749160" cy="4204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Parall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 flipH="1">
            <a:off x="1999800" y="1047240"/>
            <a:ext cx="2046960" cy="41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>
            <a:off x="2749320" y="2282400"/>
            <a:ext cx="59400" cy="924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/>
          <p:nvPr/>
        </p:nvCxnSpPr>
        <p:spPr>
          <a:xfrm flipH="1">
            <a:off x="1505880" y="3395160"/>
            <a:ext cx="918360" cy="754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/>
          <p:nvPr/>
        </p:nvCxnSpPr>
        <p:spPr>
          <a:xfrm flipH="1">
            <a:off x="1464840" y="4573080"/>
            <a:ext cx="41760" cy="451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 flipH="1">
            <a:off x="1479240" y="5973480"/>
            <a:ext cx="2160" cy="270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>
            <a:off x="1465200" y="5273280"/>
            <a:ext cx="16560" cy="276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>
            <a:off x="2000160" y="1088640"/>
            <a:ext cx="750240" cy="772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endCxn id="243" idx="6"/>
          </p:cNvCxnSpPr>
          <p:nvPr/>
        </p:nvCxnSpPr>
        <p:spPr>
          <a:xfrm flipH="1" flipV="1">
            <a:off x="6238440" y="1650600"/>
            <a:ext cx="403920" cy="294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3" idx="0"/>
          </p:cNvCxnSpPr>
          <p:nvPr/>
        </p:nvCxnSpPr>
        <p:spPr>
          <a:xfrm flipH="1" flipV="1">
            <a:off x="5432040" y="1047240"/>
            <a:ext cx="432720" cy="393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900000" y="3213000"/>
            <a:ext cx="939960" cy="45900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Cached Symbol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2637000"/>
            <a:ext cx="1846440" cy="4222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Precompile headers (PC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03520" y="1197000"/>
            <a:ext cx="865080" cy="423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  <a:ea typeface="宋体"/>
              </a:rPr>
              <a:t>Ca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57680" y="1498680"/>
            <a:ext cx="958680" cy="50544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Cached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precompiled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im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55" idx="6"/>
            <a:endCxn id="256" idx="1"/>
          </p:cNvCxnSpPr>
          <p:nvPr/>
        </p:nvCxnSpPr>
        <p:spPr>
          <a:xfrm>
            <a:off x="3468240" y="1409400"/>
            <a:ext cx="289440" cy="34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6" idx="1"/>
          </p:cNvCxnSpPr>
          <p:nvPr/>
        </p:nvCxnSpPr>
        <p:spPr>
          <a:xfrm flipH="1">
            <a:off x="2749320" y="1781280"/>
            <a:ext cx="1008720" cy="7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5" idx="2"/>
          </p:cNvCxnSpPr>
          <p:nvPr/>
        </p:nvCxnSpPr>
        <p:spPr>
          <a:xfrm>
            <a:off x="2050560" y="1125360"/>
            <a:ext cx="553320" cy="285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30" idx="0"/>
            <a:endCxn id="261" idx="2"/>
          </p:cNvCxnSpPr>
          <p:nvPr/>
        </p:nvCxnSpPr>
        <p:spPr>
          <a:xfrm flipV="1">
            <a:off x="2808000" y="3014280"/>
            <a:ext cx="786600" cy="1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3203640" y="2637000"/>
            <a:ext cx="779400" cy="368280"/>
          </a:xfrm>
          <a:prstGeom prst="rect">
            <a:avLst/>
          </a:prstGeom>
          <a:solidFill>
            <a:srgbClr val="fea0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Symbol</a:t>
            </a:r>
            <a:br>
              <a:rPr sz="900"/>
            </a:br>
            <a:r>
              <a:rPr b="1" lang="en-CA" sz="9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endCxn id="261" idx="0"/>
          </p:cNvCxnSpPr>
          <p:nvPr/>
        </p:nvCxnSpPr>
        <p:spPr>
          <a:xfrm>
            <a:off x="2944800" y="2276280"/>
            <a:ext cx="65016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22" idx="4"/>
            <a:endCxn id="254" idx="0"/>
          </p:cNvCxnSpPr>
          <p:nvPr/>
        </p:nvCxnSpPr>
        <p:spPr>
          <a:xfrm flipH="1">
            <a:off x="1678680" y="2282760"/>
            <a:ext cx="107100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4" idx="4"/>
            <a:endCxn id="253" idx="0"/>
          </p:cNvCxnSpPr>
          <p:nvPr/>
        </p:nvCxnSpPr>
        <p:spPr>
          <a:xfrm flipH="1">
            <a:off x="1369440" y="3058920"/>
            <a:ext cx="309960" cy="154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3" idx="3"/>
            <a:endCxn id="230" idx="1"/>
          </p:cNvCxnSpPr>
          <p:nvPr/>
        </p:nvCxnSpPr>
        <p:spPr>
          <a:xfrm flipV="1">
            <a:off x="1839600" y="3395160"/>
            <a:ext cx="585000" cy="5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6" name=""/>
          <p:cNvGrpSpPr/>
          <p:nvPr/>
        </p:nvGrpSpPr>
        <p:grpSpPr>
          <a:xfrm>
            <a:off x="3203280" y="2133000"/>
            <a:ext cx="4789800" cy="2129760"/>
            <a:chOff x="3203280" y="2133000"/>
            <a:chExt cx="4789800" cy="2129760"/>
          </a:xfrm>
        </p:grpSpPr>
        <p:grpSp>
          <p:nvGrpSpPr>
            <p:cNvPr id="267" name=""/>
            <p:cNvGrpSpPr/>
            <p:nvPr/>
          </p:nvGrpSpPr>
          <p:grpSpPr>
            <a:xfrm>
              <a:off x="3203280" y="2133000"/>
              <a:ext cx="4789800" cy="2129760"/>
              <a:chOff x="3203280" y="2133000"/>
              <a:chExt cx="4789800" cy="2129760"/>
            </a:xfrm>
          </p:grpSpPr>
          <p:sp>
            <p:nvSpPr>
              <p:cNvPr id="268" name=""/>
              <p:cNvSpPr/>
              <p:nvPr/>
            </p:nvSpPr>
            <p:spPr>
              <a:xfrm>
                <a:off x="6607080" y="3259080"/>
                <a:ext cx="1384560" cy="4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void necessary();</a:t>
                </a:r>
                <a:br>
                  <a:rPr sz="800"/>
                </a:br>
                <a:r>
                  <a:rPr b="1" lang="en-CA" sz="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nt compilation_unit1()</a:t>
                </a:r>
                <a:br>
                  <a:rPr sz="800"/>
                </a:br>
                <a:r>
                  <a:rPr b="1" lang="en-CA" sz="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{ necessary(); }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615000" y="2952720"/>
                <a:ext cx="939600" cy="246240"/>
              </a:xfrm>
              <a:prstGeom prst="rect">
                <a:avLst/>
              </a:prstGeom>
              <a:solidFill>
                <a:srgbClr val="fea0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Precompile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18080" y="3517920"/>
                <a:ext cx="1211400" cy="6015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Redundancy</a:t>
                </a:r>
                <a:br>
                  <a:rPr sz="1000"/>
                </a:br>
                <a:r>
                  <a:rPr b="1" lang="en-CA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Remov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608880" y="3803760"/>
                <a:ext cx="1384200" cy="4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void necessary();</a:t>
                </a:r>
                <a:br>
                  <a:rPr sz="800"/>
                </a:br>
                <a:r>
                  <a:rPr b="1" lang="en-CA" sz="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nt compilation_unit2()</a:t>
                </a:r>
                <a:br>
                  <a:rPr sz="800"/>
                </a:br>
                <a:r>
                  <a:rPr b="1" lang="en-CA" sz="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{ necessary(); }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2" name=""/>
              <p:cNvCxnSpPr>
                <a:stCxn id="270" idx="6"/>
                <a:endCxn id="269" idx="1"/>
              </p:cNvCxnSpPr>
              <p:nvPr/>
            </p:nvCxnSpPr>
            <p:spPr>
              <a:xfrm flipV="1">
                <a:off x="5829480" y="3093840"/>
                <a:ext cx="778320" cy="7243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73" name=""/>
              <p:cNvCxnSpPr>
                <a:stCxn id="269" idx="0"/>
              </p:cNvCxnSpPr>
              <p:nvPr/>
            </p:nvCxnSpPr>
            <p:spPr>
              <a:xfrm flipH="1" flipV="1">
                <a:off x="3203280" y="2133000"/>
                <a:ext cx="3907440" cy="819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274" name=""/>
            <p:cNvCxnSpPr>
              <a:stCxn id="275" idx="3"/>
              <a:endCxn id="270" idx="2"/>
            </p:cNvCxnSpPr>
            <p:nvPr/>
          </p:nvCxnSpPr>
          <p:spPr>
            <a:xfrm>
              <a:off x="4354560" y="3747600"/>
              <a:ext cx="264240" cy="72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76" name=""/>
          <p:cNvGrpSpPr/>
          <p:nvPr/>
        </p:nvGrpSpPr>
        <p:grpSpPr>
          <a:xfrm>
            <a:off x="3203280" y="2692440"/>
            <a:ext cx="2661120" cy="1303920"/>
            <a:chOff x="3203280" y="2692440"/>
            <a:chExt cx="2661120" cy="1303920"/>
          </a:xfrm>
        </p:grpSpPr>
        <p:cxnSp>
          <p:nvCxnSpPr>
            <p:cNvPr id="277" name=""/>
            <p:cNvCxnSpPr>
              <a:stCxn id="261" idx="3"/>
              <a:endCxn id="278" idx="2"/>
            </p:cNvCxnSpPr>
            <p:nvPr/>
          </p:nvCxnSpPr>
          <p:spPr>
            <a:xfrm>
              <a:off x="3982680" y="2815920"/>
              <a:ext cx="672120" cy="118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8" name=""/>
            <p:cNvSpPr/>
            <p:nvPr/>
          </p:nvSpPr>
          <p:spPr>
            <a:xfrm>
              <a:off x="4654440" y="2692440"/>
              <a:ext cx="1209960" cy="4827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p. Graph </a:t>
              </a:r>
              <a:br>
                <a:rPr sz="1000"/>
              </a:br>
              <a:r>
                <a:rPr b="1" lang="en-CA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xtrac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"/>
            <p:cNvCxnSpPr/>
            <p:nvPr/>
          </p:nvCxnSpPr>
          <p:spPr>
            <a:xfrm flipV="1">
              <a:off x="3203280" y="3058560"/>
              <a:ext cx="1639080" cy="300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8" idx="4"/>
              <a:endCxn id="275" idx="0"/>
            </p:cNvCxnSpPr>
            <p:nvPr/>
          </p:nvCxnSpPr>
          <p:spPr>
            <a:xfrm flipH="1">
              <a:off x="3816000" y="3174840"/>
              <a:ext cx="1443600" cy="316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3276720" y="3490920"/>
              <a:ext cx="1077840" cy="505440"/>
            </a:xfrm>
            <a:prstGeom prst="rect">
              <a:avLst/>
            </a:prstGeom>
            <a:solidFill>
              <a:srgbClr val="fea0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gram unit dependency sequen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758760" y="1196640"/>
            <a:ext cx="4259880" cy="5286960"/>
            <a:chOff x="3758760" y="1196640"/>
            <a:chExt cx="4259880" cy="5286960"/>
          </a:xfrm>
        </p:grpSpPr>
        <p:sp>
          <p:nvSpPr>
            <p:cNvPr id="282" name=""/>
            <p:cNvSpPr/>
            <p:nvPr/>
          </p:nvSpPr>
          <p:spPr>
            <a:xfrm>
              <a:off x="4595760" y="5202360"/>
              <a:ext cx="1325520" cy="4237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onent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2" idx="4"/>
              <a:endCxn id="284" idx="1"/>
            </p:cNvCxnSpPr>
            <p:nvPr/>
          </p:nvCxnSpPr>
          <p:spPr>
            <a:xfrm>
              <a:off x="5258880" y="5625720"/>
              <a:ext cx="1258200" cy="740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endCxn id="282" idx="0"/>
            </p:cNvCxnSpPr>
            <p:nvPr/>
          </p:nvCxnSpPr>
          <p:spPr>
            <a:xfrm>
              <a:off x="3758760" y="4691160"/>
              <a:ext cx="1500840" cy="5119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>
              <a:off x="6516720" y="6237360"/>
              <a:ext cx="1501920" cy="2462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onentiz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6" name=""/>
            <p:cNvCxnSpPr>
              <a:stCxn id="284" idx="1"/>
              <a:endCxn id="221" idx="5"/>
            </p:cNvCxnSpPr>
            <p:nvPr/>
          </p:nvCxnSpPr>
          <p:spPr>
            <a:xfrm flipH="1" flipV="1">
              <a:off x="5229000" y="1196640"/>
              <a:ext cx="1288080" cy="5169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87" name=""/>
          <p:cNvGrpSpPr/>
          <p:nvPr/>
        </p:nvGrpSpPr>
        <p:grpSpPr>
          <a:xfrm>
            <a:off x="3181320" y="1196280"/>
            <a:ext cx="4846680" cy="4795200"/>
            <a:chOff x="3181320" y="1196280"/>
            <a:chExt cx="4846680" cy="4795200"/>
          </a:xfrm>
        </p:grpSpPr>
        <p:sp>
          <p:nvSpPr>
            <p:cNvPr id="288" name=""/>
            <p:cNvSpPr/>
            <p:nvPr/>
          </p:nvSpPr>
          <p:spPr>
            <a:xfrm>
              <a:off x="4595760" y="4330800"/>
              <a:ext cx="1325520" cy="601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ader interface</a:t>
              </a:r>
              <a:br>
                <a:rPr sz="1000"/>
              </a:br>
              <a:r>
                <a:rPr b="1" lang="en-CA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structu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5120" y="4987800"/>
              <a:ext cx="1384200" cy="4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#include “0.h”</a:t>
              </a:r>
              <a:br>
                <a:rPr sz="800"/>
              </a:br>
              <a:r>
                <a:rPr b="1" lang="en-CA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 compilation_unit1()</a:t>
              </a:r>
              <a:br>
                <a:rPr sz="800"/>
              </a:br>
              <a:r>
                <a:rPr b="1" lang="en-CA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{ necessary(); }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85120" y="5532480"/>
              <a:ext cx="1384200" cy="4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#include “0.h”</a:t>
              </a:r>
              <a:br>
                <a:rPr sz="800"/>
              </a:br>
              <a:r>
                <a:rPr b="1" lang="en-CA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 compilation_unit2()</a:t>
              </a:r>
              <a:br>
                <a:rPr sz="800"/>
              </a:br>
              <a:r>
                <a:rPr b="1" lang="en-CA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{ necessary(); }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88" idx="6"/>
              <a:endCxn id="292" idx="1"/>
            </p:cNvCxnSpPr>
            <p:nvPr/>
          </p:nvCxnSpPr>
          <p:spPr>
            <a:xfrm>
              <a:off x="5921280" y="4630680"/>
              <a:ext cx="664560" cy="1864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3181320" y="4313160"/>
              <a:ext cx="1154160" cy="368280"/>
            </a:xfrm>
            <a:prstGeom prst="rect">
              <a:avLst/>
            </a:prstGeom>
            <a:solidFill>
              <a:srgbClr val="fea0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le dependency grap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70" idx="4"/>
              <a:endCxn id="293" idx="0"/>
            </p:cNvCxnSpPr>
            <p:nvPr/>
          </p:nvCxnSpPr>
          <p:spPr>
            <a:xfrm flipH="1">
              <a:off x="3758760" y="4119480"/>
              <a:ext cx="1465920" cy="1944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3"/>
              <a:endCxn id="288" idx="2"/>
            </p:cNvCxnSpPr>
            <p:nvPr/>
          </p:nvCxnSpPr>
          <p:spPr>
            <a:xfrm>
              <a:off x="4335120" y="4519080"/>
              <a:ext cx="261000" cy="11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6585120" y="4691160"/>
              <a:ext cx="144288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oid necessary();/*0.h*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"/>
            <p:cNvCxnSpPr/>
            <p:nvPr/>
          </p:nvCxnSpPr>
          <p:spPr>
            <a:xfrm flipH="1" flipV="1">
              <a:off x="5226840" y="1196280"/>
              <a:ext cx="1367640" cy="3337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596640" y="4365720"/>
              <a:ext cx="968760" cy="246240"/>
            </a:xfrm>
            <a:prstGeom prst="rect">
              <a:avLst/>
            </a:prstGeom>
            <a:solidFill>
              <a:srgbClr val="fea0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structur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3. Highlights of Algorith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56764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fine grain depend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Comic Sans MS"/>
              </a:rPr>
              <a:t>*Program units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light weight depend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Comic Sans MS"/>
              </a:rPr>
              <a:t>**sequences 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orthogonal to other optimization ste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output can be traced back to the original code for debug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independent of the choice of C/C++ compil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5545080" cy="51958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3.1 Redundancy remov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a by-product of syntax parsing: O(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6661080" y="566100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1557360"/>
            <a:ext cx="50472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59640" y="2276640"/>
            <a:ext cx="50472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59640" y="2854440"/>
            <a:ext cx="50472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59640" y="3718080"/>
            <a:ext cx="50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59640" y="4365720"/>
            <a:ext cx="50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59640" y="5013360"/>
            <a:ext cx="50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303" idx="3"/>
            <a:endCxn id="306" idx="3"/>
          </p:cNvCxnSpPr>
          <p:nvPr/>
        </p:nvCxnSpPr>
        <p:spPr>
          <a:xfrm>
            <a:off x="7164360" y="1736640"/>
            <a:ext cx="2160" cy="21628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4" idx="3"/>
            <a:endCxn id="305" idx="3"/>
          </p:cNvCxnSpPr>
          <p:nvPr/>
        </p:nvCxnSpPr>
        <p:spPr>
          <a:xfrm>
            <a:off x="7164360" y="2455560"/>
            <a:ext cx="2160" cy="578520"/>
          </a:xfrm>
          <a:prstGeom prst="bentConnector3">
            <a:avLst>
              <a:gd name="adj1" fmla="val 8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5" idx="1"/>
            <a:endCxn id="305" idx="2"/>
          </p:cNvCxnSpPr>
          <p:nvPr/>
        </p:nvCxnSpPr>
        <p:spPr>
          <a:xfrm flipH="1" flipV="1" rot="10800000">
            <a:off x="6658560" y="3033360"/>
            <a:ext cx="253080" cy="180000"/>
          </a:xfrm>
          <a:prstGeom prst="bentConnector4">
            <a:avLst>
              <a:gd name="adj1" fmla="val -90455"/>
              <a:gd name="adj2" fmla="val 2272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7" idx="3"/>
            <a:endCxn id="302" idx="4"/>
          </p:cNvCxnSpPr>
          <p:nvPr/>
        </p:nvCxnSpPr>
        <p:spPr>
          <a:xfrm flipH="1">
            <a:off x="6912720" y="4546080"/>
            <a:ext cx="251640" cy="1475640"/>
          </a:xfrm>
          <a:prstGeom prst="bentConnector4">
            <a:avLst>
              <a:gd name="adj1" fmla="val -265186"/>
              <a:gd name="adj2" fmla="val 1153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5" idx="0"/>
            <a:endCxn id="302" idx="2"/>
          </p:cNvCxnSpPr>
          <p:nvPr/>
        </p:nvCxnSpPr>
        <p:spPr>
          <a:xfrm rot="5400000">
            <a:off x="5292000" y="4221720"/>
            <a:ext cx="2988360" cy="251640"/>
          </a:xfrm>
          <a:prstGeom prst="bentConnector4">
            <a:avLst>
              <a:gd name="adj1" fmla="val -3349"/>
              <a:gd name="adj2" fmla="val 3746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8" idx="3"/>
            <a:endCxn id="302" idx="6"/>
          </p:cNvCxnSpPr>
          <p:nvPr/>
        </p:nvCxnSpPr>
        <p:spPr>
          <a:xfrm>
            <a:off x="7164360" y="5194080"/>
            <a:ext cx="2160" cy="6483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 flipV="1">
            <a:off x="8432640" y="1341000"/>
            <a:ext cx="0" cy="475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25120" y="150804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97760" y="2300400"/>
            <a:ext cx="86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     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97760" y="2805120"/>
            <a:ext cx="86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     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25120" y="36687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999560" y="4365720"/>
            <a:ext cx="86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     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99560" y="5037120"/>
            <a:ext cx="86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     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999560" y="5684760"/>
            <a:ext cx="86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     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84692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Reducing Build Tim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for Evolving Softwar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23640" y="4652640"/>
            <a:ext cx="475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Dr. Yijun Yu &lt;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yijun@cs.toronto.edu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University of Toro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http://www.cs.toronto.edu/~yiju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5912" t="31493" r="5493" b="32257"/>
          <a:stretch/>
        </p:blipFill>
        <p:spPr>
          <a:xfrm>
            <a:off x="1835280" y="620640"/>
            <a:ext cx="5400720" cy="1657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72360" y="4365720"/>
            <a:ext cx="2219040" cy="1965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110988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3.2 Header restructuring based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a light-weight dependency gra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omic Sans MS"/>
              <a:ea typeface="宋体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300720" y="1600200"/>
            <a:ext cx="273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h: decla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H: new hea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C: sequence of defini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{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} transitive closure of PUD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Why light-weigh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LPUDG is a sequence of P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The implied PUDG is larger than PUD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The computation is much simpl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O(n) vs. 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63723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ven properties of the header restructuring algorith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1. No false depend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If h1, h2 are in the same generated header, and there is a path from h1 to c, then there is also a path from h2 to 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2. Maximal granula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Merging any two generated headers will introduce false dependenc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3. Correct orde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Generated sequences respect PUDG, i.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i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 depends on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 (denote by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), then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宋体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appears after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宋体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(denote by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 &lt;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) in generated cod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3.3 Reducing number of headers by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clustering the generat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file dependency graph (FD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Unlike similarity based clustering, LIMBO clustering is based on minimizing information-loss on merging vectors of dependent neighbors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[LIMBO, P. Andritsos et al,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TSE’05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When two compilation units are merged into a component, the dependent headers are merged into one header that is included by both compilation un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288040" y="4294080"/>
            <a:ext cx="718920" cy="936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Effect to the source co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054160" y="2062080"/>
            <a:ext cx="576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4160" y="2494080"/>
            <a:ext cx="57636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4160" y="2925720"/>
            <a:ext cx="576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05080" y="2062080"/>
            <a:ext cx="7207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494080"/>
            <a:ext cx="7207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05080" y="2925720"/>
            <a:ext cx="7207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"/>
          <p:cNvCxnSpPr>
            <a:stCxn id="333" idx="3"/>
            <a:endCxn id="336" idx="2"/>
          </p:cNvCxnSpPr>
          <p:nvPr/>
        </p:nvCxnSpPr>
        <p:spPr>
          <a:xfrm>
            <a:off x="2630520" y="224136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40" name=""/>
          <p:cNvCxnSpPr>
            <a:stCxn id="333" idx="3"/>
            <a:endCxn id="337" idx="1"/>
          </p:cNvCxnSpPr>
          <p:nvPr/>
        </p:nvCxnSpPr>
        <p:spPr>
          <a:xfrm>
            <a:off x="2630160" y="2241720"/>
            <a:ext cx="680040" cy="305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41" name=""/>
          <p:cNvCxnSpPr>
            <a:stCxn id="334" idx="3"/>
            <a:endCxn id="338" idx="1"/>
          </p:cNvCxnSpPr>
          <p:nvPr/>
        </p:nvCxnSpPr>
        <p:spPr>
          <a:xfrm>
            <a:off x="2630160" y="2673000"/>
            <a:ext cx="680040" cy="30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42" name=""/>
          <p:cNvCxnSpPr>
            <a:stCxn id="334" idx="3"/>
            <a:endCxn id="336" idx="3"/>
          </p:cNvCxnSpPr>
          <p:nvPr/>
        </p:nvCxnSpPr>
        <p:spPr>
          <a:xfrm flipV="1">
            <a:off x="2630160" y="2367720"/>
            <a:ext cx="680040" cy="30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43" name=""/>
          <p:cNvCxnSpPr>
            <a:stCxn id="335" idx="3"/>
            <a:endCxn id="338" idx="2"/>
          </p:cNvCxnSpPr>
          <p:nvPr/>
        </p:nvCxnSpPr>
        <p:spPr>
          <a:xfrm>
            <a:off x="2630520" y="310464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44" name=""/>
          <p:cNvCxnSpPr>
            <a:stCxn id="334" idx="3"/>
            <a:endCxn id="337" idx="2"/>
          </p:cNvCxnSpPr>
          <p:nvPr/>
        </p:nvCxnSpPr>
        <p:spPr>
          <a:xfrm>
            <a:off x="2630520" y="267300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45" name=""/>
          <p:cNvCxnSpPr>
            <a:stCxn id="335" idx="3"/>
            <a:endCxn id="337" idx="3"/>
          </p:cNvCxnSpPr>
          <p:nvPr/>
        </p:nvCxnSpPr>
        <p:spPr>
          <a:xfrm flipV="1">
            <a:off x="2630160" y="2800080"/>
            <a:ext cx="680040" cy="305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4281480" y="2133720"/>
            <a:ext cx="3589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52760" y="2565360"/>
            <a:ext cx="287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22600" y="3070080"/>
            <a:ext cx="21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88040" y="1989000"/>
            <a:ext cx="576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88040" y="2494080"/>
            <a:ext cx="576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59320" y="2927520"/>
            <a:ext cx="43200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46" idx="3"/>
            <a:endCxn id="349" idx="2"/>
          </p:cNvCxnSpPr>
          <p:nvPr/>
        </p:nvCxnSpPr>
        <p:spPr>
          <a:xfrm flipV="1">
            <a:off x="4640040" y="2204640"/>
            <a:ext cx="64836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6" idx="3"/>
            <a:endCxn id="350" idx="1"/>
          </p:cNvCxnSpPr>
          <p:nvPr/>
        </p:nvCxnSpPr>
        <p:spPr>
          <a:xfrm>
            <a:off x="4640040" y="2241720"/>
            <a:ext cx="732600" cy="305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4" name=""/>
          <p:cNvCxnSpPr>
            <a:stCxn id="347" idx="3"/>
            <a:endCxn id="351" idx="1"/>
          </p:cNvCxnSpPr>
          <p:nvPr/>
        </p:nvCxnSpPr>
        <p:spPr>
          <a:xfrm>
            <a:off x="4640400" y="2673000"/>
            <a:ext cx="7833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47" idx="3"/>
            <a:endCxn id="349" idx="3"/>
          </p:cNvCxnSpPr>
          <p:nvPr/>
        </p:nvCxnSpPr>
        <p:spPr>
          <a:xfrm flipV="1">
            <a:off x="4640040" y="2356920"/>
            <a:ext cx="732600" cy="316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6" name=""/>
          <p:cNvCxnSpPr>
            <a:stCxn id="348" idx="3"/>
            <a:endCxn id="351" idx="2"/>
          </p:cNvCxnSpPr>
          <p:nvPr/>
        </p:nvCxnSpPr>
        <p:spPr>
          <a:xfrm flipV="1">
            <a:off x="4640040" y="3106080"/>
            <a:ext cx="71964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7" idx="3"/>
            <a:endCxn id="350" idx="2"/>
          </p:cNvCxnSpPr>
          <p:nvPr/>
        </p:nvCxnSpPr>
        <p:spPr>
          <a:xfrm>
            <a:off x="4640040" y="267300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8" idx="3"/>
            <a:endCxn id="350" idx="3"/>
          </p:cNvCxnSpPr>
          <p:nvPr/>
        </p:nvCxnSpPr>
        <p:spPr>
          <a:xfrm flipV="1">
            <a:off x="4640040" y="2800080"/>
            <a:ext cx="732600" cy="342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>
            <a:off x="2557440" y="404136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61" idx="3"/>
          </p:cNvCxnSpPr>
          <p:nvPr/>
        </p:nvCxnSpPr>
        <p:spPr>
          <a:xfrm>
            <a:off x="2485800" y="4365360"/>
            <a:ext cx="75132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endCxn id="363" idx="2"/>
          </p:cNvCxnSpPr>
          <p:nvPr/>
        </p:nvCxnSpPr>
        <p:spPr>
          <a:xfrm>
            <a:off x="2557080" y="4905360"/>
            <a:ext cx="646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5" idx="3"/>
          </p:cNvCxnSpPr>
          <p:nvPr/>
        </p:nvCxnSpPr>
        <p:spPr>
          <a:xfrm flipV="1">
            <a:off x="2484000" y="4474800"/>
            <a:ext cx="64836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7" idx="3"/>
          </p:cNvCxnSpPr>
          <p:nvPr/>
        </p:nvCxnSpPr>
        <p:spPr>
          <a:xfrm>
            <a:off x="4709880" y="4041360"/>
            <a:ext cx="649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69" idx="3"/>
            <a:endCxn id="370" idx="2"/>
          </p:cNvCxnSpPr>
          <p:nvPr/>
        </p:nvCxnSpPr>
        <p:spPr>
          <a:xfrm>
            <a:off x="4854240" y="4725720"/>
            <a:ext cx="577080" cy="254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71" name=""/>
          <p:cNvCxnSpPr>
            <a:stCxn id="369" idx="3"/>
            <a:endCxn id="372" idx="2"/>
          </p:cNvCxnSpPr>
          <p:nvPr/>
        </p:nvCxnSpPr>
        <p:spPr>
          <a:xfrm flipV="1">
            <a:off x="4854600" y="4545720"/>
            <a:ext cx="505440" cy="180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5359320" y="378936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9320" y="4367160"/>
            <a:ext cx="576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30960" y="4800600"/>
            <a:ext cx="43164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2000" y="378936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32000" y="4294080"/>
            <a:ext cx="576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03640" y="4727520"/>
            <a:ext cx="43164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98520" y="3933720"/>
            <a:ext cx="3589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70160" y="429264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48704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41440" y="4510080"/>
            <a:ext cx="1429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8000" y="4365720"/>
            <a:ext cx="1429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8" idx="3"/>
            <a:endCxn id="365" idx="1"/>
          </p:cNvCxnSpPr>
          <p:nvPr/>
        </p:nvCxnSpPr>
        <p:spPr>
          <a:xfrm>
            <a:off x="2050560" y="4438440"/>
            <a:ext cx="2912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8" idx="3"/>
            <a:endCxn id="361" idx="1"/>
          </p:cNvCxnSpPr>
          <p:nvPr/>
        </p:nvCxnSpPr>
        <p:spPr>
          <a:xfrm flipV="1">
            <a:off x="2050560" y="4365000"/>
            <a:ext cx="21996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4351320" y="3933720"/>
            <a:ext cx="3589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1320" y="451008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2920" y="24652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ri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86880" y="2206800"/>
            <a:ext cx="14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dundanc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mov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precompi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720" y="4006800"/>
            <a:ext cx="189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lse dependen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moval (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structu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14160" y="4222800"/>
            <a:ext cx="173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ad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uste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Componentiz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1652760"/>
            <a:ext cx="57636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028000" y="2228760"/>
            <a:ext cx="7207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956720" y="3933720"/>
            <a:ext cx="8632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e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01080" y="4508640"/>
            <a:ext cx="7207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28000" y="4437000"/>
            <a:ext cx="936720" cy="936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101080" y="4941720"/>
            <a:ext cx="7207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"/>
          <p:cNvCxnSpPr/>
          <p:nvPr/>
        </p:nvCxnSpPr>
        <p:spPr>
          <a:xfrm>
            <a:off x="8101080" y="287784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2" name=""/>
          <p:cNvCxnSpPr/>
          <p:nvPr/>
        </p:nvCxnSpPr>
        <p:spPr>
          <a:xfrm>
            <a:off x="8172000" y="3309480"/>
            <a:ext cx="575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8012160" y="28494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rue de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58160" y="330984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lse de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40720" y="1557360"/>
            <a:ext cx="0" cy="4365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4. Experi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VIM stands for Vi-IMproved</a:t>
            </a:r>
            <a:br>
              <a:rPr sz="3200"/>
            </a:br>
            <a:r>
              <a:rPr b="0" lang="en-CA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vim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re you a VI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urrent version: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Bram Moolen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Developed i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172 KLOC in VIM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2818080" cy="47484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4643280" y="2205000"/>
            <a:ext cx="1133640" cy="10954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5796000" y="189000"/>
            <a:ext cx="1714320" cy="4284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5796000" y="765000"/>
            <a:ext cx="3097080" cy="4320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7"/>
          <a:stretch/>
        </p:blipFill>
        <p:spPr>
          <a:xfrm>
            <a:off x="4643280" y="3500280"/>
            <a:ext cx="1152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omic Sans MS"/>
              </a:rPr>
              <a:t>4.2 Fresh build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omic Sans MS"/>
              </a:rPr>
              <a:t>time redu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1484280"/>
            <a:ext cx="8964720" cy="4969080"/>
            <a:chOff x="0" y="1484280"/>
            <a:chExt cx="8964720" cy="49690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0" y="1484280"/>
              <a:ext cx="896472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 txBox="1"/>
            <p:nvPr/>
          </p:nvSpPr>
          <p:spPr>
            <a:xfrm>
              <a:off x="0" y="1484280"/>
              <a:ext cx="896472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427640" y="44280"/>
            <a:ext cx="4038480" cy="1401840"/>
            <a:chOff x="4427640" y="44280"/>
            <a:chExt cx="4038480" cy="1401840"/>
          </a:xfrm>
        </p:grpSpPr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4427640" y="44280"/>
              <a:ext cx="4038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 txBox="1"/>
            <p:nvPr/>
          </p:nvSpPr>
          <p:spPr>
            <a:xfrm>
              <a:off x="4427640" y="44280"/>
              <a:ext cx="4038480" cy="140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0" name=""/>
          <p:cNvSpPr txBox="1"/>
          <p:nvPr/>
        </p:nvSpPr>
        <p:spPr>
          <a:xfrm>
            <a:off x="3924360" y="1989000"/>
            <a:ext cx="187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eedup&gt;38x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492000" y="2276640"/>
            <a:ext cx="576360" cy="237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3492360" y="5661000"/>
            <a:ext cx="698760" cy="8222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rcRect l="0" t="0" r="54083" b="-378"/>
          <a:stretch/>
        </p:blipFill>
        <p:spPr>
          <a:xfrm>
            <a:off x="7451640" y="5950080"/>
            <a:ext cx="1514520" cy="1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Net speedup over parallel compilations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and cached compil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68360" y="1628640"/>
            <a:ext cx="8229600" cy="4525920"/>
            <a:chOff x="468360" y="1628640"/>
            <a:chExt cx="8229600" cy="452592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 txBox="1"/>
            <p:nvPr/>
          </p:nvSpPr>
          <p:spPr>
            <a:xfrm>
              <a:off x="468360" y="162864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8" name=""/>
          <p:cNvSpPr txBox="1"/>
          <p:nvPr/>
        </p:nvSpPr>
        <p:spPr>
          <a:xfrm>
            <a:off x="3924360" y="1341360"/>
            <a:ext cx="187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t speedup&gt;8x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492360" y="1484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492360" y="5661000"/>
            <a:ext cx="698760" cy="8222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rcRect l="0" t="0" r="54083" b="-378"/>
          <a:stretch/>
        </p:blipFill>
        <p:spPr>
          <a:xfrm>
            <a:off x="7451640" y="5950080"/>
            <a:ext cx="1514520" cy="1778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6659640" y="984240"/>
            <a:ext cx="1714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omic Sans MS"/>
              </a:rPr>
              <a:t>Fresh build time deta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11280" y="1052640"/>
            <a:ext cx="7762680" cy="5103720"/>
            <a:chOff x="611280" y="1052640"/>
            <a:chExt cx="7762680" cy="510372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611280" y="1052640"/>
              <a:ext cx="7762680" cy="51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 txBox="1"/>
            <p:nvPr/>
          </p:nvSpPr>
          <p:spPr>
            <a:xfrm>
              <a:off x="611280" y="1052640"/>
              <a:ext cx="7762680" cy="5103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7" name=""/>
          <p:cNvSpPr txBox="1"/>
          <p:nvPr/>
        </p:nvSpPr>
        <p:spPr>
          <a:xfrm>
            <a:off x="4716360" y="3139920"/>
            <a:ext cx="4032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ecomp. + overhead still saves 12%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03280" y="4581360"/>
            <a:ext cx="309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curves very close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17146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omic Sans MS"/>
              </a:rPr>
              <a:t>4.3 Incremental build (based on CV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30320" y="1268280"/>
            <a:ext cx="8978760" cy="50612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034040" y="115920"/>
            <a:ext cx="1714680" cy="4287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rcRect l="5912" t="31493" r="5493" b="32257"/>
          <a:stretch/>
        </p:blipFill>
        <p:spPr>
          <a:xfrm>
            <a:off x="826920" y="1125360"/>
            <a:ext cx="1944720" cy="5972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1979640" y="5877000"/>
            <a:ext cx="51847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1775 interv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over more than 5 yea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4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omic Sans MS"/>
              </a:rPr>
              <a:t>Incremental build time </a:t>
            </a: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Comic Sans MS"/>
              </a:rPr>
              <a:t>reduction (probabilistic analysi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9280" y="1360440"/>
            <a:ext cx="8867880" cy="4876920"/>
            <a:chOff x="179280" y="1360440"/>
            <a:chExt cx="8867880" cy="4876920"/>
          </a:xfrm>
        </p:grpSpPr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179280" y="1360440"/>
              <a:ext cx="886788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 txBox="1"/>
            <p:nvPr/>
          </p:nvSpPr>
          <p:spPr>
            <a:xfrm>
              <a:off x="179280" y="1360440"/>
              <a:ext cx="886788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9" name=""/>
          <p:cNvSpPr txBox="1"/>
          <p:nvPr/>
        </p:nvSpPr>
        <p:spPr>
          <a:xfrm>
            <a:off x="1692360" y="3284640"/>
            <a:ext cx="6480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gt; 10x gain by restructuring or componentization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7178760" y="115920"/>
            <a:ext cx="1714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. Roadmap of my research: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-6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ftware re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I. Topic of today: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7-34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uild process optimiz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II. My research plan: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quirements-driven software reengineering (autonomic proces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V. De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2737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omic Sans MS"/>
              </a:rPr>
              <a:t>4.4 The industrial case study   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omic Sans MS"/>
              </a:rPr>
              <a:t>                   C+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097440" cy="4316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4920" y="1844640"/>
            <a:ext cx="9001080" cy="41576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1476360" y="587700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14.02 minutes --&gt; 4.44 minutes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omic Sans MS"/>
              </a:rPr>
              <a:t>4.5 Summary of the resul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chieved 2~8x net speedup of fresh build and 10x speedup to incremental builds on top of advanced build optim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Significantly reduced the size/number of component interfaces and improved the maintainability for an IBM produ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everal other companies including </a:t>
            </a:r>
            <a:r>
              <a:rPr b="0" i="1" lang="en-CA" sz="2400" spc="-1" strike="noStrike">
                <a:solidFill>
                  <a:srgbClr val="000000"/>
                </a:solidFill>
                <a:latin typeface="Comic Sans MS"/>
              </a:rPr>
              <a:t>Wind River,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CA" sz="2400" spc="-1" strike="noStrike">
                <a:solidFill>
                  <a:srgbClr val="000000"/>
                </a:solidFill>
                <a:latin typeface="Comic Sans MS"/>
              </a:rPr>
              <a:t>Motorola and HuaWei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have shown interests in this too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 prototype can be downloaded at</a:t>
            </a:r>
            <a:br>
              <a:rPr sz="2800"/>
            </a:br>
            <a:r>
              <a:rPr b="0" lang="en-CA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sourceforge.net/projects/prec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7667640" y="5013360"/>
            <a:ext cx="110952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ted work and to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mpilers and the build process [icc, gcc; make, ant, pmake, dmake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 V. Aho, R. Sethi, J. D. Ullma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ompilers, Principles, Techniques, and Tool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Addison-Wesley, 198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. A. Cusumano, R. W. Selby. How Microsoft builds software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ommunications of the AC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40(6), 1997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lective compil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 A. Borison. Program Changes and the Cost of Selective Recompilation. PhD thesis, Carnegie Mellon University, 1989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. Burke and L. Torczon. Interprocedural optimization: Eliminating unnecessary recompilation. ACM Transactions on Programming Languages and Systems,15(3):367–399, July 1993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. Adams, W. Tichy, and A. Weinert. The cost of selective recompilation and environment processing. ACM Transactions on Software Engineering Methodology, 3(1):3–28, Jan. 1994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compiled headers, distributed compilation and compiler cache [gch, distcc, ccache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 Litman. An implementation of precompiled headers. Software-Practice and Experience, 23(3):341–350, Mar. 1993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. Onodera. Reducing compilation time by a compilation server. Software-Practice and Experience, 23(5):477–485, May 1993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 Koehler and R. N. Horspool. CCC: A caching compiler for C. Software-Practice and Experience, 27(2):155–165, 1997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rchitectual repair [KLOCWORK InSight, ICSE’99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ohn Tran, Mike Godfrey, Eric Lee, Ric Holt. Architectural Repair of Open Source Software", In: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Proceedings of International Workshop on Program Comprehen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2000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. C. Murphy, D. Notkin, and K. J. Sullivan. Software reflexion models: Bridging the gap between design and implementation. IEEE Transactions on Software Engineering, 27(4):364–380, 2001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More Applications…</a:t>
            </a: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ving Computing effor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build time for the Gentoo Linux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lies on GCC to compile every package from source c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cache, distc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re used to improve its build perform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will be used there to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build time for other programming language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Java, C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type: </a:t>
            </a:r>
            <a:br>
              <a:rPr sz="1800"/>
            </a:b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svn://www.cs.toronto.edu/cs/htdocs/km/prec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loWorld.java =&gt; +20% ~ +106%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CJ, SWT (Eclipse) =&gt; +2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the size of WSDL, the interfaces of Organization Web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ize of WSDL can be cumbersome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eBay WSDL is larger than 1M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 clients may demand different facets of the WSD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6985080" y="1844640"/>
            <a:ext cx="674640" cy="8031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956720" y="3141720"/>
            <a:ext cx="1008000" cy="6652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7308720" y="3141720"/>
            <a:ext cx="428760" cy="6476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7451640" y="4941720"/>
            <a:ext cx="1368360" cy="622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7734240" y="1773360"/>
            <a:ext cx="1301760" cy="8492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7956720" y="0"/>
            <a:ext cx="1187280" cy="11700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7"/>
          <a:stretch/>
        </p:blipFill>
        <p:spPr>
          <a:xfrm>
            <a:off x="6659640" y="0"/>
            <a:ext cx="11523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Applica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ving Human Effor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interfaces for better understanding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ACTO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compon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servic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VIEWPOINTS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hem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views (querie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aspec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vers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domai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ontolog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human parsing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urn a paper into a program 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Comic Sans MS"/>
              </a:rPr>
              <a:t>Program unit =&gt; concept: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Definition =&gt; new concept; Declaration =&gt; cited old con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Header unit =&gt; cited paper; Compilation unit =&gt; the p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Literate programming (D. Knuth) =&gt; Literature programming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Every paper provides a set of concepts as key contribu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Every citation may import some concep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836720" cy="132588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5651640" y="2060640"/>
            <a:ext cx="1728720" cy="1727280"/>
            <a:chOff x="5651640" y="2060640"/>
            <a:chExt cx="1728720" cy="1727280"/>
          </a:xfrm>
        </p:grpSpPr>
        <p:sp>
          <p:nvSpPr>
            <p:cNvPr id="463" name=""/>
            <p:cNvSpPr/>
            <p:nvPr/>
          </p:nvSpPr>
          <p:spPr>
            <a:xfrm>
              <a:off x="5651640" y="2060640"/>
              <a:ext cx="1728720" cy="172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12000" y="2492640"/>
              <a:ext cx="1079280" cy="93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o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51640" y="277992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91280" y="263556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4000" y="335628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8" name="" descr=""/>
            <p:cNvPicPr/>
            <p:nvPr/>
          </p:nvPicPr>
          <p:blipFill>
            <a:blip r:embed="rId2"/>
            <a:stretch/>
          </p:blipFill>
          <p:spPr>
            <a:xfrm>
              <a:off x="6299280" y="2132280"/>
              <a:ext cx="30456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3"/>
            <a:stretch/>
          </p:blipFill>
          <p:spPr>
            <a:xfrm>
              <a:off x="6012000" y="3356280"/>
              <a:ext cx="28728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4"/>
            <a:stretch/>
          </p:blipFill>
          <p:spPr>
            <a:xfrm>
              <a:off x="5867280" y="2348280"/>
              <a:ext cx="297000" cy="2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5"/>
            <a:stretch/>
          </p:blipFill>
          <p:spPr>
            <a:xfrm>
              <a:off x="6372360" y="3427560"/>
              <a:ext cx="3045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6"/>
            <a:stretch/>
          </p:blipFill>
          <p:spPr>
            <a:xfrm>
              <a:off x="6804000" y="2276640"/>
              <a:ext cx="3049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7"/>
            <a:stretch/>
          </p:blipFill>
          <p:spPr>
            <a:xfrm>
              <a:off x="7020000" y="3069000"/>
              <a:ext cx="287280" cy="22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"/>
          <p:cNvSpPr/>
          <p:nvPr/>
        </p:nvSpPr>
        <p:spPr>
          <a:xfrm>
            <a:off x="7451640" y="1917720"/>
            <a:ext cx="1008000" cy="936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27640" y="1989000"/>
            <a:ext cx="1079280" cy="9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51640" y="2925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0560" y="2925720"/>
            <a:ext cx="107928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8"/>
          <a:stretch/>
        </p:blipFill>
        <p:spPr>
          <a:xfrm>
            <a:off x="7956720" y="0"/>
            <a:ext cx="1187280" cy="1171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9"/>
          <a:stretch/>
        </p:blipFill>
        <p:spPr>
          <a:xfrm>
            <a:off x="6659640" y="0"/>
            <a:ext cx="11523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1844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 III. Future Research agend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Requirements-driven high variability desig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Business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utonomic designs, based 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High variability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Monitoring and diagnostic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Reengineering legacy code for variability and autonomi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Granted projects with software compan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IB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Computer Associat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HuaWe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rojects with open source communit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Requirements Engineering Tools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Open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Software Development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YAXX, PRECC, PRECJ, AspectPH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High performance compilers and environments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FPT/PEFPT (ISV, CacheViz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732720" y="1484280"/>
            <a:ext cx="221904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IV. DEMO, Q &amp;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l TC2300 2x 1.66 GHz CP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5 GB Physical Memo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512MB used in the virtual machin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: Gentoo Linux 2005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CC version: 3.4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hanghai Fudan University, Chin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Chuan-Qi Zh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Leqiu Qi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Binyu Za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Baile Sh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Weiwei Su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hent University, Belgiu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Erik H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D'Holland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Koen de Bossche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r. Kristof Bey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r. Jing-Hao X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niversity of Toronto, Can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John Mylopoul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Steve M. Easterbroo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Eric S. K. Y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exei Lapouchni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tirios Liask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iqiao Wa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UC-Rio, Brazi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Julio Cesar Sampaio do Prado Lei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niversity of Windsor, Can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Jianguo L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ijing Tsinghua Univers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Lin Li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niversity of Trento, Ita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Periklis Andrits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en’s University, Can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. Ying Zo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BM (DB2, Webspher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r. Homayoun Dayani-Fa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r. Martin Litoi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el (compiler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r. Bo Hua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tform, Inc (Globus grid computing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r. Fubo Zha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i Wa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 I. Software Reenginee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540360" y="51577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宋体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960" y="1916280"/>
            <a:ext cx="233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program understan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&amp;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124000" y="5300640"/>
            <a:ext cx="3240000" cy="368280"/>
            <a:chOff x="2124000" y="5300640"/>
            <a:chExt cx="3240000" cy="368280"/>
          </a:xfrm>
        </p:grpSpPr>
        <p:sp>
          <p:nvSpPr>
            <p:cNvPr id="55" name=""/>
            <p:cNvSpPr/>
            <p:nvPr/>
          </p:nvSpPr>
          <p:spPr>
            <a:xfrm flipV="1">
              <a:off x="2124000" y="5300640"/>
              <a:ext cx="3240000" cy="64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47560" y="530064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Restructu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364000" y="508464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宋体"/>
              </a:rPr>
              <a:t>SOFTWARE WITH </a:t>
            </a:r>
            <a:br>
              <a:rPr sz="1800"/>
            </a:br>
            <a:r>
              <a:rPr b="0" lang="en-CA" sz="1800" spc="-1" strike="noStrike">
                <a:solidFill>
                  <a:srgbClr val="ff0000"/>
                </a:solidFill>
                <a:latin typeface="Arial"/>
                <a:ea typeface="宋体"/>
              </a:rPr>
              <a:t>HIGHE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CA" sz="1800" spc="-1" strike="noStrike">
                <a:solidFill>
                  <a:srgbClr val="99cc00"/>
                </a:solidFill>
                <a:latin typeface="Arial"/>
                <a:ea typeface="宋体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319640" y="2355840"/>
            <a:ext cx="1846440" cy="2728800"/>
            <a:chOff x="4319640" y="2355840"/>
            <a:chExt cx="1846440" cy="2728800"/>
          </a:xfrm>
        </p:grpSpPr>
        <p:sp>
          <p:nvSpPr>
            <p:cNvPr id="59" name=""/>
            <p:cNvSpPr/>
            <p:nvPr/>
          </p:nvSpPr>
          <p:spPr>
            <a:xfrm rot="3441600">
              <a:off x="4263480" y="354600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Forward engine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19640" y="2355840"/>
              <a:ext cx="1620720" cy="27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5729400" y="2565360"/>
            <a:ext cx="164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Var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Adap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(produ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72880" y="2565360"/>
            <a:ext cx="1665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Trace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Configur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Reus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Ag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(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68360" y="5589720"/>
            <a:ext cx="1996920" cy="984960"/>
            <a:chOff x="2268360" y="5589720"/>
            <a:chExt cx="1996920" cy="984960"/>
          </a:xfrm>
        </p:grpSpPr>
        <p:sp>
          <p:nvSpPr>
            <p:cNvPr id="64" name=""/>
            <p:cNvSpPr/>
            <p:nvPr/>
          </p:nvSpPr>
          <p:spPr>
            <a:xfrm flipV="1">
              <a:off x="2268360" y="5589720"/>
              <a:ext cx="790920" cy="79200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23960" y="6237360"/>
              <a:ext cx="174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opic of the Tal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011560" y="1844640"/>
            <a:ext cx="307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Non-Function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70080" y="2349000"/>
            <a:ext cx="1933560" cy="2808360"/>
            <a:chOff x="1270080" y="2349000"/>
            <a:chExt cx="1933560" cy="2808360"/>
          </a:xfrm>
        </p:grpSpPr>
        <p:sp>
          <p:nvSpPr>
            <p:cNvPr id="68" name=""/>
            <p:cNvSpPr/>
            <p:nvPr/>
          </p:nvSpPr>
          <p:spPr>
            <a:xfrm flipV="1">
              <a:off x="1403280" y="2349000"/>
              <a:ext cx="1800360" cy="2808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8218400">
              <a:off x="914040" y="3521880"/>
              <a:ext cx="22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Reverse engine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95280" y="5661000"/>
            <a:ext cx="8569440" cy="824040"/>
            <a:chOff x="395280" y="5661000"/>
            <a:chExt cx="8569440" cy="824040"/>
          </a:xfrm>
        </p:grpSpPr>
        <p:sp>
          <p:nvSpPr>
            <p:cNvPr id="71" name=""/>
            <p:cNvSpPr/>
            <p:nvPr/>
          </p:nvSpPr>
          <p:spPr>
            <a:xfrm>
              <a:off x="395280" y="623736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46160" y="5877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0520" y="5661000"/>
              <a:ext cx="134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evolution &amp; 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maintenance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96720" y="690480"/>
            <a:ext cx="4822920" cy="5618880"/>
            <a:chOff x="396720" y="690480"/>
            <a:chExt cx="4822920" cy="5618880"/>
          </a:xfrm>
        </p:grpSpPr>
        <p:grpSp>
          <p:nvGrpSpPr>
            <p:cNvPr id="75" name=""/>
            <p:cNvGrpSpPr/>
            <p:nvPr/>
          </p:nvGrpSpPr>
          <p:grpSpPr>
            <a:xfrm>
              <a:off x="2339640" y="690480"/>
              <a:ext cx="2880000" cy="4408560"/>
              <a:chOff x="2339640" y="690480"/>
              <a:chExt cx="2880000" cy="4408560"/>
            </a:xfrm>
          </p:grpSpPr>
          <p:sp>
            <p:nvSpPr>
              <p:cNvPr id="76" name=""/>
              <p:cNvSpPr/>
              <p:nvPr/>
            </p:nvSpPr>
            <p:spPr>
              <a:xfrm>
                <a:off x="2339640" y="2781360"/>
                <a:ext cx="288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Specific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2914560" y="690480"/>
                <a:ext cx="1778760" cy="4408560"/>
                <a:chOff x="2914560" y="690480"/>
                <a:chExt cx="1778760" cy="4408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990160" y="1989000"/>
                  <a:ext cx="170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Requireme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999880" y="342900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Architectu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276720" y="4076640"/>
                  <a:ext cx="1069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Desig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449520" y="4730760"/>
                  <a:ext cx="75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Cod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14560" y="690480"/>
                  <a:ext cx="1728720" cy="1301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3" name=""/>
            <p:cNvGrpSpPr/>
            <p:nvPr/>
          </p:nvGrpSpPr>
          <p:grpSpPr>
            <a:xfrm>
              <a:off x="396720" y="1219320"/>
              <a:ext cx="1222200" cy="5090040"/>
              <a:chOff x="396720" y="1219320"/>
              <a:chExt cx="1222200" cy="509004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396720" y="1219320"/>
                <a:ext cx="948960" cy="5090040"/>
                <a:chOff x="396720" y="1219320"/>
                <a:chExt cx="948960" cy="50900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68360" y="1219320"/>
                  <a:ext cx="80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uma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466560" y="1434960"/>
                  <a:ext cx="0" cy="482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96720" y="5972040"/>
                  <a:ext cx="94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ach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539640" y="1484280"/>
                <a:ext cx="107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bstra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admap of my resear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Quality Improv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omic Sans MS"/>
              </a:rPr>
              <a:t>Performanc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of software produ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p parallelizing transformations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PhD98, ICPP’00, ICPP’04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 visualizations for parallelism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JVLC’01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cache behavior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IV’01, PDCS’02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omic Sans MS"/>
              </a:rPr>
              <a:t>Traceabilit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between requirements and c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rly aspect identification from requirements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RE’04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verse engineering requirements from code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RE’05a, RE’05b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lity-based software reuse, Q7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CAiSE’05, RE’06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omic Sans MS"/>
              </a:rPr>
              <a:t>Interoperabilit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mong programming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MLization of programs with YAXX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IV’04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ML markup i18n/l10n with XSLT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SPE’05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mantic Web service synthesis with query rewriting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WIRI’05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omic Sans MS"/>
              </a:rPr>
              <a:t>Productivit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of development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-time optimization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CASCON’03, ICSM’05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onentization for parallel development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[FASE’05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5661000"/>
            <a:ext cx="72072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40720" y="5229360"/>
            <a:ext cx="1109520" cy="982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600" y="57340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PhD98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: Development of an Interactive Parallel Programming Environment, Shanghai Fudan University. 19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ICPP’00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Erik H. D'Hollander: Partitioning Loops with Variable Dependence Distances. ICPP 2000: 209-218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ICPP’04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Erik H. D'Hollander: Non-Uniform Dependences Partitioned by Recurrence Chains. ICPP 2004: 100-107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JVLC’01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Erik H. D'Hollander: Loop Parallelization using the 3D Iteration Space Visualizer. J. Vis. Lang. Comput. 12(2): 163-181 (2001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IV’01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Kristof Beyls, Erik H. D'Hollander: Visualizing the Impact of the Cache on Program Execution. IV 2001: 336-341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PDCS’02]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Kristof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Beyl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Erik H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D'Hollande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Yijun Yu: Visualization Enables the Programmer to Reduce Cache Misses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PDCS 200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774-781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RE’04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Julio Ces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Sampai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 d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0"/>
              </a:rPr>
              <a:t>Prad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1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2"/>
              </a:rPr>
              <a:t>Lei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3"/>
              </a:rPr>
              <a:t>John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4"/>
              </a:rPr>
              <a:t>Mylopoul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From Goals to Aspects: Discovering Aspects from Requirements Goal Models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5"/>
              </a:rPr>
              <a:t>RE 2004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38-47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RE’05a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6"/>
              </a:rPr>
              <a:t>Yiqia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7"/>
              </a:rPr>
              <a:t> Wang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8"/>
              </a:rPr>
              <a:t>John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9"/>
              </a:rPr>
              <a:t>Mylopoul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0"/>
              </a:rPr>
              <a:t>Sotirio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1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2"/>
              </a:rPr>
              <a:t>Liask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3"/>
              </a:rPr>
              <a:t>Alexei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4"/>
              </a:rPr>
              <a:t>Lapouchnia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5"/>
              </a:rPr>
              <a:t>Julio Ces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6"/>
              </a:rPr>
              <a:t>Sampai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7"/>
              </a:rPr>
              <a:t> d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8"/>
              </a:rPr>
              <a:t>Prad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29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0"/>
              </a:rPr>
              <a:t>Lei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Reverse Engineering Goal Models from Legacy Code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1"/>
              </a:rPr>
              <a:t>RE 200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363-372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RE’05b]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2"/>
              </a:rPr>
              <a:t>Sotirio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3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4"/>
              </a:rPr>
              <a:t>Liask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5"/>
              </a:rPr>
              <a:t>Alexei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6"/>
              </a:rPr>
              <a:t>Lapouchnia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7"/>
              </a:rPr>
              <a:t>Yiqia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8"/>
              </a:rPr>
              <a:t> Wang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39"/>
              </a:rPr>
              <a:t>Steve M. Easterbrook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Configuring Common Personal Software: a Requirements-Driven Approach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0"/>
              </a:rPr>
              <a:t>RE 200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9-18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CAiSE’05]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1"/>
              </a:rPr>
              <a:t>Julio Cesa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2"/>
              </a:rPr>
              <a:t>Sampai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3"/>
              </a:rPr>
              <a:t> d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4"/>
              </a:rPr>
              <a:t>Prad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5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6"/>
              </a:rPr>
              <a:t>Lei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7"/>
              </a:rPr>
              <a:t>Lin Liu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8"/>
              </a:rPr>
              <a:t>Eric S. K. Yu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49"/>
              </a:rPr>
              <a:t>John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0"/>
              </a:rPr>
              <a:t>Mylopoul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Quality-Based Software Reuse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1"/>
              </a:rPr>
              <a:t>CAiS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2"/>
              </a:rPr>
              <a:t> 200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535-550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IV’04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3"/>
              </a:rPr>
              <a:t>Kristof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4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5"/>
              </a:rPr>
              <a:t>Beyl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6"/>
              </a:rPr>
              <a:t>Erik H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7"/>
              </a:rPr>
              <a:t>D'Hollande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Performance Visualizations using XML Representations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8"/>
              </a:rPr>
              <a:t>IV 2004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795-800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SPE’05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59"/>
              </a:rPr>
              <a:t>Jiangu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0"/>
              </a:rPr>
              <a:t> Lu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1"/>
              </a:rPr>
              <a:t>John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2"/>
              </a:rPr>
              <a:t>Mylopoul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3"/>
              </a:rPr>
              <a:t>Weiwei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4"/>
              </a:rPr>
              <a:t> Su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5"/>
              </a:rPr>
              <a:t>Jing-Ha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6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7"/>
              </a:rPr>
              <a:t>Xu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8"/>
              </a:rPr>
              <a:t>Erik H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69"/>
              </a:rPr>
              <a:t>D'Hollande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Making XML document markup international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0"/>
              </a:rPr>
              <a:t>Softw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1"/>
              </a:rPr>
              <a:t>.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2"/>
              </a:rPr>
              <a:t>Pract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3"/>
              </a:rPr>
              <a:t>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4"/>
              </a:rPr>
              <a:t>Exper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5"/>
              </a:rPr>
              <a:t>. 3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1): 1-14 (2005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WIRI’05]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6"/>
              </a:rPr>
              <a:t>Jianguo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7"/>
              </a:rPr>
              <a:t> Lu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8"/>
              </a:rPr>
              <a:t>John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79"/>
              </a:rPr>
              <a:t>Mylopoul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A Lightweight Approach to Semantic Web Service Synthesis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0"/>
              </a:rPr>
              <a:t>WIRI 200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240-247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CASCON’03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1"/>
              </a:rPr>
              <a:t>Homayoun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2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3"/>
              </a:rPr>
              <a:t>Dayani-Far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4"/>
              </a:rPr>
              <a:t>John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5"/>
              </a:rPr>
              <a:t>Mylopoul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Removing false code dependencies to speedup software build processes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6"/>
              </a:rPr>
              <a:t>CASCON 2003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343-352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omic Sans MS"/>
              </a:rPr>
              <a:t>[FASE’05]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7"/>
              </a:rPr>
              <a:t>Homayoun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8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89"/>
              </a:rPr>
              <a:t>Dayani-Far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0"/>
              </a:rPr>
              <a:t>John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1"/>
              </a:rPr>
              <a:t>Mylopoul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2"/>
              </a:rPr>
              <a:t>Perikli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3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4"/>
              </a:rPr>
              <a:t>Andrits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Improving the Build Architecture of Legacy C/C++ Software Systems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5"/>
              </a:rPr>
              <a:t>FASE 200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96-110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33"/>
                </a:solidFill>
                <a:latin typeface="Comic Sans MS"/>
              </a:rPr>
              <a:t>[ICSM’05]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ijun Yu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6"/>
              </a:rPr>
              <a:t>Homayoun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7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8"/>
              </a:rPr>
              <a:t>Dayani-Far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99"/>
              </a:rPr>
              <a:t>John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00"/>
              </a:rPr>
              <a:t>Mylopoul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01"/>
              </a:rPr>
              <a:t>Perikli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02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03"/>
              </a:rPr>
              <a:t>Andritso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Reducing Build Time through Precompilations for Evolving Large Software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omic Sans MS"/>
                <a:hlinkClick r:id="rId104"/>
              </a:rPr>
              <a:t>ICSM 200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59-68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71280" y="5157720"/>
            <a:ext cx="8964720" cy="122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 II. Topic of the talk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Reducing Buil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7561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 need and research proble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back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: engineering + graph theor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irical studies and quantitative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80000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11280" y="520776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33"/>
                </a:solidFill>
                <a:latin typeface="Arial"/>
              </a:rPr>
              <a:t>Based on [CASCON’03, FASE’05, ICSM’0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ourceforge.net/projects/pre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vn://www.cs.toronto.edu/cs/htdocs/km/pre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Industrial n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 typical large-scale software system develop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IBM product, maintained for dec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7+ Million L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500+ developers distributed in 100+ develop te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Every team owns/develops at least one compon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System software, thus majority of components are in C/C+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Average component size 100 KLOC ~ VI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Released for different kinds of platforms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(Linux, AIX, Windows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The software system is getting increasingly complex</a:t>
            </a:r>
            <a:br>
              <a:rPr sz="2400"/>
            </a:br>
            <a:r>
              <a:rPr b="0" lang="en-CA" sz="2400" spc="-1" strike="noStrike">
                <a:solidFill>
                  <a:srgbClr val="333399"/>
                </a:solidFill>
                <a:latin typeface="Comic Sans MS"/>
              </a:rPr>
              <a:t>[M. M. Lehman’s 2</a:t>
            </a:r>
            <a:r>
              <a:rPr b="0" lang="en-CA" sz="2400" spc="-1" strike="noStrike" baseline="30000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CA" sz="2400" spc="-1" strike="noStrike">
                <a:solidFill>
                  <a:srgbClr val="333399"/>
                </a:solidFill>
                <a:latin typeface="Comic Sans MS"/>
              </a:rPr>
              <a:t> law of software evolution, </a:t>
            </a:r>
            <a:br>
              <a:rPr sz="2400"/>
            </a:br>
            <a:r>
              <a:rPr b="0" lang="en-CA" sz="2400" spc="-1" strike="noStrike">
                <a:solidFill>
                  <a:srgbClr val="333399"/>
                </a:solidFill>
                <a:latin typeface="Comic Sans MS"/>
              </a:rPr>
              <a:t>Belady&amp;Lehman ’76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Quality decays and suffers from increasing customer defects </a:t>
            </a:r>
            <a:r>
              <a:rPr b="0" lang="en-CA" sz="2400" spc="-1" strike="noStrike">
                <a:solidFill>
                  <a:srgbClr val="333399"/>
                </a:solidFill>
                <a:latin typeface="Comic Sans MS"/>
              </a:rPr>
              <a:t>[J. Wu, R. Holt, A.Hassan, WCRE’04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46920" y="665280"/>
            <a:ext cx="277308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Why does quality deca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Developers said to us: We can’t test it before it is built, and building the software is very sl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How slow is 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Comic Sans MS"/>
              </a:rPr>
              <a:t>Fresh 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build: </a:t>
            </a:r>
            <a:r>
              <a:rPr b="0" i="1" lang="en-CA" sz="2000" spc="-1" strike="noStrike">
                <a:solidFill>
                  <a:srgbClr val="000000"/>
                </a:solidFill>
                <a:latin typeface="Comic Sans MS"/>
              </a:rPr>
              <a:t>cleanly build the whole system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   &gt; 7 hours to build on a development works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Comic Sans MS"/>
              </a:rPr>
              <a:t>Incremental 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build: </a:t>
            </a:r>
            <a:r>
              <a:rPr b="0" i="1" lang="en-CA" sz="2000" spc="-1" strike="noStrike">
                <a:solidFill>
                  <a:srgbClr val="000000"/>
                </a:solidFill>
                <a:latin typeface="Comic Sans MS"/>
              </a:rPr>
              <a:t>build for the 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~ 20 minutes to build a single compon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arallel development is desi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500+ developers in 100+ te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oupling components make it difficult to change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Headers are used by a different team at a differen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88000" y="2411280"/>
          <a:ext cx="222732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411280"/>
                    <a:ext cx="22273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 txBox="1"/>
          <p:nvPr/>
        </p:nvSpPr>
        <p:spPr>
          <a:xfrm>
            <a:off x="611280" y="5661000"/>
            <a:ext cx="784836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customer failure amounts to ~$300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5:51:07Z</dcterms:created>
  <dc:creator>Yijun</dc:creator>
  <dc:description/>
  <dc:language>en-US</dc:language>
  <cp:lastModifiedBy>Yijun Yu</cp:lastModifiedBy>
  <dcterms:modified xsi:type="dcterms:W3CDTF">2006-04-24T23:31:32Z</dcterms:modified>
  <cp:revision>805</cp:revision>
  <dc:subject/>
  <dc:title>Improving the build architecture of legacy C/C++ software systems</dc:title>
</cp:coreProperties>
</file>