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74350-1122-426F-813C-1D453EDA0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6475F-0E03-47CE-A155-BE89FE272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CEFF0-9AD7-472B-9151-1225042C9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2CBF2-11CA-48FB-BB95-79F04D168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497AD-2595-403A-9BA8-6E8EDC6E5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BC88D-9317-4364-902C-C43F1532B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FBF62-D7E9-4136-9804-2E2A98A61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80889-D313-4C3D-90B3-8F47D0007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2999D-8E8E-4B93-BD57-63AB8E1EC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8E564-1BEB-447C-96A5-A1714F0F4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A1088-31A5-4FD8-8D2E-5901DB64E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8CEEB-22F8-4909-9EFF-D1D0CBB14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05F35-0F9D-4410-87AB-8AB9F6C41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2E871-8343-4249-8294-FE65FD8FF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7C9D3-3247-45CE-AF9F-89C6988C7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A2C49-2171-48EE-8C35-1E5B5B847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DCB2B-E5C7-4F09-81FE-AE25613EC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1F800-0B23-4FFF-AAC8-B95BAE84D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F18C1-1E59-45D9-B69C-135A1B159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99DA9-26C8-4961-9155-A2C1B5A55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28E09-CD04-4C61-B438-D389C68F7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E8C20-849E-4376-A825-D2B9F9248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E6A7E-3B2E-4D3E-AD84-EEF7603E9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C3B34-7DAE-4470-99E4-6D6FFBC4B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rchitectural Pattern for Dependable Software Syste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59AEE-14C2-456A-AD8A-2543AE632A7F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A61D6-C6AD-44DC-AEF2-AD3418C1C2DE}" type="slidenum">
              <a:rPr b="1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53" name="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09720" algn="ctr">
              <a:spcBef>
                <a:spcPts val="601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17640" algn="ctr"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00080" y="1279080"/>
            <a:ext cx="7145280" cy="23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420000"/>
                </a:solidFill>
                <a:latin typeface="Times New Roman"/>
              </a:rPr>
              <a:t>Architectural Pattern for Dependable Software Systems</a:t>
            </a:r>
            <a:endParaRPr b="0" lang="en-US" sz="4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723600" y="4124160"/>
            <a:ext cx="7697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ristina Gac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mail: cristina.gacek@ncl.ac.u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24</a:t>
            </a:r>
            <a:r>
              <a:rPr b="1" lang="en-GB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of April 20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Merging Poin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55400" indent="-455400">
              <a:lnSpc>
                <a:spcPct val="85000"/>
              </a:lnSpc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rchitectural focus has traditionally been on rigorous de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5400" indent="-455400">
              <a:lnSpc>
                <a:spcPct val="85000"/>
              </a:lnSpc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ependability focus has traditionally been on lower levels of abstraction and the acceptance that residual faults will always be pres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5400" indent="-455400">
              <a:lnSpc>
                <a:spcPct val="85000"/>
              </a:lnSpc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ringing together these two areas encourages (*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80560" indent="-423000">
              <a:lnSpc>
                <a:spcPct val="85000"/>
              </a:lnSpc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Dependability considerations addressed at the architectural level of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36680" indent="-453960">
              <a:lnSpc>
                <a:spcPct val="85000"/>
              </a:lnSpc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Don’t leave until later (implementa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36680" indent="-453960">
              <a:lnSpc>
                <a:spcPct val="85000"/>
              </a:lnSpc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Accept that faults will always exi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80560" indent="-423000">
              <a:lnSpc>
                <a:spcPct val="85000"/>
              </a:lnSpc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ddress dependability at run-time accounting for architectural inform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36680" indent="-453960">
              <a:lnSpc>
                <a:spcPct val="85000"/>
              </a:lnSpc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Consider global deci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36680" indent="-453960">
              <a:lnSpc>
                <a:spcPct val="85000"/>
              </a:lnSpc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Not just implementation focused, but accounting for (intended) system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5400" indent="-455400">
              <a:lnSpc>
                <a:spcPct val="85000"/>
              </a:lnSpc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e named this:  (with de Lemos and Romanovsky in 200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80560" indent="-423000">
              <a:lnSpc>
                <a:spcPct val="85000"/>
              </a:lnSpc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Architecting Dependable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31D5B-B1B0-4F61-A94F-69C1636263E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0000"/>
                </a:solidFill>
                <a:latin typeface="Times New Roman"/>
              </a:rPr>
              <a:t>Approaches for Architecting Dependable Systems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441360" indent="-441360"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ost approaches focus on a single dependability techn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53200" indent="-410040"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Rigorous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439920">
              <a:lnSpc>
                <a:spcPct val="95000"/>
              </a:lnSpc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Use of formal notations for describing and analyzing architectures  (*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439920">
              <a:lnSpc>
                <a:spcPct val="95000"/>
              </a:lnSpc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Structuring guidelines  (*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53200" indent="-410040"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Verification and valid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439920">
              <a:lnSpc>
                <a:spcPct val="95000"/>
              </a:lnSpc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Architectural analysis methods (e.g., ATA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439920">
              <a:lnSpc>
                <a:spcPct val="95000"/>
              </a:lnSpc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Model checking &amp; Simulation (*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439920">
              <a:lnSpc>
                <a:spcPct val="95000"/>
              </a:lnSpc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Architecture based conformance tes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439920">
              <a:lnSpc>
                <a:spcPct val="95000"/>
              </a:lnSpc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Architecture based fault inj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53200" indent="-410040"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ault toler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439920">
              <a:lnSpc>
                <a:spcPct val="95000"/>
              </a:lnSpc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Structuring guidelines  (*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439920">
              <a:lnSpc>
                <a:spcPct val="95000"/>
              </a:lnSpc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Reconfigu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53200" indent="-410040"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ystem 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439920">
              <a:lnSpc>
                <a:spcPct val="95000"/>
              </a:lnSpc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Architectural analysis metho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439920">
              <a:lnSpc>
                <a:spcPct val="95000"/>
              </a:lnSpc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Building stochastic models from architectural descrip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439920">
              <a:lnSpc>
                <a:spcPct val="95000"/>
              </a:lnSpc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Architecture based fault inj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2BEB4-4B72-4F95-B972-6E9F1523133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20000"/>
                </a:solidFill>
                <a:latin typeface="Times New Roman"/>
              </a:rPr>
              <a:t>Tolerating Architectural Mismatches</a:t>
            </a:r>
            <a:r>
              <a:rPr b="0" lang="en-US" sz="3800" spc="-1" strike="noStrike" baseline="30000">
                <a:solidFill>
                  <a:srgbClr val="420000"/>
                </a:solidFill>
                <a:latin typeface="Times New Roman"/>
              </a:rPr>
              <a:t>1</a:t>
            </a:r>
            <a:r>
              <a:rPr b="0" lang="en-US" sz="3800" spc="-1" strike="noStrike">
                <a:solidFill>
                  <a:srgbClr val="420000"/>
                </a:solidFill>
                <a:latin typeface="Times New Roman"/>
              </a:rPr>
              <a:t> (*)</a:t>
            </a:r>
            <a:endParaRPr b="0" lang="en-US" sz="3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41022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64760" indent="-464760">
              <a:spcBef>
                <a:spcPts val="34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rchitectural mismatch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98560" indent="-431640">
              <a:spcBef>
                <a:spcPts val="3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ccur because of logical inconsistencies among architectural el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98560" indent="-431640">
              <a:spcBef>
                <a:spcPts val="3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re design fa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4760" indent="-464760">
              <a:spcBef>
                <a:spcPts val="34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rrors caused by mismatches (ECM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98560" indent="-431640">
              <a:spcBef>
                <a:spcPts val="3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at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98560" indent="-431640">
              <a:spcBef>
                <a:spcPts val="3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etec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4653000" y="2082960"/>
            <a:ext cx="3998880" cy="4210920"/>
            <a:chOff x="4653000" y="2082960"/>
            <a:chExt cx="3998880" cy="4210920"/>
          </a:xfrm>
        </p:grpSpPr>
        <p:grpSp>
          <p:nvGrpSpPr>
            <p:cNvPr id="194" name=""/>
            <p:cNvGrpSpPr/>
            <p:nvPr/>
          </p:nvGrpSpPr>
          <p:grpSpPr>
            <a:xfrm>
              <a:off x="4653000" y="2082960"/>
              <a:ext cx="3998880" cy="1995120"/>
              <a:chOff x="4653000" y="2082960"/>
              <a:chExt cx="3998880" cy="1995120"/>
            </a:xfrm>
          </p:grpSpPr>
          <p:sp>
            <p:nvSpPr>
              <p:cNvPr id="195" name=""/>
              <p:cNvSpPr/>
              <p:nvPr/>
            </p:nvSpPr>
            <p:spPr>
              <a:xfrm>
                <a:off x="5176800" y="2496960"/>
                <a:ext cx="1565280" cy="928440"/>
              </a:xfrm>
              <a:prstGeom prst="ellipse">
                <a:avLst/>
              </a:prstGeom>
              <a:gradFill rotWithShape="0">
                <a:gsLst>
                  <a:gs pos="0">
                    <a:srgbClr val="b2b2b2">
                      <a:alpha val="90196"/>
                    </a:srgbClr>
                  </a:gs>
                  <a:gs pos="100000">
                    <a:srgbClr val="fefefe">
                      <a:alpha val="90196"/>
                    </a:srgbClr>
                  </a:gs>
                </a:gsLst>
                <a:lin ang="5400000"/>
              </a:gra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4653000" y="2082960"/>
                <a:ext cx="3998880" cy="1966680"/>
              </a:xfrm>
              <a:prstGeom prst="ellipse">
                <a:avLst/>
              </a:prstGeom>
              <a:noFill/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4961160" y="2235240"/>
                <a:ext cx="3471840" cy="1485360"/>
              </a:xfrm>
              <a:prstGeom prst="ellipse">
                <a:avLst/>
              </a:prstGeom>
              <a:noFill/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6264360" y="3709800"/>
                <a:ext cx="819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Fault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6791400" y="2730600"/>
                <a:ext cx="1473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Design fault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56360" y="2622600"/>
                <a:ext cx="1425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Architectural mismatche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1" name=""/>
            <p:cNvGrpSpPr/>
            <p:nvPr/>
          </p:nvGrpSpPr>
          <p:grpSpPr>
            <a:xfrm>
              <a:off x="4653000" y="4298760"/>
              <a:ext cx="3998880" cy="1995120"/>
              <a:chOff x="4653000" y="4298760"/>
              <a:chExt cx="3998880" cy="1995120"/>
            </a:xfrm>
          </p:grpSpPr>
          <p:sp>
            <p:nvSpPr>
              <p:cNvPr id="202" name=""/>
              <p:cNvSpPr/>
              <p:nvPr/>
            </p:nvSpPr>
            <p:spPr>
              <a:xfrm>
                <a:off x="4851360" y="4696920"/>
                <a:ext cx="2154240" cy="1068120"/>
              </a:xfrm>
              <a:prstGeom prst="ellipse">
                <a:avLst/>
              </a:prstGeom>
              <a:gradFill rotWithShape="0">
                <a:gsLst>
                  <a:gs pos="0">
                    <a:srgbClr val="b2b2b2">
                      <a:alpha val="90196"/>
                    </a:srgbClr>
                  </a:gs>
                  <a:gs pos="100000">
                    <a:srgbClr val="fefefe">
                      <a:alpha val="90196"/>
                    </a:srgbClr>
                  </a:gs>
                </a:gsLst>
                <a:lin ang="5400000"/>
              </a:gra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53000" y="4298760"/>
                <a:ext cx="3998880" cy="1966680"/>
              </a:xfrm>
              <a:prstGeom prst="ellipse">
                <a:avLst/>
              </a:prstGeom>
              <a:noFill/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5968800" y="4498560"/>
                <a:ext cx="2387880" cy="1437840"/>
              </a:xfrm>
              <a:prstGeom prst="ellipse">
                <a:avLst/>
              </a:prstGeom>
              <a:noFill/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6264360" y="5925600"/>
                <a:ext cx="819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Error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6791400" y="4915800"/>
                <a:ext cx="14731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Detected error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4960800" y="5052600"/>
                <a:ext cx="852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ECM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5913360" y="4915800"/>
                <a:ext cx="10382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Detected ECM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9" name=""/>
          <p:cNvSpPr/>
          <p:nvPr/>
        </p:nvSpPr>
        <p:spPr>
          <a:xfrm>
            <a:off x="325440" y="6369120"/>
            <a:ext cx="3968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1.De Lemos, Gacek, Romanovsky 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5E7D6-C1D1-44B2-AE61-9AA97283A12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0000"/>
                </a:solidFill>
                <a:latin typeface="Times New Roman"/>
              </a:rPr>
              <a:t>Tolerating Architectural Mismatches </a:t>
            </a:r>
            <a:r>
              <a:rPr b="0" lang="en-US" sz="2700" spc="-1" strike="noStrike">
                <a:solidFill>
                  <a:srgbClr val="420000"/>
                </a:solidFill>
                <a:latin typeface="Times New Roman"/>
              </a:rPr>
              <a:t>(*)</a:t>
            </a:r>
            <a:endParaRPr b="0" lang="en-US" sz="27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46040" indent="-446040">
              <a:spcBef>
                <a:spcPts val="34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voiding or removing mismatches (*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2200" indent="-414360">
              <a:spcBef>
                <a:spcPts val="3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mpose strict rules on how components should be built and integr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62200" indent="-414360">
              <a:spcBef>
                <a:spcPts val="3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Use static analysis methods and techniq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46040" indent="-446040">
              <a:spcBef>
                <a:spcPts val="34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olerating mismatch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2200" indent="-414360">
              <a:spcBef>
                <a:spcPts val="3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tructure for error contai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62200" indent="-414360">
              <a:spcBef>
                <a:spcPts val="3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n error detection determine whether is an EC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08960" indent="-444600">
              <a:spcBef>
                <a:spcPts val="24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Need additional information at run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62200" indent="-414360">
              <a:spcBef>
                <a:spcPts val="3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ecovery depends on ECM’s characte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62200" indent="-414360">
              <a:spcBef>
                <a:spcPts val="60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voiding the reactivation of ECMs (treating ECMs) achieved by dynamic reconfigu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1F6FB-00DA-4616-90CA-BD5F8207AC2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0000"/>
                </a:solidFill>
                <a:latin typeface="Times New Roman"/>
              </a:rPr>
              <a:t>Tolerating Architectural Mismatches </a:t>
            </a:r>
            <a:r>
              <a:rPr b="0" lang="en-US" sz="2700" spc="-1" strike="noStrike">
                <a:solidFill>
                  <a:srgbClr val="420000"/>
                </a:solidFill>
                <a:latin typeface="Times New Roman"/>
              </a:rPr>
              <a:t>(*)</a:t>
            </a:r>
            <a:endParaRPr b="0" lang="en-US" sz="27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Forecasting mismatches is not sup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un-time requir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rchitectural information of all elements made avai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eans of detecting if error is an EC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id not specify if error detection and treatment would be done locally or global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D61AC-852D-49FD-9B9D-4E656F617EF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Rainbow</a:t>
            </a:r>
            <a:r>
              <a:rPr b="0" lang="en-US" sz="4400" spc="-1" strike="noStrike" baseline="30000">
                <a:solidFill>
                  <a:srgbClr val="42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ramework to support architecture-based self-adap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66560" y="6361200"/>
            <a:ext cx="235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2. Garlan et al. 200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1976400" y="2247840"/>
            <a:ext cx="5191200" cy="401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1E683-ECE3-4DEC-8C55-2119A4E69CC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Rainbow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Fault assump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Not explicitly addres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ppears to handle only properties of running systems (e.g., response time, load, transfer r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igorous design is not addres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Verification &amp; Validation are not addres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ystem evaluation is not addres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8FF3F-8D62-44D5-8337-70B754664DA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Rainbow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Fault toler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rror detection performed by monitoring the system by means of probes and evaluating for  constraint vio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rror recovery is not explicitly addres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rror treatment is performed by means of selecting style-specific adaptation strategies, enabled by means of style-specific operators that get enacted by effec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BB907-272E-4310-ADA1-6761EB1C3DC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Rainbow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55400" indent="-4554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un-time requir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80560" indent="-423000"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rchitectural information made avail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80560" indent="-423000"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nformation on style-specific adaptation strategies and operators, components and connectors’ typ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80560" indent="-423000"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ist of properties to be monito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80560" indent="-423000"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existence of System APIs for probes, resource discovery, and effec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80560" indent="-423000"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onitoring and adaptation performed globally at the system level by a single control un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2902A-11AF-43A2-B575-723B0520B84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0000"/>
                </a:solidFill>
                <a:latin typeface="Times New Roman"/>
              </a:rPr>
              <a:t>Using Idealised Fault Tolerant Architectural Elements</a:t>
            </a:r>
            <a:r>
              <a:rPr b="0" lang="en-US" sz="4000" spc="-1" strike="noStrike" baseline="30000">
                <a:solidFill>
                  <a:srgbClr val="420000"/>
                </a:solidFill>
                <a:latin typeface="Times New Roman"/>
              </a:rPr>
              <a:t>4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elies on tolerating faults by introducing exception handling at the architectural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dopt the ideas of the idealised fault tolerant component to architectural elements (iFT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Explicitly separate normal and abnormal pa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Detect errors in its internal state or in its communication with other el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Raise and handle internal excep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Handle exceptions raised externally by other architectural el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Use redundant resources to mask internal or external excep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Propagate internal or external exceptions that can’t be mask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95360" y="6400800"/>
            <a:ext cx="26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4. De Lemos et al. 200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9D768-DD58-4B75-8BEC-ECBAF295A25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420000"/>
                </a:solidFill>
                <a:latin typeface="Times New Roman"/>
              </a:rPr>
              <a:t>Contex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Ai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80000"/>
              </a:lnSpc>
              <a:spcBef>
                <a:spcPts val="60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o facilitate the design, development and evolution of dependable computer-based syste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Backgrou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80000"/>
              </a:lnSpc>
              <a:spcBef>
                <a:spcPts val="60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oftware Architectures  (USC, IESE, NC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80000"/>
              </a:lnSpc>
              <a:spcBef>
                <a:spcPts val="60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oftware Re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lnSpc>
                <a:spcPct val="80000"/>
              </a:lnSpc>
              <a:spcBef>
                <a:spcPts val="4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omponent-based software engineering  (RPI, USC, NC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lnSpc>
                <a:spcPct val="80000"/>
              </a:lnSpc>
              <a:spcBef>
                <a:spcPts val="4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oftware product lines  (USC, IESE, NC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80000"/>
              </a:lnSpc>
              <a:spcBef>
                <a:spcPts val="60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pen Source Software  (NC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80000"/>
              </a:lnSpc>
              <a:spcBef>
                <a:spcPts val="60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oftware Dependability  (NC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80000"/>
              </a:lnSpc>
              <a:spcBef>
                <a:spcPts val="60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terdisciplinary research  (DIRC @ NC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5AF58-195F-4094-ABD5-4F648173FDC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0000"/>
                </a:solidFill>
                <a:latin typeface="Times New Roman"/>
              </a:rPr>
              <a:t>Using Idealised Fault Tolerant Architectural Elements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34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ll exceptions get handled “locally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3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y involve neighbouring elements by propag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3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ut strategies do not impact elements that are removed from the “problem are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34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rchitectural restri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3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teractions between architectural elements are restricted to “request-reply” pai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3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rchitectural configuration is sta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3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use of COTS in the architecture is not addres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93411-6055-472B-A63C-98B66F8DEDA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0000"/>
                </a:solidFill>
                <a:latin typeface="Times New Roman"/>
              </a:rPr>
              <a:t>Using Idealised Fault Tolerant Architectural Elements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nderlying assump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ddresses configuration fa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en failing a component raises a meaningful exce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nnectors don’t fa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igorous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3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mpose strict rules on how components should be built and integrated by using the iF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Verification &amp; Validation are not addres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ystem evaluation is not addres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55A38-DB69-43C6-ABCC-E087EEA7B63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0000"/>
                </a:solidFill>
                <a:latin typeface="Times New Roman"/>
              </a:rPr>
              <a:t>Using Idealised Fault Tolerant Architectural Elements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64760" indent="-46476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Fault toler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98560" indent="-431640">
              <a:lnSpc>
                <a:spcPct val="90000"/>
              </a:lnSpc>
              <a:spcBef>
                <a:spcPts val="34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tructure for error containment by handling exceptions at the earliest possible pl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98560" indent="-431640">
              <a:lnSpc>
                <a:spcPct val="9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rror detection by the normal part of the iF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98560" indent="-431640">
              <a:lnSpc>
                <a:spcPct val="9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rror reco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64040" indent="-463320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Use the abnormal part of iF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64040" indent="-463320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FTEs might rely on rollback and roll forward techniq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64040" indent="-463320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Use redundant resour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98560" indent="-431640">
              <a:lnSpc>
                <a:spcPct val="9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voidance of error reactivation is not addres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27043-8D43-40E0-B7BE-AA7D3AC5DD5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0000"/>
                </a:solidFill>
                <a:latin typeface="Times New Roman"/>
              </a:rPr>
              <a:t>Using Idealised Fault Tolerant Architectural Elements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un-time requir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ll architectural elements are iF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FTComponents raise meaningful exceptions when fai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FTConnerctors only raise exceptions when their abnormal part is unable to handle an exception propagated from a compon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FTConnectors don’t fa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onitoring and adaptation performed local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F03D5-D151-4688-AFE4-D8C9FD184C0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420000"/>
                </a:solidFill>
                <a:latin typeface="Times New Roman"/>
              </a:rPr>
              <a:t>Overview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oftware Architec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epend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rchitecting Dependable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Architectural Pattern for Depend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Conclusions &amp; Open Iss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21398-7FEF-4A47-BEAF-E5335842C98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420000"/>
                </a:solidFill>
                <a:latin typeface="Times New Roman"/>
              </a:rPr>
              <a:t>Architectural Pattern for Dependability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otiv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upport the architecting of dependable systems by supporting the various dependability me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nsure that COTS components can be accommodated in the archite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lleviate scalabilit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eal with localized asp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ddress global asp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66A99-DCA4-4E11-A8F3-D02D433E23F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420000"/>
                </a:solidFill>
                <a:latin typeface="Times New Roman"/>
              </a:rPr>
              <a:t>Architectural Pattern for Dependability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elies on monitoring systems at run-time to trigger either local or global system architectural adap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Uses ideas from iFTEs, instrumented connectors, tolerating architectural mismatches, Rainbow, and architectural models from software product lines (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1DE3B-E7ED-45F9-A71F-F0EBFF4A0ECD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420000"/>
                </a:solidFill>
                <a:latin typeface="Times New Roman"/>
              </a:rPr>
              <a:t>Architectural Pattern for Dependability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64760" indent="-46476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rchitectural elements are extended iF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98560" indent="-431640">
              <a:buClr>
                <a:srgbClr val="999966"/>
              </a:buClr>
              <a:buSzPct val="75000"/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Explicitly separate normal and abnormal p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98560" indent="-431640">
              <a:buClr>
                <a:srgbClr val="999966"/>
              </a:buClr>
              <a:buSzPct val="75000"/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Detect errors in its internal state or in its communication with other ele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98560" indent="-431640">
              <a:buClr>
                <a:srgbClr val="999966"/>
              </a:buClr>
              <a:buSzPct val="75000"/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Raise and handle internal exce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98560" indent="-431640">
              <a:buClr>
                <a:srgbClr val="999966"/>
              </a:buClr>
              <a:buSzPct val="75000"/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Handle exceptions raised externally by other architectural ele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98560" indent="-431640">
              <a:buClr>
                <a:srgbClr val="999966"/>
              </a:buClr>
              <a:buSzPct val="75000"/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Use redundant resources to mask internal or external exce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98560" indent="-431640">
              <a:buClr>
                <a:srgbClr val="999966"/>
              </a:buClr>
              <a:buSzPct val="75000"/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Propagate internal or external exceptions that can’t be mask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98560" indent="-431640"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Every time an exception is raised, log the type of exception, its source (internal or external and from where), the current state, and the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98560" indent="-431640"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Every time handling an exception triggers some architectural adaptati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64040" indent="-463320">
              <a:spcBef>
                <a:spcPts val="451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Inform the system level monitor that this is taking place, the time, and the architectural elements affec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64040" indent="-463320">
              <a:spcBef>
                <a:spcPts val="451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Log the same inform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C485E-1DCF-4F11-9FF0-20EE21B48A4E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420000"/>
                </a:solidFill>
                <a:latin typeface="Times New Roman"/>
              </a:rPr>
              <a:t>Architectural Pattern for Dependability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64760" indent="-464760">
              <a:spcBef>
                <a:spcPts val="34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rchitectural connec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98560" indent="-431640">
              <a:spcBef>
                <a:spcPts val="3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xtended iFTConnectors as abo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98560" indent="-431640">
              <a:spcBef>
                <a:spcPts val="3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n fa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98560" indent="-431640">
              <a:spcBef>
                <a:spcPts val="3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Normal part is instrumented connector that can perform additional computation to mediate commun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4760" indent="-464760">
              <a:spcBef>
                <a:spcPts val="34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rchitectural compon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98560" indent="-431640">
              <a:spcBef>
                <a:spcPts val="3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xtended iFTComponents as abo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98560" indent="-431640">
              <a:spcBef>
                <a:spcPts val="3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n be CO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64040" indent="-463320">
              <a:spcBef>
                <a:spcPts val="24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Use wrappers to provide iFTComponent whe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809000" indent="-433440">
              <a:spcBef>
                <a:spcPts val="224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The COTS is the normal p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809000" indent="-433440">
              <a:spcBef>
                <a:spcPts val="224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Abnormal part is added 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F2734-2DAD-4239-B85D-32F673CCA371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420000"/>
                </a:solidFill>
                <a:latin typeface="Times New Roman"/>
              </a:rPr>
              <a:t>Architectural Pattern for Dependability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46040" indent="-44604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ystem level moni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62200" indent="-414360"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ims at ensuring that the most appropriate architectural configuration is being used at all ti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62200" indent="-414360"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s triggered when some local architectural adaptation takes place in response to some excep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62200" indent="-414360"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Has access to log information on excep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62200" indent="-414360"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Has access to an application-specific rule base mapp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08960" indent="-444600">
              <a:spcBef>
                <a:spcPts val="451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Exception type and architectural elements affec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08960" indent="-444600">
              <a:spcBef>
                <a:spcPts val="451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Into adaptation strategy to be pursu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2200" indent="-414360"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akes into accoun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08960" indent="-444600">
              <a:spcBef>
                <a:spcPts val="451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The overall system 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08960" indent="-444600">
              <a:spcBef>
                <a:spcPts val="451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Architectural dependencies model (inspired by Product Line architectural model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F6122-608F-4A32-BC24-7976CF4B2BCE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420000"/>
                </a:solidFill>
                <a:latin typeface="Times New Roman"/>
              </a:rPr>
              <a:t>Overall Research Interests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rchitecting dependable syst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cluding large scale re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open source software to learn facts that can be applied in various sett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echnical and socio-techn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onsidering the context in computer-based syst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ocio-technical aspects in the development and the deployment of softwar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38D16-B315-4413-A16A-B52F6B2D862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420000"/>
                </a:solidFill>
                <a:latin typeface="Times New Roman"/>
              </a:rPr>
              <a:t>Architectural Pattern for Dependability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50720" indent="-45072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ystem level monitor  (cont’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71560" indent="-418680">
              <a:spcBef>
                <a:spcPts val="60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n be duplic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71560" indent="-418680">
              <a:spcBef>
                <a:spcPts val="60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n fail without drastically affecting the system’s operation (crash or omission failure onl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45072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pplication-specific rule base may change over tim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71560" indent="-418680">
              <a:spcBef>
                <a:spcPts val="60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ld be done while the system is run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71560" indent="-418680">
              <a:spcBef>
                <a:spcPts val="60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Unclear if it could be done while the system level monitor is run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45072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ogs on exception information are also available for various types of 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952FC-BD33-460E-AE7D-A49E67054F12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420000"/>
                </a:solidFill>
                <a:latin typeface="Times New Roman"/>
              </a:rPr>
              <a:t>Architectural Pattern for Dependability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igorous desig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mpose strict rules on how components should be built and integrated by using the extended iFTEs (including COT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Verification &amp; valid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e architectural information and exceptions’ logs to support fault removal while avoiding architectural ero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DFCA4-18EB-48C0-932B-8364D0890A4D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420000"/>
                </a:solidFill>
                <a:latin typeface="Times New Roman"/>
              </a:rPr>
              <a:t>Architectural Pattern for Dependability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Fault toler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ame as iFTEs for locallized iss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lobal issues addressed by the system level monitor using the architectural information and the architectural dependencies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voidance of error reactivation is not addres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ystem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Use architectural information and exceptions’ lo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4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Build stochastic mod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4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Pin point trouble are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5A01F-46FA-4275-9EA2-00F48718A66C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420000"/>
                </a:solidFill>
                <a:latin typeface="Times New Roman"/>
              </a:rPr>
              <a:t>Architectural Pattern for Dependability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un-time requir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rchitectural information avail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rchitectural dependencies model avail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pplication-specific rule base mapping available (exception &amp; location into adaptation strateg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rchitectural elements are extended iF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rchitectural connectors are instrumented connectors (normal par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rchitectural components can be C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Monitoring and adaptation performed both locally and global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E6777-FE96-4EB7-B9F8-046663DB61F8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420000"/>
                </a:solidFill>
                <a:latin typeface="Times New Roman"/>
              </a:rPr>
              <a:t>Architecting Dependable Systems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308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nitial comparison of these approach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7" name=""/>
          <p:cNvGraphicFramePr/>
          <p:nvPr/>
        </p:nvGraphicFramePr>
        <p:xfrm>
          <a:off x="544680" y="2347920"/>
          <a:ext cx="7842240" cy="3727440"/>
        </p:xfrm>
        <a:graphic>
          <a:graphicData uri="http://schemas.openxmlformats.org/drawingml/2006/table">
            <a:tbl>
              <a:tblPr/>
              <a:tblGrid>
                <a:gridCol w="1434960"/>
                <a:gridCol w="1352520"/>
                <a:gridCol w="1155600"/>
                <a:gridCol w="1468440"/>
                <a:gridCol w="1166760"/>
                <a:gridCol w="1263960"/>
              </a:tblGrid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Approa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Monitoring &amp; adaptatio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Rigorous desig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Verification &amp; valid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Fault toleran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System evalu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Tolerating architectural mismatch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Glob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√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√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√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Rainbow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Glob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√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6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Using iF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Loc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√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√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Architectural pattern for dependabil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Local and glob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√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√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√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√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88F46-61BE-40E1-8834-DBB5CEBBDCEE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420000"/>
                </a:solidFill>
                <a:latin typeface="Times New Roman"/>
              </a:rPr>
              <a:t>Overview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oftware Architec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epend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rchitecting Dependable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rchitectural Pattern for Depend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Conclusions &amp; Open Iss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D8A4C-1DC6-49CA-898D-7575239DEA55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420000"/>
                </a:solidFill>
                <a:latin typeface="Times New Roman"/>
              </a:rPr>
              <a:t>Conclusions &amp; Open Issues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rchitectural pattern for dependability proposed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s at a *very* early st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ddresses issues of architecting dependable systems both at design time and at run-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vers more of the dependability means than other proposed approach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Needs further development of the underlying ideas and validation in order to see how many of the claims and motivating points are really m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287EA-622E-45B1-B1CD-08C11CD19AE8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420000"/>
                </a:solidFill>
                <a:latin typeface="Times New Roman"/>
              </a:rPr>
              <a:t>Conclusions &amp; Open Issues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64760" indent="-46476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ome of the points relating to the pattern still to be defined includ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98560" indent="-431640">
              <a:lnSpc>
                <a:spcPct val="9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Failure assumptions of all parts except the system level moni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98560" indent="-431640">
              <a:lnSpc>
                <a:spcPct val="9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efine implementation of exception logs (per architectural element, per architectural region, or system wid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98560" indent="-431640">
              <a:lnSpc>
                <a:spcPct val="9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efine how to deal with failures in the underlying elements of the pattern (logs, rule base, architectural adaptation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0C22F-3B86-4C47-8C25-221379F4709F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420000"/>
                </a:solidFill>
                <a:latin typeface="Times New Roman"/>
              </a:rPr>
              <a:t>Conclusions &amp; Open Issues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ome of the points relating to being able to apply the patter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daptation logic and enact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trictions imposed on architect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Notations to be used to represent the various pieces of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ngines to process the various pieces of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E28AB-049C-4305-9DC0-B546A0A92F58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420000"/>
                </a:solidFill>
                <a:latin typeface="Times New Roman"/>
              </a:rPr>
              <a:t>Conclusions &amp; Open Issues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lanned validation  (experimen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mplement multiple case studies u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iF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Instrumented connect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Overall system moni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The pattern proposed he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None of the abo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nject faults and observe effectiveness of approach in terms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Number and types of faults and the failures they caus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Coverage of failure mo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Support provided for the dependability techniq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Time taken to bring system into an error free st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Types of faults discovered &amp; handl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11CE9-922C-4F72-85C6-2810E005412D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420000"/>
                </a:solidFill>
                <a:latin typeface="Times New Roman"/>
              </a:rPr>
              <a:t>Overview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Software Architec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Depend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Architecting Dependable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Architectural Pattern for Depend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Conclusions &amp; Open Iss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3842C-9902-4B31-8C8E-BCDAF2A0A01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420000"/>
                </a:solidFill>
                <a:latin typeface="Times New Roman"/>
              </a:rPr>
              <a:t>Software Architecture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s the structure or structures of a system, which comprises software elements, the externally visible properties of those elements, and the relationships among th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olution-oriented view of the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Basis for desig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Basis for software mainten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ge for detecting reuse opportunities (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DF9C9-462A-4E88-9BC4-8DF74A32CFA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420000"/>
                </a:solidFill>
                <a:latin typeface="Times New Roman"/>
              </a:rPr>
              <a:t>Software Architecture Descriptions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rchitectures are described in terms o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ompon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onn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onstraints (topological rules, interface definitions, communication protocol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strumented connectors are used to support re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onditionally pass control or data between the related compon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ransfer control between components with altered parame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ransfer data between components with altered val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rigger other proces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Raise excep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0F286-E7CF-4AD0-9157-84702026AED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420000"/>
                </a:solidFill>
                <a:latin typeface="Times New Roman"/>
              </a:rPr>
              <a:t>Dependability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ability to deliver service that can justifiably be trus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924480" y="2347920"/>
            <a:ext cx="7088400" cy="3820680"/>
            <a:chOff x="924480" y="2347920"/>
            <a:chExt cx="7088400" cy="3820680"/>
          </a:xfrm>
        </p:grpSpPr>
        <p:sp>
          <p:nvSpPr>
            <p:cNvPr id="111" name=""/>
            <p:cNvSpPr/>
            <p:nvPr/>
          </p:nvSpPr>
          <p:spPr>
            <a:xfrm>
              <a:off x="924480" y="4457880"/>
              <a:ext cx="15606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Dependabilit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460680" y="3014640"/>
              <a:ext cx="11462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265560" y="4435560"/>
              <a:ext cx="15361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Technologi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556080" y="5548320"/>
              <a:ext cx="955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Threa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473440" y="2347920"/>
              <a:ext cx="12574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Availabilit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473800" y="2614680"/>
              <a:ext cx="11552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liabilit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472000" y="2881440"/>
              <a:ext cx="8290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afet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473800" y="3157560"/>
              <a:ext cx="16124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Confidentialit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472000" y="3429000"/>
              <a:ext cx="9936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Integrit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474160" y="3700440"/>
              <a:ext cx="16246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Maintainabilit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>
              <a:off x="5182920" y="2523960"/>
              <a:ext cx="4680" cy="1371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183280" y="2538360"/>
              <a:ext cx="284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183280" y="2805120"/>
              <a:ext cx="284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183280" y="3062160"/>
              <a:ext cx="284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183280" y="3352680"/>
              <a:ext cx="284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183280" y="3624120"/>
              <a:ext cx="284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3280" y="3895560"/>
              <a:ext cx="284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902120" y="3209760"/>
              <a:ext cx="281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3280" y="4267080"/>
              <a:ext cx="0" cy="790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3280" y="4267080"/>
              <a:ext cx="284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183280" y="4543560"/>
              <a:ext cx="284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183280" y="4805280"/>
              <a:ext cx="284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183280" y="5057640"/>
              <a:ext cx="284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183280" y="5443560"/>
              <a:ext cx="0" cy="571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183280" y="5448240"/>
              <a:ext cx="284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183280" y="5743440"/>
              <a:ext cx="284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183280" y="5996160"/>
              <a:ext cx="284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461560" y="4076640"/>
              <a:ext cx="18273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igorous desig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461560" y="4348080"/>
              <a:ext cx="25513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Verification &amp; valid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460480" y="4627440"/>
              <a:ext cx="16902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Fault toleran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460480" y="4916520"/>
              <a:ext cx="20451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ystem evalu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484600" y="5262480"/>
              <a:ext cx="8031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Faul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484600" y="5524560"/>
              <a:ext cx="8031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Error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477400" y="5805360"/>
              <a:ext cx="9921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Failur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902120" y="4653000"/>
              <a:ext cx="281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902120" y="5743440"/>
              <a:ext cx="281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922480" y="3191040"/>
              <a:ext cx="4680" cy="2573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936880" y="3209760"/>
              <a:ext cx="280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936880" y="4638600"/>
              <a:ext cx="280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936880" y="5748480"/>
              <a:ext cx="280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655720" y="4638600"/>
              <a:ext cx="281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FF593-E4C7-4F4B-BC69-918B8D390B3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420000"/>
                </a:solidFill>
                <a:latin typeface="Times New Roman"/>
              </a:rPr>
              <a:t>Dependability Technologies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igorous design: how to prevent fault occurrence or introduction  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[aka fault prevention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Verification and validation: how to reduce the presence of faults (numbers or severity)  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[aka fault removal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ault tolerance: how to provide a service despite the presence of fa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ystem evaluation: how to estimate the present number, the future incidence, and the consequences of faults  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[aka fault forecasting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74B0F-E911-484F-8A38-65DAAC4E82E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420000"/>
                </a:solidFill>
                <a:latin typeface="Times New Roman"/>
              </a:rPr>
              <a:t>Idealised Fault Tolerant Component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s a component which enables fault tolerance to be built into a 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1518480" y="2854440"/>
            <a:ext cx="5783760" cy="3384000"/>
            <a:chOff x="1518480" y="2854440"/>
            <a:chExt cx="5783760" cy="3384000"/>
          </a:xfrm>
        </p:grpSpPr>
        <p:sp>
          <p:nvSpPr>
            <p:cNvPr id="157" name=""/>
            <p:cNvSpPr/>
            <p:nvPr/>
          </p:nvSpPr>
          <p:spPr>
            <a:xfrm>
              <a:off x="3163680" y="4254480"/>
              <a:ext cx="3936600" cy="5684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66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081400" y="4254480"/>
              <a:ext cx="0" cy="568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321720" y="4367160"/>
              <a:ext cx="16675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Normal Activ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047920" y="4367160"/>
              <a:ext cx="20635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0000"/>
                  </a:solidFill>
                  <a:latin typeface="Arial"/>
                </a:rPr>
                <a:t>Abnormal Activ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088440" y="5645160"/>
              <a:ext cx="93744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Servi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Reque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996000" y="5645160"/>
              <a:ext cx="109584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Norm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Respon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960440" y="2854440"/>
              <a:ext cx="117648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Interfa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Excep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125760" y="5662800"/>
              <a:ext cx="117648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Fail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Excep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120480" y="2854440"/>
              <a:ext cx="93744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Servi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Reque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940560" y="2854440"/>
              <a:ext cx="109584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Norm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Respon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7" name=""/>
            <p:cNvCxnSpPr/>
            <p:nvPr/>
          </p:nvCxnSpPr>
          <p:spPr>
            <a:xfrm>
              <a:off x="6212880" y="3228840"/>
              <a:ext cx="830520" cy="1080"/>
            </a:xfrm>
            <a:prstGeom prst="curvedConnector2">
              <a:avLst/>
            </a:prstGeom>
            <a:ln w="0">
              <a:noFill/>
            </a:ln>
          </p:spPr>
        </p:cxnSp>
        <p:sp>
          <p:nvSpPr>
            <p:cNvPr id="168" name=""/>
            <p:cNvSpPr/>
            <p:nvPr/>
          </p:nvSpPr>
          <p:spPr>
            <a:xfrm>
              <a:off x="6001920" y="2854440"/>
              <a:ext cx="117648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Fail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Excep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068440" y="5646960"/>
              <a:ext cx="117648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Interfa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Excep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546360" y="3343320"/>
              <a:ext cx="0" cy="911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546360" y="4822920"/>
              <a:ext cx="0" cy="855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V="1">
              <a:off x="4479840" y="3342960"/>
              <a:ext cx="0" cy="911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4479840" y="4822920"/>
              <a:ext cx="0" cy="798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V="1">
              <a:off x="5574960" y="4822920"/>
              <a:ext cx="0" cy="7984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V="1">
              <a:off x="6561000" y="4822920"/>
              <a:ext cx="0" cy="7984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V="1">
              <a:off x="6561000" y="3400560"/>
              <a:ext cx="0" cy="8539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698720" y="3799080"/>
              <a:ext cx="0" cy="4554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698720" y="3799080"/>
              <a:ext cx="87588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V="1">
              <a:off x="5574960" y="3400200"/>
              <a:ext cx="0" cy="3985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 rot="79200">
              <a:off x="4808160" y="4083120"/>
              <a:ext cx="547560" cy="171360"/>
            </a:xfrm>
            <a:custGeom>
              <a:avLst/>
              <a:gdLst/>
              <a:ahLst/>
              <a:rect l="l" t="t" r="r" b="b"/>
              <a:pathLst>
                <a:path w="480" h="144">
                  <a:moveTo>
                    <a:pt x="0" y="144"/>
                  </a:moveTo>
                  <a:cubicBezTo>
                    <a:pt x="80" y="72"/>
                    <a:pt x="160" y="0"/>
                    <a:pt x="240" y="0"/>
                  </a:cubicBezTo>
                  <a:cubicBezTo>
                    <a:pt x="320" y="0"/>
                    <a:pt x="400" y="72"/>
                    <a:pt x="480" y="144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V="1" rot="79200">
              <a:off x="4808160" y="4822200"/>
              <a:ext cx="547560" cy="171360"/>
            </a:xfrm>
            <a:custGeom>
              <a:avLst/>
              <a:gdLst/>
              <a:ahLst/>
              <a:rect l="l" t="t" r="r" b="b"/>
              <a:pathLst>
                <a:path w="480" h="144">
                  <a:moveTo>
                    <a:pt x="0" y="144"/>
                  </a:moveTo>
                  <a:cubicBezTo>
                    <a:pt x="80" y="72"/>
                    <a:pt x="160" y="0"/>
                    <a:pt x="240" y="0"/>
                  </a:cubicBezTo>
                  <a:cubicBezTo>
                    <a:pt x="320" y="0"/>
                    <a:pt x="400" y="72"/>
                    <a:pt x="480" y="144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701720" y="2911680"/>
              <a:ext cx="85968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600" spc="-1" strike="noStrike">
                  <a:solidFill>
                    <a:srgbClr val="000099"/>
                  </a:solidFill>
                  <a:latin typeface="Arial"/>
                </a:rPr>
                <a:t>Syste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612800" y="4391280"/>
              <a:ext cx="12301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600" spc="-1" strike="noStrike">
                  <a:solidFill>
                    <a:srgbClr val="000099"/>
                  </a:solidFill>
                  <a:latin typeface="Arial"/>
                </a:rPr>
                <a:t>Compon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518480" y="5700960"/>
              <a:ext cx="16491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600" spc="-1" strike="noStrike">
                  <a:solidFill>
                    <a:srgbClr val="000099"/>
                  </a:solidFill>
                  <a:latin typeface="Arial"/>
                </a:rPr>
                <a:t>Subcompone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990680" y="3882960"/>
              <a:ext cx="15102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99"/>
                  </a:solidFill>
                  <a:latin typeface="Arial"/>
                </a:rPr>
                <a:t>Return to norm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536360" y="5073840"/>
              <a:ext cx="1056240" cy="42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99"/>
                  </a:solidFill>
                  <a:latin typeface="Arial"/>
                </a:rPr>
                <a:t>Loc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99"/>
                  </a:solidFill>
                  <a:latin typeface="Arial"/>
                </a:rPr>
                <a:t>Exception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9B5F9-34A6-4305-AD4F-4DEF24EC01A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01T16:56:20Z</dcterms:created>
  <dc:creator>cristina gacek</dc:creator>
  <dc:description/>
  <dc:language>en-US</dc:language>
  <cp:lastModifiedBy>kmi-demo</cp:lastModifiedBy>
  <dcterms:modified xsi:type="dcterms:W3CDTF">2006-04-24T12:48:01Z</dcterms:modified>
  <cp:revision>1261</cp:revision>
  <dc:subject/>
  <dc:title>Presentation Title</dc:title>
</cp:coreProperties>
</file>