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1.wmf" ContentType="image/x-wmf"/>
  <Override PartName="/ppt/media/image26.png" ContentType="image/png"/>
  <Override PartName="/ppt/media/image4.png" ContentType="image/png"/>
  <Override PartName="/ppt/media/image27.png" ContentType="image/png"/>
  <Override PartName="/ppt/media/image12.wmf" ContentType="image/x-wmf"/>
  <Override PartName="/ppt/media/image8.wmf" ContentType="image/x-wmf"/>
  <Override PartName="/ppt/media/image13.png" ContentType="image/png"/>
  <Override PartName="/ppt/media/image9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31.jpeg" ContentType="image/jpeg"/>
  <Override PartName="/ppt/media/image7.wmf" ContentType="image/x-wmf"/>
  <Override PartName="/ppt/media/image30.jpeg" ContentType="image/jpeg"/>
  <Override PartName="/ppt/media/image6.wmf" ContentType="image/x-wmf"/>
  <Override PartName="/ppt/media/image5.png" ContentType="image/png"/>
  <Override PartName="/ppt/media/image29.jpeg" ContentType="image/jpeg"/>
  <Override PartName="/ppt/media/image3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jpeg" ContentType="image/jpeg"/>
  <Override PartName="/ppt/media/image19.wmf" ContentType="image/x-wmf"/>
  <Override PartName="/ppt/media/image21.wmf" ContentType="image/x-wmf"/>
  <Override PartName="/ppt/media/image20.wmf" ContentType="image/x-wmf"/>
  <Override PartName="/ppt/media/image3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1FD6-F3F4-4700-B43E-509B027E6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559320"/>
            <a:ext cx="85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0CAC-797A-414A-AD49-F23BDAE30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55932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EEB1-DEEE-43D9-A426-1CB9B5C8D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440" y="140976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960" y="140976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55932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440" y="355932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960" y="355932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4D43-3253-4E96-A9F2-AFEF22992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048-E72B-448F-B0F3-9B885379D4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A60-C260-4F5C-9848-689649BC61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829-7E3C-49F9-A3E3-4746DAB962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41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520" y="1409760"/>
            <a:ext cx="41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BB2-B66F-4BAE-813C-AC50AEC263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CAA-D42A-41C4-9FF4-6B47634505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99880" y="171000"/>
            <a:ext cx="8539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85B-6FBE-4014-9D67-73AE58AA70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520" y="1409760"/>
            <a:ext cx="41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3CD-0294-4A98-9819-7D20463CDA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83BF-6A3C-4BDA-94F6-61E3A9A1F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41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52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520" y="355932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D2D-FB92-49D2-958C-479AB1FA4C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52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85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FB3-C7F9-464F-97BD-10BE1365BD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4280" y="3559320"/>
            <a:ext cx="85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5FA-5C9D-4698-8A48-2458818AC0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52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520" y="355932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837-AED4-42A8-9633-1EFD20FBE9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6440" y="140976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8960" y="140976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14280" y="355932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6440" y="355932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8960" y="3559320"/>
            <a:ext cx="2744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4A5-16B8-478C-A526-35B8A8E68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43B3-B657-4F36-8564-7E3792104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41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409760"/>
            <a:ext cx="41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AE89-2D0D-477B-90FE-D40354A9B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6156-72C1-4C35-A5F1-6C7695B61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880" y="171000"/>
            <a:ext cx="8539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DCCF-2587-418B-9A7F-12835455F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409760"/>
            <a:ext cx="41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DF38-F7A2-4D32-ADDD-0A0689DF2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41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55932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55BF-7FC2-4ECB-A6DA-21234D248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409760"/>
            <a:ext cx="415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559320"/>
            <a:ext cx="85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1917-17EC-4CCA-BF36-58E0F3C12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835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207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207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207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207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207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207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e207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19560" y="63082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e207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e207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509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e207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207f"/>
                </a:solidFill>
                <a:latin typeface="Arial"/>
              </a:rPr>
              <a:t>Page </a:t>
            </a:r>
            <a:fld id="{08241B91-CD9C-4562-995C-4A7D7D249E1F}" type="slidenum">
              <a:rPr b="0" lang="en-US" sz="1000" spc="-1" strike="noStrike">
                <a:solidFill>
                  <a:srgbClr val="0e207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628280"/>
            <a:ext cx="73152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07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3"/>
          </p:nvPr>
        </p:nvSpPr>
        <p:spPr>
          <a:xfrm>
            <a:off x="25092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e207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207f"/>
                </a:solidFill>
                <a:latin typeface="Arial"/>
              </a:rPr>
              <a:t>Page </a:t>
            </a:r>
            <a:fld id="{48075ED3-FA7F-4D2D-8F0F-FFE85E14D1E9}" type="slidenum">
              <a:rPr b="0" lang="en-US" sz="1000" spc="-1" strike="noStrike">
                <a:solidFill>
                  <a:srgbClr val="0e207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1912680" cy="48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6930" t="0" r="0" b="0"/>
          <a:stretch/>
        </p:blipFill>
        <p:spPr>
          <a:xfrm>
            <a:off x="762120" y="63360"/>
            <a:ext cx="2286000" cy="946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835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1835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207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2" marL="914400" algn="ctr">
              <a:spcBef>
                <a:spcPts val="249"/>
              </a:spcBef>
              <a:buClr>
                <a:srgbClr val="0e207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207f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e207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5.png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7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628280"/>
            <a:ext cx="73152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e207f"/>
                </a:solidFill>
                <a:latin typeface="Arial"/>
              </a:rPr>
              <a:t>Using Formal Methods for Policy Analysis and Refinement</a:t>
            </a:r>
            <a:endParaRPr b="1" lang="en-US" sz="36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2120" y="4314600"/>
            <a:ext cx="72388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835f"/>
                </a:solidFill>
                <a:latin typeface="Arial"/>
              </a:rPr>
              <a:t>Arosha K Bandara</a:t>
            </a:r>
            <a:endParaRPr b="0" lang="en-US" sz="2000" spc="-1" strike="noStrike">
              <a:solidFill>
                <a:srgbClr val="0183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83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83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83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1835f"/>
                </a:solidFill>
                <a:latin typeface="Arial"/>
              </a:rPr>
              <a:t>Research Seminar</a:t>
            </a:r>
            <a:endParaRPr b="0" lang="en-US" sz="2000" spc="-1" strike="noStrike">
              <a:solidFill>
                <a:srgbClr val="0183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1835f"/>
                </a:solidFill>
                <a:latin typeface="Arial"/>
              </a:rPr>
              <a:t>24th April 2006</a:t>
            </a:r>
            <a:endParaRPr b="0" lang="en-US" sz="2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Policy Analysis and Refinement Toolkit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6DAC-1C8F-4407-B6D5-EB358B444EE4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85720" y="3062160"/>
            <a:ext cx="2324160" cy="1460520"/>
            <a:chOff x="585720" y="3062160"/>
            <a:chExt cx="2324160" cy="1460520"/>
          </a:xfrm>
        </p:grpSpPr>
        <p:sp>
          <p:nvSpPr>
            <p:cNvPr id="318" name=""/>
            <p:cNvSpPr/>
            <p:nvPr/>
          </p:nvSpPr>
          <p:spPr>
            <a:xfrm>
              <a:off x="585720" y="3062160"/>
              <a:ext cx="2324160" cy="546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omain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5720" y="3608280"/>
              <a:ext cx="2324160" cy="546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ersistence 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5720" y="4154400"/>
              <a:ext cx="45720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2920" y="4154400"/>
              <a:ext cx="635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DB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77960" y="4154400"/>
              <a:ext cx="584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LD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62240" y="4154400"/>
              <a:ext cx="647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449360" y="4751280"/>
            <a:ext cx="507960" cy="6224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0" idx="2"/>
            <a:endCxn id="324" idx="2"/>
          </p:cNvCxnSpPr>
          <p:nvPr/>
        </p:nvCxnSpPr>
        <p:spPr>
          <a:xfrm flipH="1" rot="16200000">
            <a:off x="861840" y="4474800"/>
            <a:ext cx="540720" cy="6357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3722760" y="3062160"/>
            <a:ext cx="2324160" cy="546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alysis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22760" y="3608280"/>
            <a:ext cx="2324160" cy="546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aly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41720" y="4154400"/>
            <a:ext cx="11052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d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18" idx="3"/>
            <a:endCxn id="327" idx="1"/>
          </p:cNvCxnSpPr>
          <p:nvPr/>
        </p:nvCxnSpPr>
        <p:spPr>
          <a:xfrm>
            <a:off x="2909880" y="3335040"/>
            <a:ext cx="813600" cy="54648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1030320" y="1563840"/>
            <a:ext cx="4559400" cy="67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/Refinement Client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18" idx="0"/>
            <a:endCxn id="330" idx="2"/>
          </p:cNvCxnSpPr>
          <p:nvPr/>
        </p:nvCxnSpPr>
        <p:spPr>
          <a:xfrm flipH="1" flipV="1" rot="5400000">
            <a:off x="2115720" y="1867680"/>
            <a:ext cx="826200" cy="1562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2" name=""/>
          <p:cNvCxnSpPr>
            <a:stCxn id="326" idx="0"/>
            <a:endCxn id="330" idx="2"/>
          </p:cNvCxnSpPr>
          <p:nvPr/>
        </p:nvCxnSpPr>
        <p:spPr>
          <a:xfrm flipV="1" rot="16200000">
            <a:off x="3683880" y="1861200"/>
            <a:ext cx="826200" cy="1575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6402240" y="1563840"/>
            <a:ext cx="1816200" cy="67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ML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(e.g. ArgoU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883560" y="2982960"/>
            <a:ext cx="947160" cy="921240"/>
            <a:chOff x="6883560" y="2982960"/>
            <a:chExt cx="947160" cy="921240"/>
          </a:xfrm>
        </p:grpSpPr>
        <p:sp>
          <p:nvSpPr>
            <p:cNvPr id="335" name=""/>
            <p:cNvSpPr/>
            <p:nvPr/>
          </p:nvSpPr>
          <p:spPr>
            <a:xfrm>
              <a:off x="6883560" y="356688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XMI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Document"/>
            <p:cNvSpPr/>
            <p:nvPr/>
          </p:nvSpPr>
          <p:spPr>
            <a:xfrm>
              <a:off x="7110360" y="2982960"/>
              <a:ext cx="393120" cy="5270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Documents"/>
          <p:cNvSpPr/>
          <p:nvPr/>
        </p:nvSpPr>
        <p:spPr>
          <a:xfrm>
            <a:off x="7176960" y="4672080"/>
            <a:ext cx="432000" cy="577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09560" y="5243400"/>
            <a:ext cx="82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log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22760" y="415440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22760" y="4687920"/>
            <a:ext cx="2324160" cy="54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SCtus Pro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3" idx="2"/>
            <a:endCxn id="336" idx="8"/>
          </p:cNvCxnSpPr>
          <p:nvPr/>
        </p:nvCxnSpPr>
        <p:spPr>
          <a:xfrm rot="5400000">
            <a:off x="6934320" y="2608560"/>
            <a:ext cx="748440" cy="3960"/>
          </a:xfrm>
          <a:prstGeom prst="bentConnector3">
            <a:avLst>
              <a:gd name="adj1" fmla="val 49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6046920" y="3265560"/>
            <a:ext cx="888840" cy="1066680"/>
          </a:xfrm>
          <a:custGeom>
            <a:avLst/>
            <a:gdLst/>
            <a:ahLst/>
            <a:rect l="l" t="t" r="r" b="b"/>
            <a:pathLst>
              <a:path w="560" h="672">
                <a:moveTo>
                  <a:pt x="560" y="0"/>
                </a:moveTo>
                <a:lnTo>
                  <a:pt x="224" y="0"/>
                </a:lnTo>
                <a:lnTo>
                  <a:pt x="224" y="672"/>
                </a:lnTo>
                <a:lnTo>
                  <a:pt x="0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46920" y="4522680"/>
            <a:ext cx="1066680" cy="254160"/>
          </a:xfrm>
          <a:custGeom>
            <a:avLst/>
            <a:gdLst/>
            <a:ahLst/>
            <a:rect l="l" t="t" r="r" b="b"/>
            <a:pathLst>
              <a:path w="672" h="160">
                <a:moveTo>
                  <a:pt x="0" y="0"/>
                </a:moveTo>
                <a:lnTo>
                  <a:pt x="224" y="0"/>
                </a:lnTo>
                <a:lnTo>
                  <a:pt x="224" y="160"/>
                </a:lnTo>
                <a:lnTo>
                  <a:pt x="672" y="16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37" idx="12"/>
            <a:endCxn id="340" idx="3"/>
          </p:cNvCxnSpPr>
          <p:nvPr/>
        </p:nvCxnSpPr>
        <p:spPr>
          <a:xfrm rot="10800000">
            <a:off x="6046200" y="4960080"/>
            <a:ext cx="1130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6464880" y="45306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3160" y="5470560"/>
            <a:ext cx="2076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olicies, Managed Objec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Goals, Domai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634080"/>
            <a:ext cx="3465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Background and Motivation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 and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Tool support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Open Issue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F54F-E3ED-422C-9CC1-370DDE1DFD16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4960" y="1990800"/>
            <a:ext cx="4735800" cy="1216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4000" y="1469880"/>
            <a:ext cx="4595760" cy="39384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000" y="3274920"/>
            <a:ext cx="4735440" cy="417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049480"/>
            <a:ext cx="4595760" cy="11113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6634080"/>
            <a:ext cx="3862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Policy Refinement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D3E5-2774-428F-B45D-F2A7E7A456CB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47840" y="4902120"/>
            <a:ext cx="6340680" cy="13622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66840" y="4361040"/>
            <a:ext cx="3613320" cy="368280"/>
          </a:xfrm>
          <a:custGeom>
            <a:avLst/>
            <a:gdLst/>
            <a:ahLst/>
            <a:rect l="l" t="t" r="r" b="b"/>
            <a:pathLst>
              <a:path w="2241" h="232">
                <a:moveTo>
                  <a:pt x="0" y="169"/>
                </a:moveTo>
                <a:cubicBezTo>
                  <a:pt x="313" y="175"/>
                  <a:pt x="1515" y="232"/>
                  <a:pt x="1878" y="204"/>
                </a:cubicBezTo>
                <a:cubicBezTo>
                  <a:pt x="2241" y="176"/>
                  <a:pt x="2117" y="43"/>
                  <a:pt x="2180" y="0"/>
                </a:cubicBezTo>
              </a:path>
            </a:pathLst>
          </a:custGeom>
          <a:noFill/>
          <a:ln w="108000">
            <a:solidFill>
              <a:srgbClr val="99ff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rot="16200000">
            <a:off x="2597040" y="2467800"/>
            <a:ext cx="315720" cy="1120680"/>
          </a:xfrm>
          <a:prstGeom prst="downArrow">
            <a:avLst>
              <a:gd name="adj1" fmla="val 38694"/>
              <a:gd name="adj2" fmla="val 48281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635120" y="1163520"/>
            <a:ext cx="479520" cy="3802320"/>
            <a:chOff x="1635120" y="1163520"/>
            <a:chExt cx="479520" cy="3802320"/>
          </a:xfrm>
        </p:grpSpPr>
        <p:sp>
          <p:nvSpPr>
            <p:cNvPr id="368" name=""/>
            <p:cNvSpPr/>
            <p:nvPr/>
          </p:nvSpPr>
          <p:spPr>
            <a:xfrm>
              <a:off x="1635120" y="2664000"/>
              <a:ext cx="479520" cy="70452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444" y="0"/>
                  </a:lnTo>
                  <a:lnTo>
                    <a:pt x="21600" y="10800"/>
                  </a:lnTo>
                  <a:lnTo>
                    <a:pt x="114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35120" y="4260960"/>
              <a:ext cx="479520" cy="70488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704880"/>
                <a:gd name="textAreaBottom" fmla="*/ 704880 h 70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444" y="0"/>
                  </a:lnTo>
                  <a:lnTo>
                    <a:pt x="21600" y="10800"/>
                  </a:lnTo>
                  <a:lnTo>
                    <a:pt x="114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35120" y="1163520"/>
              <a:ext cx="479520" cy="70488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704880"/>
                <a:gd name="textAreaBottom" fmla="*/ 704880 h 70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444" y="0"/>
                  </a:lnTo>
                  <a:lnTo>
                    <a:pt x="21600" y="10800"/>
                  </a:lnTo>
                  <a:lnTo>
                    <a:pt x="114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851800" y="2456640"/>
            <a:ext cx="2251800" cy="1363320"/>
            <a:chOff x="5851800" y="2456640"/>
            <a:chExt cx="2251800" cy="1363320"/>
          </a:xfrm>
        </p:grpSpPr>
        <p:sp>
          <p:nvSpPr>
            <p:cNvPr id="372" name=""/>
            <p:cNvSpPr/>
            <p:nvPr/>
          </p:nvSpPr>
          <p:spPr>
            <a:xfrm flipH="1" rot="12607200">
              <a:off x="6058800" y="2606400"/>
              <a:ext cx="883800" cy="1063440"/>
            </a:xfrm>
            <a:custGeom>
              <a:avLst/>
              <a:gdLst>
                <a:gd name="textAreaLeft" fmla="*/ 118440 w 883800"/>
                <a:gd name="textAreaRight" fmla="*/ 765360 w 883800"/>
                <a:gd name="textAreaTop" fmla="*/ 186120 h 1063440"/>
                <a:gd name="textAreaBottom" fmla="*/ 771120 h 10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82120" y="323676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labo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104000" y="3099960"/>
            <a:ext cx="1628280" cy="1375920"/>
            <a:chOff x="4104000" y="3099960"/>
            <a:chExt cx="1628280" cy="1375920"/>
          </a:xfrm>
        </p:grpSpPr>
        <p:sp>
          <p:nvSpPr>
            <p:cNvPr id="375" name=""/>
            <p:cNvSpPr/>
            <p:nvPr/>
          </p:nvSpPr>
          <p:spPr>
            <a:xfrm flipH="1" rot="20538000">
              <a:off x="4691880" y="3206520"/>
              <a:ext cx="884160" cy="1162080"/>
            </a:xfrm>
            <a:custGeom>
              <a:avLst/>
              <a:gdLst>
                <a:gd name="textAreaLeft" fmla="*/ 118440 w 884160"/>
                <a:gd name="textAreaRight" fmla="*/ 765720 w 884160"/>
                <a:gd name="textAreaTop" fmla="*/ 203400 h 1162080"/>
                <a:gd name="textAreaBottom" fmla="*/ 842760 h 116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04000" y="409896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bdu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44520" y="1166760"/>
            <a:ext cx="1544760" cy="3822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21280" y="2111400"/>
            <a:ext cx="1258920" cy="136512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76360" y="3732120"/>
            <a:ext cx="1218960" cy="10335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39560" y="1292400"/>
            <a:ext cx="1351080" cy="650880"/>
          </a:xfrm>
          <a:prstGeom prst="verticalScroll">
            <a:avLst>
              <a:gd name="adj" fmla="val 11810"/>
            </a:avLst>
          </a:prstGeom>
          <a:solidFill>
            <a:srgbClr val="ffff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50720" y="2527200"/>
            <a:ext cx="1265040" cy="875520"/>
            <a:chOff x="450720" y="2527200"/>
            <a:chExt cx="1265040" cy="875520"/>
          </a:xfrm>
        </p:grpSpPr>
        <p:grpSp>
          <p:nvGrpSpPr>
            <p:cNvPr id="382" name=""/>
            <p:cNvGrpSpPr/>
            <p:nvPr/>
          </p:nvGrpSpPr>
          <p:grpSpPr>
            <a:xfrm>
              <a:off x="527040" y="2527200"/>
              <a:ext cx="1174680" cy="862560"/>
              <a:chOff x="527040" y="2527200"/>
              <a:chExt cx="1174680" cy="862560"/>
            </a:xfrm>
          </p:grpSpPr>
          <p:sp>
            <p:nvSpPr>
              <p:cNvPr id="383" name=""/>
              <p:cNvSpPr/>
              <p:nvPr/>
            </p:nvSpPr>
            <p:spPr>
              <a:xfrm>
                <a:off x="527040" y="2622960"/>
                <a:ext cx="1174680" cy="766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5f5f5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31360" y="2527200"/>
                <a:ext cx="443520" cy="95760"/>
              </a:xfrm>
              <a:custGeom>
                <a:avLst/>
                <a:gdLst>
                  <a:gd name="textAreaLeft" fmla="*/ 88920 w 443520"/>
                  <a:gd name="textAreaRight" fmla="*/ 354600 w 443520"/>
                  <a:gd name="textAreaTop" fmla="*/ 19080 h 95760"/>
                  <a:gd name="textAreaBottom" fmla="*/ 76680 h 9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32" y="21600"/>
                    </a:lnTo>
                    <a:lnTo>
                      <a:pt x="4668" y="2160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5f5f5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095120" y="3031200"/>
              <a:ext cx="153360" cy="146880"/>
              <a:chOff x="1095120" y="3031200"/>
              <a:chExt cx="153360" cy="146880"/>
            </a:xfrm>
          </p:grpSpPr>
          <p:sp>
            <p:nvSpPr>
              <p:cNvPr id="386" name=""/>
              <p:cNvSpPr/>
              <p:nvPr/>
            </p:nvSpPr>
            <p:spPr>
              <a:xfrm>
                <a:off x="1095120" y="3047760"/>
                <a:ext cx="153360" cy="1303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cap="sq" w="12600">
                <a:solidFill>
                  <a:srgbClr val="5f5f5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1095480" y="3030840"/>
                <a:ext cx="57960" cy="16200"/>
              </a:xfrm>
              <a:custGeom>
                <a:avLst/>
                <a:gdLst>
                  <a:gd name="textAreaLeft" fmla="*/ 11520 w 57960"/>
                  <a:gd name="textAreaRight" fmla="*/ 46440 w 57960"/>
                  <a:gd name="textAreaTop" fmla="*/ 3240 h 16200"/>
                  <a:gd name="textAreaBottom" fmla="*/ 12960 h 1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32" y="21600"/>
                    </a:lnTo>
                    <a:lnTo>
                      <a:pt x="466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cap="sq" w="12600">
                <a:solidFill>
                  <a:srgbClr val="5f5f5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88" name="" descr=""/>
            <p:cNvPicPr/>
            <p:nvPr/>
          </p:nvPicPr>
          <p:blipFill>
            <a:blip r:embed="rId4"/>
            <a:stretch/>
          </p:blipFill>
          <p:spPr>
            <a:xfrm>
              <a:off x="892800" y="2926080"/>
              <a:ext cx="4968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5"/>
            <a:stretch/>
          </p:blipFill>
          <p:spPr>
            <a:xfrm>
              <a:off x="1422720" y="2781720"/>
              <a:ext cx="13752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6"/>
            <a:stretch/>
          </p:blipFill>
          <p:spPr>
            <a:xfrm>
              <a:off x="1059480" y="2781360"/>
              <a:ext cx="13752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7"/>
            <a:stretch/>
          </p:blipFill>
          <p:spPr>
            <a:xfrm>
              <a:off x="1266480" y="3035520"/>
              <a:ext cx="5004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8"/>
            <a:stretch/>
          </p:blipFill>
          <p:spPr>
            <a:xfrm>
              <a:off x="1520640" y="2938320"/>
              <a:ext cx="4968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9"/>
            <a:stretch/>
          </p:blipFill>
          <p:spPr>
            <a:xfrm>
              <a:off x="697320" y="3021480"/>
              <a:ext cx="149400" cy="169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grpSp>
          <p:nvGrpSpPr>
            <p:cNvPr id="394" name=""/>
            <p:cNvGrpSpPr/>
            <p:nvPr/>
          </p:nvGrpSpPr>
          <p:grpSpPr>
            <a:xfrm>
              <a:off x="710640" y="2808360"/>
              <a:ext cx="136080" cy="122040"/>
              <a:chOff x="710640" y="2808360"/>
              <a:chExt cx="136080" cy="122040"/>
            </a:xfrm>
          </p:grpSpPr>
          <p:sp>
            <p:nvSpPr>
              <p:cNvPr id="395" name=""/>
              <p:cNvSpPr/>
              <p:nvPr/>
            </p:nvSpPr>
            <p:spPr>
              <a:xfrm>
                <a:off x="710640" y="2822040"/>
                <a:ext cx="136080" cy="108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cap="sq" w="12600">
                <a:solidFill>
                  <a:srgbClr val="5f5f5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711000" y="2808000"/>
                <a:ext cx="51480" cy="13320"/>
              </a:xfrm>
              <a:custGeom>
                <a:avLst/>
                <a:gdLst>
                  <a:gd name="textAreaLeft" fmla="*/ 10080 w 51480"/>
                  <a:gd name="textAreaRight" fmla="*/ 41400 w 51480"/>
                  <a:gd name="textAreaTop" fmla="*/ 2520 h 13320"/>
                  <a:gd name="textAreaBottom" fmla="*/ 10800 h 1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32" y="21600"/>
                    </a:lnTo>
                    <a:lnTo>
                      <a:pt x="466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cap="sq" w="12600">
                <a:solidFill>
                  <a:srgbClr val="5f5f5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626400" y="2680920"/>
              <a:ext cx="744480" cy="600120"/>
              <a:chOff x="626400" y="2680920"/>
              <a:chExt cx="744480" cy="600120"/>
            </a:xfrm>
          </p:grpSpPr>
          <p:sp>
            <p:nvSpPr>
              <p:cNvPr id="398" name=""/>
              <p:cNvSpPr/>
              <p:nvPr/>
            </p:nvSpPr>
            <p:spPr>
              <a:xfrm>
                <a:off x="626400" y="2747880"/>
                <a:ext cx="744480" cy="533160"/>
              </a:xfrm>
              <a:prstGeom prst="rect">
                <a:avLst/>
              </a:prstGeom>
              <a:noFill/>
              <a:ln cap="sq"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629280" y="2680560"/>
                <a:ext cx="281160" cy="66600"/>
              </a:xfrm>
              <a:custGeom>
                <a:avLst/>
                <a:gdLst>
                  <a:gd name="textAreaLeft" fmla="*/ 56520 w 281160"/>
                  <a:gd name="textAreaRight" fmla="*/ 224640 w 281160"/>
                  <a:gd name="textAreaTop" fmla="*/ 13320 h 66600"/>
                  <a:gd name="textAreaBottom" fmla="*/ 53280 h 6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32" y="21600"/>
                    </a:lnTo>
                    <a:lnTo>
                      <a:pt x="4668" y="21600"/>
                    </a:lnTo>
                    <a:close/>
                  </a:path>
                </a:pathLst>
              </a:custGeom>
              <a:noFill/>
              <a:ln cap="sq"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1033920" y="2661840"/>
              <a:ext cx="589320" cy="600120"/>
              <a:chOff x="1033920" y="2661840"/>
              <a:chExt cx="589320" cy="600120"/>
            </a:xfrm>
          </p:grpSpPr>
          <p:sp>
            <p:nvSpPr>
              <p:cNvPr id="401" name=""/>
              <p:cNvSpPr/>
              <p:nvPr/>
            </p:nvSpPr>
            <p:spPr>
              <a:xfrm>
                <a:off x="1033920" y="2728800"/>
                <a:ext cx="589320" cy="533160"/>
              </a:xfrm>
              <a:prstGeom prst="rect">
                <a:avLst/>
              </a:prstGeom>
              <a:noFill/>
              <a:ln cap="sq"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1036080" y="2661480"/>
                <a:ext cx="222480" cy="66600"/>
              </a:xfrm>
              <a:custGeom>
                <a:avLst/>
                <a:gdLst>
                  <a:gd name="textAreaLeft" fmla="*/ 44640 w 222480"/>
                  <a:gd name="textAreaRight" fmla="*/ 177840 w 222480"/>
                  <a:gd name="textAreaTop" fmla="*/ 13320 h 66600"/>
                  <a:gd name="textAreaBottom" fmla="*/ 53280 h 6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32" y="21600"/>
                    </a:lnTo>
                    <a:lnTo>
                      <a:pt x="4668" y="21600"/>
                    </a:lnTo>
                    <a:close/>
                  </a:path>
                </a:pathLst>
              </a:custGeom>
              <a:noFill/>
              <a:ln cap="sq"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1453680" y="3103920"/>
              <a:ext cx="105840" cy="75960"/>
              <a:chOff x="1453680" y="3103920"/>
              <a:chExt cx="105840" cy="75960"/>
            </a:xfrm>
          </p:grpSpPr>
          <p:sp>
            <p:nvSpPr>
              <p:cNvPr id="404" name=""/>
              <p:cNvSpPr/>
              <p:nvPr/>
            </p:nvSpPr>
            <p:spPr>
              <a:xfrm>
                <a:off x="1461960" y="3103920"/>
                <a:ext cx="86760" cy="7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46"/>
                  </a:gs>
                  <a:gs pos="50000">
                    <a:srgbClr val="ffff99"/>
                  </a:gs>
                  <a:gs pos="100000">
                    <a:srgbClr val="757546"/>
                  </a:gs>
                </a:gsLst>
                <a:lin ang="10800000"/>
              </a:gra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44400" y="3119040"/>
                <a:ext cx="15120" cy="45720"/>
              </a:xfrm>
              <a:prstGeom prst="ellipse">
                <a:avLst/>
              </a:prstGeom>
              <a:gradFill rotWithShape="0">
                <a:gsLst>
                  <a:gs pos="0">
                    <a:srgbClr val="757546"/>
                  </a:gs>
                  <a:gs pos="50000">
                    <a:srgbClr val="ffff99"/>
                  </a:gs>
                  <a:gs pos="100000">
                    <a:srgbClr val="757546"/>
                  </a:gs>
                </a:gsLst>
                <a:lin ang="10800000"/>
              </a:gra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453680" y="3119040"/>
                <a:ext cx="15120" cy="45720"/>
              </a:xfrm>
              <a:prstGeom prst="ellipse">
                <a:avLst/>
              </a:prstGeom>
              <a:gradFill rotWithShape="0">
                <a:gsLst>
                  <a:gs pos="0">
                    <a:srgbClr val="757546"/>
                  </a:gs>
                  <a:gs pos="50000">
                    <a:srgbClr val="ffff99"/>
                  </a:gs>
                  <a:gs pos="100000">
                    <a:srgbClr val="757546"/>
                  </a:gs>
                </a:gsLst>
                <a:lin ang="10800000"/>
              </a:gra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83800" y="3113640"/>
              <a:ext cx="105840" cy="75960"/>
              <a:chOff x="883800" y="3113640"/>
              <a:chExt cx="105840" cy="75960"/>
            </a:xfrm>
          </p:grpSpPr>
          <p:sp>
            <p:nvSpPr>
              <p:cNvPr id="408" name=""/>
              <p:cNvSpPr/>
              <p:nvPr/>
            </p:nvSpPr>
            <p:spPr>
              <a:xfrm>
                <a:off x="892080" y="3113640"/>
                <a:ext cx="86760" cy="7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8a865"/>
                  </a:gs>
                  <a:gs pos="50000">
                    <a:srgbClr val="ffff99"/>
                  </a:gs>
                  <a:gs pos="100000">
                    <a:srgbClr val="a8a865"/>
                  </a:gs>
                </a:gsLst>
                <a:lin ang="10800000"/>
              </a:gra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74520" y="3128760"/>
                <a:ext cx="15120" cy="45720"/>
              </a:xfrm>
              <a:prstGeom prst="ellipse">
                <a:avLst/>
              </a:prstGeom>
              <a:gradFill rotWithShape="0">
                <a:gsLst>
                  <a:gs pos="0">
                    <a:srgbClr val="a8a865"/>
                  </a:gs>
                  <a:gs pos="50000">
                    <a:srgbClr val="ffff99"/>
                  </a:gs>
                  <a:gs pos="100000">
                    <a:srgbClr val="a8a865"/>
                  </a:gs>
                </a:gsLst>
                <a:lin ang="10800000"/>
              </a:gra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83800" y="3128760"/>
                <a:ext cx="15120" cy="45720"/>
              </a:xfrm>
              <a:prstGeom prst="ellipse">
                <a:avLst/>
              </a:prstGeom>
              <a:gradFill rotWithShape="0">
                <a:gsLst>
                  <a:gs pos="0">
                    <a:srgbClr val="a8a865"/>
                  </a:gs>
                  <a:gs pos="50000">
                    <a:srgbClr val="ffff99"/>
                  </a:gs>
                  <a:gs pos="100000">
                    <a:srgbClr val="a8a865"/>
                  </a:gs>
                </a:gsLst>
                <a:lin ang="10800000"/>
              </a:gra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450720" y="31892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4600" y="31244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59080" y="311796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3360" y="278964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96920" y="3034080"/>
              <a:ext cx="252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6" name="" descr=""/>
            <p:cNvPicPr/>
            <p:nvPr/>
          </p:nvPicPr>
          <p:blipFill>
            <a:blip r:embed="rId10"/>
            <a:stretch/>
          </p:blipFill>
          <p:spPr>
            <a:xfrm>
              <a:off x="1192680" y="2810160"/>
              <a:ext cx="16308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"/>
          <p:cNvGrpSpPr/>
          <p:nvPr/>
        </p:nvGrpSpPr>
        <p:grpSpPr>
          <a:xfrm>
            <a:off x="5388120" y="2314440"/>
            <a:ext cx="674640" cy="553680"/>
            <a:chOff x="5388120" y="2314440"/>
            <a:chExt cx="674640" cy="553680"/>
          </a:xfrm>
        </p:grpSpPr>
        <p:sp>
          <p:nvSpPr>
            <p:cNvPr id="418" name=""/>
            <p:cNvSpPr/>
            <p:nvPr/>
          </p:nvSpPr>
          <p:spPr>
            <a:xfrm>
              <a:off x="5648400" y="2314440"/>
              <a:ext cx="168840" cy="169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93560" y="2699280"/>
              <a:ext cx="169200" cy="168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88120" y="2699280"/>
              <a:ext cx="168840" cy="168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1" name=""/>
            <p:cNvCxnSpPr>
              <a:stCxn id="418" idx="4"/>
              <a:endCxn id="420" idx="0"/>
            </p:cNvCxnSpPr>
            <p:nvPr/>
          </p:nvCxnSpPr>
          <p:spPr>
            <a:xfrm flipH="1">
              <a:off x="5472000" y="2483280"/>
              <a:ext cx="26100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2" name=""/>
            <p:cNvCxnSpPr>
              <a:stCxn id="418" idx="4"/>
              <a:endCxn id="419" idx="0"/>
            </p:cNvCxnSpPr>
            <p:nvPr/>
          </p:nvCxnSpPr>
          <p:spPr>
            <a:xfrm>
              <a:off x="5733000" y="2483280"/>
              <a:ext cx="2458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23" name=""/>
          <p:cNvGrpSpPr/>
          <p:nvPr/>
        </p:nvGrpSpPr>
        <p:grpSpPr>
          <a:xfrm>
            <a:off x="5130720" y="2700360"/>
            <a:ext cx="674640" cy="553680"/>
            <a:chOff x="5130720" y="2700360"/>
            <a:chExt cx="674640" cy="553680"/>
          </a:xfrm>
        </p:grpSpPr>
        <p:sp>
          <p:nvSpPr>
            <p:cNvPr id="424" name=""/>
            <p:cNvSpPr/>
            <p:nvPr/>
          </p:nvSpPr>
          <p:spPr>
            <a:xfrm>
              <a:off x="5391000" y="2700360"/>
              <a:ext cx="168840" cy="169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36160" y="3085200"/>
              <a:ext cx="169200" cy="168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30720" y="3085200"/>
              <a:ext cx="168840" cy="168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7" name=""/>
            <p:cNvCxnSpPr>
              <a:stCxn id="424" idx="4"/>
              <a:endCxn id="426" idx="0"/>
            </p:cNvCxnSpPr>
            <p:nvPr/>
          </p:nvCxnSpPr>
          <p:spPr>
            <a:xfrm flipH="1">
              <a:off x="5214600" y="2869200"/>
              <a:ext cx="26100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4" idx="4"/>
              <a:endCxn id="425" idx="0"/>
            </p:cNvCxnSpPr>
            <p:nvPr/>
          </p:nvCxnSpPr>
          <p:spPr>
            <a:xfrm>
              <a:off x="5475600" y="2869200"/>
              <a:ext cx="2458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29" name=""/>
          <p:cNvSpPr/>
          <p:nvPr/>
        </p:nvSpPr>
        <p:spPr>
          <a:xfrm>
            <a:off x="2250720" y="1187280"/>
            <a:ext cx="6212160" cy="8218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On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ile transfer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,         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(Even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external recipient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(Conditio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transfer should be prohibited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(Go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929280" y="2103480"/>
            <a:ext cx="1533600" cy="771480"/>
            <a:chOff x="6929280" y="2103480"/>
            <a:chExt cx="1533600" cy="771480"/>
          </a:xfrm>
        </p:grpSpPr>
        <p:grpSp>
          <p:nvGrpSpPr>
            <p:cNvPr id="431" name=""/>
            <p:cNvGrpSpPr/>
            <p:nvPr/>
          </p:nvGrpSpPr>
          <p:grpSpPr>
            <a:xfrm>
              <a:off x="6929280" y="2103480"/>
              <a:ext cx="1533600" cy="771480"/>
              <a:chOff x="6929280" y="2103480"/>
              <a:chExt cx="1533600" cy="771480"/>
            </a:xfrm>
          </p:grpSpPr>
          <p:sp>
            <p:nvSpPr>
              <p:cNvPr id="432" name=""/>
              <p:cNvSpPr/>
              <p:nvPr/>
            </p:nvSpPr>
            <p:spPr>
              <a:xfrm>
                <a:off x="6929280" y="2103480"/>
                <a:ext cx="1533600" cy="771480"/>
              </a:xfrm>
              <a:prstGeom prst="rect">
                <a:avLst/>
              </a:prstGeom>
              <a:solidFill>
                <a:srgbClr val="99ff99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6963480" y="2139840"/>
                <a:ext cx="1464480" cy="671400"/>
                <a:chOff x="6963480" y="2139840"/>
                <a:chExt cx="1464480" cy="6714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7380720" y="2139840"/>
                  <a:ext cx="62964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000000"/>
                      </a:solidFill>
                      <a:latin typeface="Lucida Console"/>
                    </a:rPr>
                    <a:t>P 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Lucida Console"/>
                    </a:rPr>
                    <a:t> 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Wingdings 2"/>
                      <a:ea typeface="Wingdings 2"/>
                    </a:rPr>
                    <a:t>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Lucida Console"/>
                    </a:rPr>
                    <a:t>Q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963480" y="2625840"/>
                  <a:ext cx="62892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000000"/>
                      </a:solidFill>
                      <a:latin typeface="Lucida Console"/>
                    </a:rPr>
                    <a:t>P 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Lucida Console"/>
                    </a:rPr>
                    <a:t> 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Wingdings 2"/>
                      <a:ea typeface="Wingdings 2"/>
                    </a:rPr>
                    <a:t>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Lucida Console"/>
                    </a:rPr>
                    <a:t>R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799040" y="2625840"/>
                  <a:ext cx="628920" cy="18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000000"/>
                      </a:solidFill>
                      <a:latin typeface="Lucida Console"/>
                    </a:rPr>
                    <a:t>R 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Lucida Console"/>
                    </a:rPr>
                    <a:t> 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Wingdings 2"/>
                      <a:ea typeface="Wingdings 2"/>
                    </a:rPr>
                    <a:t></a:t>
                  </a:r>
                  <a:r>
                    <a:rPr b="0" lang="en-GB" sz="600" spc="-1" strike="noStrike">
                      <a:solidFill>
                        <a:srgbClr val="000000"/>
                      </a:solidFill>
                      <a:latin typeface="Lucida Console"/>
                    </a:rPr>
                    <a:t>Q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37" name=""/>
                <p:cNvCxnSpPr>
                  <a:stCxn id="434" idx="2"/>
                  <a:endCxn id="435" idx="0"/>
                </p:cNvCxnSpPr>
                <p:nvPr/>
              </p:nvCxnSpPr>
              <p:spPr>
                <a:xfrm flipH="1">
                  <a:off x="7277760" y="2345400"/>
                  <a:ext cx="418320" cy="280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38" name=""/>
                <p:cNvCxnSpPr>
                  <a:stCxn id="434" idx="2"/>
                  <a:endCxn id="436" idx="0"/>
                </p:cNvCxnSpPr>
                <p:nvPr/>
              </p:nvCxnSpPr>
              <p:spPr>
                <a:xfrm>
                  <a:off x="7695360" y="2345400"/>
                  <a:ext cx="417960" cy="280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439" name=""/>
            <p:cNvSpPr/>
            <p:nvPr/>
          </p:nvSpPr>
          <p:spPr>
            <a:xfrm>
              <a:off x="7590600" y="2419920"/>
              <a:ext cx="2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7005600" y="286236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KAOS Patte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46400" y="4916520"/>
            <a:ext cx="6332400" cy="13366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On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transferFile(File, From, To)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when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To.Organisation != From.Organisation;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ubject s = /VMRSvcMg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arget  t = From.Organisation.Firewa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o 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t.blockTraffic(‘ftp’, From.IP, To.I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60600" y="2871720"/>
            <a:ext cx="949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751360" y="3922560"/>
            <a:ext cx="1279440" cy="383040"/>
            <a:chOff x="5751360" y="3922560"/>
            <a:chExt cx="1279440" cy="383040"/>
          </a:xfrm>
        </p:grpSpPr>
        <p:sp>
          <p:nvSpPr>
            <p:cNvPr id="444" name=""/>
            <p:cNvSpPr/>
            <p:nvPr/>
          </p:nvSpPr>
          <p:spPr>
            <a:xfrm>
              <a:off x="5886360" y="3998520"/>
              <a:ext cx="1144440" cy="30708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751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Lucida Console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11840" y="3954240"/>
              <a:ext cx="1144440" cy="30708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751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Lucida Console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51360" y="3922560"/>
              <a:ext cx="11448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751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Lucida Console"/>
                </a:rPr>
                <a:t>Strate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 rot="5400000">
            <a:off x="4528080" y="2032920"/>
            <a:ext cx="509400" cy="355320"/>
          </a:xfrm>
          <a:custGeom>
            <a:avLst/>
            <a:gdLst>
              <a:gd name="textAreaLeft" fmla="*/ 249480 w 509400"/>
              <a:gd name="textAreaRight" fmla="*/ 450720 w 509400"/>
              <a:gd name="textAreaTop" fmla="*/ 232560 h 355320"/>
              <a:gd name="textAreaBottom" fmla="*/ 314640 h 355320"/>
            </a:gdLst>
            <a:ahLst/>
            <a:rect l="textAreaLeft" t="textAreaTop" r="textAreaRight" b="textAreaBottom"/>
            <a:pathLst>
              <a:path w="21600" h="21600">
                <a:moveTo>
                  <a:pt x="0" y="16621"/>
                </a:moveTo>
                <a:lnTo>
                  <a:pt x="14131" y="16621"/>
                </a:lnTo>
                <a:lnTo>
                  <a:pt x="14131" y="10579"/>
                </a:lnTo>
                <a:lnTo>
                  <a:pt x="11641" y="10579"/>
                </a:lnTo>
                <a:lnTo>
                  <a:pt x="16621" y="0"/>
                </a:lnTo>
                <a:lnTo>
                  <a:pt x="21600" y="10579"/>
                </a:lnTo>
                <a:lnTo>
                  <a:pt x="19110" y="10579"/>
                </a:lnTo>
                <a:lnTo>
                  <a:pt x="191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5400000">
            <a:off x="4514040" y="2736000"/>
            <a:ext cx="285840" cy="582480"/>
          </a:xfrm>
          <a:prstGeom prst="downArrow">
            <a:avLst>
              <a:gd name="adj1" fmla="val 45565"/>
              <a:gd name="adj2" fmla="val 55530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487600" y="1528920"/>
            <a:ext cx="750960" cy="3716280"/>
            <a:chOff x="2487600" y="1528920"/>
            <a:chExt cx="750960" cy="3716280"/>
          </a:xfrm>
        </p:grpSpPr>
        <p:sp>
          <p:nvSpPr>
            <p:cNvPr id="450" name=""/>
            <p:cNvSpPr/>
            <p:nvPr/>
          </p:nvSpPr>
          <p:spPr>
            <a:xfrm>
              <a:off x="2487600" y="1528920"/>
              <a:ext cx="285840" cy="3492360"/>
            </a:xfrm>
            <a:prstGeom prst="downArrow">
              <a:avLst>
                <a:gd name="adj1" fmla="val 38889"/>
                <a:gd name="adj2" fmla="val 58883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52720" y="1752480"/>
              <a:ext cx="285840" cy="3492720"/>
            </a:xfrm>
            <a:prstGeom prst="downArrow">
              <a:avLst>
                <a:gd name="adj1" fmla="val 38889"/>
                <a:gd name="adj2" fmla="val 5888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2498760" y="3732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363840" y="3279600"/>
            <a:ext cx="555840" cy="2232000"/>
            <a:chOff x="3363840" y="3279600"/>
            <a:chExt cx="555840" cy="2232000"/>
          </a:xfrm>
        </p:grpSpPr>
        <p:sp>
          <p:nvSpPr>
            <p:cNvPr id="454" name=""/>
            <p:cNvSpPr/>
            <p:nvPr/>
          </p:nvSpPr>
          <p:spPr>
            <a:xfrm>
              <a:off x="3363840" y="3279600"/>
              <a:ext cx="285840" cy="2232000"/>
            </a:xfrm>
            <a:prstGeom prst="downArrow">
              <a:avLst>
                <a:gd name="adj1" fmla="val 38889"/>
                <a:gd name="adj2" fmla="val 688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200000">
              <a:off x="3309120" y="37285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794640" y="4302000"/>
            <a:ext cx="569880" cy="1722600"/>
            <a:chOff x="6794640" y="4302000"/>
            <a:chExt cx="569880" cy="1722600"/>
          </a:xfrm>
        </p:grpSpPr>
        <p:sp>
          <p:nvSpPr>
            <p:cNvPr id="457" name=""/>
            <p:cNvSpPr/>
            <p:nvPr/>
          </p:nvSpPr>
          <p:spPr>
            <a:xfrm>
              <a:off x="6794640" y="4302000"/>
              <a:ext cx="271440" cy="1722600"/>
            </a:xfrm>
            <a:prstGeom prst="downArrow">
              <a:avLst>
                <a:gd name="adj1" fmla="val 47741"/>
                <a:gd name="adj2" fmla="val 74273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6753960" y="47055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rot="5400000">
            <a:off x="6433200" y="2023200"/>
            <a:ext cx="285480" cy="582480"/>
          </a:xfrm>
          <a:prstGeom prst="downArrow">
            <a:avLst>
              <a:gd name="adj1" fmla="val 45565"/>
              <a:gd name="adj2" fmla="val 55600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6634080"/>
            <a:ext cx="3862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6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Example – Policy Refinement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4640" y="5079240"/>
            <a:ext cx="3529080" cy="1254960"/>
          </a:xfrm>
          <a:prstGeom prst="verticalScroll">
            <a:avLst>
              <a:gd name="adj" fmla="val 8476"/>
            </a:avLst>
          </a:prstGeom>
          <a:solidFill>
            <a:srgbClr val="ffff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Console"/>
              </a:rPr>
              <a:t>...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Lucida Console"/>
              </a:rPr>
              <a:t>G5 – Accept new SLS when  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Lucida Console"/>
              </a:rPr>
              <a:t>     customer is AOL and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Lucida Console"/>
              </a:rPr>
              <a:t>     requested PHB = BestEf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Console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400" y="46767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A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84880" y="5188320"/>
            <a:ext cx="3500280" cy="1035720"/>
          </a:xfrm>
          <a:prstGeom prst="verticalScroll">
            <a:avLst>
              <a:gd name="adj" fmla="val 8476"/>
            </a:avLst>
          </a:prstGeom>
          <a:solidFill>
            <a:srgbClr val="ffff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Lucida Console"/>
              </a:rPr>
              <a:t>inst oblig /policies/G5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??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40120" y="46767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cy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4379760" y="5171760"/>
            <a:ext cx="638280" cy="1066680"/>
          </a:xfrm>
          <a:prstGeom prst="downArrow">
            <a:avLst>
              <a:gd name="adj1" fmla="val 61694"/>
              <a:gd name="adj2" fmla="val 5756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81960" y="379728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S Subscription Module Behavi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452600" y="1033560"/>
          <a:ext cx="6086520" cy="28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033560"/>
                    <a:ext cx="608652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42CB-3343-4254-98BE-F0D3B38685E9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6634080"/>
            <a:ext cx="41972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Example – Goal Elaboration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1960" y="3666960"/>
            <a:ext cx="8105760" cy="739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G1: Goal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lsRequest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malDef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lsReqReceived(sls)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lsRequestProcessed(sl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36520" y="912960"/>
            <a:ext cx="4880160" cy="2654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812960" y="1019160"/>
            <a:ext cx="1730520" cy="466920"/>
          </a:xfrm>
          <a:prstGeom prst="roundRect">
            <a:avLst>
              <a:gd name="adj" fmla="val 50000"/>
            </a:avLst>
          </a:prstGeom>
          <a:solidFill>
            <a:srgbClr val="ff636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0040" y="2174760"/>
            <a:ext cx="1730520" cy="466920"/>
          </a:xfrm>
          <a:prstGeom prst="roundRect">
            <a:avLst>
              <a:gd name="adj" fmla="val 50000"/>
            </a:avLst>
          </a:prstGeom>
          <a:solidFill>
            <a:srgbClr val="ff636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16400" y="1146240"/>
            <a:ext cx="3451320" cy="1252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434280" y="1201680"/>
            <a:ext cx="107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P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678640" y="1535040"/>
            <a:ext cx="2495520" cy="734040"/>
            <a:chOff x="5678640" y="1535040"/>
            <a:chExt cx="2495520" cy="734040"/>
          </a:xfrm>
        </p:grpSpPr>
        <p:sp>
          <p:nvSpPr>
            <p:cNvPr id="483" name=""/>
            <p:cNvSpPr/>
            <p:nvPr/>
          </p:nvSpPr>
          <p:spPr>
            <a:xfrm>
              <a:off x="5678640" y="1962000"/>
              <a:ext cx="107316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Lucida Console"/>
                </a:rPr>
                <a:t>P </a:t>
              </a:r>
              <a:r>
                <a:rPr b="0" lang="en-GB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</a:t>
              </a:r>
              <a:r>
                <a:rPr b="0" lang="en-GB" sz="1400" spc="-1" strike="noStrike">
                  <a:solidFill>
                    <a:srgbClr val="000000"/>
                  </a:solidFill>
                  <a:latin typeface="Lucida Console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01000" y="1962000"/>
              <a:ext cx="107316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Lucida Console"/>
                </a:rPr>
                <a:t>Y </a:t>
              </a:r>
              <a:r>
                <a:rPr b="0" lang="en-GB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</a:t>
              </a:r>
              <a:r>
                <a:rPr b="0" lang="en-GB" sz="1400" spc="-1" strike="noStrike">
                  <a:solidFill>
                    <a:srgbClr val="000000"/>
                  </a:solidFill>
                  <a:latin typeface="Lucida Console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5" name=""/>
            <p:cNvCxnSpPr>
              <a:endCxn id="483" idx="0"/>
            </p:cNvCxnSpPr>
            <p:nvPr/>
          </p:nvCxnSpPr>
          <p:spPr>
            <a:xfrm flipH="1">
              <a:off x="6214680" y="1535040"/>
              <a:ext cx="712080" cy="42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"/>
            <p:cNvCxnSpPr>
              <a:endCxn id="484" idx="0"/>
            </p:cNvCxnSpPr>
            <p:nvPr/>
          </p:nvCxnSpPr>
          <p:spPr>
            <a:xfrm>
              <a:off x="6926040" y="1535040"/>
              <a:ext cx="711720" cy="42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7" name=""/>
            <p:cNvSpPr/>
            <p:nvPr/>
          </p:nvSpPr>
          <p:spPr>
            <a:xfrm>
              <a:off x="6746760" y="1647720"/>
              <a:ext cx="3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561960" y="5276880"/>
            <a:ext cx="8105760" cy="952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slsReqReceived(sls) = event(slsReqReceived(sls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slsRequestAccepted(sls) =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            { SLSModule:slsmgr; slsmgr.status=‘accepted(sls)’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1960" y="4451400"/>
            <a:ext cx="8105760" cy="739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G2: Goal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lsRequestAccep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malDef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slsReqReceived(sls)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slsRequestAccepted(sls) </a:t>
            </a:r>
            <a:r>
              <a:rPr b="0" lang="en-GB" sz="1400" spc="-1" strike="noStrike">
                <a:solidFill>
                  <a:srgbClr val="000000"/>
                </a:solidFill>
                <a:latin typeface="Math B"/>
                <a:ea typeface="Math B"/>
              </a:rPr>
              <a:t>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             slsRequestAccepted(sls) 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slsRequestProcessed(sl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5746-64DD-4C33-BCA8-6B75E59DF0B7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6634080"/>
            <a:ext cx="43797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Demonstration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Specify high-level goal.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Identify applicable goal elaboration patterns.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Select a suitable decomposition and specify sub-goal details.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Derive the strategies that satisfy the sub-goals.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750A-9838-4FD7-B4FE-4A9C292FD9B5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055960" y="3232080"/>
            <a:ext cx="5032080" cy="3029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2" name=""/>
          <p:cNvSpPr/>
          <p:nvPr/>
        </p:nvSpPr>
        <p:spPr>
          <a:xfrm>
            <a:off x="0" y="6634080"/>
            <a:ext cx="459432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0 -0.15764 E">
                                      <p:cBhvr>
                                        <p:cTn id="677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9" dur="2000" fill="hold"/>
                                        <p:tgtEl>
                                          <p:spTgt spid="501"/>
                                        </p:tgtEl>
                                      </p:cBhvr>
                                      <p:to x="171000" y="17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2" dur="194834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5764 L 0 -0.00208 E">
                                      <p:cBhvr>
                                        <p:cTn id="686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8" dur="2000" fill="hold"/>
                                        <p:tgtEl>
                                          <p:spTgt spid="501"/>
                                        </p:tgtEl>
                                      </p:cBhvr>
                                      <p:to x="58000" y="5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3" dur="1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Background and Motivation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 and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Tool support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Open Issue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840D-7401-4BA2-A1FA-930874FFF439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4000" y="1469880"/>
            <a:ext cx="4595760" cy="39384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3000" y="3274920"/>
            <a:ext cx="4735440" cy="417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2049480"/>
            <a:ext cx="4595760" cy="11113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000" y="3762360"/>
            <a:ext cx="4735440" cy="417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3322800"/>
            <a:ext cx="4595760" cy="3348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6634080"/>
            <a:ext cx="541800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Policy Analysis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15A9-B886-4E26-8C3A-72581084BAA0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Specificatio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Empty subject/target dom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Unsupported operations in action specif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Unsupported attributes in constraint specification.</a:t>
            </a:r>
            <a:br>
              <a:rPr sz="1800"/>
            </a:b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Modality confli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Authorisation modality conflict (auth+ / auth-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Management operation modality conflict (oblig / refrai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Unauthorised obligation modality conflict (oblig / auth-)</a:t>
            </a:r>
            <a:br>
              <a:rPr sz="1800"/>
            </a:b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Semantic confli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Separation of duty / interest confli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Self- / Multi-manager confli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705720" y="1119240"/>
            <a:ext cx="2225520" cy="1554120"/>
            <a:chOff x="6705720" y="1119240"/>
            <a:chExt cx="2225520" cy="1554120"/>
          </a:xfrm>
        </p:grpSpPr>
        <p:sp>
          <p:nvSpPr>
            <p:cNvPr id="522" name=""/>
            <p:cNvSpPr/>
            <p:nvPr/>
          </p:nvSpPr>
          <p:spPr>
            <a:xfrm>
              <a:off x="6705720" y="1136520"/>
              <a:ext cx="380880" cy="15242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62920" y="1119240"/>
              <a:ext cx="1768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e207f"/>
                  </a:solidFill>
                  <a:latin typeface="Arial"/>
                </a:rPr>
                <a:t>Deductive reasoning</a:t>
              </a:r>
              <a:r>
                <a:rPr b="0" lang="en-GB" sz="1600" spc="-1" strike="noStrike">
                  <a:solidFill>
                    <a:srgbClr val="0e207f"/>
                  </a:solidFill>
                  <a:latin typeface="Arial"/>
                </a:rPr>
                <a:t> over </a:t>
              </a:r>
              <a:r>
                <a:rPr b="0" lang="en-GB" sz="1600" spc="-1" strike="noStrike" u="sng">
                  <a:solidFill>
                    <a:srgbClr val="0e207f"/>
                  </a:solidFill>
                  <a:uFillTx/>
                  <a:latin typeface="Arial"/>
                </a:rPr>
                <a:t>system organisation model and policy specification</a:t>
              </a:r>
              <a:r>
                <a:rPr b="0" lang="en-GB" sz="1600" spc="-1" strike="noStrike">
                  <a:solidFill>
                    <a:srgbClr val="0e207f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705720" y="3124080"/>
            <a:ext cx="2225520" cy="2819520"/>
            <a:chOff x="6705720" y="3124080"/>
            <a:chExt cx="2225520" cy="2819520"/>
          </a:xfrm>
        </p:grpSpPr>
        <p:sp>
          <p:nvSpPr>
            <p:cNvPr id="525" name=""/>
            <p:cNvSpPr/>
            <p:nvPr/>
          </p:nvSpPr>
          <p:spPr>
            <a:xfrm>
              <a:off x="6705720" y="3124080"/>
              <a:ext cx="380880" cy="28195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62920" y="3754440"/>
              <a:ext cx="1768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e207f"/>
                  </a:solidFill>
                  <a:latin typeface="Arial"/>
                </a:rPr>
                <a:t>Abductive reasoning</a:t>
              </a:r>
              <a:r>
                <a:rPr b="0" lang="en-GB" sz="1600" spc="-1" strike="noStrike">
                  <a:solidFill>
                    <a:srgbClr val="0e207f"/>
                  </a:solidFill>
                  <a:latin typeface="Arial"/>
                </a:rPr>
                <a:t> over </a:t>
              </a:r>
              <a:r>
                <a:rPr b="0" lang="en-GB" sz="1600" spc="-1" strike="noStrike" u="sng">
                  <a:solidFill>
                    <a:srgbClr val="0e207f"/>
                  </a:solidFill>
                  <a:uFillTx/>
                  <a:latin typeface="Arial"/>
                </a:rPr>
                <a:t>system behaviour model and policy specifi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0" y="6634080"/>
            <a:ext cx="541800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Example - Policy Analysis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193760" y="2679840"/>
            <a:ext cx="5524200" cy="2489040"/>
            <a:chOff x="1193760" y="2679840"/>
            <a:chExt cx="5524200" cy="2489040"/>
          </a:xfrm>
        </p:grpSpPr>
        <p:sp>
          <p:nvSpPr>
            <p:cNvPr id="530" name=""/>
            <p:cNvSpPr/>
            <p:nvPr/>
          </p:nvSpPr>
          <p:spPr>
            <a:xfrm>
              <a:off x="1193760" y="2679840"/>
              <a:ext cx="5524200" cy="2489040"/>
            </a:xfrm>
            <a:prstGeom prst="verticalScroll">
              <a:avLst>
                <a:gd name="adj" fmla="val 8476"/>
              </a:avLst>
            </a:prstGeom>
            <a:solidFill>
              <a:srgbClr val="ffff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23240" y="3238200"/>
              <a:ext cx="3091320" cy="15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inst oblig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/policies/polAcceptSLS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on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     slsReqReceived ( )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subject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s s = /mgdObjs/slsmgr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target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 t = /mgdObjs/slsmgr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do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     t.accept ( ) 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when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   Time.between ("4:0:0", "6:0:0"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2040" y="1289160"/>
            <a:ext cx="8301240" cy="307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on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SLS request,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hen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between 4am and 6am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do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accept S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739880" y="3073320"/>
            <a:ext cx="5676480" cy="2489040"/>
            <a:chOff x="1739880" y="3073320"/>
            <a:chExt cx="5676480" cy="2489040"/>
          </a:xfrm>
        </p:grpSpPr>
        <p:sp>
          <p:nvSpPr>
            <p:cNvPr id="534" name=""/>
            <p:cNvSpPr/>
            <p:nvPr/>
          </p:nvSpPr>
          <p:spPr>
            <a:xfrm>
              <a:off x="1739880" y="3073320"/>
              <a:ext cx="5676480" cy="2489040"/>
            </a:xfrm>
            <a:prstGeom prst="verticalScroll">
              <a:avLst>
                <a:gd name="adj" fmla="val 8476"/>
              </a:avLst>
            </a:prstGeom>
            <a:solidFill>
              <a:srgbClr val="ffff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81240" y="3632040"/>
              <a:ext cx="3176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inst oblig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/policies/polDoDiagnostic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on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    Timer.at("3:0:0"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subject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s = /mgdObjs/slsmg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target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t = /mgdObjs/slsmg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do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    t.runDiagnostic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92040" y="1695600"/>
            <a:ext cx="8301240" cy="307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at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3am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do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execution of SLS manager diagnostic scri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2040" y="2127240"/>
            <a:ext cx="8301240" cy="307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LS requests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should not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be accepted by the system 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hen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in diagnostic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374920" y="3594240"/>
            <a:ext cx="5498640" cy="2489040"/>
            <a:chOff x="2374920" y="3594240"/>
            <a:chExt cx="5498640" cy="2489040"/>
          </a:xfrm>
        </p:grpSpPr>
        <p:sp>
          <p:nvSpPr>
            <p:cNvPr id="539" name=""/>
            <p:cNvSpPr/>
            <p:nvPr/>
          </p:nvSpPr>
          <p:spPr>
            <a:xfrm>
              <a:off x="2374920" y="3594240"/>
              <a:ext cx="5498640" cy="2489040"/>
            </a:xfrm>
            <a:prstGeom prst="verticalScroll">
              <a:avLst>
                <a:gd name="adj" fmla="val 8476"/>
              </a:avLst>
            </a:prstGeom>
            <a:solidFill>
              <a:srgbClr val="ffff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802240" y="4152960"/>
              <a:ext cx="30769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inst refrain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/policies/polPreventSLSAccept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subject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s = /mgdObjs/slsmg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target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t = /mgdObjs/slsmg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action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t.accept(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GB" sz="1400" spc="-1" strike="noStrike">
                  <a:solidFill>
                    <a:srgbClr val="0e207f"/>
                  </a:solidFill>
                  <a:latin typeface="Lucida Console"/>
                </a:rPr>
                <a:t>when</a:t>
              </a: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    t.status = “diagnostic”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e207f"/>
                  </a:solidFill>
                  <a:latin typeface="Lucida Console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37D6-B258-4273-8F8D-AD8008508E96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6634080"/>
            <a:ext cx="6043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Demonstration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Specify policies for example system.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Identify the errors and conflicts in the policy specification.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erform other queries on the specification.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4DE9-6B83-4AD4-B205-56E971C558D1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684440" y="2743200"/>
            <a:ext cx="5775120" cy="347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3" name=""/>
          <p:cNvSpPr/>
          <p:nvPr/>
        </p:nvSpPr>
        <p:spPr>
          <a:xfrm>
            <a:off x="0" y="6634080"/>
            <a:ext cx="669780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0" dur="2000" fill="hold"/>
                                        <p:tgtEl>
                                          <p:spTgt spid="5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7.40741E-007 L 0 -0.11551 E">
                                      <p:cBhvr>
                                        <p:cTn id="812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10550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1551 L 0 -0.0044 E">
                                      <p:cBhvr>
                                        <p:cTn id="819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1" dur="2000" fill="hold"/>
                                        <p:tgtEl>
                                          <p:spTgt spid="552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6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Background and Motivation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 and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Tool support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Open Issue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7EA8-0BFA-4E0B-8413-E1C1AAF8376F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634080"/>
            <a:ext cx="64620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4960" y="1424160"/>
            <a:ext cx="4735800" cy="496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Background and Motivation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 and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Tool support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Open Issue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74EB-D427-4B05-932F-ACD821DD3DA8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4000" y="1469880"/>
            <a:ext cx="4595760" cy="39384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3000" y="3762360"/>
            <a:ext cx="4735440" cy="417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4000" y="2049480"/>
            <a:ext cx="4595760" cy="11113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3000" y="4249800"/>
            <a:ext cx="4735440" cy="417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3322800"/>
            <a:ext cx="4595760" cy="3348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3808440"/>
            <a:ext cx="4595760" cy="3348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6634080"/>
            <a:ext cx="733752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Open Issues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Conflict Resolution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Fully automated policy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Differences in terminology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Requirements validation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Engineering adaptive system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tentially useful techniques: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Logical Framework for Argumentation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Preference Reasoning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Combining abduction with constraint logic and utility functions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Automated natural language generation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DA1E-9004-42C4-9159-DCBC45B18FFC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5840" y="5518080"/>
            <a:ext cx="862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Kakas, Bandara et al.,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“Reasoning Techniques For Analysis And Refinement Of Policies For Service Management”,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Department of Computing Technical Report #2005/7, Imperial College Lond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6634080"/>
            <a:ext cx="733752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Background and Motivation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 and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Tool support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Open Issue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ADE9-8FFF-43D7-833D-42E7D632F094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4000" y="1469880"/>
            <a:ext cx="4595760" cy="39384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3000" y="4248000"/>
            <a:ext cx="4735440" cy="417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4000" y="2049480"/>
            <a:ext cx="4595760" cy="11113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3000" y="4735440"/>
            <a:ext cx="4735440" cy="4176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4000" y="3322800"/>
            <a:ext cx="4595760" cy="3348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3808440"/>
            <a:ext cx="4595760" cy="33480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4000" y="4305240"/>
            <a:ext cx="4595760" cy="33516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6634080"/>
            <a:ext cx="782640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Large-scale use of policy-based management requires support for policy refinement and analysis.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Analysis and refinement requirements can be addressed using formal techniques </a:t>
            </a:r>
            <a:r>
              <a:rPr b="0" lang="en-GB" sz="2200" spc="-1" strike="noStrike">
                <a:solidFill>
                  <a:srgbClr val="0e207f"/>
                </a:solidFill>
                <a:latin typeface="Wingdings"/>
                <a:ea typeface="Wingdings"/>
              </a:rPr>
              <a:t></a:t>
            </a: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 requires tool support.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Tool shields administrator from having to know the details of the formalisation. Features include: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Specify managed system and policies in high-level notations.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Derive information about errors and conflict scenarios for policies.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Support ad-hoc queries for properties of the system.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Support refinement through goal decomposition and strategy derivation.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Ongoing work to use other formal techniques to enhance analysis and refinement capabilities.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0C16-BB67-4E1D-A8AE-409B4A602D0A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634080"/>
            <a:ext cx="782640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2995560" y="523800"/>
            <a:ext cx="1288800" cy="1758960"/>
            <a:chOff x="2995560" y="523800"/>
            <a:chExt cx="1288800" cy="1758960"/>
          </a:xfrm>
        </p:grpSpPr>
        <p:grpSp>
          <p:nvGrpSpPr>
            <p:cNvPr id="597" name=""/>
            <p:cNvGrpSpPr/>
            <p:nvPr/>
          </p:nvGrpSpPr>
          <p:grpSpPr>
            <a:xfrm>
              <a:off x="3133800" y="523800"/>
              <a:ext cx="1006560" cy="1368360"/>
              <a:chOff x="3133800" y="523800"/>
              <a:chExt cx="1006560" cy="1368360"/>
            </a:xfrm>
          </p:grpSpPr>
          <p:sp>
            <p:nvSpPr>
              <p:cNvPr id="598" name=""/>
              <p:cNvSpPr/>
              <p:nvPr/>
            </p:nvSpPr>
            <p:spPr>
              <a:xfrm>
                <a:off x="3148200" y="596880"/>
                <a:ext cx="990360" cy="1295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33800" y="523800"/>
                <a:ext cx="1006560" cy="1360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"/>
            <p:cNvSpPr/>
            <p:nvPr/>
          </p:nvSpPr>
          <p:spPr>
            <a:xfrm>
              <a:off x="2995560" y="1914480"/>
              <a:ext cx="128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Emil Lu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10400" y="552600"/>
            <a:ext cx="2172600" cy="1730520"/>
            <a:chOff x="410400" y="552600"/>
            <a:chExt cx="2172600" cy="1730520"/>
          </a:xfrm>
        </p:grpSpPr>
        <p:pic>
          <p:nvPicPr>
            <p:cNvPr id="602" name="" descr=""/>
            <p:cNvPicPr/>
            <p:nvPr/>
          </p:nvPicPr>
          <p:blipFill>
            <a:blip r:embed="rId2"/>
            <a:srcRect l="0" t="10408" r="0" b="0"/>
            <a:stretch/>
          </p:blipFill>
          <p:spPr>
            <a:xfrm>
              <a:off x="992160" y="552600"/>
              <a:ext cx="101124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10400" y="1914840"/>
              <a:ext cx="21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Alessandra Ru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646000" y="2403360"/>
            <a:ext cx="2023200" cy="1720800"/>
            <a:chOff x="2646000" y="2403360"/>
            <a:chExt cx="2023200" cy="1720800"/>
          </a:xfrm>
        </p:grpSpPr>
        <p:sp>
          <p:nvSpPr>
            <p:cNvPr id="605" name=""/>
            <p:cNvSpPr/>
            <p:nvPr/>
          </p:nvSpPr>
          <p:spPr>
            <a:xfrm>
              <a:off x="2646000" y="3755880"/>
              <a:ext cx="20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Jonathan Moffe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6" name="" descr=""/>
            <p:cNvPicPr/>
            <p:nvPr/>
          </p:nvPicPr>
          <p:blipFill>
            <a:blip r:embed="rId3"/>
            <a:stretch/>
          </p:blipFill>
          <p:spPr>
            <a:xfrm>
              <a:off x="3144600" y="2403360"/>
              <a:ext cx="102492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"/>
          <p:cNvGrpSpPr/>
          <p:nvPr/>
        </p:nvGrpSpPr>
        <p:grpSpPr>
          <a:xfrm>
            <a:off x="4695840" y="498600"/>
            <a:ext cx="1768680" cy="1731960"/>
            <a:chOff x="4695840" y="498600"/>
            <a:chExt cx="1768680" cy="1731960"/>
          </a:xfrm>
        </p:grpSpPr>
        <p:pic>
          <p:nvPicPr>
            <p:cNvPr id="608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5076720" y="498600"/>
              <a:ext cx="10065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4695840" y="186228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Morris Slom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878880" y="480960"/>
            <a:ext cx="1854000" cy="1749600"/>
            <a:chOff x="6878880" y="480960"/>
            <a:chExt cx="1854000" cy="1749600"/>
          </a:xfrm>
        </p:grpSpPr>
        <p:pic>
          <p:nvPicPr>
            <p:cNvPr id="611" name="" descr=""/>
            <p:cNvPicPr/>
            <p:nvPr/>
          </p:nvPicPr>
          <p:blipFill>
            <a:blip r:embed="rId5"/>
            <a:srcRect l="0" t="0" r="3559" b="0"/>
            <a:stretch/>
          </p:blipFill>
          <p:spPr>
            <a:xfrm>
              <a:off x="7310520" y="480960"/>
              <a:ext cx="990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6878880" y="1862280"/>
              <a:ext cx="185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Naranker Du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1680" y="3954600"/>
            <a:ext cx="85392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1835f"/>
                </a:solidFill>
                <a:latin typeface="Arial"/>
              </a:rPr>
              <a:t>bandara@doc.ic.ac.uk</a:t>
            </a:r>
            <a:br>
              <a:rPr sz="2400"/>
            </a:br>
            <a:r>
              <a:rPr b="0" lang="en-GB" sz="2400" spc="-1" strike="noStrike">
                <a:solidFill>
                  <a:srgbClr val="01835f"/>
                </a:solidFill>
                <a:latin typeface="Arial"/>
              </a:rPr>
              <a:t>www.doc.ic.ac.uk/~band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4822560"/>
            <a:ext cx="8539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1835f"/>
                </a:solidFill>
                <a:latin typeface="Arial"/>
              </a:rPr>
              <a:t>Thank You !</a:t>
            </a: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507840" y="4141800"/>
            <a:ext cx="21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835f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848840" y="2409840"/>
            <a:ext cx="1462320" cy="1741320"/>
            <a:chOff x="4848840" y="2409840"/>
            <a:chExt cx="1462320" cy="1741320"/>
          </a:xfrm>
        </p:grpSpPr>
        <p:pic>
          <p:nvPicPr>
            <p:cNvPr id="621" name="" descr=""/>
            <p:cNvPicPr/>
            <p:nvPr/>
          </p:nvPicPr>
          <p:blipFill>
            <a:blip r:embed="rId6">
              <a:grayscl/>
            </a:blip>
            <a:srcRect l="38231" t="9777" r="34970" b="36570"/>
            <a:stretch/>
          </p:blipFill>
          <p:spPr>
            <a:xfrm>
              <a:off x="5073480" y="2409840"/>
              <a:ext cx="100440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4848840" y="378288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Tony Kak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0" y="6634080"/>
            <a:ext cx="84056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>
    <p:fade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7000"/>
                            </p:stCondLst>
                            <p:childTnLst>
                              <p:par>
                                <p:cTn id="90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7407E-006 L -0.00034 -0.2875 E">
                                      <p:cBhvr>
                                        <p:cTn id="902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9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 flipV="1">
            <a:off x="2068200" y="2914560"/>
            <a:ext cx="476280" cy="46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System Management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46200" y="1932120"/>
            <a:ext cx="1422360" cy="1307880"/>
            <a:chOff x="646200" y="1932120"/>
            <a:chExt cx="1422360" cy="1307880"/>
          </a:xfrm>
        </p:grpSpPr>
        <p:sp>
          <p:nvSpPr>
            <p:cNvPr id="95" name=""/>
            <p:cNvSpPr/>
            <p:nvPr/>
          </p:nvSpPr>
          <p:spPr>
            <a:xfrm>
              <a:off x="646200" y="1932120"/>
              <a:ext cx="1422360" cy="1307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262160" y="2762280"/>
              <a:ext cx="477360" cy="368280"/>
              <a:chOff x="1262160" y="2762280"/>
              <a:chExt cx="477360" cy="368280"/>
            </a:xfrm>
          </p:grpSpPr>
          <p:sp>
            <p:nvSpPr>
              <p:cNvPr id="97" name=""/>
              <p:cNvSpPr/>
              <p:nvPr/>
            </p:nvSpPr>
            <p:spPr>
              <a:xfrm>
                <a:off x="1299960" y="2762280"/>
                <a:ext cx="391680" cy="36828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671480" y="2835360"/>
                <a:ext cx="68040" cy="2221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62160" y="2835360"/>
                <a:ext cx="68040" cy="2221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00" name=""/>
            <p:cNvGraphicFramePr/>
            <p:nvPr/>
          </p:nvGraphicFramePr>
          <p:xfrm>
            <a:off x="1216080" y="2122560"/>
            <a:ext cx="492120" cy="28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6080" y="2122560"/>
                      <a:ext cx="492120" cy="282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987480" y="2198520"/>
            <a:ext cx="492120" cy="28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87480" y="2198520"/>
                      <a:ext cx="492120" cy="282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771480" y="2351160"/>
            <a:ext cx="492120" cy="28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1480" y="2351160"/>
                      <a:ext cx="492120" cy="282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06" name=""/>
            <p:cNvGrpSpPr/>
            <p:nvPr/>
          </p:nvGrpSpPr>
          <p:grpSpPr>
            <a:xfrm>
              <a:off x="1376280" y="2647800"/>
              <a:ext cx="478080" cy="368280"/>
              <a:chOff x="1376280" y="2647800"/>
              <a:chExt cx="478080" cy="368280"/>
            </a:xfrm>
          </p:grpSpPr>
          <p:sp>
            <p:nvSpPr>
              <p:cNvPr id="107" name=""/>
              <p:cNvSpPr/>
              <p:nvPr/>
            </p:nvSpPr>
            <p:spPr>
              <a:xfrm>
                <a:off x="1414440" y="2647800"/>
                <a:ext cx="392040" cy="36828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785960" y="2720880"/>
                <a:ext cx="68400" cy="2221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76280" y="2720880"/>
                <a:ext cx="68400" cy="2221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503360" y="2546280"/>
              <a:ext cx="477360" cy="368280"/>
              <a:chOff x="1503360" y="2546280"/>
              <a:chExt cx="477360" cy="368280"/>
            </a:xfrm>
          </p:grpSpPr>
          <p:sp>
            <p:nvSpPr>
              <p:cNvPr id="111" name=""/>
              <p:cNvSpPr/>
              <p:nvPr/>
            </p:nvSpPr>
            <p:spPr>
              <a:xfrm>
                <a:off x="1541160" y="2546280"/>
                <a:ext cx="391680" cy="36828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12680" y="2619360"/>
                <a:ext cx="68040" cy="2221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03360" y="2619360"/>
                <a:ext cx="68040" cy="222120"/>
              </a:xfrm>
              <a:prstGeom prst="ellipse">
                <a:avLst/>
              </a:prstGeom>
              <a:solidFill>
                <a:srgbClr val="ffffff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3187800" y="3511440"/>
            <a:ext cx="4244400" cy="839880"/>
            <a:chOff x="3187800" y="3511440"/>
            <a:chExt cx="4244400" cy="839880"/>
          </a:xfrm>
        </p:grpSpPr>
        <p:sp>
          <p:nvSpPr>
            <p:cNvPr id="115" name=""/>
            <p:cNvSpPr/>
            <p:nvPr/>
          </p:nvSpPr>
          <p:spPr>
            <a:xfrm>
              <a:off x="3187800" y="3517920"/>
              <a:ext cx="1491840" cy="830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Arial"/>
                </a:rPr>
                <a:t>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32560" y="3511440"/>
              <a:ext cx="1799640" cy="839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Arial"/>
                </a:rPr>
                <a:t>Dec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flipH="1">
              <a:off x="4679280" y="3932280"/>
              <a:ext cx="953280" cy="2160"/>
            </a:xfrm>
            <a:prstGeom prst="straightConnector1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8" name=""/>
          <p:cNvSpPr/>
          <p:nvPr/>
        </p:nvSpPr>
        <p:spPr>
          <a:xfrm>
            <a:off x="510840" y="334332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68560" y="1357200"/>
            <a:ext cx="3509640" cy="996840"/>
            <a:chOff x="2068560" y="1357200"/>
            <a:chExt cx="3509640" cy="996840"/>
          </a:xfrm>
        </p:grpSpPr>
        <p:sp>
          <p:nvSpPr>
            <p:cNvPr id="120" name=""/>
            <p:cNvSpPr/>
            <p:nvPr/>
          </p:nvSpPr>
          <p:spPr>
            <a:xfrm>
              <a:off x="4150800" y="1357200"/>
              <a:ext cx="1427400" cy="99684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808080"/>
                  </a:solidFill>
                  <a:latin typeface="Arial"/>
                </a:rPr>
                <a:t>Mon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068560" y="1781280"/>
              <a:ext cx="2085480" cy="49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03640" y="156528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Ev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105000" y="1625760"/>
            <a:ext cx="5446440" cy="2779200"/>
            <a:chOff x="3105000" y="1625760"/>
            <a:chExt cx="5446440" cy="2779200"/>
          </a:xfrm>
        </p:grpSpPr>
        <p:sp>
          <p:nvSpPr>
            <p:cNvPr id="124" name=""/>
            <p:cNvSpPr/>
            <p:nvPr/>
          </p:nvSpPr>
          <p:spPr>
            <a:xfrm>
              <a:off x="7032600" y="2539800"/>
              <a:ext cx="151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anager </a:t>
              </a:r>
              <a:br>
                <a:rPr sz="2400"/>
              </a:b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105000" y="1625760"/>
              <a:ext cx="4666680" cy="2779200"/>
              <a:chOff x="3105000" y="1625760"/>
              <a:chExt cx="4666680" cy="2779200"/>
            </a:xfrm>
          </p:grpSpPr>
          <p:sp>
            <p:nvSpPr>
              <p:cNvPr id="126" name=""/>
              <p:cNvSpPr/>
              <p:nvPr/>
            </p:nvSpPr>
            <p:spPr>
              <a:xfrm>
                <a:off x="3105000" y="3427200"/>
                <a:ext cx="4457520" cy="9777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5578200" y="1625760"/>
                <a:ext cx="2193480" cy="1788480"/>
                <a:chOff x="5578200" y="1625760"/>
                <a:chExt cx="2193480" cy="1788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6659640" y="1625760"/>
                  <a:ext cx="111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ve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483960" y="1763640"/>
                  <a:ext cx="0" cy="1650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5578200" y="1763640"/>
                  <a:ext cx="905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1" name=""/>
          <p:cNvGrpSpPr/>
          <p:nvPr/>
        </p:nvGrpSpPr>
        <p:grpSpPr>
          <a:xfrm>
            <a:off x="6109920" y="4294080"/>
            <a:ext cx="1332720" cy="1547280"/>
            <a:chOff x="6109920" y="4294080"/>
            <a:chExt cx="1332720" cy="1547280"/>
          </a:xfrm>
        </p:grpSpPr>
        <p:sp>
          <p:nvSpPr>
            <p:cNvPr id="132" name=""/>
            <p:cNvSpPr/>
            <p:nvPr/>
          </p:nvSpPr>
          <p:spPr>
            <a:xfrm>
              <a:off x="6109920" y="538164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cc33"/>
                  </a:solidFill>
                  <a:latin typeface="Arial"/>
                </a:rPr>
                <a:t>Polic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14600" y="4294080"/>
              <a:ext cx="864360" cy="26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543720" y="4534920"/>
              <a:ext cx="0" cy="7938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94B4-5C91-4E08-B9A1-8BADF807DB8E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634080"/>
            <a:ext cx="107172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61680" y="4268880"/>
            <a:ext cx="2706120" cy="1526400"/>
            <a:chOff x="2461680" y="4268880"/>
            <a:chExt cx="2706120" cy="1526400"/>
          </a:xfrm>
        </p:grpSpPr>
        <p:sp>
          <p:nvSpPr>
            <p:cNvPr id="141" name=""/>
            <p:cNvSpPr/>
            <p:nvPr/>
          </p:nvSpPr>
          <p:spPr>
            <a:xfrm>
              <a:off x="2461680" y="5335560"/>
              <a:ext cx="27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cc99"/>
                  </a:solidFill>
                  <a:latin typeface="Arial"/>
                </a:rPr>
                <a:t>New 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86240" y="4268880"/>
              <a:ext cx="863280" cy="266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917160" y="4528800"/>
              <a:ext cx="0" cy="7938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183680" y="2732040"/>
            <a:ext cx="1576800" cy="2196360"/>
            <a:chOff x="1183680" y="2732040"/>
            <a:chExt cx="1576800" cy="2196360"/>
          </a:xfrm>
        </p:grpSpPr>
        <p:sp>
          <p:nvSpPr>
            <p:cNvPr id="145" name=""/>
            <p:cNvSpPr/>
            <p:nvPr/>
          </p:nvSpPr>
          <p:spPr>
            <a:xfrm>
              <a:off x="1183680" y="446868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cc33"/>
                  </a:solidFill>
                  <a:latin typeface="Arial"/>
                </a:rPr>
                <a:t>Polic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27040" y="2732040"/>
              <a:ext cx="433440" cy="1292400"/>
            </a:xfrm>
            <a:custGeom>
              <a:avLst/>
              <a:gdLst/>
              <a:ahLst/>
              <a:rect l="l" t="t" r="r" b="b"/>
              <a:pathLst>
                <a:path w="432" h="1085">
                  <a:moveTo>
                    <a:pt x="0" y="314"/>
                  </a:moveTo>
                  <a:lnTo>
                    <a:pt x="431" y="0"/>
                  </a:lnTo>
                  <a:lnTo>
                    <a:pt x="431" y="760"/>
                  </a:lnTo>
                  <a:lnTo>
                    <a:pt x="0" y="1084"/>
                  </a:lnTo>
                  <a:lnTo>
                    <a:pt x="0" y="314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5080" rIns="55080" tIns="26640" bIns="26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574720" y="3828600"/>
              <a:ext cx="0" cy="7938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 flipV="1">
            <a:off x="2544840" y="3377880"/>
            <a:ext cx="560160" cy="55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Policy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760" y="1200240"/>
            <a:ext cx="8499240" cy="1066680"/>
          </a:xfrm>
          <a:prstGeom prst="verticalScroll">
            <a:avLst>
              <a:gd name="adj" fmla="val 18750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e207f"/>
                </a:solidFill>
                <a:latin typeface="Arial"/>
              </a:rPr>
              <a:t>Rule governing choices in behaviour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5909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Derived from enterprise goals and service level agre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Need to specify and modify policies without coding into automated ag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ies are </a:t>
            </a:r>
            <a:r>
              <a:rPr b="1" lang="en-GB" sz="2200" spc="-1" strike="noStrike">
                <a:solidFill>
                  <a:srgbClr val="0e207f"/>
                </a:solidFill>
                <a:latin typeface="Arial"/>
              </a:rPr>
              <a:t>persistent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But can be dynamically mod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e207f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Change system behaviour without modifying implementation </a:t>
            </a:r>
            <a:r>
              <a:rPr b="0" lang="en-GB" sz="2200" spc="-1" strike="noStrike">
                <a:solidFill>
                  <a:srgbClr val="0e207f"/>
                </a:solidFill>
                <a:latin typeface="Arial"/>
                <a:ea typeface="Arial"/>
              </a:rPr>
              <a:t>–</a:t>
            </a: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e207f"/>
                </a:solidFill>
                <a:latin typeface="Arial"/>
              </a:rPr>
              <a:t>not new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ECE0-5952-4AB6-9B12-07368DFF8DB8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634080"/>
            <a:ext cx="152892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09760" y="1709640"/>
            <a:ext cx="3952800" cy="773280"/>
          </a:xfrm>
          <a:prstGeom prst="parallelogram">
            <a:avLst>
              <a:gd name="adj" fmla="val 135508"/>
            </a:avLst>
          </a:prstGeom>
          <a:blipFill rotWithShape="0">
            <a:blip r:embed="rId1"/>
            <a:srcRect/>
            <a:tile tx="0" ty="0" sx="100000" sy="100000" algn="ctr"/>
          </a:blip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Policy-based Management Examples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284120" y="1446120"/>
            <a:ext cx="493920" cy="658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7D4A-8F9B-4AF2-AE7A-F9F6739F3F0D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136600" y="1817640"/>
            <a:ext cx="640080" cy="633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167360" y="1709640"/>
            <a:ext cx="3952800" cy="773280"/>
          </a:xfrm>
          <a:prstGeom prst="parallelogram">
            <a:avLst>
              <a:gd name="adj" fmla="val 135508"/>
            </a:avLst>
          </a:prstGeom>
          <a:blipFill rotWithShape="0">
            <a:blip r:embed="rId4"/>
            <a:srcRect/>
            <a:tile tx="0" ty="0" sx="100000" sy="100000" algn="ctr"/>
          </a:blip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760" y="2948040"/>
            <a:ext cx="3233520" cy="97632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Ignore meeting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If status is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13280" y="2948040"/>
            <a:ext cx="3233520" cy="97632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Accept meeting request</a:t>
            </a:r>
            <a:br>
              <a:rPr sz="1600"/>
            </a:b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If from Us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77120" y="2978280"/>
            <a:ext cx="13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ferenc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760" y="4272120"/>
            <a:ext cx="6057720" cy="55872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Prevent file transfer If recipient is 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41920" y="4367160"/>
            <a:ext cx="21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urity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760" y="5151600"/>
            <a:ext cx="5894280" cy="55872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On file transfer, log username, file an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56520" y="5246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agement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754360" y="1839960"/>
            <a:ext cx="3056040" cy="27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708600" y="1782720"/>
            <a:ext cx="493920" cy="658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5737320" y="1504800"/>
            <a:ext cx="639720" cy="633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6634080"/>
            <a:ext cx="19558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96800" y="1722600"/>
            <a:ext cx="7656480" cy="772920"/>
          </a:xfrm>
          <a:prstGeom prst="parallelogram">
            <a:avLst>
              <a:gd name="adj" fmla="val 142627"/>
            </a:avLst>
          </a:prstGeom>
          <a:blipFill rotWithShape="0">
            <a:blip r:embed="rId1"/>
            <a:srcRect/>
            <a:tile tx="0" ty="0" sx="100000" sy="100000" algn="ctr"/>
          </a:blip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20" y="1733400"/>
            <a:ext cx="7656480" cy="773280"/>
          </a:xfrm>
          <a:prstGeom prst="parallelogram">
            <a:avLst>
              <a:gd name="adj" fmla="val 142560"/>
            </a:avLst>
          </a:prstGeom>
          <a:blipFill rotWithShape="0">
            <a:blip r:embed="rId2"/>
            <a:srcRect/>
            <a:tile tx="0" ty="0" sx="100000" sy="100000" algn="ctr"/>
          </a:blip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Policy-based Management Examples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708600" y="1782720"/>
            <a:ext cx="493920" cy="658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284120" y="1446120"/>
            <a:ext cx="493920" cy="658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8874-5479-46A0-9D12-47847C802D26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136600" y="1817640"/>
            <a:ext cx="640080" cy="633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19459200">
            <a:off x="6975000" y="2084400"/>
            <a:ext cx="150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6800" y="3387600"/>
            <a:ext cx="7656480" cy="773280"/>
          </a:xfrm>
          <a:prstGeom prst="parallelogram">
            <a:avLst>
              <a:gd name="adj" fmla="val 142560"/>
            </a:avLst>
          </a:prstGeom>
          <a:blipFill rotWithShape="0">
            <a:blip r:embed="rId6"/>
            <a:srcRect/>
            <a:tile tx="0" ty="0" sx="100000" sy="100000" algn="ctr"/>
          </a:blip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9459200">
            <a:off x="7087680" y="3703680"/>
            <a:ext cx="12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ERVICES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9459200">
            <a:off x="7080480" y="5393880"/>
            <a:ext cx="129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2049480" y="3198960"/>
            <a:ext cx="663480" cy="771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809800" y="3827520"/>
            <a:ext cx="479520" cy="45540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65880" y="3110040"/>
            <a:ext cx="479520" cy="45540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55840" y="2208240"/>
            <a:ext cx="479160" cy="45576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2104920"/>
            <a:ext cx="479160" cy="45576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483240" y="3129120"/>
            <a:ext cx="663840" cy="771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078600" y="2093760"/>
            <a:ext cx="612720" cy="1100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737320" y="1504800"/>
            <a:ext cx="639720" cy="633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4560" y="2452680"/>
            <a:ext cx="45720" cy="76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2560" y="5230800"/>
            <a:ext cx="1703520" cy="460440"/>
          </a:xfrm>
          <a:prstGeom prst="cloudCallout">
            <a:avLst>
              <a:gd name="adj1" fmla="val -20458"/>
              <a:gd name="adj2" fmla="val 3724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19840" y="5230800"/>
            <a:ext cx="1703160" cy="460440"/>
          </a:xfrm>
          <a:prstGeom prst="cloudCallout">
            <a:avLst>
              <a:gd name="adj1" fmla="val -20458"/>
              <a:gd name="adj2" fmla="val 3724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0"/>
          <a:stretch/>
        </p:blipFill>
        <p:spPr>
          <a:xfrm>
            <a:off x="1889280" y="55260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1"/>
          <a:stretch/>
        </p:blipFill>
        <p:spPr>
          <a:xfrm>
            <a:off x="2398680" y="529416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2"/>
          <a:stretch/>
        </p:blipFill>
        <p:spPr>
          <a:xfrm>
            <a:off x="1865160" y="5097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3"/>
          <a:stretch/>
        </p:blipFill>
        <p:spPr>
          <a:xfrm>
            <a:off x="5315040" y="55260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4"/>
          <a:stretch/>
        </p:blipFill>
        <p:spPr>
          <a:xfrm>
            <a:off x="6356520" y="5145120"/>
            <a:ext cx="317160" cy="317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5"/>
          <a:stretch/>
        </p:blipFill>
        <p:spPr>
          <a:xfrm>
            <a:off x="5800680" y="528336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6"/>
          <a:stretch/>
        </p:blipFill>
        <p:spPr>
          <a:xfrm>
            <a:off x="3078000" y="5140440"/>
            <a:ext cx="300240" cy="466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7"/>
          <a:stretch/>
        </p:blipFill>
        <p:spPr>
          <a:xfrm>
            <a:off x="4883040" y="5186520"/>
            <a:ext cx="300240" cy="466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836960" y="3770280"/>
            <a:ext cx="831960" cy="1563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170760" y="3909960"/>
            <a:ext cx="684000" cy="137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2760" y="3919680"/>
            <a:ext cx="55800" cy="140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8"/>
          <a:stretch/>
        </p:blipFill>
        <p:spPr>
          <a:xfrm>
            <a:off x="4356000" y="3425760"/>
            <a:ext cx="638280" cy="768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4781520" y="3517920"/>
            <a:ext cx="1851120" cy="18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94080" y="5405040"/>
            <a:ext cx="1481040" cy="9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81280" y="5575320"/>
            <a:ext cx="479520" cy="45576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2560" y="4857840"/>
            <a:ext cx="479160" cy="45540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754360" y="1839960"/>
            <a:ext cx="3056040" cy="277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752560" y="1836720"/>
            <a:ext cx="3056040" cy="27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760" y="5557680"/>
            <a:ext cx="3025800" cy="97632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e207f"/>
                </a:solidFill>
                <a:uFillTx/>
                <a:latin typeface="Lucida Console"/>
              </a:rPr>
              <a:t>P5:</a:t>
            </a:r>
            <a:br>
              <a:rPr sz="1600"/>
            </a:b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Block FTP traffic from</a:t>
            </a:r>
            <a:br>
              <a:rPr sz="1600"/>
            </a:b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sender to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0986200">
            <a:off x="298440" y="4711680"/>
            <a:ext cx="328680" cy="890640"/>
          </a:xfrm>
          <a:custGeom>
            <a:avLst/>
            <a:gdLst/>
            <a:ahLst/>
            <a:rect l="l" t="t" r="r" b="b"/>
            <a:pathLst>
              <a:path w="207" h="561">
                <a:moveTo>
                  <a:pt x="207" y="0"/>
                </a:moveTo>
                <a:cubicBezTo>
                  <a:pt x="128" y="84"/>
                  <a:pt x="50" y="168"/>
                  <a:pt x="25" y="262"/>
                </a:cubicBezTo>
                <a:cubicBezTo>
                  <a:pt x="0" y="356"/>
                  <a:pt x="27" y="458"/>
                  <a:pt x="54" y="561"/>
                </a:cubicBezTo>
              </a:path>
            </a:pathLst>
          </a:custGeom>
          <a:noFill/>
          <a:ln w="38160">
            <a:solidFill>
              <a:srgbClr val="ff636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1360" y="3808440"/>
            <a:ext cx="3314880" cy="97632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e207f"/>
                </a:solidFill>
                <a:uFillTx/>
                <a:latin typeface="Lucida Console"/>
              </a:rPr>
              <a:t>P3:</a:t>
            </a: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Prevent file transfer </a:t>
            </a:r>
            <a:br>
              <a:rPr sz="1600"/>
            </a:b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If recipient is 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-254160" y="50475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363"/>
                </a:solidFill>
                <a:latin typeface="Arial"/>
              </a:rPr>
              <a:t>REF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0236200">
            <a:off x="3335400" y="569412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363"/>
                </a:solidFill>
                <a:latin typeface="Arial"/>
              </a:rPr>
              <a:t>CONFL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18160" y="4719600"/>
            <a:ext cx="479160" cy="45576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P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81360" y="4681440"/>
            <a:ext cx="3025800" cy="976320"/>
          </a:xfrm>
          <a:prstGeom prst="verticalScroll">
            <a:avLst>
              <a:gd name="adj" fmla="val 8787"/>
            </a:avLst>
          </a:prstGeom>
          <a:solidFill>
            <a:srgbClr val="feec9e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e207f"/>
                </a:solidFill>
                <a:uFillTx/>
                <a:latin typeface="Lucida Console"/>
              </a:rPr>
              <a:t>P7:</a:t>
            </a:r>
            <a:br>
              <a:rPr sz="1600"/>
            </a:b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Allow FTP traffic to </a:t>
            </a:r>
            <a:br>
              <a:rPr sz="1600"/>
            </a:br>
            <a:r>
              <a:rPr b="0" lang="en-GB" sz="1600" spc="-1" strike="noStrike">
                <a:solidFill>
                  <a:srgbClr val="0e207f"/>
                </a:solidFill>
                <a:latin typeface="Lucida Console"/>
              </a:rPr>
              <a:t>Us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27400" y="5633640"/>
            <a:ext cx="1473120" cy="646200"/>
          </a:xfrm>
          <a:prstGeom prst="line">
            <a:avLst/>
          </a:prstGeom>
          <a:ln w="38160">
            <a:solidFill>
              <a:srgbClr val="ff63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634080"/>
            <a:ext cx="23367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1622 L 3.33333E-006 0.24305 E">
                                      <p:cBhvr>
                                        <p:cTn id="15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2725E-006 L 3.33333E-006 0.24398 E">
                                      <p:cBhvr>
                                        <p:cTn id="19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Policy-based Management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E2D0-1465-471A-A8CA-45D84FE66C37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546280"/>
            <a:ext cx="2305080" cy="25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11360" y="2679840"/>
            <a:ext cx="2035440" cy="8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1360" y="4067280"/>
            <a:ext cx="2035440" cy="8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373560"/>
            <a:ext cx="2035080" cy="8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73720" y="3373560"/>
            <a:ext cx="2035080" cy="8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loyment /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" y="1376280"/>
            <a:ext cx="2381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gh-level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irements /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5" idx="2"/>
            <a:endCxn id="236" idx="0"/>
          </p:cNvCxnSpPr>
          <p:nvPr/>
        </p:nvCxnSpPr>
        <p:spPr>
          <a:xfrm>
            <a:off x="4428720" y="3527280"/>
            <a:ext cx="1080" cy="54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1" name=""/>
          <p:cNvCxnSpPr>
            <a:stCxn id="237" idx="3"/>
            <a:endCxn id="234" idx="1"/>
          </p:cNvCxnSpPr>
          <p:nvPr/>
        </p:nvCxnSpPr>
        <p:spPr>
          <a:xfrm>
            <a:off x="2568240" y="3796920"/>
            <a:ext cx="7088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4" idx="3"/>
            <a:endCxn id="238" idx="1"/>
          </p:cNvCxnSpPr>
          <p:nvPr/>
        </p:nvCxnSpPr>
        <p:spPr>
          <a:xfrm>
            <a:off x="5581800" y="3796920"/>
            <a:ext cx="692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9" idx="2"/>
            <a:endCxn id="237" idx="0"/>
          </p:cNvCxnSpPr>
          <p:nvPr/>
        </p:nvCxnSpPr>
        <p:spPr>
          <a:xfrm>
            <a:off x="1550520" y="2433240"/>
            <a:ext cx="1080" cy="94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4" name=""/>
          <p:cNvGrpSpPr/>
          <p:nvPr/>
        </p:nvGrpSpPr>
        <p:grpSpPr>
          <a:xfrm>
            <a:off x="5437080" y="1434960"/>
            <a:ext cx="2362320" cy="1249560"/>
            <a:chOff x="5437080" y="1434960"/>
            <a:chExt cx="2362320" cy="1249560"/>
          </a:xfrm>
        </p:grpSpPr>
        <p:sp>
          <p:nvSpPr>
            <p:cNvPr id="245" name=""/>
            <p:cNvSpPr/>
            <p:nvPr/>
          </p:nvSpPr>
          <p:spPr>
            <a:xfrm>
              <a:off x="5437080" y="1562040"/>
              <a:ext cx="2233800" cy="1122480"/>
            </a:xfrm>
            <a:custGeom>
              <a:avLst/>
              <a:gdLst/>
              <a:ahLst/>
              <a:rect l="l" t="t" r="r" b="b"/>
              <a:pathLst>
                <a:path w="1407" h="707">
                  <a:moveTo>
                    <a:pt x="0" y="707"/>
                  </a:moveTo>
                  <a:lnTo>
                    <a:pt x="262" y="0"/>
                  </a:lnTo>
                  <a:lnTo>
                    <a:pt x="1407" y="430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54680" y="1434960"/>
              <a:ext cx="1944720" cy="7984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onder, PCIM,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DL, ASL, PM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303960" y="4213080"/>
            <a:ext cx="1944720" cy="1355760"/>
            <a:chOff x="6303960" y="4213080"/>
            <a:chExt cx="1944720" cy="1355760"/>
          </a:xfrm>
        </p:grpSpPr>
        <p:sp>
          <p:nvSpPr>
            <p:cNvPr id="248" name=""/>
            <p:cNvSpPr/>
            <p:nvPr/>
          </p:nvSpPr>
          <p:spPr>
            <a:xfrm>
              <a:off x="6330960" y="4213080"/>
              <a:ext cx="1898640" cy="613080"/>
            </a:xfrm>
            <a:custGeom>
              <a:avLst/>
              <a:gdLst/>
              <a:ahLst/>
              <a:rect l="l" t="t" r="r" b="b"/>
              <a:pathLst>
                <a:path w="1196" h="386">
                  <a:moveTo>
                    <a:pt x="605" y="0"/>
                  </a:moveTo>
                  <a:lnTo>
                    <a:pt x="0" y="386"/>
                  </a:lnTo>
                  <a:lnTo>
                    <a:pt x="1196" y="386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03960" y="4770360"/>
              <a:ext cx="1944720" cy="7984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onder,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CIM, PM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44800" y="4906800"/>
            <a:ext cx="1944720" cy="1530360"/>
            <a:chOff x="2044800" y="4906800"/>
            <a:chExt cx="1944720" cy="1530360"/>
          </a:xfrm>
        </p:grpSpPr>
        <p:sp>
          <p:nvSpPr>
            <p:cNvPr id="251" name=""/>
            <p:cNvSpPr/>
            <p:nvPr/>
          </p:nvSpPr>
          <p:spPr>
            <a:xfrm>
              <a:off x="2071800" y="4906800"/>
              <a:ext cx="1898640" cy="787320"/>
            </a:xfrm>
            <a:custGeom>
              <a:avLst/>
              <a:gdLst/>
              <a:ahLst/>
              <a:rect l="l" t="t" r="r" b="b"/>
              <a:pathLst>
                <a:path w="1196" h="496">
                  <a:moveTo>
                    <a:pt x="846" y="0"/>
                  </a:moveTo>
                  <a:lnTo>
                    <a:pt x="0" y="496"/>
                  </a:lnTo>
                  <a:lnTo>
                    <a:pt x="1196" y="496"/>
                  </a:lnTo>
                  <a:lnTo>
                    <a:pt x="84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44800" y="5638320"/>
              <a:ext cx="1944720" cy="79884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MAC, A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85840" y="5518080"/>
            <a:ext cx="86230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Using Event Calculus to Formalise Policy Specification and Analysis” (POLICY 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A Goal-based Approach to Policy Refinement” (POLICY 2004)</a:t>
            </a:r>
            <a:br>
              <a:rPr sz="1400"/>
            </a:br>
            <a:r>
              <a:rPr b="0" i="1" lang="en-GB" sz="1400" spc="-1" strike="noStrike">
                <a:solidFill>
                  <a:srgbClr val="000000"/>
                </a:solidFill>
                <a:latin typeface="Verdana"/>
              </a:rPr>
              <a:t>“Policy Refinement for IP Differentiated Services QoS Management” (eTNSM 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634080"/>
            <a:ext cx="26877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41440" y="4227480"/>
            <a:ext cx="1944720" cy="1355760"/>
            <a:chOff x="541440" y="4227480"/>
            <a:chExt cx="1944720" cy="1355760"/>
          </a:xfrm>
        </p:grpSpPr>
        <p:sp>
          <p:nvSpPr>
            <p:cNvPr id="256" name=""/>
            <p:cNvSpPr/>
            <p:nvPr/>
          </p:nvSpPr>
          <p:spPr>
            <a:xfrm>
              <a:off x="568440" y="4227480"/>
              <a:ext cx="1898640" cy="613080"/>
            </a:xfrm>
            <a:custGeom>
              <a:avLst/>
              <a:gdLst/>
              <a:ahLst/>
              <a:rect l="l" t="t" r="r" b="b"/>
              <a:pathLst>
                <a:path w="1196" h="386">
                  <a:moveTo>
                    <a:pt x="605" y="0"/>
                  </a:moveTo>
                  <a:lnTo>
                    <a:pt x="0" y="386"/>
                  </a:lnTo>
                  <a:lnTo>
                    <a:pt x="1196" y="386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1440" y="4784760"/>
              <a:ext cx="1944720" cy="79848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oWER,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se Reaso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3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3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14280" y="140976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Background and Motivation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 and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0e2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207f"/>
                </a:solidFill>
                <a:latin typeface="Arial"/>
              </a:rPr>
              <a:t>Tool support</a:t>
            </a:r>
            <a:endParaRPr b="0" lang="en-US" sz="18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Refinement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Policy Analysi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Open Issues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e2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207f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e207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14A8-0AD2-4308-A079-C9E165EC842E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4960" y="1990800"/>
            <a:ext cx="4735800" cy="1216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4960" y="1424160"/>
            <a:ext cx="4735800" cy="496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469880"/>
            <a:ext cx="4595760" cy="39384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6634080"/>
            <a:ext cx="31910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9880" y="171000"/>
            <a:ext cx="853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1835f"/>
                </a:solidFill>
                <a:latin typeface="Arial"/>
              </a:rPr>
              <a:t>Policy Analysis and Refinement Framework</a:t>
            </a:r>
            <a:endParaRPr b="1" lang="en-US" sz="3000" spc="-1" strike="noStrike">
              <a:solidFill>
                <a:srgbClr val="01835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634080"/>
            <a:ext cx="9144000" cy="223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02640" y="6634080"/>
            <a:ext cx="44136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6326-3F20-4C1C-862A-610CE67E45E4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59720" y="6634080"/>
            <a:ext cx="1094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51720" y="6634080"/>
            <a:ext cx="8568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94400" y="5343480"/>
            <a:ext cx="1952640" cy="833400"/>
          </a:xfrm>
          <a:prstGeom prst="rect">
            <a:avLst/>
          </a:prstGeom>
          <a:solidFill>
            <a:srgbClr val="ff6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27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676600">
            <a:off x="4330800" y="4707000"/>
            <a:ext cx="1116000" cy="333360"/>
          </a:xfrm>
          <a:prstGeom prst="rightArrow">
            <a:avLst>
              <a:gd name="adj1" fmla="val 50000"/>
              <a:gd name="adj2" fmla="val 83693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8463000">
            <a:off x="4730400" y="3303360"/>
            <a:ext cx="812880" cy="333360"/>
          </a:xfrm>
          <a:prstGeom prst="rightArrow">
            <a:avLst>
              <a:gd name="adj1" fmla="val 50000"/>
              <a:gd name="adj2" fmla="val 6096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433680" y="1128600"/>
            <a:ext cx="1809720" cy="1533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52680" y="3463920"/>
            <a:ext cx="1273320" cy="1022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73480" y="425916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198800">
            <a:off x="2131560" y="3693960"/>
            <a:ext cx="1054080" cy="333360"/>
          </a:xfrm>
          <a:prstGeom prst="rightArrow">
            <a:avLst>
              <a:gd name="adj1" fmla="val 50000"/>
              <a:gd name="adj2" fmla="val 7905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06720" y="1138320"/>
            <a:ext cx="240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havioural model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managed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3677400" y="2880360"/>
            <a:ext cx="642960" cy="333360"/>
          </a:xfrm>
          <a:prstGeom prst="rightArrow">
            <a:avLst>
              <a:gd name="adj1" fmla="val 50000"/>
              <a:gd name="adj2" fmla="val 4821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706320" y="1314360"/>
            <a:ext cx="1113120" cy="11588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96800" y="258768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icy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2262600">
            <a:off x="2646360" y="3043080"/>
            <a:ext cx="833400" cy="33336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992400">
            <a:off x="4627440" y="4179600"/>
            <a:ext cx="1406520" cy="333360"/>
          </a:xfrm>
          <a:prstGeom prst="rightArrow">
            <a:avLst>
              <a:gd name="adj1" fmla="val 50000"/>
              <a:gd name="adj2" fmla="val 105481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389480"/>
            <a:ext cx="2327400" cy="368280"/>
          </a:xfrm>
          <a:prstGeom prst="rect">
            <a:avLst/>
          </a:prstGeom>
          <a:solidFill>
            <a:srgbClr val="ff636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rors + Confli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015920" y="3173400"/>
            <a:ext cx="8319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5375160" y="2100240"/>
            <a:ext cx="1349280" cy="1275840"/>
            <a:chOff x="5375160" y="2100240"/>
            <a:chExt cx="1349280" cy="1275840"/>
          </a:xfrm>
        </p:grpSpPr>
        <p:sp>
          <p:nvSpPr>
            <p:cNvPr id="289" name=""/>
            <p:cNvSpPr/>
            <p:nvPr/>
          </p:nvSpPr>
          <p:spPr>
            <a:xfrm>
              <a:off x="6017400" y="2100240"/>
              <a:ext cx="321480" cy="3034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24800" y="2525760"/>
              <a:ext cx="321480" cy="3034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75160" y="2707920"/>
              <a:ext cx="321120" cy="3034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46280" y="2890080"/>
              <a:ext cx="321120" cy="3034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96280" y="3072600"/>
              <a:ext cx="321120" cy="3034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02960" y="2464560"/>
              <a:ext cx="321480" cy="3034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4"/>
              <a:endCxn id="293" idx="0"/>
            </p:cNvCxnSpPr>
            <p:nvPr/>
          </p:nvCxnSpPr>
          <p:spPr>
            <a:xfrm flipH="1">
              <a:off x="5856120" y="2828880"/>
              <a:ext cx="129240" cy="2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2"/>
              <a:endCxn id="291" idx="6"/>
            </p:cNvCxnSpPr>
            <p:nvPr/>
          </p:nvCxnSpPr>
          <p:spPr>
            <a:xfrm flipH="1">
              <a:off x="5695920" y="2677320"/>
              <a:ext cx="128880" cy="18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5"/>
              <a:endCxn id="292" idx="1"/>
            </p:cNvCxnSpPr>
            <p:nvPr/>
          </p:nvCxnSpPr>
          <p:spPr>
            <a:xfrm>
              <a:off x="6099120" y="2785320"/>
              <a:ext cx="9432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89" idx="3"/>
              <a:endCxn id="290" idx="0"/>
            </p:cNvCxnSpPr>
            <p:nvPr/>
          </p:nvCxnSpPr>
          <p:spPr>
            <a:xfrm flipH="1">
              <a:off x="5985000" y="2359800"/>
              <a:ext cx="79560" cy="16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89" idx="5"/>
              <a:endCxn id="294" idx="1"/>
            </p:cNvCxnSpPr>
            <p:nvPr/>
          </p:nvCxnSpPr>
          <p:spPr>
            <a:xfrm>
              <a:off x="6291720" y="2359800"/>
              <a:ext cx="158760" cy="14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4" idx="4"/>
              <a:endCxn id="292" idx="7"/>
            </p:cNvCxnSpPr>
            <p:nvPr/>
          </p:nvCxnSpPr>
          <p:spPr>
            <a:xfrm flipH="1">
              <a:off x="6420240" y="2768400"/>
              <a:ext cx="144000" cy="16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1" name=""/>
          <p:cNvSpPr/>
          <p:nvPr/>
        </p:nvSpPr>
        <p:spPr>
          <a:xfrm>
            <a:off x="6022800" y="320364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ational model of managed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3880" y="1192320"/>
            <a:ext cx="3733920" cy="13716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onder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orts relevant policy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y to use high-leve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icy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78120" y="1430280"/>
            <a:ext cx="3733920" cy="13716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ate Ch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dely used no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ily translated into forma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res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54640" y="1822320"/>
            <a:ext cx="3276720" cy="13716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main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exible approach tha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orts roles/re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 of Ponder framew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" y="2898720"/>
            <a:ext cx="3276720" cy="13716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ogic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itable for interactio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th formal repres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9429200">
            <a:off x="2508120" y="4595760"/>
            <a:ext cx="1054080" cy="333360"/>
          </a:xfrm>
          <a:prstGeom prst="rightArrow">
            <a:avLst>
              <a:gd name="adj1" fmla="val 50000"/>
              <a:gd name="adj2" fmla="val 7905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960" y="59626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792000" y="4716360"/>
            <a:ext cx="1775160" cy="1206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08560" y="5338800"/>
            <a:ext cx="1851120" cy="838080"/>
          </a:xfrm>
          <a:prstGeom prst="rightArrowCallout">
            <a:avLst>
              <a:gd name="adj1" fmla="val 100009"/>
              <a:gd name="adj2" fmla="val 50000"/>
              <a:gd name="adj3" fmla="val 73216"/>
              <a:gd name="adj4" fmla="val 66852"/>
            </a:avLst>
          </a:prstGeom>
          <a:solidFill>
            <a:srgbClr val="ffc9c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18080" y="4100400"/>
            <a:ext cx="5105160" cy="22100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vent Calc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ll understood formalis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els event-driven syst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deduction for simple property che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abductive reasoning to deriv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anations for property vio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634080"/>
            <a:ext cx="3191040" cy="223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Arosha K Bandara, 2006</a:t>
            </a:r>
          </a:p>
        </p:txBody>
      </p:sp>
    </p:spTree>
  </p:cSld>
  <p:transition spd="med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37:50Z</dcterms:created>
  <dc:creator>Arosha K Bandara</dc:creator>
  <dc:description/>
  <dc:language>en-US</dc:language>
  <cp:lastModifiedBy>Arosha K Bandara</cp:lastModifiedBy>
  <dcterms:modified xsi:type="dcterms:W3CDTF">2006-04-24T07:27:00Z</dcterms:modified>
  <cp:revision>81</cp:revision>
  <dc:subject/>
  <dc:title>Policy Refinement for DiffServ Quality of Service Management</dc:title>
</cp:coreProperties>
</file>