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2200" y="6524640"/>
            <a:ext cx="8497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C44A-1A5C-4656-8329-E7AE6EEBEDD7}" type="slidenum">
              <a:rPr b="0" lang="en-GB" sz="1100" spc="-1" strike="noStrike">
                <a:solidFill>
                  <a:srgbClr val="691c98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80920" y="6573960"/>
            <a:ext cx="74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b2b2b2"/>
                </a:solidFill>
                <a:latin typeface="Arial"/>
              </a:rPr>
              <a:t>March</a:t>
            </a:r>
            <a:r>
              <a:rPr b="0" lang="en-GB" sz="1100" spc="-1" strike="noStrike">
                <a:solidFill>
                  <a:srgbClr val="b2b2b2"/>
                </a:solidFill>
                <a:latin typeface="Times New Roman"/>
              </a:rPr>
              <a:t>, 20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365800" y="609480"/>
            <a:ext cx="3527280" cy="1800"/>
          </a:xfrm>
          <a:prstGeom prst="line">
            <a:avLst/>
          </a:prstGeom>
          <a:ln w="19080">
            <a:solidFill>
              <a:srgbClr val="691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4920" y="128520"/>
            <a:ext cx="108108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71440" y="6573960"/>
            <a:ext cx="149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b2b2b2"/>
                </a:solidFill>
                <a:latin typeface="Arial"/>
              </a:rPr>
              <a:t>CLUK 20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0920" y="6453360"/>
            <a:ext cx="8642160" cy="0"/>
          </a:xfrm>
          <a:prstGeom prst="line">
            <a:avLst/>
          </a:prstGeom>
          <a:ln w="19080">
            <a:solidFill>
              <a:srgbClr val="691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98900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ilding a frame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answering “why”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del Vazquez-Reyes and William J. Bl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of Infor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versity of Manch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64000" y="152280"/>
            <a:ext cx="3478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use/Effect Approa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907920"/>
            <a:ext cx="82803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Why </a:t>
            </a:r>
            <a:r>
              <a:rPr b="1" i="1" lang="en-GB" sz="2400" spc="-1" strike="noStrike">
                <a:solidFill>
                  <a:srgbClr val="808080"/>
                </a:solidFill>
                <a:latin typeface="Arial"/>
              </a:rPr>
              <a:t>P 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?</a:t>
            </a:r>
            <a:r>
              <a:rPr b="1" i="1" lang="en-GB" sz="2400" spc="-1" strike="noStrike">
                <a:solidFill>
                  <a:srgbClr val="80808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hy can’t ostriches f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triches can't fly because they are way too heavy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strich opens its wings as if to fly but can not lift its own weight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hy is the sky bl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ky is blue because the nitrogen in the air scatters the blue light out of sunlight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al reason why the sky is blue is due to a phenomenon known as Rayleigh Scattering whereby blue light is absorbed by gaseous molecules in the atmosphere ( i.e. air ) and then re-emitted in a random direction …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7478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1" i="1" lang="en-GB" sz="2000" spc="-1" strike="noStrike">
                <a:solidFill>
                  <a:srgbClr val="ff3300"/>
                </a:solidFill>
                <a:latin typeface="Arial"/>
              </a:rPr>
              <a:t> can’t ostriches fly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i="1" lang="en-GB" sz="20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24120" y="217980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_________________       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28224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6925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1" i="1" lang="en-GB" sz="2000" spc="-1" strike="noStrike">
                <a:solidFill>
                  <a:srgbClr val="ff3300"/>
                </a:solidFill>
                <a:latin typeface="Arial"/>
              </a:rPr>
              <a:t> is the sky blu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i="1" lang="en-GB" sz="2000" spc="-1" strike="noStrike">
                <a:solidFill>
                  <a:srgbClr val="ff3300"/>
                </a:solidFill>
                <a:latin typeface="Arial"/>
              </a:rPr>
              <a:t>        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2205000"/>
            <a:ext cx="108108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88000" y="2781360"/>
            <a:ext cx="433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11948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___________                                                          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04504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                                                             </a:t>
            </a: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720" y="5348160"/>
            <a:ext cx="85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566100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95008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4148280"/>
            <a:ext cx="10814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5084640"/>
            <a:ext cx="72072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70640" y="152280"/>
            <a:ext cx="4172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rchitecture for Answer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usal Ques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86000" y="1833480"/>
            <a:ext cx="67150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70640" y="152280"/>
            <a:ext cx="4172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rchitecture for Answer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usal Ques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1484280"/>
            <a:ext cx="7128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stion Analysis and Document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13366"/>
          <a:stretch/>
        </p:blipFill>
        <p:spPr>
          <a:xfrm>
            <a:off x="250920" y="2349360"/>
            <a:ext cx="8748720" cy="136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580000" y="2565360"/>
            <a:ext cx="136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5651640" y="2637000"/>
            <a:ext cx="122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70640" y="152280"/>
            <a:ext cx="4172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rchitecture for Answer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usal Ques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1628640"/>
            <a:ext cx="7128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tologies and Text Process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340000" y="2637000"/>
            <a:ext cx="4319280" cy="3093480"/>
            <a:chOff x="2340000" y="2637000"/>
            <a:chExt cx="4319280" cy="3093480"/>
          </a:xfrm>
        </p:grpSpPr>
        <p:sp>
          <p:nvSpPr>
            <p:cNvPr id="93" name=""/>
            <p:cNvSpPr/>
            <p:nvPr/>
          </p:nvSpPr>
          <p:spPr>
            <a:xfrm>
              <a:off x="5498280" y="3855600"/>
              <a:ext cx="1161000" cy="584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37560" y="5026680"/>
              <a:ext cx="1270440" cy="70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ext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02520" y="2637000"/>
              <a:ext cx="1595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eman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terpre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2919600" y="4206600"/>
              <a:ext cx="3159360" cy="65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" y="11770"/>
                  </a:moveTo>
                  <a:arcTo wR="10800" hR="10800" stAng="10490939" swAng="11109061"/>
                  <a:lnTo>
                    <a:pt x="10800" y="10800"/>
                  </a:lnTo>
                  <a:close/>
                </a:path>
                <a:path fill="none" w="21600" h="21600">
                  <a:moveTo>
                    <a:pt x="44" y="11770"/>
                  </a:moveTo>
                  <a:arcTo wR="10800" hR="10800" stAng="10490939" swAng="11109061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1040" y="3336480"/>
              <a:ext cx="322344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" y="10495"/>
                  </a:moveTo>
                  <a:arcTo wR="10800" hR="10800" stAng="-10702768" swAng="10702768"/>
                  <a:lnTo>
                    <a:pt x="10800" y="10800"/>
                  </a:lnTo>
                  <a:close/>
                </a:path>
                <a:path fill="none" w="21600" h="21600">
                  <a:moveTo>
                    <a:pt x="4" y="10495"/>
                  </a:moveTo>
                  <a:arcTo wR="10800" hR="10800" stAng="-10702768" swAng="10702768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40000" y="3855600"/>
              <a:ext cx="1159920" cy="6505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02280" y="3985920"/>
              <a:ext cx="111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70640" y="152280"/>
            <a:ext cx="4172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rchitecture for Answer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usal Ques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484280"/>
            <a:ext cx="7128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stion Analysis and Document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13366"/>
          <a:stretch/>
        </p:blipFill>
        <p:spPr>
          <a:xfrm>
            <a:off x="250920" y="2349360"/>
            <a:ext cx="8748720" cy="1368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80000" y="2565360"/>
            <a:ext cx="136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6804000" y="2637000"/>
            <a:ext cx="100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70640" y="152280"/>
            <a:ext cx="4172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rchitecture for Answer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usal Ques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268280"/>
            <a:ext cx="813600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SEE 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-based analysis to extract events and relations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for defin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usal ver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, lead to, result in, bring on, generate, associate with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for identify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use-grou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cause of”, “origin of”, “lead to”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for identify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pression frag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”, “associated with”, “need for”, “influence of”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for identify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aus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has an effect on Y”, “an X is *due to* some Y”, “an X is *caused/changed by* a Y”, “an X is/as *a result of* a Y”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2565360"/>
            <a:ext cx="136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70640" y="152280"/>
            <a:ext cx="4172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rchitecture for Answer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usal Ques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484280"/>
            <a:ext cx="7128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stion Analysis and Document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0" b="13366"/>
          <a:stretch/>
        </p:blipFill>
        <p:spPr>
          <a:xfrm>
            <a:off x="250920" y="2349360"/>
            <a:ext cx="8748720" cy="1368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580000" y="2565360"/>
            <a:ext cx="136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56000" y="3716280"/>
            <a:ext cx="4680000" cy="2648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0" t="53148" r="0" b="7645"/>
          <a:stretch/>
        </p:blipFill>
        <p:spPr>
          <a:xfrm>
            <a:off x="1930320" y="3933720"/>
            <a:ext cx="581040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619280" y="3716280"/>
            <a:ext cx="62658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11280" y="304812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valuating ODQ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197000"/>
            <a:ext cx="849600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valuation of our ODQA system will be focused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cument Retrieval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ortion of the question set for which a correct answer can be found within the to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cuments or passages retrieved for each 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 redundanc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 number, per question, of documents or passages within the to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nks retrieved which contain a correct answ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trics were introduc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berts and Gaizauskas (2004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ur overall system sco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be calculated us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C QA track’s metr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question type had its own response format and evaluation metho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3640" y="189000"/>
            <a:ext cx="56354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valuating ODQ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61280" y="152280"/>
            <a:ext cx="2379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clusio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640" y="1484280"/>
            <a:ext cx="788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introduc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work for answering “why”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s a lexico-semantic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258300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a Common Annotation Sche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acilit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sha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57336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ld be an effective ODQA syste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causal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37400" y="179280"/>
            <a:ext cx="12459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413000"/>
            <a:ext cx="784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is Open Domain Question Answer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Question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QA systems as Search Eng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 in OD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amework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use/Effect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clusions and 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11280" y="304308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y Quest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710560" y="0"/>
            <a:ext cx="43344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5607E-006 C -0.00521 -0.01503 -0.02257 -0.03006 -0.02848 -0.03006 C -0.06684 -0.03006 -0.10643 0.20647 -0.10643 0.44324 C -0.10643 0.32347 -0.12605 0.20647 -0.1448 0.20647 C -0.16441 0.20647 -0.18299 0.32578 -0.18299 0.44324 C -0.18299 0.38428 -0.19289 0.32347 -0.20278 0.32347 C -0.21268 0.32347 -0.22257 0.38266 -0.22257 0.44324 C -0.22257 0.41295 -0.22744 0.38428 -0.2323 0.38428 C -0.23733 0.38428 -0.24237 0.41457 -0.24237 0.44324 C -0.24237 0.42798 -0.2448 0.41295 -0.24723 0.41295 C -0.24862 0.41295 -0.25209 0.42798 -0.25209 0.44324 C -0.25209 0.43561 -0.25348 0.42798 -0.25487 0.42798 C -0.25487 0.42613 -0.2573 0.43561 -0.2573 0.44324 C -0.2573 0.43907 -0.2573 0.43561 -0.25851 0.43561 C -0.25851 0.43746 -0.2599 0.43954 -0.2599 0.44324 C -0.2599 0.44115 -0.2599 0.43907 -0.2599 0.43746 C -0.26112 0.43746 -0.26112 0.43954 -0.26112 0.44139 C -0.2625 0.44139 -0.2625 0.43954 -0.2625 0.43746 C -0.26355 0.43746 -0.26355 0.43954 -0.26355 0.44139 E">
                                      <p:cBhvr>
                                        <p:cTn id="264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612720" y="981000"/>
          <a:ext cx="8206920" cy="5251320"/>
        </p:xfrm>
        <a:graphic>
          <a:graphicData uri="http://schemas.openxmlformats.org/drawingml/2006/table">
            <a:tbl>
              <a:tblPr/>
              <a:tblGrid>
                <a:gridCol w="1684800"/>
                <a:gridCol w="6522120"/>
              </a:tblGrid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al antece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ks about states or events that have caused the concept in questio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what caused some event to occur?, what state or event casually led to an event or state?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.g., why did Thomas go to Londo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id the glass break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y is the kite going backwards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al ori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case of why questions that asks </a:t>
                      </a: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ut the mental goal of an actio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what are the motives behind an agent’s actions?, what goals inspired an agent to perform an action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.g., why did Rose drop the book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 what purpose did John take the book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ks </a:t>
                      </a: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ut a causal antecedent of an act that did not occur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why did some expected event not occur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.g., why did Thomas not go to Londo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y is John not eat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y wasn’t there a war in Iraq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y doesn’t this doll have a mouth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re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 describes </a:t>
                      </a: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a particular event is interpreted or summarized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.g., why was the closing ceremony cancelled yesterday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y is a catfish so called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469840" y="179280"/>
            <a:ext cx="3416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What is Open Doma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Question Answerin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84280"/>
            <a:ext cx="7991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aday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mple qu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a search engine wil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hundreds of doc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3156120"/>
            <a:ext cx="8208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aim of ODQA 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present the user with a short answer to a ques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ather than a list of possibly relevant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ly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r may ask any ques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do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t natural langu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469840" y="179280"/>
            <a:ext cx="3416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What is Open Doma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Question Answerin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484280"/>
            <a:ext cx="7991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trie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thers and  filters relevant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formation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lects sentences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ossible answ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34974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DQA = IR + 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60880" y="179280"/>
            <a:ext cx="38246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Different Question Typ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474920"/>
            <a:ext cx="835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66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66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93160" y="1649520"/>
            <a:ext cx="6540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is the name of the highest mountain in Afric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en did Nixon visit Chin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o won the Nobel Peace Prize in 1991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here does the Queen of England li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How many people live in Toky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How did Socrates di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Why can't ostriches fly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125360"/>
            <a:ext cx="77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there are many different types of ques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84720" y="179280"/>
            <a:ext cx="2715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ODQA systems 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Search Engi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6445" t="3125" r="15301" b="6216"/>
          <a:stretch/>
        </p:blipFill>
        <p:spPr>
          <a:xfrm>
            <a:off x="611280" y="907920"/>
            <a:ext cx="3024000" cy="262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6445" t="4912" r="15301" b="6684"/>
          <a:stretch/>
        </p:blipFill>
        <p:spPr>
          <a:xfrm>
            <a:off x="3492360" y="1052640"/>
            <a:ext cx="3024360" cy="256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rcRect l="6445" t="4169" r="15301" b="6684"/>
          <a:stretch/>
        </p:blipFill>
        <p:spPr>
          <a:xfrm>
            <a:off x="5651640" y="1125360"/>
            <a:ext cx="3095640" cy="264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rcRect l="6445" t="4730" r="15301" b="6684"/>
          <a:stretch/>
        </p:blipFill>
        <p:spPr>
          <a:xfrm>
            <a:off x="900000" y="3357720"/>
            <a:ext cx="3024360" cy="2566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rcRect l="6445" t="4430" r="14567" b="6684"/>
          <a:stretch/>
        </p:blipFill>
        <p:spPr>
          <a:xfrm>
            <a:off x="3132000" y="3573360"/>
            <a:ext cx="3095640" cy="2613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rcRect l="6445" t="5030" r="15301" b="7201"/>
          <a:stretch/>
        </p:blipFill>
        <p:spPr>
          <a:xfrm>
            <a:off x="5580000" y="3716280"/>
            <a:ext cx="302436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907960" y="152280"/>
            <a:ext cx="2917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Research in ODQ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052640"/>
            <a:ext cx="82072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ggest independent evaluations of question answering systems have been carried out a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C QA Tra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ver the past seven 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metrics have been used over the years but the current metric is simpl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percentage of questions correctly answer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7291" t="0" r="0" b="13582"/>
          <a:stretch/>
        </p:blipFill>
        <p:spPr>
          <a:xfrm>
            <a:off x="2700360" y="3305160"/>
            <a:ext cx="36003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907960" y="152280"/>
            <a:ext cx="2917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Research in ODQ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341360"/>
            <a:ext cx="820872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66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earch in ODQAS has had substantial adva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6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66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ctual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good enough accurac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66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orm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rocessed appropriatel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66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st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trieve sequences of answers with good recall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66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66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w it is necess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nswer hard and complex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99400" y="289080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amework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4:07:40Z</dcterms:created>
  <dc:creator>velascop</dc:creator>
  <dc:description/>
  <dc:language>en-US</dc:language>
  <cp:lastModifiedBy>mcaicsv2</cp:lastModifiedBy>
  <dcterms:modified xsi:type="dcterms:W3CDTF">2006-03-03T18:27:04Z</dcterms:modified>
  <cp:revision>5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25741603</vt:r8>
  </property>
  <property fmtid="{D5CDD505-2E9C-101B-9397-08002B2CF9AE}" pid="3" name="_AuthorEmail">
    <vt:lpwstr>ggb39@openmail.open.ac.uk</vt:lpwstr>
  </property>
  <property fmtid="{D5CDD505-2E9C-101B-9397-08002B2CF9AE}" pid="4" name="_AuthorEmailDisplayName">
    <vt:lpwstr>G.G.Burek</vt:lpwstr>
  </property>
  <property fmtid="{D5CDD505-2E9C-101B-9397-08002B2CF9AE}" pid="5" name="_EmailSubject">
    <vt:lpwstr>presentations</vt:lpwstr>
  </property>
</Properties>
</file>