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98CF-18DE-4534-A3DD-DE6284DD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57B3-F31E-4BAC-AC41-EE7A71E8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D39-7846-4BA9-86FA-D9C4BE03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5E3C-4202-4B37-9D04-958A41F4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93C4-372F-4B29-A88A-96970085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C94F-9155-40F9-AC2D-C6534926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2796-F2B8-4F3F-9A51-9496345F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434C-4199-490C-9A83-357B99DF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7FB3-BB33-470F-92B2-E28C1D09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FE3E-16E1-4D34-94FE-E957E8B5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926C-8BB2-4B2E-914C-D3A4C65C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B1E6-72FD-440B-AEEA-2D3F6DD6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55C9-BAFA-44DE-A46F-D18DC83C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48D4-36BC-46D7-8393-E73F96DB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130F-0762-4EEC-8650-ADCAF907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FDE1-9AC8-481B-A37E-4C24B6FC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6C32-A385-4CCB-98D0-498CB28B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886-BF72-44FC-8DA4-A01277D9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3A5E-D441-4C3C-BE53-4CCF2E3E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2BD4-30AF-4034-87F8-9ACADF03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52B9-AC80-4203-B976-C37E98D6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FF34-9981-40D8-9993-919EDBFA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182E-081F-448D-8BD7-BD41EDF8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784-9A53-4AD1-9F5F-5D8E2250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7A76-FD4B-44F1-BC0E-F62DBE1E088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C517-756B-4840-A0C0-6C3EB248EC5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easuring similarity for fusing extracted knowled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driy Nikolov, Victoria Uren, Enrico Mott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ne de Roe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entre for Research in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pen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ou_logocmyk" descr=""/>
          <p:cNvPicPr/>
          <p:nvPr/>
        </p:nvPicPr>
        <p:blipFill>
          <a:blip r:embed="rId1"/>
          <a:stretch/>
        </p:blipFill>
        <p:spPr>
          <a:xfrm>
            <a:off x="228600" y="5638680"/>
            <a:ext cx="1066680" cy="1024200"/>
          </a:xfrm>
          <a:prstGeom prst="rect">
            <a:avLst/>
          </a:prstGeom>
          <a:ln w="0">
            <a:noFill/>
          </a:ln>
        </p:spPr>
      </p:pic>
      <p:pic>
        <p:nvPicPr>
          <p:cNvPr id="102" name="kmi_logocmyk" descr=""/>
          <p:cNvPicPr/>
          <p:nvPr/>
        </p:nvPicPr>
        <p:blipFill>
          <a:blip r:embed="rId2"/>
          <a:stretch/>
        </p:blipFill>
        <p:spPr>
          <a:xfrm>
            <a:off x="3809880" y="6248520"/>
            <a:ext cx="160020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x-media2" descr=""/>
          <p:cNvPicPr/>
          <p:nvPr/>
        </p:nvPicPr>
        <p:blipFill>
          <a:blip r:embed="rId3"/>
          <a:stretch/>
        </p:blipFill>
        <p:spPr>
          <a:xfrm>
            <a:off x="7086600" y="5867280"/>
            <a:ext cx="205740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B4B6-902D-4158-BDA4-6C0475E578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Are two instances about the same entit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Issues: determining the threshol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3276720"/>
            <a:ext cx="716256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imilarity(instance1, instance2) &gt; Thresh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4876920"/>
            <a:ext cx="304812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stance1 = Instanc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4876920"/>
            <a:ext cx="327672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stance1 &lt;&gt; Instanc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09320" y="3962520"/>
            <a:ext cx="2210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3962520"/>
            <a:ext cx="2362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6502-C984-4A5B-A009-62E7ADEC8D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Issues: resolving invalid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ason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- low accuracy of data ex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- different representatio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ple: GDP of Rus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- “$613 billion” (www.traveldocs.co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- “613” (www.nationbynation.co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9A87-E334-469F-AE93-0C69177D65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mantic Web and an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nowledge fusion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lgorithm and proposed experi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liminary res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D8F-A120-4EBE-89AF-56EE5E6C82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lgorithm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2362320"/>
            <a:ext cx="236232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3657600"/>
            <a:ext cx="243864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inding confl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5257800"/>
            <a:ext cx="266688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olving confl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2743200"/>
            <a:ext cx="2438640" cy="91440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5715000" y="25909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4191120"/>
            <a:ext cx="609840" cy="1066680"/>
          </a:xfrm>
          <a:prstGeom prst="downArrow">
            <a:avLst>
              <a:gd name="adj1" fmla="val 50000"/>
              <a:gd name="adj2" fmla="val 437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3429000"/>
            <a:ext cx="2362320" cy="91440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29400" y="4343400"/>
            <a:ext cx="2362320" cy="91440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nowledg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600200" y="266652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27432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867280" y="48006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4343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791320" y="39625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8880" y="2909880"/>
            <a:ext cx="533160" cy="762120"/>
          </a:xfrm>
          <a:prstGeom prst="downArrow">
            <a:avLst>
              <a:gd name="adj1" fmla="val 50000"/>
              <a:gd name="adj2" fmla="val 3573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341-BAED-403A-8E03-0E95EB1109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set: geographic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ason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different types of attrib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tolog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TAP (tap.stanford.ed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urc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CIA World Fact Book (benchmar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www.traveldocs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www.nationbynati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D41-3B9A-482E-8F3C-5C13A151EF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Information extra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80912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milcare (University of Sheffie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chine learni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quires manually annotated training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ep 1: Learning pattern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ep 2: Extracting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5D87-98A3-4FE3-8256-D8C9664C66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Information extra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09480" y="2286000"/>
          <a:ext cx="80773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80773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C56F-CACA-4981-BDA6-7FB31E071D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as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reliability of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reliability of extrac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need to priorit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zzy logic vs Probability the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babilistic restri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values are mutually exclu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zzy logic – 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Representing uncertain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828800" y="4495680"/>
                <a:ext cx="1981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14EB-5A46-4CF9-868F-D72983E14D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Numeric attributes (continuou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eger (GDP) or float (UnemploymentR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ormaliz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676520" y="4114800"/>
                <a:ext cx="618012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lue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alue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lue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lue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A13-530E-45BE-8F6C-F2AA552653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ree text attributes and lis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ree text (EconomyOverview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st (ImportPartners, Languag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Vector similarity measu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- cosine simi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- Jaccard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- overlap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A8E2-C6E6-4E20-A5B4-719A7D6063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emantic Web and an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nowledge fusion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lgorithm and proposed experi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liminary res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7AE2-1315-4F37-B9CD-03F1F41C5A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Nominal string attribut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hort strings (NationalityNounFor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stance measu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- precise e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- edit dis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- Jaro-Wink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-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F77-78F4-44F6-BA33-39288C1784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Resolving invalid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pplies to numeric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ut-off thresho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- Min(value)/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- Avg(value)-N*StdDev(valu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5011-64FC-47EB-8F8F-02E452AB84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mantic Web and an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nowledge fusion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lgorithm and proposed experi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eliminary res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FAFC-E5DE-4210-997E-70A8CA8680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milcare: 40% training set (87 countr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ported f-measure (training set): 0.7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gularit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- more numeric than text (short lengt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- attributes often misclassified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(GDPPerCapita vs GD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1F9-F986-4631-AD0C-854722C0D8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Preliminary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igh influence of wrongly extracted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cision is more important than rec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ree text attributes -&gt; low influ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sts -&gt; high influ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valid data cut-off hel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10C-3D48-4D0B-B39E-BC0F1CD19E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step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st different metrics and heur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(e.g., use only proper names from free text proper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st different data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ind optimal parame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s the approach robust enough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D94-22AA-4341-8A5B-E72F688E9C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mantic Web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formation linked up to be easily processed by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cepts and relations represented explici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lobally linked data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3AB5-CF8F-4F82-B2B6-6834D7E599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mantic annot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14440" y="2781360"/>
            <a:ext cx="2905200" cy="3672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11280" y="22334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TML/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580000" y="2781360"/>
            <a:ext cx="3049560" cy="3672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796000" y="22194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005360"/>
            <a:ext cx="1297080" cy="1224000"/>
          </a:xfrm>
          <a:prstGeom prst="rightArrow">
            <a:avLst>
              <a:gd name="adj1" fmla="val 50000"/>
              <a:gd name="adj2" fmla="val 264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6B63-0E4B-4F38-BC55-68980563B2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Knowledge fus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190512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rc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190512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rc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190512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r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46483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4410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48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251460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251460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251460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1905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 . .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2976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formation 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342900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42900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297180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342900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342900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3981600"/>
            <a:ext cx="1428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</a:rPr>
              <a:t>Annotations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3962520"/>
            <a:ext cx="1428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</a:rPr>
              <a:t>Annotations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3962520"/>
            <a:ext cx="1428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</a:rPr>
              <a:t>Annotations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4648320"/>
            <a:ext cx="5867280" cy="6858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nowledge 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410080"/>
            <a:ext cx="44960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nowledg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5C64-1C46-46EB-BF48-38A8097711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Proble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tradicting 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- different representation (feet vs meters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- different points of view (same info from Israel/Ir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accurate information extraction 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E4FC-9270-4E01-A7A0-011A552927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mantic Web and an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Knowledge fusion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lgorithm and proposed experi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liminary res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1163-2019-45B9-80A0-4C88629A15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pproach (Guha&amp;Gar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280" y="2514600"/>
          <a:ext cx="356256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514600"/>
                    <a:ext cx="356256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489640" y="2540160"/>
          <a:ext cx="3556080" cy="347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9640" y="2540160"/>
                    <a:ext cx="3556080" cy="34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3733920" y="3657600"/>
            <a:ext cx="2286000" cy="1828800"/>
          </a:xfrm>
          <a:prstGeom prst="leftRightArrow">
            <a:avLst>
              <a:gd name="adj1" fmla="val 50000"/>
              <a:gd name="adj2" fmla="val 24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mila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dis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2589-753C-4CDF-A06A-3EE2B4D25E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Issues: various attribute typ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siest way: everything is a string (Guha&amp;Gar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Numeric (“$1,2 mln” vs “$1213000”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Free text (e.g., overview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Lists (“Iran, Iraq” vs “Iraq, Iran”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2122-F1F6-4203-848F-9A574B0428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21:03:44Z</dcterms:created>
  <dc:creator>Andriy Nikolov</dc:creator>
  <dc:description/>
  <dc:language>en-US</dc:language>
  <cp:lastModifiedBy>Andriy Nikolov</cp:lastModifiedBy>
  <dcterms:modified xsi:type="dcterms:W3CDTF">2006-03-09T06:02:28Z</dcterms:modified>
  <cp:revision>58</cp:revision>
  <dc:subject/>
  <dc:title>Calculating similarity for fusing extracted knowledge</dc:title>
</cp:coreProperties>
</file>