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77015-60AB-4177-89C5-AC766857763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E4176-FE87-4C23-AC50-EEF0710ADD8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38120" y="914400"/>
            <a:ext cx="4181760" cy="31352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045800" y="4352400"/>
            <a:ext cx="477036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dialogue level analysis out of DM, in Communication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task related tasks out of DM, in Task Manager (not in the Jaspis architecture by defaul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only the decision making in 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C9FA-B1D7-4E4E-A321-C993E6D9A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B215-8915-4669-931D-B463B1A36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5D01-4639-4E82-83A8-4BFA51215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06B7-41DC-4CE2-B0CD-C7083DD39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5C22A-3B0C-43ED-8B50-469B545BA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41060-5282-4B48-AAAE-8B8C13DC1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92EBB-F2F3-4A70-9002-46EC7FA0E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9FFEE-E403-456F-B06D-A4579041C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EAF02-9FD3-4AC0-8A2F-77E28E8DC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7EBB7-86D5-4FF2-BCFF-6B86EA1A8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EEE4C-5FBC-44AB-A826-4C4C3543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9F2E-4A79-431B-9F6A-FF789FB9F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A6CDE-D07D-47D2-B60E-35C66298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4B51C-DCC2-47F8-9D00-EDCAB507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60F4F-3B45-403A-A379-701757D0C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20027-BA64-4EBA-AFD4-BF07E7F53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0859D-2C52-473A-8DFC-D5311DDD3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B14A-CE77-46A4-853B-5F7D4F46B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3501-4C6D-464C-A8B9-813932AAB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2225-96B4-4B82-8110-E7AABE246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144D-D9D6-486C-94F2-CDC150A74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C12E-4E6D-4097-9E64-9E4920D1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BA43-0E3F-4DB9-96B5-F8FF0C5A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93E5-E9E6-47DB-91AB-731DB546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42920" y="6244920"/>
            <a:ext cx="3529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9CD8C-1E9E-4351-BBCD-B1EFA570B07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8D40E-EFBB-4C86-A14B-E6E2C22BE1C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0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ics.se/dumas/" TargetMode="External"/><Relationship Id="rId3" Type="http://schemas.openxmlformats.org/officeDocument/2006/relationships/hyperlink" Target="http://www.sics.se/dumas/" TargetMode="External"/><Relationship Id="rId4" Type="http://schemas.openxmlformats.org/officeDocument/2006/relationships/hyperlink" Target="http://www.sics.se/dumas/" TargetMode="External"/><Relationship Id="rId5" Type="http://schemas.openxmlformats.org/officeDocument/2006/relationships/hyperlink" Target="http://www.sics.se/dumas/" TargetMode="External"/><Relationship Id="rId6" Type="http://schemas.openxmlformats.org/officeDocument/2006/relationships/hyperlink" Target="http://www.sics.se/dumas/" TargetMode="External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3640" y="856800"/>
            <a:ext cx="8280360" cy="34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Adaptation and Dialogue Modelling 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for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peech-based Interaction System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68000" y="4149360"/>
            <a:ext cx="83516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ristiina Jokin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ahoma"/>
              </a:rPr>
              <a:t>University of Helsinki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ahoma"/>
              </a:rPr>
              <a:t>Clare Hall Visiting Fellow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ahoma"/>
              </a:rPr>
              <a:t>University of Cambrid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e5ffff"/>
                </a:solidFill>
                <a:latin typeface="Tahoma"/>
              </a:rPr>
              <a:t>User Expertise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49636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Knowledge of system functiona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r knows what functionality is included in the syst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Correct formulation of comma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r knows which words and phrases the system is capable of understand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Situational knowled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r knows which functionality is available at each point in the dialog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Three levels of experti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vice, competent, expe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7740720" y="260280"/>
            <a:ext cx="1224000" cy="113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ptation and Dialogue Model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4A79-75A9-4B35-B9A5-D6DE14F8B96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05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e5ffff"/>
                </a:solidFill>
                <a:latin typeface="Tahoma"/>
              </a:rPr>
              <a:t>User Expertise Modell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8640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ystem responses based on the observed skill levels of the users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ff"/>
                </a:solidFill>
                <a:latin typeface="Tahoma"/>
              </a:rPr>
              <a:t>Novices are given explicit guidance, experts are not bothered with needless instruc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cc00"/>
                </a:solidFill>
                <a:latin typeface="Tahoma"/>
              </a:rPr>
              <a:t>Dialogue Act Specific Explicitness (DASEX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cc00"/>
                </a:solidFill>
                <a:latin typeface="Tahoma"/>
              </a:rPr>
              <a:t>System initiative (INI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ahoma"/>
              </a:rPr>
              <a:t>Monitored v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cc00"/>
                </a:solidFill>
                <a:latin typeface="Tahoma"/>
              </a:rPr>
              <a:t>Online paramet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700" spc="-1" strike="noStrike">
                <a:solidFill>
                  <a:srgbClr val="ffffff"/>
                </a:solidFill>
                <a:latin typeface="Tahoma"/>
              </a:rPr>
              <a:t>Register user expertise during a particular session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700" spc="-1" strike="noStrike">
                <a:solidFill>
                  <a:srgbClr val="ffffff"/>
                </a:solidFill>
                <a:latin typeface="Tahoma"/>
              </a:rPr>
              <a:t>Provide statistics of the dialogue events to the offline component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cc00"/>
                </a:solidFill>
                <a:latin typeface="Tahoma"/>
              </a:rPr>
              <a:t>Offline paramet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700" spc="-1" strike="noStrike">
                <a:solidFill>
                  <a:srgbClr val="ffffff"/>
                </a:solidFill>
                <a:latin typeface="Tahoma"/>
              </a:rPr>
              <a:t>Gather information on long term development of user expertise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700" spc="-1" strike="noStrike">
                <a:solidFill>
                  <a:srgbClr val="ffffff"/>
                </a:solidFill>
                <a:latin typeface="Tahoma"/>
              </a:rPr>
              <a:t>Provide default DASEX-values in the beginning of a session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7740720" y="260280"/>
            <a:ext cx="1224000" cy="113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ptation and Dialogue Model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7F7D-93B6-4CA5-AC1F-54F0BF1980D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05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79786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e5ffff"/>
                </a:solidFill>
                <a:latin typeface="Tahoma"/>
              </a:rPr>
              <a:t>Cooperativity Compon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900000" y="1916280"/>
            <a:ext cx="7013520" cy="433692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7667640" y="260280"/>
            <a:ext cx="1224000" cy="113688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1116000" y="1413000"/>
            <a:ext cx="568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Jokinen (2005), Jokinen, Kanto, Rissanen (2004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ptation and Dialogue Model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752E-421D-4BE0-831E-B4BE61BA705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05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e5ffff"/>
                </a:solidFill>
                <a:latin typeface="Tahoma"/>
              </a:rPr>
              <a:t>Combining INIT and DASEX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395280" y="1671480"/>
          <a:ext cx="8291520" cy="4997520"/>
        </p:xfrm>
        <a:graphic>
          <a:graphicData uri="http://schemas.openxmlformats.org/drawingml/2006/table">
            <a:tbl>
              <a:tblPr/>
              <a:tblGrid>
                <a:gridCol w="2224080"/>
                <a:gridCol w="2158920"/>
                <a:gridCol w="2021040"/>
                <a:gridCol w="188748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LICITNES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ITIATI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 TACITUR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 NORM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) EXPLICI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 PASSI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ptions: 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xtra options: 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ompts: 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p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ptions: 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ho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xtra options: 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ompts: 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pen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ptions: 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o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xtra options: 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ompts: 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p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b5481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 DECLARATI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ptions: 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xtra options: 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ompts: 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p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ptions: 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ho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xtra options: 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ompts: 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p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ptions: 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o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xtra options: 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ompts: 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p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b5481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) GUID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ptions: 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xtra options: 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ompts: 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ques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ptions: 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ho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xtra options: 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ompts: 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ques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ptions: 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o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xtra options: 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ompt: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ques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b5481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) DIRECTI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ptions: 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xtra options: 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ompts: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hunk by chun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ptions: 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ho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xtra options: 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omp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hunk by chun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ptions: 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o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xtra options: 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omp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hunk by chun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b5481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ptation and Dialogue Model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C4D9-351C-4661-8ACB-227E14644D5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05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e5ffff"/>
                </a:solidFill>
                <a:latin typeface="Tahoma"/>
              </a:rPr>
              <a:t>Novice us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Do I have messages from Esa-Pekka Salon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Group five contains messages from the sender Esa-Pekka Salonen. There are two messages. Subject of the first message is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“E-P:n viikot”. Subject of the second one is “Demomuistutus”. 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You can choose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a messages for example by saying “first message”. 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In order to read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a message directly say e.g. “Read second message”. 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If you want to get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a list of all the groups, say “List groups”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If you want to ge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 list of commands, say “what next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7740720" y="204840"/>
            <a:ext cx="1224000" cy="1136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ptation and Dialogue Model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4545-C49E-4D98-858C-FB79B8CD5C9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05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e5ffff"/>
                </a:solidFill>
                <a:latin typeface="Tahoma"/>
              </a:rPr>
              <a:t>Competent us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Do I have messages from Esa-Pekka Salon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Group five contains two messages from the sender Esa-Pekka Salonen. Subject of the first message is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“E-P:n viikot”. Subject of the second one is “Demomuistutus”. 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You can choose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a messages for example by saying “first message”.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If you want to ge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 list of commands, say “what next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7740720" y="204840"/>
            <a:ext cx="1224000" cy="1136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ptation and Dialogue Model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38DE-EF1E-46FC-8EDC-5F7352D245A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05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e5ffff"/>
                </a:solidFill>
                <a:latin typeface="Tahoma"/>
              </a:rPr>
              <a:t>Expert us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Do I have messages from Esa-Pekka Salon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Group five contains two messages from the sender Esa-Pekka Salonen. Subject of the first message is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“E-P:n viikot”. Subject of the second one is “Demomuistutus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7740720" y="204840"/>
            <a:ext cx="1224000" cy="1136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ptation and Dialogue Model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ACBB-73C0-4ABD-BBEC-91E614826E4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05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800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Evaluation of the AthosMai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Expert evalu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24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Tahoma"/>
              </a:rPr>
              <a:t>System walkthrough with five experts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hared evaluation set-up with other partn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24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Tahoma"/>
              </a:rPr>
              <a:t>System records, user questionnaire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24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Tahoma"/>
              </a:rPr>
              <a:t>Exploration of system capabilities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pecial evaluation with visually impaired us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24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Tahoma"/>
              </a:rPr>
              <a:t>System records, user questionnaire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24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Tahoma"/>
              </a:rPr>
              <a:t>Response time, barge-in (keypad), speed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7740720" y="204840"/>
            <a:ext cx="1224000" cy="1136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ptation and Dialogue Model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424B-3D02-4CDE-B82D-47FE2AD0729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05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e5ffff"/>
                </a:solidFill>
                <a:latin typeface="Tahoma"/>
              </a:rPr>
              <a:t>User Evalu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4247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HCI set-u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our tasks that the users had to resol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Objective criteria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UM parameters recorded in the syste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User errors (non-existent functionality, incorrect formulatio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ubjective criteria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Questionnaire before the interaction and after each tas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User’s expectations of the system and its u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User’s evaluation of her own skill level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daptation through time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interactions took place on two consecutive day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7740720" y="204840"/>
            <a:ext cx="1224000" cy="1136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ptation and Dialogue Model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881B-39F5-4468-9D5F-69A0F493E6A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05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e5ffff"/>
                </a:solidFill>
                <a:latin typeface="Tahoma"/>
              </a:rPr>
              <a:t>DUMAS: user mistak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1403280" y="1595520"/>
          <a:ext cx="6318360" cy="4713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03280" y="1595520"/>
                    <a:ext cx="6318360" cy="47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3" name="" descr=""/>
          <p:cNvPicPr/>
          <p:nvPr/>
        </p:nvPicPr>
        <p:blipFill>
          <a:blip r:embed="rId4"/>
          <a:stretch/>
        </p:blipFill>
        <p:spPr>
          <a:xfrm>
            <a:off x="7740720" y="204840"/>
            <a:ext cx="1224000" cy="113652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2843280" y="2492280"/>
            <a:ext cx="3816360" cy="865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ptation and Dialogue Model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178F-FFFA-4758-8FB1-D8D82361E9E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05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Interactive System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4247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(Speech) user interfa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(Spoken) language dialogue syste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Interaction should be fast and effici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Menu commands vs. natural way to interact via langua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Effective error management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Transparent and clear interface vs. clarification dialogu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Change in the interaction metaph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Computer as a tool vs. computer as an ag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cc00"/>
                </a:solidFill>
                <a:latin typeface="Tahoma"/>
              </a:rPr>
              <a:t>Users/designers are not any more in control of the system and information flow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93" name=""/>
          <p:cNvCxnSpPr>
            <a:stCxn id="92" idx="0"/>
            <a:endCxn id="92" idx="0"/>
          </p:cNvCxnSpPr>
          <p:nvPr/>
        </p:nvCxnSpPr>
        <p:spPr>
          <a:xfrm>
            <a:off x="4463640" y="169992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>
            <a:off x="2771640" y="2133720"/>
            <a:ext cx="144720" cy="360360"/>
          </a:xfrm>
          <a:prstGeom prst="upDownArrow">
            <a:avLst>
              <a:gd name="adj1" fmla="val 50000"/>
              <a:gd name="adj2" fmla="val 4957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ptation and Dialogue Model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6085-452D-442C-A0E9-0E4E748A332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05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e5ffff"/>
                </a:solidFill>
                <a:latin typeface="Tahoma"/>
              </a:rPr>
              <a:t>User’s self-evalu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324000" y="1897200"/>
          <a:ext cx="8496000" cy="3930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897200"/>
                    <a:ext cx="8496000" cy="39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9" name="" descr=""/>
          <p:cNvPicPr/>
          <p:nvPr/>
        </p:nvPicPr>
        <p:blipFill>
          <a:blip r:embed="rId4"/>
          <a:stretch/>
        </p:blipFill>
        <p:spPr>
          <a:xfrm>
            <a:off x="7740720" y="204840"/>
            <a:ext cx="1224000" cy="113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ptation and Dialogue Model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224F-C3A3-4777-BB7B-3E8503C11DE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05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Issues in Adaptative Interfac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cc00"/>
                </a:solidFill>
                <a:latin typeface="Tahoma"/>
              </a:rPr>
              <a:t>User Model based adaptation</a:t>
            </a:r>
            <a:r>
              <a:rPr b="0" lang="fi-FI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i-FI" sz="2400" spc="-1" strike="noStrike">
                <a:solidFill>
                  <a:srgbClr val="ffcc00"/>
                </a:solidFill>
                <a:latin typeface="Tahoma"/>
              </a:rPr>
              <a:t>to the user’s skill leve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ff"/>
                </a:solidFill>
                <a:latin typeface="Tahoma"/>
              </a:rPr>
              <a:t>Observe the user’s behaviour and conclude user expertis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cc00"/>
                </a:solidFill>
                <a:latin typeface="Tahoma"/>
              </a:rPr>
              <a:t>Evaluation of adaptive syste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ff"/>
                </a:solidFill>
                <a:latin typeface="Tahoma"/>
              </a:rPr>
              <a:t>To what and when to adap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ff"/>
                </a:solidFill>
                <a:latin typeface="Tahoma"/>
              </a:rPr>
              <a:t>Two day testing time too short for adapt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ff"/>
                </a:solidFill>
                <a:latin typeface="Tahoma"/>
              </a:rPr>
              <a:t>Desirability issues: contro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cc00"/>
                </a:solidFill>
                <a:latin typeface="Tahoma"/>
              </a:rPr>
              <a:t>Further resear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ff"/>
                </a:solidFill>
                <a:latin typeface="Tahoma"/>
              </a:rPr>
              <a:t>Generation of utterances based on UM recommenda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ff"/>
                </a:solidFill>
                <a:latin typeface="Tahoma"/>
              </a:rPr>
              <a:t>Machine-learning techniques on user da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ff"/>
                </a:solidFill>
                <a:latin typeface="Tahoma"/>
              </a:rPr>
              <a:t>Resources: architecture, components, (multimodal) da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ptation and Dialogue Model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1208-1BDE-4845-9442-A8F592AFE56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05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5ffff"/>
                </a:solidFill>
                <a:latin typeface="Tahoma"/>
              </a:rPr>
              <a:t>Ontology-based</a:t>
            </a:r>
            <a:br>
              <a:rPr sz="4000"/>
            </a:br>
            <a:r>
              <a:rPr b="0" lang="en-GB" sz="4000" spc="-1" strike="noStrike">
                <a:solidFill>
                  <a:srgbClr val="e5ffff"/>
                </a:solidFill>
                <a:latin typeface="Tahoma"/>
              </a:rPr>
              <a:t> Dialogue Managemen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Tahoma"/>
              </a:rPr>
              <a:t>4M: Multilingual Mobile Maintenance M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Tahoma"/>
              </a:rPr>
              <a:t>Assistance in call cent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FAQ service for custom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Expert user’s information provi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llocated tasks, previous solu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acts about the customers &amp; their devi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ptation and Dialogue Model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BCDE-ED78-4DE3-BBA9-5CBF9B8E9F7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05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3830760" y="4127400"/>
            <a:ext cx="1152360" cy="231120"/>
          </a:xfrm>
          <a:prstGeom prst="rect">
            <a:avLst/>
          </a:prstGeom>
          <a:solidFill>
            <a:srgbClr val="2b54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ffffff"/>
                </a:solidFill>
                <a:latin typeface="Arial"/>
              </a:rPr>
              <a:t>Information Retrieva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3205080" y="1806480"/>
            <a:ext cx="1871280" cy="1693440"/>
            <a:chOff x="3205080" y="1806480"/>
            <a:chExt cx="1871280" cy="1693440"/>
          </a:xfrm>
        </p:grpSpPr>
        <p:grpSp>
          <p:nvGrpSpPr>
            <p:cNvPr id="296" name=""/>
            <p:cNvGrpSpPr/>
            <p:nvPr/>
          </p:nvGrpSpPr>
          <p:grpSpPr>
            <a:xfrm>
              <a:off x="3205080" y="1806480"/>
              <a:ext cx="1871280" cy="1693440"/>
              <a:chOff x="3205080" y="1806480"/>
              <a:chExt cx="1871280" cy="1693440"/>
            </a:xfrm>
          </p:grpSpPr>
          <p:sp>
            <p:nvSpPr>
              <p:cNvPr id="297" name=""/>
              <p:cNvSpPr/>
              <p:nvPr/>
            </p:nvSpPr>
            <p:spPr>
              <a:xfrm>
                <a:off x="3558960" y="1806480"/>
                <a:ext cx="10713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i-FI" sz="1000" spc="-1" strike="noStrike">
                    <a:solidFill>
                      <a:srgbClr val="ffffff"/>
                    </a:solidFill>
                    <a:latin typeface="Arial"/>
                  </a:rPr>
                  <a:t>DIALOGUE MANAGER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205080" y="1847880"/>
                <a:ext cx="1871280" cy="16520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>
              <a:off x="3347640" y="2203560"/>
              <a:ext cx="72036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900" spc="-1" strike="noStrike">
                  <a:solidFill>
                    <a:srgbClr val="ffffff"/>
                  </a:solidFill>
                  <a:latin typeface="Arial"/>
                </a:rPr>
                <a:t>Input Agen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140000" y="2203560"/>
              <a:ext cx="79164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900" spc="-1" strike="noStrike">
                  <a:solidFill>
                    <a:srgbClr val="ffffff"/>
                  </a:solidFill>
                  <a:latin typeface="Arial"/>
                </a:rPr>
                <a:t>Dialogue Contex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347640" y="2685960"/>
              <a:ext cx="1584000" cy="2311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900" spc="-1" strike="noStrike">
                  <a:solidFill>
                    <a:srgbClr val="ffffff"/>
                  </a:solidFill>
                  <a:latin typeface="Arial"/>
                </a:rPr>
                <a:t>Response Agen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347640" y="3054240"/>
              <a:ext cx="72036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900" spc="-1" strike="noStrike">
                  <a:solidFill>
                    <a:srgbClr val="ffffff"/>
                  </a:solidFill>
                  <a:latin typeface="Arial"/>
                </a:rPr>
                <a:t>User Agen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140000" y="3054240"/>
              <a:ext cx="79164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900" spc="-1" strike="noStrike">
                  <a:solidFill>
                    <a:srgbClr val="ffffff"/>
                  </a:solidFill>
                  <a:latin typeface="Arial"/>
                </a:rPr>
                <a:t>Application Agen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2050920" y="1987560"/>
            <a:ext cx="865080" cy="1333080"/>
            <a:chOff x="2050920" y="1987560"/>
            <a:chExt cx="865080" cy="1333080"/>
          </a:xfrm>
        </p:grpSpPr>
        <p:grpSp>
          <p:nvGrpSpPr>
            <p:cNvPr id="305" name=""/>
            <p:cNvGrpSpPr/>
            <p:nvPr/>
          </p:nvGrpSpPr>
          <p:grpSpPr>
            <a:xfrm>
              <a:off x="2050920" y="1987560"/>
              <a:ext cx="865080" cy="1333080"/>
              <a:chOff x="2050920" y="1987560"/>
              <a:chExt cx="865080" cy="1333080"/>
            </a:xfrm>
          </p:grpSpPr>
          <p:sp>
            <p:nvSpPr>
              <p:cNvPr id="306" name=""/>
              <p:cNvSpPr/>
              <p:nvPr/>
            </p:nvSpPr>
            <p:spPr>
              <a:xfrm>
                <a:off x="2050920" y="1987560"/>
                <a:ext cx="86508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i-FI" sz="1000" spc="-1" strike="noStrike">
                    <a:solidFill>
                      <a:srgbClr val="ffffff"/>
                    </a:solidFill>
                    <a:latin typeface="Arial"/>
                  </a:rPr>
                  <a:t>INPUT ANALYZER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050920" y="2019960"/>
                <a:ext cx="865080" cy="13006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2124000" y="2435400"/>
              <a:ext cx="720720" cy="2311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900" spc="-1" strike="noStrike">
                  <a:solidFill>
                    <a:srgbClr val="ffffff"/>
                  </a:solidFill>
                  <a:latin typeface="Arial"/>
                </a:rPr>
                <a:t>Parser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124000" y="2817720"/>
              <a:ext cx="72072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900" spc="-1" strike="noStrike">
                  <a:solidFill>
                    <a:srgbClr val="ffffff"/>
                  </a:solidFill>
                  <a:latin typeface="Arial"/>
                </a:rPr>
                <a:t>Dact Agen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3046320" y="4129200"/>
            <a:ext cx="719280" cy="231120"/>
          </a:xfrm>
          <a:prstGeom prst="rect">
            <a:avLst/>
          </a:prstGeom>
          <a:solidFill>
            <a:srgbClr val="2b54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ffffff"/>
                </a:solidFill>
                <a:latin typeface="Arial"/>
              </a:rPr>
              <a:t>Model-bas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832040" y="4940280"/>
            <a:ext cx="4750200" cy="936720"/>
            <a:chOff x="1832040" y="4940280"/>
            <a:chExt cx="4750200" cy="936720"/>
          </a:xfrm>
        </p:grpSpPr>
        <p:sp>
          <p:nvSpPr>
            <p:cNvPr id="312" name=""/>
            <p:cNvSpPr/>
            <p:nvPr/>
          </p:nvSpPr>
          <p:spPr>
            <a:xfrm>
              <a:off x="1832040" y="4940280"/>
              <a:ext cx="475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000" spc="-1" strike="noStrike">
                  <a:solidFill>
                    <a:srgbClr val="ffffff"/>
                  </a:solidFill>
                  <a:latin typeface="Arial"/>
                </a:rPr>
                <a:t>DATA SOUR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2040" y="4962600"/>
              <a:ext cx="4750200" cy="9144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2940120" y="5302080"/>
            <a:ext cx="649080" cy="432000"/>
          </a:xfrm>
          <a:prstGeom prst="flowChartMultidocumen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ffffff"/>
                </a:solidFill>
                <a:latin typeface="Arial"/>
              </a:rPr>
              <a:t>Text/XML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ffffff"/>
                </a:solidFill>
                <a:latin typeface="Arial"/>
              </a:rPr>
              <a:t>file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994200" y="5230800"/>
            <a:ext cx="503280" cy="503280"/>
          </a:xfrm>
          <a:prstGeom prst="flowChartMagneticDisk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ffffff"/>
                </a:solidFill>
                <a:latin typeface="Arial"/>
              </a:rPr>
              <a:t>4M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903920" y="5229360"/>
            <a:ext cx="576000" cy="431640"/>
          </a:xfrm>
          <a:prstGeom prst="flowChartProcess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ffffff"/>
                </a:solidFill>
                <a:latin typeface="Arial"/>
              </a:rPr>
              <a:t>External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ffffff"/>
                </a:solidFill>
                <a:latin typeface="Arial"/>
              </a:rPr>
              <a:t>syste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832280" y="5302080"/>
            <a:ext cx="576360" cy="432000"/>
          </a:xfrm>
          <a:prstGeom prst="flowChartProcess">
            <a:avLst/>
          </a:prstGeom>
          <a:solidFill>
            <a:srgbClr val="2b54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ffffff"/>
                </a:solidFill>
                <a:latin typeface="Arial"/>
              </a:rPr>
              <a:t>External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ffffff"/>
                </a:solidFill>
                <a:latin typeface="Arial"/>
              </a:rPr>
              <a:t>syste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ffffff"/>
                </a:solidFill>
                <a:latin typeface="Arial"/>
              </a:rPr>
              <a:t>and data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113640" y="1459080"/>
            <a:ext cx="1924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Arial"/>
              </a:rPr>
              <a:t>4M Server Program (The Glue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07" idx="3"/>
            <a:endCxn id="298" idx="1"/>
          </p:cNvCxnSpPr>
          <p:nvPr/>
        </p:nvCxnSpPr>
        <p:spPr>
          <a:xfrm>
            <a:off x="2916360" y="2669760"/>
            <a:ext cx="289440" cy="54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20" name=""/>
          <p:cNvCxnSpPr>
            <a:stCxn id="298" idx="3"/>
            <a:endCxn id="321" idx="1"/>
          </p:cNvCxnSpPr>
          <p:nvPr/>
        </p:nvCxnSpPr>
        <p:spPr>
          <a:xfrm>
            <a:off x="5076720" y="2674440"/>
            <a:ext cx="4327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22" name=""/>
          <p:cNvCxnSpPr>
            <a:stCxn id="298" idx="2"/>
            <a:endCxn id="323" idx="0"/>
          </p:cNvCxnSpPr>
          <p:nvPr/>
        </p:nvCxnSpPr>
        <p:spPr>
          <a:xfrm flipH="1">
            <a:off x="4140000" y="3500280"/>
            <a:ext cx="2160" cy="2404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24" name=""/>
          <p:cNvSpPr/>
          <p:nvPr/>
        </p:nvSpPr>
        <p:spPr>
          <a:xfrm>
            <a:off x="2556000" y="765000"/>
            <a:ext cx="1511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Arial"/>
              </a:rPr>
              <a:t>Desktop clien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Arial"/>
              </a:rPr>
              <a:t>(text, speech, graphics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1835280" y="476280"/>
            <a:ext cx="4752720" cy="792000"/>
            <a:chOff x="1835280" y="476280"/>
            <a:chExt cx="4752720" cy="792000"/>
          </a:xfrm>
        </p:grpSpPr>
        <p:sp>
          <p:nvSpPr>
            <p:cNvPr id="326" name=""/>
            <p:cNvSpPr/>
            <p:nvPr/>
          </p:nvSpPr>
          <p:spPr>
            <a:xfrm>
              <a:off x="1835280" y="476280"/>
              <a:ext cx="4752720" cy="7920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835280" y="476280"/>
              <a:ext cx="4752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000" spc="-1" strike="noStrike">
                  <a:solidFill>
                    <a:srgbClr val="ffffff"/>
                  </a:solidFill>
                  <a:latin typeface="Arial"/>
                </a:rPr>
                <a:t>4M Client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5076720" y="765000"/>
            <a:ext cx="1077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Arial"/>
              </a:rPr>
              <a:t>Mobile clients (menus, speech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835280" y="1484280"/>
            <a:ext cx="4752720" cy="331164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6" idx="2"/>
            <a:endCxn id="329" idx="0"/>
          </p:cNvCxnSpPr>
          <p:nvPr/>
        </p:nvCxnSpPr>
        <p:spPr>
          <a:xfrm>
            <a:off x="4211280" y="1268280"/>
            <a:ext cx="1080" cy="21672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2278080" y="765000"/>
            <a:ext cx="349200" cy="36036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3"/>
          <a:stretch/>
        </p:blipFill>
        <p:spPr>
          <a:xfrm>
            <a:off x="4805280" y="765000"/>
            <a:ext cx="343080" cy="360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2247840" y="725400"/>
            <a:ext cx="1727280" cy="432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788000" y="725400"/>
            <a:ext cx="1368360" cy="432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2987640" y="3716280"/>
            <a:ext cx="2304720" cy="1007640"/>
            <a:chOff x="2987640" y="3716280"/>
            <a:chExt cx="2304720" cy="1007640"/>
          </a:xfrm>
        </p:grpSpPr>
        <p:sp>
          <p:nvSpPr>
            <p:cNvPr id="336" name=""/>
            <p:cNvSpPr/>
            <p:nvPr/>
          </p:nvSpPr>
          <p:spPr>
            <a:xfrm>
              <a:off x="2987640" y="3716280"/>
              <a:ext cx="2304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000" spc="-1" strike="noStrike">
                  <a:solidFill>
                    <a:srgbClr val="ffffff"/>
                  </a:solidFill>
                  <a:latin typeface="Arial"/>
                </a:rPr>
                <a:t>FACT FINDING &amp; REASONING TOOL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987640" y="3740760"/>
              <a:ext cx="2304720" cy="98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5508720" y="3716280"/>
            <a:ext cx="1007640" cy="1007280"/>
            <a:chOff x="5508720" y="3716280"/>
            <a:chExt cx="1007640" cy="1007280"/>
          </a:xfrm>
        </p:grpSpPr>
        <p:grpSp>
          <p:nvGrpSpPr>
            <p:cNvPr id="338" name=""/>
            <p:cNvGrpSpPr/>
            <p:nvPr/>
          </p:nvGrpSpPr>
          <p:grpSpPr>
            <a:xfrm>
              <a:off x="5508720" y="3716280"/>
              <a:ext cx="1007640" cy="1007280"/>
              <a:chOff x="5508720" y="3716280"/>
              <a:chExt cx="1007640" cy="1007280"/>
            </a:xfrm>
          </p:grpSpPr>
          <p:sp>
            <p:nvSpPr>
              <p:cNvPr id="339" name=""/>
              <p:cNvSpPr/>
              <p:nvPr/>
            </p:nvSpPr>
            <p:spPr>
              <a:xfrm>
                <a:off x="5508720" y="3716280"/>
                <a:ext cx="1007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i-FI" sz="1000" spc="-1" strike="noStrike">
                    <a:solidFill>
                      <a:srgbClr val="ffffff"/>
                    </a:solidFill>
                    <a:latin typeface="Arial"/>
                  </a:rPr>
                  <a:t>ONTOLOGY SERVICE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508720" y="3740760"/>
                <a:ext cx="1007640" cy="9828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1" name=""/>
            <p:cNvSpPr/>
            <p:nvPr/>
          </p:nvSpPr>
          <p:spPr>
            <a:xfrm>
              <a:off x="5740920" y="4127040"/>
              <a:ext cx="541440" cy="521280"/>
            </a:xfrm>
            <a:prstGeom prst="flowChartMagneticDisk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800" spc="-1" strike="noStrike">
                  <a:solidFill>
                    <a:srgbClr val="ffffff"/>
                  </a:solidFill>
                  <a:latin typeface="Arial"/>
                </a:rPr>
                <a:t>Ontology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800" spc="-1" strike="noStrike">
                  <a:solidFill>
                    <a:srgbClr val="ffffff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5508720" y="1771560"/>
            <a:ext cx="1008000" cy="1762920"/>
            <a:chOff x="5508720" y="1771560"/>
            <a:chExt cx="1008000" cy="1762920"/>
          </a:xfrm>
        </p:grpSpPr>
        <p:grpSp>
          <p:nvGrpSpPr>
            <p:cNvPr id="343" name=""/>
            <p:cNvGrpSpPr/>
            <p:nvPr/>
          </p:nvGrpSpPr>
          <p:grpSpPr>
            <a:xfrm>
              <a:off x="5508720" y="1771560"/>
              <a:ext cx="1008000" cy="1762920"/>
              <a:chOff x="5508720" y="1771560"/>
              <a:chExt cx="1008000" cy="1762920"/>
            </a:xfrm>
          </p:grpSpPr>
          <p:sp>
            <p:nvSpPr>
              <p:cNvPr id="344" name=""/>
              <p:cNvSpPr/>
              <p:nvPr/>
            </p:nvSpPr>
            <p:spPr>
              <a:xfrm>
                <a:off x="5508720" y="1771560"/>
                <a:ext cx="10080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i-FI" sz="1000" spc="-1" strike="noStrike">
                    <a:solidFill>
                      <a:srgbClr val="ffffff"/>
                    </a:solidFill>
                    <a:latin typeface="Arial"/>
                  </a:rPr>
                  <a:t>OUTPUT GENERATOR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508720" y="1814400"/>
                <a:ext cx="1008000" cy="17200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5" name=""/>
            <p:cNvSpPr/>
            <p:nvPr/>
          </p:nvSpPr>
          <p:spPr>
            <a:xfrm>
              <a:off x="5594400" y="2213640"/>
              <a:ext cx="83916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900" spc="-1" strike="noStrike">
                  <a:solidFill>
                    <a:srgbClr val="ffffff"/>
                  </a:solidFill>
                  <a:latin typeface="Arial"/>
                </a:rPr>
                <a:t>Speech Synthesizer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594400" y="2652480"/>
              <a:ext cx="83916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900" spc="-1" strike="noStrike">
                  <a:solidFill>
                    <a:srgbClr val="ffffff"/>
                  </a:solidFill>
                  <a:latin typeface="Arial"/>
                </a:rPr>
                <a:t>XML Generator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580000" y="3079800"/>
              <a:ext cx="83952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900" spc="-1" strike="noStrike">
                  <a:solidFill>
                    <a:srgbClr val="ffffff"/>
                  </a:solidFill>
                  <a:latin typeface="Arial"/>
                </a:rPr>
                <a:t>Report Generator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cxnSp>
        <p:nvCxnSpPr>
          <p:cNvPr id="348" name=""/>
          <p:cNvCxnSpPr>
            <a:stCxn id="323" idx="3"/>
            <a:endCxn id="340" idx="1"/>
          </p:cNvCxnSpPr>
          <p:nvPr/>
        </p:nvCxnSpPr>
        <p:spPr>
          <a:xfrm>
            <a:off x="5292720" y="4231800"/>
            <a:ext cx="2167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49" name=""/>
          <p:cNvCxnSpPr>
            <a:stCxn id="321" idx="2"/>
            <a:endCxn id="339" idx="0"/>
          </p:cNvCxnSpPr>
          <p:nvPr/>
        </p:nvCxnSpPr>
        <p:spPr>
          <a:xfrm>
            <a:off x="6013080" y="3534840"/>
            <a:ext cx="1080" cy="181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5076720" y="3500280"/>
            <a:ext cx="432000" cy="233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30760" y="4424400"/>
            <a:ext cx="1152360" cy="231120"/>
          </a:xfrm>
          <a:prstGeom prst="rect">
            <a:avLst/>
          </a:prstGeom>
          <a:solidFill>
            <a:srgbClr val="2b54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ffffff"/>
                </a:solidFill>
                <a:latin typeface="Arial"/>
              </a:rPr>
              <a:t>Human Assistanc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046320" y="4425840"/>
            <a:ext cx="719280" cy="231120"/>
          </a:xfrm>
          <a:prstGeom prst="rect">
            <a:avLst/>
          </a:prstGeom>
          <a:solidFill>
            <a:srgbClr val="2b54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ffffff"/>
                </a:solidFill>
                <a:latin typeface="Arial"/>
              </a:rPr>
              <a:t>Case-bas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040360" y="4127400"/>
            <a:ext cx="198360" cy="540000"/>
          </a:xfrm>
          <a:prstGeom prst="rect">
            <a:avLst/>
          </a:prstGeom>
          <a:solidFill>
            <a:srgbClr val="2b54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51160" y="4724280"/>
            <a:ext cx="0" cy="233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DM Interfa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457200" y="1980720"/>
            <a:ext cx="8229600" cy="198756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39280" y="4437000"/>
            <a:ext cx="8280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ahoma"/>
              </a:rPr>
              <a:t>Agenda: semantic representation of the user and system utteran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ahoma"/>
              </a:rPr>
              <a:t>Frame: representation of the tas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ahoma"/>
              </a:rPr>
              <a:t>Dialogue history: dialogue state &amp; links to previous sta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ahoma"/>
              </a:rPr>
              <a:t>RDF notation throughou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438120" y="1557360"/>
            <a:ext cx="826776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Introducing Discourse Referen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611280" y="2338560"/>
            <a:ext cx="8064360" cy="35748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611280" y="1484280"/>
            <a:ext cx="7921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Tahoma"/>
              </a:rPr>
              <a:t>- DR:</a:t>
            </a: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fi-FI" sz="2000" spc="-1" strike="noStrike">
                <a:solidFill>
                  <a:srgbClr val="ffffff"/>
                </a:solidFill>
                <a:latin typeface="Tahoma"/>
              </a:rPr>
              <a:t>Ontology concept and its status in the dialogu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fi-FI" sz="2000" spc="-1" strike="noStrike">
                <a:solidFill>
                  <a:srgbClr val="ffffff"/>
                </a:solidFill>
                <a:latin typeface="Tahoma"/>
              </a:rPr>
              <a:t>[+/-Topic], [+/- NewInfo], [+/-Grounded], [+/-Known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ptation and Dialogue Model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6473-62EA-4CB5-9B22-DBF7549A7F2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05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Task fram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1736640" y="1557360"/>
            <a:ext cx="5427720" cy="475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ptation and Dialogue Model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A2AE-5026-4947-935B-A1F160911670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05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Functionalit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50560" y="1988640"/>
            <a:ext cx="4244760" cy="40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he user can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Tahoma"/>
              </a:rPr>
              <a:t>Request information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I have a printer proble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Tahoma"/>
              </a:rPr>
              <a:t>Ask clarification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What is a printer driver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Tahoma"/>
              </a:rPr>
              <a:t>Ask instructio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How do I change a printer driver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Tahoma"/>
              </a:rPr>
              <a:t>Provide answers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The I/O cable is connected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Tahoma"/>
              </a:rPr>
              <a:t>Confirm inform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Tahoma"/>
              </a:rPr>
              <a:t>Metacommunication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Acknowledgement: </a:t>
            </a: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ok, I se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hanks, greeting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2447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he system can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Tahoma"/>
              </a:rPr>
              <a:t>Suggest solutions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The power cord may be off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Tahoma"/>
              </a:rPr>
              <a:t>Provide clarification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The printer driver allows the computer to send documents to a particular printer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Tahoma"/>
              </a:rPr>
              <a:t>Provide instructio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To change a printer driver, first open the printer window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Tahoma"/>
              </a:rPr>
              <a:t>Ask specification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Is the I/O cable loose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Tahoma"/>
              </a:rPr>
              <a:t>Confirm inform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Tahoma"/>
              </a:rPr>
              <a:t>Metacommunication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Acknowledgement: </a:t>
            </a: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ok, I se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hanks, greeting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ptation and Dialogue Modelling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28B7-42DD-4575-A09B-8E5F1ED586D0}" type="slidenum">
              <a:t>2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05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A sample dialogu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13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Tahoma"/>
              </a:rPr>
              <a:t>U: I tried to print a document but it did not come out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[a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problem area with a symptom is specified -&gt; DM acknowledges &amp; asks user to check the state for one least costly symptom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]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Tahoma"/>
              </a:rPr>
              <a:t>S: I see. Is the IOCable loose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Tahoma"/>
              </a:rPr>
              <a:t>U: IOCable is connected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[user informs the system that the symptom is not the case -&gt; DM asks user to check another symptom]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Tahoma"/>
              </a:rPr>
              <a:t>S: Is the power cord off?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Tahoma"/>
              </a:rPr>
              <a:t>U: Power cord is on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[user informs the system that the symptom is not the case -&gt; DM asks user to check another symptom]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Tahoma"/>
              </a:rPr>
              <a:t>U: Are you using the wrong printer driver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Tahoma"/>
              </a:rPr>
              <a:t>U: I don’t know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[user does not understand the question -&gt; DM informs about the current Topic, and repeats the question]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Tahoma"/>
              </a:rPr>
              <a:t>S: The printer driver allows the computer to send documents to a particular printer. Your default printer is the HP-printer on the 3rd floor. Is your printer driver meant for this printer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Tahoma"/>
              </a:rPr>
              <a:t>U: I see. I think I use the wrong printer drive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[user acknowledges explanation and confirms the system that the symptom is the case -&gt; DM instructs the user what to do, and asks if the user can do it]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Tahoma"/>
              </a:rPr>
              <a:t>S: Ok. You have to change the printer driver. Do you know how to do it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Tahoma"/>
              </a:rPr>
              <a:t>U: yes. Thank you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cc00"/>
                </a:solidFill>
                <a:latin typeface="Tahoma"/>
              </a:rPr>
              <a:t>S: Thank you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Challenges in Natural Interactio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7921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cc00"/>
                </a:solidFill>
                <a:latin typeface="Tahoma"/>
              </a:rPr>
              <a:t>Naturalness</a:t>
            </a:r>
            <a:r>
              <a:rPr b="0" lang="nl-BE" sz="2000" spc="-1" strike="noStrike">
                <a:solidFill>
                  <a:srgbClr val="ffffff"/>
                </a:solidFill>
                <a:latin typeface="Tahoma"/>
              </a:rPr>
              <a:t>: deeper understanding of dialogue process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Tahoma"/>
              </a:rPr>
              <a:t>Feedback, repairs, non-verbal elemen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Tahoma"/>
              </a:rPr>
              <a:t>Multimedia and multimodal communic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Speech with humans, keyboard &amp; mouse with computers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cc00"/>
                </a:solidFill>
                <a:latin typeface="Tahoma"/>
              </a:rPr>
              <a:t>Speech/langua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(Too) high expectations of dialogue – Eliza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Tahoma"/>
              </a:rPr>
              <a:t>Narr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Portability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to new domai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Tahoma"/>
              </a:rPr>
              <a:t>Use of ontologi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Knowledge acquisition by interac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Tahoma"/>
              </a:rPr>
              <a:t>Machine learning technique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cc00"/>
                </a:solidFill>
                <a:latin typeface="Tahoma"/>
              </a:rPr>
              <a:t>User e</a:t>
            </a: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valu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User’s perception of the system depends on the system’s communicative capabiliti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Natural intuitive interaction supports user satisfaction over undesirable features like long waiting times and mere error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ptation and Dialogue Model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7DE9-D0EE-4CA9-BA8B-B1A12776265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05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Content of the talk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onstructive Dialogue Modell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Tahoma"/>
              </a:rPr>
              <a:t>Dialogue management model for natural language conversational syst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UM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daptation in the user mod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4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Ontology-based dialogue manag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ptation and Dialogue Model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A67C-581A-49C3-BBB3-178D764FCE0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05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e5ffff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6407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Allwood, J., Traum, D., &amp; Jokinen K (2001).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ooperation, dialogue and ethics. </a:t>
            </a: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International Journal of Human-Computer Studies, 53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, 871-914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Jokinen, K. (1998): </a:t>
            </a: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Three Challenges for Dialogue Management: the Constructive Dialogue Model Approach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. In Haukioja, T. (ed.) Papers from the 16th Scandinavian Conference of Linguistics, Turku, Finland, November 1996. pp. 221 – 234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ff"/>
                </a:solidFill>
                <a:latin typeface="Tahoma"/>
              </a:rPr>
              <a:t>Jokinen, K., Kerminen,A., Kaipainen,M., Jauhiainen,T., Wilcock,G., Turunen, M., Hakulinen, J., Kuusisto,J., Lagus,K. (2002).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daptive Dialogue Systems - Interaction with Interact.  </a:t>
            </a: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Procs of the 3rd SIGdial Workshop on Discourse and Dialogue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, Philadelphia, 64-73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ff"/>
                </a:solidFill>
                <a:latin typeface="Tahoma"/>
              </a:rPr>
              <a:t>Jokinen, K. and Kanto, K. (2004).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User Expertise Modelling and Adaptivity in a Speech-based E-mail System. </a:t>
            </a: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Procs of the ACL-04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fi-FI" sz="1600" spc="-1" strike="noStrike">
                <a:solidFill>
                  <a:srgbClr val="ffffff"/>
                </a:solidFill>
                <a:latin typeface="Tahoma"/>
              </a:rPr>
              <a:t>Barcelona, Spain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ff"/>
                </a:solidFill>
                <a:latin typeface="Tahoma"/>
              </a:rPr>
              <a:t>Kerminen, A. and Jokinen, K. (2003).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Distributed Dialogue Management in a Blackboard Architecture. </a:t>
            </a: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Procs of the EACL Workshop Dialogue Systems: interaction, adaptation and styles of management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, Budapest, Hungary. pp. 55-66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cTear, M (2002): </a:t>
            </a: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Spoken Dialogue Technology: Enabling the Conversational User Interface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urunen, M., Salonen, E-P., Hartikainen, M., Hakulinen, J., Black, W., Ramsay, A., Funk, A., Conroy, A., Thompson, P., Stairmand, M., Jokinen, K., Rissanen, J., Kanto, K., Kerminen, A., Gambäck, B., Cheadle, M., Olsson, F. and M. Sahlgren (2004). AthosMail – a Multilingual Adaptive Spoken Dialogue System for E-mail Domain. </a:t>
            </a: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Procs of the COLING Satellite Workshop Robust and Adaptive Information Processing for Mobile Speech Interfaces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, Geneva, Switzerland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ptation and Dialogue Model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581A-78F4-45DB-BDBA-3B58DF8A135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05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e5ffff"/>
                </a:solidFill>
                <a:latin typeface="Tahoma"/>
              </a:rPr>
              <a:t>Dialogue Modell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cc00"/>
                </a:solidFill>
                <a:latin typeface="Tahoma"/>
              </a:rPr>
              <a:t>Scripted dialog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Tahoma"/>
              </a:rPr>
              <a:t>e.g. VoiceXM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Tahoma"/>
              </a:rPr>
              <a:t>combine domain information with the speaker’s inten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Tahoma"/>
              </a:rPr>
              <a:t>easy to process in limited domai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cc00"/>
                </a:solidFill>
                <a:latin typeface="Tahoma"/>
              </a:rPr>
              <a:t>Frame-based dialog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Tahoma"/>
              </a:rPr>
              <a:t>represent domain information in a frame or a for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Tahoma"/>
              </a:rPr>
              <a:t>suitable for information-driven dialogu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ptation and Dialogue Model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7973-130C-4446-9FC9-564AC22EF5F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05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e5ffff"/>
                </a:solidFill>
                <a:latin typeface="Tahoma"/>
              </a:rPr>
              <a:t>Constructive Dialogue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odell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21844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CDM is an agent-based dialogue management model whe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Tahoma"/>
              </a:rPr>
              <a:t>Speakers are </a:t>
            </a:r>
            <a:r>
              <a:rPr b="0" lang="fi-FI" sz="2800" spc="-1" strike="noStrike">
                <a:solidFill>
                  <a:srgbClr val="ffcc00"/>
                </a:solidFill>
                <a:latin typeface="Tahoma"/>
              </a:rPr>
              <a:t>rational agents</a:t>
            </a:r>
            <a:r>
              <a:rPr b="0" lang="fi-FI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Tahoma"/>
              </a:rPr>
              <a:t>engaged in </a:t>
            </a:r>
            <a:r>
              <a:rPr b="0" lang="fi-FI" sz="2800" spc="-1" strike="noStrike">
                <a:solidFill>
                  <a:srgbClr val="ffcc00"/>
                </a:solidFill>
                <a:latin typeface="Tahoma"/>
              </a:rPr>
              <a:t>cooperative ac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Tahoma"/>
              </a:rPr>
              <a:t>In order to achieve an</a:t>
            </a:r>
            <a:r>
              <a:rPr b="0" lang="fi-FI" sz="2800" spc="-1" strike="noStrike">
                <a:solidFill>
                  <a:srgbClr val="ffcc00"/>
                </a:solidFill>
                <a:latin typeface="Tahoma"/>
              </a:rPr>
              <a:t> underlying go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Tahoma"/>
              </a:rPr>
              <a:t>they construct a </a:t>
            </a:r>
            <a:r>
              <a:rPr b="0" lang="fi-FI" sz="2800" spc="-1" strike="noStrike">
                <a:solidFill>
                  <a:srgbClr val="ffcc00"/>
                </a:solidFill>
                <a:latin typeface="Tahoma"/>
              </a:rPr>
              <a:t>shared contex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Tahoma"/>
              </a:rPr>
              <a:t>by exchanging </a:t>
            </a:r>
            <a:r>
              <a:rPr b="0" lang="fi-FI" sz="2800" spc="-1" strike="noStrike">
                <a:solidFill>
                  <a:srgbClr val="ffcc00"/>
                </a:solidFill>
                <a:latin typeface="Tahoma"/>
              </a:rPr>
              <a:t>new information</a:t>
            </a:r>
            <a:r>
              <a:rPr b="0" lang="fi-FI" sz="2800" spc="-1" strike="noStrike">
                <a:solidFill>
                  <a:srgbClr val="ffffff"/>
                </a:solidFill>
                <a:latin typeface="Tahoma"/>
              </a:rPr>
              <a:t> on a particular </a:t>
            </a:r>
            <a:r>
              <a:rPr b="0" lang="fi-FI" sz="2800" spc="-1" strike="noStrike">
                <a:solidFill>
                  <a:srgbClr val="ffcc00"/>
                </a:solidFill>
                <a:latin typeface="Tahoma"/>
              </a:rPr>
              <a:t>top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Tahoma"/>
              </a:rPr>
              <a:t>following </a:t>
            </a:r>
            <a:r>
              <a:rPr b="0" lang="fi-FI" sz="2800" spc="-1" strike="noStrike">
                <a:solidFill>
                  <a:srgbClr val="ffcc00"/>
                </a:solidFill>
                <a:latin typeface="Tahoma"/>
              </a:rPr>
              <a:t>communicative obligations, tru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ptation and Dialogue Model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D536-046D-4539-8A37-123B930D52A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05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Distributed dialogue decis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8218440" cy="23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gent-based architecture with a Shared Info Stora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ialogue management components distributed across various manager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63560" indent="-3841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Dialogue level input analysis in the Communication Manag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63560" indent="-3841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Task related information in the Task Manag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63560" indent="-3841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Output generation in the Presentation Manager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63560" indent="-3841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Decisions of what to say next in the Dialogue Manag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763640" y="4076640"/>
            <a:ext cx="3593880" cy="306000"/>
            <a:chOff x="1763640" y="4076640"/>
            <a:chExt cx="3593880" cy="306000"/>
          </a:xfrm>
        </p:grpSpPr>
        <p:sp>
          <p:nvSpPr>
            <p:cNvPr id="104" name=""/>
            <p:cNvSpPr/>
            <p:nvPr/>
          </p:nvSpPr>
          <p:spPr>
            <a:xfrm>
              <a:off x="1763640" y="4082400"/>
              <a:ext cx="3588120" cy="300240"/>
            </a:xfrm>
            <a:prstGeom prst="rect">
              <a:avLst/>
            </a:prstGeom>
            <a:solidFill>
              <a:srgbClr val="ffd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769400" y="4076640"/>
              <a:ext cx="3588120" cy="300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81720" y="4131000"/>
              <a:ext cx="1724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hared Information Storage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3170520" y="4387680"/>
            <a:ext cx="1703160" cy="1981080"/>
            <a:chOff x="3170520" y="4387680"/>
            <a:chExt cx="1703160" cy="1981080"/>
          </a:xfrm>
        </p:grpSpPr>
        <p:sp>
          <p:nvSpPr>
            <p:cNvPr id="108" name=""/>
            <p:cNvSpPr/>
            <p:nvPr/>
          </p:nvSpPr>
          <p:spPr>
            <a:xfrm>
              <a:off x="3285720" y="4976640"/>
              <a:ext cx="1517400" cy="3009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652560" y="5853600"/>
              <a:ext cx="768600" cy="189720"/>
            </a:xfrm>
            <a:prstGeom prst="ellipse">
              <a:avLst/>
            </a:prstGeom>
            <a:solidFill>
              <a:srgbClr val="4c7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652560" y="5516640"/>
              <a:ext cx="768600" cy="194040"/>
            </a:xfrm>
            <a:prstGeom prst="ellipse">
              <a:avLst/>
            </a:prstGeom>
            <a:solidFill>
              <a:srgbClr val="4c7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652560" y="5614560"/>
              <a:ext cx="1440" cy="335160"/>
            </a:xfrm>
            <a:custGeom>
              <a:avLst/>
              <a:gdLst/>
              <a:ahLst/>
              <a:rect l="l" t="t" r="r" b="b"/>
              <a:pathLst>
                <a:path w="0" h="233">
                  <a:moveTo>
                    <a:pt x="0" y="0"/>
                  </a:moveTo>
                  <a:lnTo>
                    <a:pt x="0" y="40"/>
                  </a:lnTo>
                  <a:lnTo>
                    <a:pt x="0" y="77"/>
                  </a:lnTo>
                  <a:lnTo>
                    <a:pt x="0" y="107"/>
                  </a:lnTo>
                  <a:lnTo>
                    <a:pt x="0" y="135"/>
                  </a:lnTo>
                  <a:lnTo>
                    <a:pt x="0" y="157"/>
                  </a:lnTo>
                  <a:lnTo>
                    <a:pt x="0" y="175"/>
                  </a:lnTo>
                  <a:lnTo>
                    <a:pt x="0" y="193"/>
                  </a:lnTo>
                  <a:lnTo>
                    <a:pt x="0" y="206"/>
                  </a:lnTo>
                  <a:lnTo>
                    <a:pt x="0" y="221"/>
                  </a:lnTo>
                  <a:lnTo>
                    <a:pt x="0" y="230"/>
                  </a:lnTo>
                  <a:lnTo>
                    <a:pt x="0" y="233"/>
                  </a:lnTo>
                  <a:lnTo>
                    <a:pt x="0" y="233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421520" y="5614560"/>
              <a:ext cx="1440" cy="335160"/>
            </a:xfrm>
            <a:custGeom>
              <a:avLst/>
              <a:gdLst/>
              <a:ahLst/>
              <a:rect l="l" t="t" r="r" b="b"/>
              <a:pathLst>
                <a:path w="0" h="233">
                  <a:moveTo>
                    <a:pt x="0" y="0"/>
                  </a:moveTo>
                  <a:lnTo>
                    <a:pt x="0" y="40"/>
                  </a:lnTo>
                  <a:lnTo>
                    <a:pt x="0" y="77"/>
                  </a:lnTo>
                  <a:lnTo>
                    <a:pt x="0" y="107"/>
                  </a:lnTo>
                  <a:lnTo>
                    <a:pt x="0" y="135"/>
                  </a:lnTo>
                  <a:lnTo>
                    <a:pt x="0" y="157"/>
                  </a:lnTo>
                  <a:lnTo>
                    <a:pt x="0" y="175"/>
                  </a:lnTo>
                  <a:lnTo>
                    <a:pt x="0" y="193"/>
                  </a:lnTo>
                  <a:lnTo>
                    <a:pt x="0" y="206"/>
                  </a:lnTo>
                  <a:lnTo>
                    <a:pt x="0" y="221"/>
                  </a:lnTo>
                  <a:lnTo>
                    <a:pt x="0" y="230"/>
                  </a:lnTo>
                  <a:lnTo>
                    <a:pt x="0" y="233"/>
                  </a:lnTo>
                  <a:lnTo>
                    <a:pt x="0" y="233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652560" y="5698080"/>
              <a:ext cx="768600" cy="93600"/>
            </a:xfrm>
            <a:custGeom>
              <a:avLst/>
              <a:gdLst/>
              <a:ahLst/>
              <a:rect l="l" t="t" r="r" b="b"/>
              <a:pathLst>
                <a:path w="534" h="65">
                  <a:moveTo>
                    <a:pt x="0" y="0"/>
                  </a:moveTo>
                  <a:lnTo>
                    <a:pt x="3" y="6"/>
                  </a:lnTo>
                  <a:lnTo>
                    <a:pt x="7" y="12"/>
                  </a:lnTo>
                  <a:lnTo>
                    <a:pt x="28" y="25"/>
                  </a:lnTo>
                  <a:lnTo>
                    <a:pt x="56" y="37"/>
                  </a:lnTo>
                  <a:lnTo>
                    <a:pt x="95" y="46"/>
                  </a:lnTo>
                  <a:lnTo>
                    <a:pt x="138" y="55"/>
                  </a:lnTo>
                  <a:lnTo>
                    <a:pt x="180" y="59"/>
                  </a:lnTo>
                  <a:lnTo>
                    <a:pt x="223" y="65"/>
                  </a:lnTo>
                  <a:lnTo>
                    <a:pt x="265" y="65"/>
                  </a:lnTo>
                  <a:lnTo>
                    <a:pt x="307" y="65"/>
                  </a:lnTo>
                  <a:lnTo>
                    <a:pt x="353" y="59"/>
                  </a:lnTo>
                  <a:lnTo>
                    <a:pt x="396" y="55"/>
                  </a:lnTo>
                  <a:lnTo>
                    <a:pt x="438" y="46"/>
                  </a:lnTo>
                  <a:lnTo>
                    <a:pt x="477" y="37"/>
                  </a:lnTo>
                  <a:lnTo>
                    <a:pt x="505" y="25"/>
                  </a:lnTo>
                  <a:lnTo>
                    <a:pt x="527" y="12"/>
                  </a:lnTo>
                  <a:lnTo>
                    <a:pt x="534" y="6"/>
                  </a:lnTo>
                  <a:lnTo>
                    <a:pt x="534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560" y="5782680"/>
              <a:ext cx="768600" cy="92160"/>
            </a:xfrm>
            <a:custGeom>
              <a:avLst/>
              <a:gdLst/>
              <a:ahLst/>
              <a:rect l="l" t="t" r="r" b="b"/>
              <a:pathLst>
                <a:path w="534" h="64">
                  <a:moveTo>
                    <a:pt x="0" y="0"/>
                  </a:moveTo>
                  <a:lnTo>
                    <a:pt x="3" y="6"/>
                  </a:lnTo>
                  <a:lnTo>
                    <a:pt x="7" y="12"/>
                  </a:lnTo>
                  <a:lnTo>
                    <a:pt x="28" y="24"/>
                  </a:lnTo>
                  <a:lnTo>
                    <a:pt x="56" y="36"/>
                  </a:lnTo>
                  <a:lnTo>
                    <a:pt x="95" y="46"/>
                  </a:lnTo>
                  <a:lnTo>
                    <a:pt x="138" y="55"/>
                  </a:lnTo>
                  <a:lnTo>
                    <a:pt x="180" y="58"/>
                  </a:lnTo>
                  <a:lnTo>
                    <a:pt x="223" y="64"/>
                  </a:lnTo>
                  <a:lnTo>
                    <a:pt x="265" y="64"/>
                  </a:lnTo>
                  <a:lnTo>
                    <a:pt x="307" y="64"/>
                  </a:lnTo>
                  <a:lnTo>
                    <a:pt x="353" y="58"/>
                  </a:lnTo>
                  <a:lnTo>
                    <a:pt x="396" y="55"/>
                  </a:lnTo>
                  <a:lnTo>
                    <a:pt x="438" y="46"/>
                  </a:lnTo>
                  <a:lnTo>
                    <a:pt x="477" y="36"/>
                  </a:lnTo>
                  <a:lnTo>
                    <a:pt x="505" y="24"/>
                  </a:lnTo>
                  <a:lnTo>
                    <a:pt x="527" y="12"/>
                  </a:lnTo>
                  <a:lnTo>
                    <a:pt x="534" y="6"/>
                  </a:lnTo>
                  <a:lnTo>
                    <a:pt x="534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652560" y="5866560"/>
              <a:ext cx="768600" cy="93600"/>
            </a:xfrm>
            <a:custGeom>
              <a:avLst/>
              <a:gdLst/>
              <a:ahLst/>
              <a:rect l="l" t="t" r="r" b="b"/>
              <a:pathLst>
                <a:path w="534" h="65">
                  <a:moveTo>
                    <a:pt x="0" y="0"/>
                  </a:moveTo>
                  <a:lnTo>
                    <a:pt x="3" y="6"/>
                  </a:lnTo>
                  <a:lnTo>
                    <a:pt x="7" y="12"/>
                  </a:lnTo>
                  <a:lnTo>
                    <a:pt x="28" y="25"/>
                  </a:lnTo>
                  <a:lnTo>
                    <a:pt x="56" y="37"/>
                  </a:lnTo>
                  <a:lnTo>
                    <a:pt x="95" y="46"/>
                  </a:lnTo>
                  <a:lnTo>
                    <a:pt x="138" y="55"/>
                  </a:lnTo>
                  <a:lnTo>
                    <a:pt x="180" y="58"/>
                  </a:lnTo>
                  <a:lnTo>
                    <a:pt x="223" y="65"/>
                  </a:lnTo>
                  <a:lnTo>
                    <a:pt x="265" y="65"/>
                  </a:lnTo>
                  <a:lnTo>
                    <a:pt x="307" y="65"/>
                  </a:lnTo>
                  <a:lnTo>
                    <a:pt x="353" y="58"/>
                  </a:lnTo>
                  <a:lnTo>
                    <a:pt x="396" y="55"/>
                  </a:lnTo>
                  <a:lnTo>
                    <a:pt x="438" y="46"/>
                  </a:lnTo>
                  <a:lnTo>
                    <a:pt x="477" y="37"/>
                  </a:lnTo>
                  <a:lnTo>
                    <a:pt x="505" y="25"/>
                  </a:lnTo>
                  <a:lnTo>
                    <a:pt x="527" y="12"/>
                  </a:lnTo>
                  <a:lnTo>
                    <a:pt x="534" y="6"/>
                  </a:lnTo>
                  <a:lnTo>
                    <a:pt x="534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60400" y="4387680"/>
              <a:ext cx="483480" cy="541080"/>
            </a:xfrm>
            <a:custGeom>
              <a:avLst/>
              <a:gdLst/>
              <a:ahLst/>
              <a:rect l="l" t="t" r="r" b="b"/>
              <a:pathLst>
                <a:path w="336" h="376">
                  <a:moveTo>
                    <a:pt x="0" y="0"/>
                  </a:moveTo>
                  <a:lnTo>
                    <a:pt x="36" y="31"/>
                  </a:lnTo>
                  <a:lnTo>
                    <a:pt x="64" y="59"/>
                  </a:lnTo>
                  <a:lnTo>
                    <a:pt x="92" y="83"/>
                  </a:lnTo>
                  <a:lnTo>
                    <a:pt x="113" y="105"/>
                  </a:lnTo>
                  <a:lnTo>
                    <a:pt x="156" y="148"/>
                  </a:lnTo>
                  <a:lnTo>
                    <a:pt x="188" y="188"/>
                  </a:lnTo>
                  <a:lnTo>
                    <a:pt x="219" y="225"/>
                  </a:lnTo>
                  <a:lnTo>
                    <a:pt x="251" y="268"/>
                  </a:lnTo>
                  <a:lnTo>
                    <a:pt x="290" y="317"/>
                  </a:lnTo>
                  <a:lnTo>
                    <a:pt x="336" y="376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3170520" y="4387680"/>
              <a:ext cx="1703160" cy="1981080"/>
              <a:chOff x="3170520" y="4387680"/>
              <a:chExt cx="1703160" cy="1981080"/>
            </a:xfrm>
          </p:grpSpPr>
          <p:sp>
            <p:nvSpPr>
              <p:cNvPr id="118" name=""/>
              <p:cNvSpPr/>
              <p:nvPr/>
            </p:nvSpPr>
            <p:spPr>
              <a:xfrm>
                <a:off x="3219480" y="4929120"/>
                <a:ext cx="1654200" cy="1439640"/>
              </a:xfrm>
              <a:prstGeom prst="rect">
                <a:avLst/>
              </a:prstGeom>
              <a:solidFill>
                <a:srgbClr val="4cc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219480" y="4929120"/>
                <a:ext cx="1654200" cy="14396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285720" y="4986360"/>
                <a:ext cx="1517400" cy="300960"/>
              </a:xfrm>
              <a:prstGeom prst="rect">
                <a:avLst/>
              </a:prstGeom>
              <a:solidFill>
                <a:srgbClr val="4c7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456360" y="5039640"/>
                <a:ext cx="896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28720"/>
                    <a:tab algn="l" pos="1657440"/>
                    <a:tab algn="l" pos="2486160"/>
                    <a:tab algn="l" pos="3314880"/>
                    <a:tab algn="l" pos="4143240"/>
                    <a:tab algn="l" pos="4971960"/>
                    <a:tab algn="l" pos="5800680"/>
                    <a:tab algn="l" pos="6629400"/>
                    <a:tab algn="l" pos="7458120"/>
                    <a:tab algn="l" pos="8286840"/>
                    <a:tab algn="l" pos="9115560"/>
                    <a:tab algn="l" pos="9944280"/>
                    <a:tab algn="l" pos="1077264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ask Manager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52560" y="5624640"/>
                <a:ext cx="768600" cy="335160"/>
              </a:xfrm>
              <a:prstGeom prst="rect">
                <a:avLst/>
              </a:prstGeom>
              <a:solidFill>
                <a:srgbClr val="4c7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652560" y="5526720"/>
                <a:ext cx="768600" cy="97920"/>
              </a:xfrm>
              <a:custGeom>
                <a:avLst/>
                <a:gdLst/>
                <a:ahLst/>
                <a:rect l="l" t="t" r="r" b="b"/>
                <a:pathLst>
                  <a:path w="534" h="68">
                    <a:moveTo>
                      <a:pt x="0" y="68"/>
                    </a:moveTo>
                    <a:lnTo>
                      <a:pt x="3" y="62"/>
                    </a:lnTo>
                    <a:lnTo>
                      <a:pt x="7" y="55"/>
                    </a:lnTo>
                    <a:lnTo>
                      <a:pt x="28" y="43"/>
                    </a:lnTo>
                    <a:lnTo>
                      <a:pt x="56" y="31"/>
                    </a:lnTo>
                    <a:lnTo>
                      <a:pt x="95" y="22"/>
                    </a:lnTo>
                    <a:lnTo>
                      <a:pt x="138" y="12"/>
                    </a:lnTo>
                    <a:lnTo>
                      <a:pt x="180" y="6"/>
                    </a:lnTo>
                    <a:lnTo>
                      <a:pt x="223" y="0"/>
                    </a:lnTo>
                    <a:lnTo>
                      <a:pt x="265" y="0"/>
                    </a:lnTo>
                    <a:lnTo>
                      <a:pt x="307" y="0"/>
                    </a:lnTo>
                    <a:lnTo>
                      <a:pt x="353" y="6"/>
                    </a:lnTo>
                    <a:lnTo>
                      <a:pt x="396" y="12"/>
                    </a:lnTo>
                    <a:lnTo>
                      <a:pt x="438" y="22"/>
                    </a:lnTo>
                    <a:lnTo>
                      <a:pt x="477" y="31"/>
                    </a:lnTo>
                    <a:lnTo>
                      <a:pt x="505" y="43"/>
                    </a:lnTo>
                    <a:lnTo>
                      <a:pt x="527" y="55"/>
                    </a:lnTo>
                    <a:lnTo>
                      <a:pt x="534" y="62"/>
                    </a:lnTo>
                    <a:lnTo>
                      <a:pt x="534" y="68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652560" y="5624640"/>
                <a:ext cx="768600" cy="96120"/>
              </a:xfrm>
              <a:custGeom>
                <a:avLst/>
                <a:gdLst/>
                <a:ahLst/>
                <a:rect l="l" t="t" r="r" b="b"/>
                <a:pathLst>
                  <a:path w="534" h="67">
                    <a:moveTo>
                      <a:pt x="0" y="0"/>
                    </a:moveTo>
                    <a:lnTo>
                      <a:pt x="3" y="6"/>
                    </a:lnTo>
                    <a:lnTo>
                      <a:pt x="7" y="12"/>
                    </a:lnTo>
                    <a:lnTo>
                      <a:pt x="28" y="27"/>
                    </a:lnTo>
                    <a:lnTo>
                      <a:pt x="56" y="37"/>
                    </a:lnTo>
                    <a:lnTo>
                      <a:pt x="95" y="49"/>
                    </a:lnTo>
                    <a:lnTo>
                      <a:pt x="138" y="55"/>
                    </a:lnTo>
                    <a:lnTo>
                      <a:pt x="180" y="61"/>
                    </a:lnTo>
                    <a:lnTo>
                      <a:pt x="223" y="67"/>
                    </a:lnTo>
                    <a:lnTo>
                      <a:pt x="265" y="67"/>
                    </a:lnTo>
                    <a:lnTo>
                      <a:pt x="307" y="67"/>
                    </a:lnTo>
                    <a:lnTo>
                      <a:pt x="353" y="61"/>
                    </a:lnTo>
                    <a:lnTo>
                      <a:pt x="396" y="55"/>
                    </a:lnTo>
                    <a:lnTo>
                      <a:pt x="438" y="49"/>
                    </a:lnTo>
                    <a:lnTo>
                      <a:pt x="477" y="37"/>
                    </a:lnTo>
                    <a:lnTo>
                      <a:pt x="505" y="27"/>
                    </a:lnTo>
                    <a:lnTo>
                      <a:pt x="527" y="12"/>
                    </a:lnTo>
                    <a:lnTo>
                      <a:pt x="534" y="6"/>
                    </a:lnTo>
                    <a:lnTo>
                      <a:pt x="534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652560" y="5960160"/>
                <a:ext cx="768600" cy="93600"/>
              </a:xfrm>
              <a:custGeom>
                <a:avLst/>
                <a:gdLst/>
                <a:ahLst/>
                <a:rect l="l" t="t" r="r" b="b"/>
                <a:pathLst>
                  <a:path w="534" h="65">
                    <a:moveTo>
                      <a:pt x="0" y="0"/>
                    </a:moveTo>
                    <a:lnTo>
                      <a:pt x="3" y="7"/>
                    </a:lnTo>
                    <a:lnTo>
                      <a:pt x="7" y="13"/>
                    </a:lnTo>
                    <a:lnTo>
                      <a:pt x="28" y="25"/>
                    </a:lnTo>
                    <a:lnTo>
                      <a:pt x="56" y="37"/>
                    </a:lnTo>
                    <a:lnTo>
                      <a:pt x="95" y="47"/>
                    </a:lnTo>
                    <a:lnTo>
                      <a:pt x="138" y="56"/>
                    </a:lnTo>
                    <a:lnTo>
                      <a:pt x="180" y="59"/>
                    </a:lnTo>
                    <a:lnTo>
                      <a:pt x="223" y="65"/>
                    </a:lnTo>
                    <a:lnTo>
                      <a:pt x="265" y="65"/>
                    </a:lnTo>
                    <a:lnTo>
                      <a:pt x="307" y="65"/>
                    </a:lnTo>
                    <a:lnTo>
                      <a:pt x="353" y="59"/>
                    </a:lnTo>
                    <a:lnTo>
                      <a:pt x="396" y="56"/>
                    </a:lnTo>
                    <a:lnTo>
                      <a:pt x="438" y="47"/>
                    </a:lnTo>
                    <a:lnTo>
                      <a:pt x="477" y="37"/>
                    </a:lnTo>
                    <a:lnTo>
                      <a:pt x="505" y="25"/>
                    </a:lnTo>
                    <a:lnTo>
                      <a:pt x="527" y="13"/>
                    </a:lnTo>
                    <a:lnTo>
                      <a:pt x="534" y="7"/>
                    </a:lnTo>
                    <a:lnTo>
                      <a:pt x="534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670920" y="6058080"/>
                <a:ext cx="505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28720"/>
                    <a:tab algn="l" pos="1657440"/>
                    <a:tab algn="l" pos="2486160"/>
                    <a:tab algn="l" pos="3314880"/>
                    <a:tab algn="l" pos="4143240"/>
                    <a:tab algn="l" pos="4971960"/>
                    <a:tab algn="l" pos="5800680"/>
                    <a:tab algn="l" pos="6629400"/>
                    <a:tab algn="l" pos="7458120"/>
                    <a:tab algn="l" pos="8286840"/>
                    <a:tab algn="l" pos="9115560"/>
                    <a:tab algn="l" pos="9944280"/>
                    <a:tab algn="l" pos="1077264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imetable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683880" y="6181920"/>
                <a:ext cx="4928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28720"/>
                    <a:tab algn="l" pos="1657440"/>
                    <a:tab algn="l" pos="2486160"/>
                    <a:tab algn="l" pos="3314880"/>
                    <a:tab algn="l" pos="4143240"/>
                    <a:tab algn="l" pos="4971960"/>
                    <a:tab algn="l" pos="5800680"/>
                    <a:tab algn="l" pos="6629400"/>
                    <a:tab algn="l" pos="7458120"/>
                    <a:tab algn="l" pos="8286840"/>
                    <a:tab algn="l" pos="9115560"/>
                    <a:tab algn="l" pos="9944280"/>
                    <a:tab algn="l" pos="1077264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atabase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51960" y="4959000"/>
                <a:ext cx="1024200" cy="895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68" y="19476"/>
                    </a:moveTo>
                    <a:arcTo wR="10800" hR="10800" stAng="7593010" swAng="365105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68" y="19476"/>
                    </a:moveTo>
                    <a:arcTo wR="10800" hR="10800" stAng="7593010" swAng="3651053"/>
                  </a:path>
                </a:pathLst>
              </a:cu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438000" y="5672160"/>
                <a:ext cx="122400" cy="93600"/>
              </a:xfrm>
              <a:custGeom>
                <a:avLst/>
                <a:gdLst/>
                <a:ahLst/>
                <a:rect l="l" t="t" r="r" b="b"/>
                <a:pathLst>
                  <a:path w="85" h="65">
                    <a:moveTo>
                      <a:pt x="0" y="56"/>
                    </a:moveTo>
                    <a:lnTo>
                      <a:pt x="85" y="65"/>
                    </a:lnTo>
                    <a:lnTo>
                      <a:pt x="46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170520" y="4623480"/>
                <a:ext cx="1566000" cy="1362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7" y="11505"/>
                    </a:moveTo>
                    <a:arcTo wR="10800" hR="10800" stAng="224718" swAng="233452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7" y="11505"/>
                    </a:moveTo>
                    <a:arcTo wR="10800" hR="10800" stAng="224718" swAng="2334527"/>
                  </a:path>
                </a:pathLst>
              </a:cu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674600" y="5349240"/>
                <a:ext cx="108000" cy="97920"/>
              </a:xfrm>
              <a:custGeom>
                <a:avLst/>
                <a:gdLst/>
                <a:ahLst/>
                <a:rect l="l" t="t" r="r" b="b"/>
                <a:pathLst>
                  <a:path w="75" h="68">
                    <a:moveTo>
                      <a:pt x="75" y="68"/>
                    </a:moveTo>
                    <a:lnTo>
                      <a:pt x="43" y="0"/>
                    </a:lnTo>
                    <a:lnTo>
                      <a:pt x="0" y="6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560400" y="4387680"/>
                <a:ext cx="118080" cy="101880"/>
              </a:xfrm>
              <a:custGeom>
                <a:avLst/>
                <a:gdLst/>
                <a:ahLst/>
                <a:rect l="l" t="t" r="r" b="b"/>
                <a:pathLst>
                  <a:path w="82" h="71">
                    <a:moveTo>
                      <a:pt x="82" y="22"/>
                    </a:moveTo>
                    <a:lnTo>
                      <a:pt x="0" y="0"/>
                    </a:lnTo>
                    <a:lnTo>
                      <a:pt x="28" y="71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8040" y="4822200"/>
                <a:ext cx="106200" cy="106560"/>
              </a:xfrm>
              <a:custGeom>
                <a:avLst/>
                <a:gdLst/>
                <a:ahLst/>
                <a:rect l="l" t="t" r="r" b="b"/>
                <a:pathLst>
                  <a:path w="74" h="74">
                    <a:moveTo>
                      <a:pt x="0" y="40"/>
                    </a:moveTo>
                    <a:lnTo>
                      <a:pt x="74" y="74"/>
                    </a:lnTo>
                    <a:lnTo>
                      <a:pt x="6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4" name=""/>
          <p:cNvGrpSpPr/>
          <p:nvPr/>
        </p:nvGrpSpPr>
        <p:grpSpPr>
          <a:xfrm>
            <a:off x="495360" y="4386240"/>
            <a:ext cx="2653920" cy="1982520"/>
            <a:chOff x="495360" y="4386240"/>
            <a:chExt cx="2653920" cy="1982520"/>
          </a:xfrm>
        </p:grpSpPr>
        <p:sp>
          <p:nvSpPr>
            <p:cNvPr id="135" name=""/>
            <p:cNvSpPr/>
            <p:nvPr/>
          </p:nvSpPr>
          <p:spPr>
            <a:xfrm>
              <a:off x="1501920" y="6085440"/>
              <a:ext cx="1379520" cy="181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495360" y="4386240"/>
              <a:ext cx="2653920" cy="1982520"/>
              <a:chOff x="495360" y="4386240"/>
              <a:chExt cx="2653920" cy="1982520"/>
            </a:xfrm>
          </p:grpSpPr>
          <p:sp>
            <p:nvSpPr>
              <p:cNvPr id="137" name=""/>
              <p:cNvSpPr/>
              <p:nvPr/>
            </p:nvSpPr>
            <p:spPr>
              <a:xfrm>
                <a:off x="528480" y="4928040"/>
                <a:ext cx="2620800" cy="1440720"/>
              </a:xfrm>
              <a:prstGeom prst="rect">
                <a:avLst/>
              </a:prstGeom>
              <a:solidFill>
                <a:srgbClr val="4cc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633320" y="5587920"/>
                <a:ext cx="1378080" cy="177120"/>
              </a:xfrm>
              <a:prstGeom prst="rect">
                <a:avLst/>
              </a:prstGeom>
              <a:solidFill>
                <a:srgbClr val="4c7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633320" y="5587920"/>
                <a:ext cx="1378080" cy="17712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93280" y="4985640"/>
                <a:ext cx="2489400" cy="301320"/>
              </a:xfrm>
              <a:prstGeom prst="rect">
                <a:avLst/>
              </a:prstGeom>
              <a:solidFill>
                <a:srgbClr val="4c7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93280" y="4985640"/>
                <a:ext cx="2489400" cy="30132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699200" y="5348520"/>
                <a:ext cx="1383840" cy="177120"/>
              </a:xfrm>
              <a:prstGeom prst="rect">
                <a:avLst/>
              </a:prstGeom>
              <a:solidFill>
                <a:srgbClr val="4c7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699200" y="5348520"/>
                <a:ext cx="1383840" cy="17712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836000" y="4821120"/>
                <a:ext cx="112320" cy="106560"/>
              </a:xfrm>
              <a:custGeom>
                <a:avLst/>
                <a:gdLst/>
                <a:ahLst/>
                <a:rect l="l" t="t" r="r" b="b"/>
                <a:pathLst>
                  <a:path w="78" h="74">
                    <a:moveTo>
                      <a:pt x="21" y="0"/>
                    </a:moveTo>
                    <a:lnTo>
                      <a:pt x="0" y="74"/>
                    </a:lnTo>
                    <a:lnTo>
                      <a:pt x="78" y="4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494720" y="6066360"/>
                <a:ext cx="1379520" cy="181440"/>
              </a:xfrm>
              <a:prstGeom prst="rect">
                <a:avLst/>
              </a:prstGeom>
              <a:solidFill>
                <a:srgbClr val="4c7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28480" y="4928040"/>
                <a:ext cx="2620800" cy="144072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43120" y="5038920"/>
                <a:ext cx="156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28720"/>
                    <a:tab algn="l" pos="1657440"/>
                    <a:tab algn="l" pos="2486160"/>
                    <a:tab algn="l" pos="3314880"/>
                    <a:tab algn="l" pos="4143240"/>
                    <a:tab algn="l" pos="4971960"/>
                    <a:tab algn="l" pos="5800680"/>
                    <a:tab algn="l" pos="6629400"/>
                    <a:tab algn="l" pos="7458120"/>
                    <a:tab algn="l" pos="8286840"/>
                    <a:tab algn="l" pos="9115560"/>
                    <a:tab algn="l" pos="9944280"/>
                    <a:tab algn="l" pos="1077264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ommunication Manager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677240" y="5592240"/>
                <a:ext cx="936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28720"/>
                    <a:tab algn="l" pos="1657440"/>
                    <a:tab algn="l" pos="2486160"/>
                    <a:tab algn="l" pos="3314880"/>
                    <a:tab algn="l" pos="4143240"/>
                    <a:tab algn="l" pos="4971960"/>
                    <a:tab algn="l" pos="5800680"/>
                    <a:tab algn="l" pos="6629400"/>
                    <a:tab algn="l" pos="7458120"/>
                    <a:tab algn="l" pos="8286840"/>
                    <a:tab algn="l" pos="9115560"/>
                    <a:tab algn="l" pos="9944280"/>
                    <a:tab algn="l" pos="1077264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llipsis Resolution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664280" y="5352840"/>
                <a:ext cx="10753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28720"/>
                    <a:tab algn="l" pos="1657440"/>
                    <a:tab algn="l" pos="2486160"/>
                    <a:tab algn="l" pos="3314880"/>
                    <a:tab algn="l" pos="4143240"/>
                    <a:tab algn="l" pos="4971960"/>
                    <a:tab algn="l" pos="5800680"/>
                    <a:tab algn="l" pos="6629400"/>
                    <a:tab algn="l" pos="7458120"/>
                    <a:tab algn="l" pos="8286840"/>
                    <a:tab algn="l" pos="9115560"/>
                    <a:tab algn="l" pos="9944280"/>
                    <a:tab algn="l" pos="1077264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naphora Resolution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286280" y="5348520"/>
                <a:ext cx="137880" cy="478440"/>
              </a:xfrm>
              <a:custGeom>
                <a:avLst/>
                <a:gdLst/>
                <a:ahLst/>
                <a:rect l="l" t="t" r="r" b="b"/>
                <a:pathLst>
                  <a:path w="96" h="332">
                    <a:moveTo>
                      <a:pt x="96" y="0"/>
                    </a:moveTo>
                    <a:lnTo>
                      <a:pt x="71" y="3"/>
                    </a:lnTo>
                    <a:lnTo>
                      <a:pt x="53" y="15"/>
                    </a:lnTo>
                    <a:lnTo>
                      <a:pt x="43" y="31"/>
                    </a:lnTo>
                    <a:lnTo>
                      <a:pt x="32" y="52"/>
                    </a:lnTo>
                    <a:lnTo>
                      <a:pt x="28" y="77"/>
                    </a:lnTo>
                    <a:lnTo>
                      <a:pt x="28" y="105"/>
                    </a:lnTo>
                    <a:lnTo>
                      <a:pt x="28" y="166"/>
                    </a:lnTo>
                    <a:lnTo>
                      <a:pt x="36" y="228"/>
                    </a:lnTo>
                    <a:lnTo>
                      <a:pt x="36" y="255"/>
                    </a:lnTo>
                    <a:lnTo>
                      <a:pt x="36" y="280"/>
                    </a:lnTo>
                    <a:lnTo>
                      <a:pt x="32" y="301"/>
                    </a:lnTo>
                    <a:lnTo>
                      <a:pt x="25" y="317"/>
                    </a:lnTo>
                    <a:lnTo>
                      <a:pt x="14" y="329"/>
                    </a:lnTo>
                    <a:lnTo>
                      <a:pt x="0" y="332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6280" y="5826960"/>
                <a:ext cx="137880" cy="484200"/>
              </a:xfrm>
              <a:custGeom>
                <a:avLst/>
                <a:gdLst/>
                <a:ahLst/>
                <a:rect l="l" t="t" r="r" b="b"/>
                <a:pathLst>
                  <a:path w="96" h="336">
                    <a:moveTo>
                      <a:pt x="96" y="336"/>
                    </a:moveTo>
                    <a:lnTo>
                      <a:pt x="71" y="332"/>
                    </a:lnTo>
                    <a:lnTo>
                      <a:pt x="53" y="320"/>
                    </a:lnTo>
                    <a:lnTo>
                      <a:pt x="43" y="305"/>
                    </a:lnTo>
                    <a:lnTo>
                      <a:pt x="32" y="283"/>
                    </a:lnTo>
                    <a:lnTo>
                      <a:pt x="28" y="259"/>
                    </a:lnTo>
                    <a:lnTo>
                      <a:pt x="28" y="231"/>
                    </a:lnTo>
                    <a:lnTo>
                      <a:pt x="28" y="169"/>
                    </a:lnTo>
                    <a:lnTo>
                      <a:pt x="36" y="108"/>
                    </a:lnTo>
                    <a:lnTo>
                      <a:pt x="36" y="77"/>
                    </a:lnTo>
                    <a:lnTo>
                      <a:pt x="36" y="52"/>
                    </a:lnTo>
                    <a:lnTo>
                      <a:pt x="32" y="31"/>
                    </a:lnTo>
                    <a:lnTo>
                      <a:pt x="25" y="16"/>
                    </a:lnTo>
                    <a:lnTo>
                      <a:pt x="14" y="3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95360" y="5712120"/>
                <a:ext cx="646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28720"/>
                    <a:tab algn="l" pos="1657440"/>
                    <a:tab algn="l" pos="2486160"/>
                    <a:tab algn="l" pos="3314880"/>
                    <a:tab algn="l" pos="4143240"/>
                    <a:tab algn="l" pos="4971960"/>
                    <a:tab algn="l" pos="5800680"/>
                    <a:tab algn="l" pos="6629400"/>
                    <a:tab algn="l" pos="7458120"/>
                    <a:tab algn="l" pos="8286840"/>
                    <a:tab algn="l" pos="9115560"/>
                    <a:tab algn="l" pos="9944280"/>
                    <a:tab algn="l" pos="1077264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nput Agents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836000" y="4386240"/>
                <a:ext cx="901440" cy="541800"/>
              </a:xfrm>
              <a:custGeom>
                <a:avLst/>
                <a:gdLst/>
                <a:ahLst/>
                <a:rect l="l" t="t" r="r" b="b"/>
                <a:pathLst>
                  <a:path w="626" h="376">
                    <a:moveTo>
                      <a:pt x="626" y="0"/>
                    </a:moveTo>
                    <a:lnTo>
                      <a:pt x="597" y="31"/>
                    </a:lnTo>
                    <a:lnTo>
                      <a:pt x="566" y="56"/>
                    </a:lnTo>
                    <a:lnTo>
                      <a:pt x="495" y="99"/>
                    </a:lnTo>
                    <a:lnTo>
                      <a:pt x="417" y="136"/>
                    </a:lnTo>
                    <a:lnTo>
                      <a:pt x="332" y="173"/>
                    </a:lnTo>
                    <a:lnTo>
                      <a:pt x="244" y="209"/>
                    </a:lnTo>
                    <a:lnTo>
                      <a:pt x="159" y="253"/>
                    </a:lnTo>
                    <a:lnTo>
                      <a:pt x="117" y="277"/>
                    </a:lnTo>
                    <a:lnTo>
                      <a:pt x="78" y="305"/>
                    </a:lnTo>
                    <a:lnTo>
                      <a:pt x="39" y="339"/>
                    </a:lnTo>
                    <a:lnTo>
                      <a:pt x="0" y="37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625480" y="4386240"/>
                <a:ext cx="112320" cy="106200"/>
              </a:xfrm>
              <a:custGeom>
                <a:avLst/>
                <a:gdLst/>
                <a:ahLst/>
                <a:rect l="l" t="t" r="r" b="b"/>
                <a:pathLst>
                  <a:path w="78" h="74">
                    <a:moveTo>
                      <a:pt x="60" y="74"/>
                    </a:moveTo>
                    <a:lnTo>
                      <a:pt x="78" y="0"/>
                    </a:lnTo>
                    <a:lnTo>
                      <a:pt x="0" y="31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625400" y="6071040"/>
                <a:ext cx="8190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28720"/>
                    <a:tab algn="l" pos="1657440"/>
                    <a:tab algn="l" pos="2486160"/>
                    <a:tab algn="l" pos="3314880"/>
                    <a:tab algn="l" pos="4143240"/>
                    <a:tab algn="l" pos="4971960"/>
                    <a:tab algn="l" pos="5800680"/>
                    <a:tab algn="l" pos="6629400"/>
                    <a:tab algn="l" pos="7458120"/>
                    <a:tab algn="l" pos="8286840"/>
                    <a:tab algn="l" pos="9115560"/>
                    <a:tab algn="l" pos="9944280"/>
                    <a:tab algn="l" pos="1077264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Low-level Agent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6" name=""/>
          <p:cNvGrpSpPr/>
          <p:nvPr/>
        </p:nvGrpSpPr>
        <p:grpSpPr>
          <a:xfrm>
            <a:off x="4390920" y="4378320"/>
            <a:ext cx="2207880" cy="1980720"/>
            <a:chOff x="4390920" y="4378320"/>
            <a:chExt cx="2207880" cy="1980720"/>
          </a:xfrm>
        </p:grpSpPr>
        <p:sp>
          <p:nvSpPr>
            <p:cNvPr id="157" name=""/>
            <p:cNvSpPr/>
            <p:nvPr/>
          </p:nvSpPr>
          <p:spPr>
            <a:xfrm>
              <a:off x="4946400" y="4919400"/>
              <a:ext cx="1652400" cy="1439640"/>
            </a:xfrm>
            <a:prstGeom prst="rect">
              <a:avLst/>
            </a:prstGeom>
            <a:solidFill>
              <a:srgbClr val="4cc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946400" y="4919400"/>
              <a:ext cx="1652400" cy="14396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012640" y="4977000"/>
              <a:ext cx="1515600" cy="300960"/>
            </a:xfrm>
            <a:prstGeom prst="rect">
              <a:avLst/>
            </a:prstGeom>
            <a:solidFill>
              <a:srgbClr val="4c7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012640" y="4977000"/>
              <a:ext cx="1515600" cy="3009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35320" y="5030280"/>
              <a:ext cx="1143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ialogue Manager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390920" y="4378320"/>
              <a:ext cx="1378800" cy="541080"/>
            </a:xfrm>
            <a:custGeom>
              <a:avLst/>
              <a:gdLst/>
              <a:ahLst/>
              <a:rect l="l" t="t" r="r" b="b"/>
              <a:pathLst>
                <a:path w="958" h="376">
                  <a:moveTo>
                    <a:pt x="958" y="376"/>
                  </a:moveTo>
                  <a:lnTo>
                    <a:pt x="926" y="345"/>
                  </a:lnTo>
                  <a:lnTo>
                    <a:pt x="888" y="317"/>
                  </a:lnTo>
                  <a:lnTo>
                    <a:pt x="838" y="293"/>
                  </a:lnTo>
                  <a:lnTo>
                    <a:pt x="782" y="268"/>
                  </a:lnTo>
                  <a:lnTo>
                    <a:pt x="721" y="246"/>
                  </a:lnTo>
                  <a:lnTo>
                    <a:pt x="658" y="225"/>
                  </a:lnTo>
                  <a:lnTo>
                    <a:pt x="516" y="188"/>
                  </a:lnTo>
                  <a:lnTo>
                    <a:pt x="372" y="148"/>
                  </a:lnTo>
                  <a:lnTo>
                    <a:pt x="230" y="105"/>
                  </a:lnTo>
                  <a:lnTo>
                    <a:pt x="167" y="83"/>
                  </a:lnTo>
                  <a:lnTo>
                    <a:pt x="106" y="59"/>
                  </a:lnTo>
                  <a:lnTo>
                    <a:pt x="50" y="31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663160" y="4812840"/>
              <a:ext cx="106560" cy="106560"/>
            </a:xfrm>
            <a:custGeom>
              <a:avLst/>
              <a:gdLst/>
              <a:ahLst/>
              <a:rect l="l" t="t" r="r" b="b"/>
              <a:pathLst>
                <a:path w="74" h="74">
                  <a:moveTo>
                    <a:pt x="0" y="40"/>
                  </a:moveTo>
                  <a:lnTo>
                    <a:pt x="74" y="74"/>
                  </a:lnTo>
                  <a:lnTo>
                    <a:pt x="6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390920" y="4378320"/>
              <a:ext cx="122400" cy="97560"/>
            </a:xfrm>
            <a:custGeom>
              <a:avLst/>
              <a:gdLst/>
              <a:ahLst/>
              <a:rect l="l" t="t" r="r" b="b"/>
              <a:pathLst>
                <a:path w="85" h="68">
                  <a:moveTo>
                    <a:pt x="85" y="16"/>
                  </a:moveTo>
                  <a:lnTo>
                    <a:pt x="0" y="0"/>
                  </a:lnTo>
                  <a:lnTo>
                    <a:pt x="36" y="68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012640" y="5339880"/>
              <a:ext cx="965880" cy="177120"/>
            </a:xfrm>
            <a:prstGeom prst="rect">
              <a:avLst/>
            </a:prstGeom>
            <a:solidFill>
              <a:srgbClr val="4c7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012640" y="5339880"/>
              <a:ext cx="965880" cy="1771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280840" y="5344200"/>
              <a:ext cx="281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pen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424120" y="6057000"/>
              <a:ext cx="955440" cy="177120"/>
            </a:xfrm>
            <a:prstGeom prst="rect">
              <a:avLst/>
            </a:prstGeom>
            <a:solidFill>
              <a:srgbClr val="4c7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424120" y="6057000"/>
              <a:ext cx="955440" cy="1771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741640" y="60570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sk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149440" y="5578920"/>
              <a:ext cx="957240" cy="172440"/>
            </a:xfrm>
            <a:prstGeom prst="rect">
              <a:avLst/>
            </a:prstGeom>
            <a:solidFill>
              <a:srgbClr val="4c7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149440" y="5578920"/>
              <a:ext cx="957240" cy="1724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314320" y="5578920"/>
              <a:ext cx="427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Open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286240" y="5817960"/>
              <a:ext cx="957240" cy="172440"/>
            </a:xfrm>
            <a:prstGeom prst="rect">
              <a:avLst/>
            </a:prstGeom>
            <a:solidFill>
              <a:srgbClr val="4c7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286240" y="5817960"/>
              <a:ext cx="957240" cy="1724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465520" y="5817960"/>
              <a:ext cx="401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nfirm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5094360" y="4376880"/>
            <a:ext cx="3266640" cy="1993320"/>
            <a:chOff x="5094360" y="4376880"/>
            <a:chExt cx="3266640" cy="1993320"/>
          </a:xfrm>
        </p:grpSpPr>
        <p:grpSp>
          <p:nvGrpSpPr>
            <p:cNvPr id="178" name=""/>
            <p:cNvGrpSpPr/>
            <p:nvPr/>
          </p:nvGrpSpPr>
          <p:grpSpPr>
            <a:xfrm>
              <a:off x="5094360" y="4408560"/>
              <a:ext cx="3266640" cy="1961640"/>
              <a:chOff x="5094360" y="4408560"/>
              <a:chExt cx="3266640" cy="1961640"/>
            </a:xfrm>
          </p:grpSpPr>
          <p:sp>
            <p:nvSpPr>
              <p:cNvPr id="179" name=""/>
              <p:cNvSpPr/>
              <p:nvPr/>
            </p:nvSpPr>
            <p:spPr>
              <a:xfrm>
                <a:off x="6707160" y="4930920"/>
                <a:ext cx="1653840" cy="1439280"/>
              </a:xfrm>
              <a:prstGeom prst="rect">
                <a:avLst/>
              </a:prstGeom>
              <a:solidFill>
                <a:srgbClr val="4cc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727680" y="4997160"/>
                <a:ext cx="1583280" cy="300600"/>
              </a:xfrm>
              <a:prstGeom prst="rect">
                <a:avLst/>
              </a:prstGeom>
              <a:solidFill>
                <a:srgbClr val="4c7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800" rIns="82800" tIns="41400" bIns="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28720"/>
                    <a:tab algn="l" pos="1657440"/>
                    <a:tab algn="l" pos="2486160"/>
                    <a:tab algn="l" pos="3314880"/>
                    <a:tab algn="l" pos="4143240"/>
                    <a:tab algn="l" pos="4971960"/>
                    <a:tab algn="l" pos="5800680"/>
                    <a:tab algn="l" pos="6629400"/>
                    <a:tab algn="l" pos="7458120"/>
                    <a:tab algn="l" pos="8286840"/>
                    <a:tab algn="l" pos="9115560"/>
                    <a:tab algn="l" pos="9944280"/>
                    <a:tab algn="l" pos="10772640"/>
                  </a:tabLst>
                </a:pPr>
                <a:r>
                  <a:rPr b="0" lang="fi-FI" sz="1100" spc="-1" strike="noStrike">
                    <a:solidFill>
                      <a:srgbClr val="ffffff"/>
                    </a:solidFill>
                    <a:latin typeface="Arial"/>
                  </a:rPr>
                  <a:t>Presentation Manager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119360" y="5472000"/>
                <a:ext cx="966600" cy="176760"/>
              </a:xfrm>
              <a:prstGeom prst="rect">
                <a:avLst/>
              </a:prstGeom>
              <a:solidFill>
                <a:srgbClr val="4c7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800" rIns="82800" tIns="41400" bIns="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28720"/>
                    <a:tab algn="l" pos="1657440"/>
                    <a:tab algn="l" pos="2486160"/>
                    <a:tab algn="l" pos="3314880"/>
                    <a:tab algn="l" pos="4143240"/>
                    <a:tab algn="l" pos="4971960"/>
                    <a:tab algn="l" pos="5800680"/>
                    <a:tab algn="l" pos="6629400"/>
                    <a:tab algn="l" pos="7458120"/>
                    <a:tab algn="l" pos="8286840"/>
                    <a:tab algn="l" pos="9115560"/>
                    <a:tab algn="l" pos="9944280"/>
                    <a:tab algn="l" pos="10772640"/>
                  </a:tabLst>
                </a:pPr>
                <a:r>
                  <a:rPr b="0" lang="fi-FI" sz="1100" spc="-1" strike="noStrike">
                    <a:solidFill>
                      <a:srgbClr val="ffffff"/>
                    </a:solidFill>
                    <a:latin typeface="Arial"/>
                  </a:rPr>
                  <a:t>Presentation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338240" y="6059520"/>
                <a:ext cx="956160" cy="177120"/>
              </a:xfrm>
              <a:prstGeom prst="rect">
                <a:avLst/>
              </a:prstGeom>
              <a:solidFill>
                <a:srgbClr val="4c7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184160" y="5672160"/>
                <a:ext cx="957960" cy="172440"/>
              </a:xfrm>
              <a:prstGeom prst="rect">
                <a:avLst/>
              </a:prstGeom>
              <a:solidFill>
                <a:srgbClr val="4c7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250400" y="5866560"/>
                <a:ext cx="957600" cy="172440"/>
              </a:xfrm>
              <a:prstGeom prst="rect">
                <a:avLst/>
              </a:prstGeom>
              <a:solidFill>
                <a:srgbClr val="4c7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800" rIns="82800" tIns="41400" bIns="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28720"/>
                    <a:tab algn="l" pos="1657440"/>
                    <a:tab algn="l" pos="2486160"/>
                    <a:tab algn="l" pos="3314880"/>
                    <a:tab algn="l" pos="4143240"/>
                    <a:tab algn="l" pos="4971960"/>
                    <a:tab algn="l" pos="5800680"/>
                    <a:tab algn="l" pos="6629400"/>
                    <a:tab algn="l" pos="7458120"/>
                    <a:tab algn="l" pos="8286840"/>
                    <a:tab algn="l" pos="9115560"/>
                    <a:tab algn="l" pos="9944280"/>
                    <a:tab algn="l" pos="10772640"/>
                  </a:tabLst>
                </a:pPr>
                <a:r>
                  <a:rPr b="0" lang="fi-FI" sz="1100" spc="-1" strike="noStrike">
                    <a:solidFill>
                      <a:srgbClr val="ffffff"/>
                    </a:solidFill>
                    <a:latin typeface="Arial"/>
                  </a:rPr>
                  <a:t>Agents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094360" y="4408560"/>
                <a:ext cx="2418480" cy="522360"/>
              </a:xfrm>
              <a:custGeom>
                <a:avLst/>
                <a:gdLst/>
                <a:ahLst/>
                <a:rect l="l" t="t" r="r" b="b"/>
                <a:pathLst>
                  <a:path w="958" h="376">
                    <a:moveTo>
                      <a:pt x="958" y="376"/>
                    </a:moveTo>
                    <a:lnTo>
                      <a:pt x="926" y="345"/>
                    </a:lnTo>
                    <a:lnTo>
                      <a:pt x="888" y="317"/>
                    </a:lnTo>
                    <a:lnTo>
                      <a:pt x="838" y="293"/>
                    </a:lnTo>
                    <a:lnTo>
                      <a:pt x="782" y="268"/>
                    </a:lnTo>
                    <a:lnTo>
                      <a:pt x="721" y="246"/>
                    </a:lnTo>
                    <a:lnTo>
                      <a:pt x="658" y="225"/>
                    </a:lnTo>
                    <a:lnTo>
                      <a:pt x="516" y="188"/>
                    </a:lnTo>
                    <a:lnTo>
                      <a:pt x="372" y="148"/>
                    </a:lnTo>
                    <a:lnTo>
                      <a:pt x="230" y="105"/>
                    </a:lnTo>
                    <a:lnTo>
                      <a:pt x="167" y="83"/>
                    </a:lnTo>
                    <a:lnTo>
                      <a:pt x="106" y="59"/>
                    </a:lnTo>
                    <a:lnTo>
                      <a:pt x="50" y="31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404840" y="4824720"/>
                <a:ext cx="106200" cy="106200"/>
              </a:xfrm>
              <a:custGeom>
                <a:avLst/>
                <a:gdLst/>
                <a:ahLst/>
                <a:rect l="l" t="t" r="r" b="b"/>
                <a:pathLst>
                  <a:path w="74" h="74">
                    <a:moveTo>
                      <a:pt x="0" y="40"/>
                    </a:moveTo>
                    <a:lnTo>
                      <a:pt x="74" y="74"/>
                    </a:lnTo>
                    <a:lnTo>
                      <a:pt x="6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5103720" y="4376880"/>
              <a:ext cx="122400" cy="98280"/>
            </a:xfrm>
            <a:custGeom>
              <a:avLst/>
              <a:gdLst/>
              <a:ahLst/>
              <a:rect l="l" t="t" r="r" b="b"/>
              <a:pathLst>
                <a:path w="85" h="68">
                  <a:moveTo>
                    <a:pt x="85" y="16"/>
                  </a:moveTo>
                  <a:lnTo>
                    <a:pt x="0" y="0"/>
                  </a:lnTo>
                  <a:lnTo>
                    <a:pt x="36" y="68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ptation and Dialogue Model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3861-439C-426F-AEB1-0172B233523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05/2005</a:t>
            </a: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Dialogue Stat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95280" y="2565360"/>
            <a:ext cx="8280000" cy="4144680"/>
            <a:chOff x="395280" y="2565360"/>
            <a:chExt cx="8280000" cy="4144680"/>
          </a:xfrm>
        </p:grpSpPr>
        <p:grpSp>
          <p:nvGrpSpPr>
            <p:cNvPr id="190" name=""/>
            <p:cNvGrpSpPr/>
            <p:nvPr/>
          </p:nvGrpSpPr>
          <p:grpSpPr>
            <a:xfrm>
              <a:off x="406080" y="2565360"/>
              <a:ext cx="7844400" cy="579600"/>
              <a:chOff x="406080" y="2565360"/>
              <a:chExt cx="7844400" cy="579600"/>
            </a:xfrm>
          </p:grpSpPr>
          <p:grpSp>
            <p:nvGrpSpPr>
              <p:cNvPr id="191" name=""/>
              <p:cNvGrpSpPr/>
              <p:nvPr/>
            </p:nvGrpSpPr>
            <p:grpSpPr>
              <a:xfrm>
                <a:off x="1472040" y="2565360"/>
                <a:ext cx="6778440" cy="345240"/>
                <a:chOff x="1472040" y="2565360"/>
                <a:chExt cx="6778440" cy="34524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1472040" y="2565360"/>
                  <a:ext cx="1129680" cy="345240"/>
                </a:xfrm>
                <a:prstGeom prst="rect">
                  <a:avLst/>
                </a:prstGeom>
                <a:solidFill>
                  <a:srgbClr val="0099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800" spc="-1" strike="noStrike">
                      <a:solidFill>
                        <a:srgbClr val="ffffff"/>
                      </a:solidFill>
                      <a:latin typeface="Arial"/>
                    </a:rPr>
                    <a:t>Speaker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2601720" y="2565360"/>
                  <a:ext cx="1129680" cy="345240"/>
                </a:xfrm>
                <a:prstGeom prst="rect">
                  <a:avLst/>
                </a:prstGeom>
                <a:solidFill>
                  <a:srgbClr val="0099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800" spc="-1" strike="noStrike">
                      <a:solidFill>
                        <a:srgbClr val="ffffff"/>
                      </a:solidFill>
                      <a:latin typeface="Arial"/>
                    </a:rPr>
                    <a:t>DAct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3731400" y="2565360"/>
                  <a:ext cx="1129680" cy="345240"/>
                </a:xfrm>
                <a:prstGeom prst="rect">
                  <a:avLst/>
                </a:prstGeom>
                <a:solidFill>
                  <a:srgbClr val="0099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800" spc="-1" strike="noStrike">
                      <a:solidFill>
                        <a:srgbClr val="ffffff"/>
                      </a:solidFill>
                      <a:latin typeface="Arial"/>
                    </a:rPr>
                    <a:t>Topic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4861440" y="2565360"/>
                  <a:ext cx="1129680" cy="345240"/>
                </a:xfrm>
                <a:prstGeom prst="rect">
                  <a:avLst/>
                </a:prstGeom>
                <a:solidFill>
                  <a:srgbClr val="0099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800" spc="-1" strike="noStrike">
                      <a:solidFill>
                        <a:srgbClr val="ffffff"/>
                      </a:solidFill>
                      <a:latin typeface="Arial"/>
                    </a:rPr>
                    <a:t>NewInfo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5991120" y="2565360"/>
                  <a:ext cx="1129680" cy="345240"/>
                </a:xfrm>
                <a:prstGeom prst="rect">
                  <a:avLst/>
                </a:prstGeom>
                <a:solidFill>
                  <a:srgbClr val="0099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800" spc="-1" strike="noStrike">
                      <a:solidFill>
                        <a:srgbClr val="ffffff"/>
                      </a:solidFill>
                      <a:latin typeface="Arial"/>
                    </a:rPr>
                    <a:t>Goals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7120800" y="2565360"/>
                  <a:ext cx="1129680" cy="345240"/>
                </a:xfrm>
                <a:prstGeom prst="rect">
                  <a:avLst/>
                </a:prstGeom>
                <a:solidFill>
                  <a:srgbClr val="0099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800" spc="-1" strike="noStrike">
                      <a:solidFill>
                        <a:srgbClr val="ffffff"/>
                      </a:solidFill>
                      <a:latin typeface="Arial"/>
                    </a:rPr>
                    <a:t>Expect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8" name=""/>
              <p:cNvSpPr/>
              <p:nvPr/>
            </p:nvSpPr>
            <p:spPr>
              <a:xfrm>
                <a:off x="406080" y="2565360"/>
                <a:ext cx="9900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i-FI" sz="1800" spc="-1" strike="noStrike">
                    <a:solidFill>
                      <a:srgbClr val="ffffff"/>
                    </a:solidFill>
                    <a:latin typeface="Arial"/>
                  </a:rPr>
                  <a:t>DS </a:t>
                </a:r>
                <a:r>
                  <a:rPr b="0" lang="fi-FI" sz="2800" spc="-1" strike="noStrike" baseline="-25000">
                    <a:solidFill>
                      <a:srgbClr val="ffffff"/>
                    </a:solidFill>
                    <a:latin typeface="Arial"/>
                  </a:rPr>
                  <a:t>n-1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395280" y="4526280"/>
              <a:ext cx="7704360" cy="579600"/>
              <a:chOff x="395280" y="4526280"/>
              <a:chExt cx="7704360" cy="579600"/>
            </a:xfrm>
          </p:grpSpPr>
          <p:grpSp>
            <p:nvGrpSpPr>
              <p:cNvPr id="200" name=""/>
              <p:cNvGrpSpPr/>
              <p:nvPr/>
            </p:nvGrpSpPr>
            <p:grpSpPr>
              <a:xfrm>
                <a:off x="1442160" y="4526280"/>
                <a:ext cx="6657480" cy="364320"/>
                <a:chOff x="1442160" y="4526280"/>
                <a:chExt cx="6657480" cy="36432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1442160" y="4526280"/>
                  <a:ext cx="1109520" cy="364320"/>
                </a:xfrm>
                <a:prstGeom prst="rect">
                  <a:avLst/>
                </a:prstGeom>
                <a:solidFill>
                  <a:srgbClr val="0099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800" spc="-1" strike="noStrike">
                      <a:solidFill>
                        <a:srgbClr val="ffffff"/>
                      </a:solidFill>
                      <a:latin typeface="Arial"/>
                    </a:rPr>
                    <a:t>Speaker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2551680" y="4526280"/>
                  <a:ext cx="1109520" cy="364320"/>
                </a:xfrm>
                <a:prstGeom prst="rect">
                  <a:avLst/>
                </a:prstGeom>
                <a:solidFill>
                  <a:srgbClr val="0099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800" spc="-1" strike="noStrike">
                      <a:solidFill>
                        <a:srgbClr val="ffffff"/>
                      </a:solidFill>
                      <a:latin typeface="Arial"/>
                    </a:rPr>
                    <a:t>DAct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661200" y="4526280"/>
                  <a:ext cx="1109520" cy="364320"/>
                </a:xfrm>
                <a:prstGeom prst="rect">
                  <a:avLst/>
                </a:prstGeom>
                <a:solidFill>
                  <a:srgbClr val="0099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800" spc="-1" strike="noStrike">
                      <a:solidFill>
                        <a:srgbClr val="ffffff"/>
                      </a:solidFill>
                      <a:latin typeface="Arial"/>
                    </a:rPr>
                    <a:t>Topic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4771080" y="4526280"/>
                  <a:ext cx="1109520" cy="364320"/>
                </a:xfrm>
                <a:prstGeom prst="rect">
                  <a:avLst/>
                </a:prstGeom>
                <a:solidFill>
                  <a:srgbClr val="0099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800" spc="-1" strike="noStrike">
                      <a:solidFill>
                        <a:srgbClr val="ffffff"/>
                      </a:solidFill>
                      <a:latin typeface="Arial"/>
                    </a:rPr>
                    <a:t>NewInfo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5880600" y="4526280"/>
                  <a:ext cx="1109520" cy="364320"/>
                </a:xfrm>
                <a:prstGeom prst="rect">
                  <a:avLst/>
                </a:prstGeom>
                <a:solidFill>
                  <a:srgbClr val="0099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800" spc="-1" strike="noStrike">
                      <a:solidFill>
                        <a:srgbClr val="ffffff"/>
                      </a:solidFill>
                      <a:latin typeface="Arial"/>
                    </a:rPr>
                    <a:t>Goals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6990120" y="4526280"/>
                  <a:ext cx="1109520" cy="364320"/>
                </a:xfrm>
                <a:prstGeom prst="rect">
                  <a:avLst/>
                </a:prstGeom>
                <a:solidFill>
                  <a:srgbClr val="0099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800" spc="-1" strike="noStrike">
                      <a:solidFill>
                        <a:srgbClr val="ffffff"/>
                      </a:solidFill>
                      <a:latin typeface="Arial"/>
                    </a:rPr>
                    <a:t>Expect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7" name=""/>
              <p:cNvSpPr/>
              <p:nvPr/>
            </p:nvSpPr>
            <p:spPr>
              <a:xfrm>
                <a:off x="395280" y="4526280"/>
                <a:ext cx="6732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i-FI" sz="1800" spc="-1" strike="noStrike">
                    <a:solidFill>
                      <a:srgbClr val="ffffff"/>
                    </a:solidFill>
                    <a:latin typeface="Arial"/>
                  </a:rPr>
                  <a:t>DS</a:t>
                </a:r>
                <a:r>
                  <a:rPr b="0" lang="fi-FI" sz="2800" spc="-1" strike="noStrike" baseline="-25000">
                    <a:solidFill>
                      <a:srgbClr val="ffffff"/>
                    </a:solidFill>
                    <a:latin typeface="Arial"/>
                  </a:rPr>
                  <a:t>n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395280" y="6130440"/>
              <a:ext cx="7704360" cy="579600"/>
              <a:chOff x="395280" y="6130440"/>
              <a:chExt cx="7704360" cy="579600"/>
            </a:xfrm>
          </p:grpSpPr>
          <p:sp>
            <p:nvSpPr>
              <p:cNvPr id="209" name=""/>
              <p:cNvSpPr/>
              <p:nvPr/>
            </p:nvSpPr>
            <p:spPr>
              <a:xfrm>
                <a:off x="395280" y="6130440"/>
                <a:ext cx="1046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i-FI" sz="1800" spc="-1" strike="noStrike">
                    <a:solidFill>
                      <a:srgbClr val="ffffff"/>
                    </a:solidFill>
                    <a:latin typeface="Arial"/>
                  </a:rPr>
                  <a:t>DS </a:t>
                </a:r>
                <a:r>
                  <a:rPr b="0" lang="fi-FI" sz="2800" spc="-1" strike="noStrike" baseline="-25000">
                    <a:solidFill>
                      <a:srgbClr val="ffffff"/>
                    </a:solidFill>
                    <a:latin typeface="Arial"/>
                  </a:rPr>
                  <a:t>n+1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1442160" y="6130440"/>
                <a:ext cx="6657480" cy="364680"/>
                <a:chOff x="1442160" y="6130440"/>
                <a:chExt cx="6657480" cy="36468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1442160" y="6130440"/>
                  <a:ext cx="1109520" cy="364680"/>
                </a:xfrm>
                <a:prstGeom prst="rect">
                  <a:avLst/>
                </a:prstGeom>
                <a:solidFill>
                  <a:srgbClr val="0099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800" spc="-1" strike="noStrike">
                      <a:solidFill>
                        <a:srgbClr val="ffffff"/>
                      </a:solidFill>
                      <a:latin typeface="Arial"/>
                    </a:rPr>
                    <a:t>Speaker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2551680" y="6130440"/>
                  <a:ext cx="1109520" cy="364680"/>
                </a:xfrm>
                <a:prstGeom prst="rect">
                  <a:avLst/>
                </a:prstGeom>
                <a:solidFill>
                  <a:srgbClr val="0099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800" spc="-1" strike="noStrike">
                      <a:solidFill>
                        <a:srgbClr val="ffffff"/>
                      </a:solidFill>
                      <a:latin typeface="Arial"/>
                    </a:rPr>
                    <a:t>DAct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3661200" y="6130440"/>
                  <a:ext cx="1109520" cy="364680"/>
                </a:xfrm>
                <a:prstGeom prst="rect">
                  <a:avLst/>
                </a:prstGeom>
                <a:solidFill>
                  <a:srgbClr val="0099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800" spc="-1" strike="noStrike">
                      <a:solidFill>
                        <a:srgbClr val="ffffff"/>
                      </a:solidFill>
                      <a:latin typeface="Arial"/>
                    </a:rPr>
                    <a:t>Topic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71080" y="6130440"/>
                  <a:ext cx="1109520" cy="364680"/>
                </a:xfrm>
                <a:prstGeom prst="rect">
                  <a:avLst/>
                </a:prstGeom>
                <a:solidFill>
                  <a:srgbClr val="0099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800" spc="-1" strike="noStrike">
                      <a:solidFill>
                        <a:srgbClr val="ffffff"/>
                      </a:solidFill>
                      <a:latin typeface="Arial"/>
                    </a:rPr>
                    <a:t>NewInfo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5880600" y="6130440"/>
                  <a:ext cx="1109520" cy="364680"/>
                </a:xfrm>
                <a:prstGeom prst="rect">
                  <a:avLst/>
                </a:prstGeom>
                <a:solidFill>
                  <a:srgbClr val="0099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800" spc="-1" strike="noStrike">
                      <a:solidFill>
                        <a:srgbClr val="ffffff"/>
                      </a:solidFill>
                      <a:latin typeface="Arial"/>
                    </a:rPr>
                    <a:t>Goals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990120" y="6130440"/>
                  <a:ext cx="1109520" cy="364680"/>
                </a:xfrm>
                <a:prstGeom prst="rect">
                  <a:avLst/>
                </a:prstGeom>
                <a:solidFill>
                  <a:srgbClr val="0099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800" spc="-1" strike="noStrike">
                      <a:solidFill>
                        <a:srgbClr val="ffffff"/>
                      </a:solidFill>
                      <a:latin typeface="Arial"/>
                    </a:rPr>
                    <a:t>Expect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7" name=""/>
            <p:cNvSpPr/>
            <p:nvPr/>
          </p:nvSpPr>
          <p:spPr>
            <a:xfrm>
              <a:off x="7473960" y="4907520"/>
              <a:ext cx="1131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ffffff"/>
                  </a:solidFill>
                  <a:latin typeface="Arial"/>
                </a:rPr>
                <a:t>Decision of the next utteranc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2327760" y="3141000"/>
              <a:ext cx="1046880" cy="1311840"/>
              <a:chOff x="2327760" y="3141000"/>
              <a:chExt cx="1046880" cy="1311840"/>
            </a:xfrm>
          </p:grpSpPr>
          <p:sp>
            <p:nvSpPr>
              <p:cNvPr id="219" name=""/>
              <p:cNvSpPr/>
              <p:nvPr/>
            </p:nvSpPr>
            <p:spPr>
              <a:xfrm>
                <a:off x="2327760" y="3141000"/>
                <a:ext cx="1046880" cy="947520"/>
              </a:xfrm>
              <a:prstGeom prst="ellipse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i-FI" sz="1800" spc="-1" strike="noStrike">
                    <a:solidFill>
                      <a:srgbClr val="ffffff"/>
                    </a:solidFill>
                    <a:latin typeface="Arial"/>
                  </a:rPr>
                  <a:t>DA</a:t>
                </a:r>
                <a:r>
                  <a:rPr b="0" lang="fi-FI" sz="2400" spc="-1" strike="noStrike" baseline="-25000">
                    <a:solidFill>
                      <a:srgbClr val="ffffff"/>
                    </a:solidFill>
                    <a:latin typeface="Arial"/>
                  </a:rPr>
                  <a:t>1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776320" y="4088520"/>
                <a:ext cx="149400" cy="364320"/>
              </a:xfrm>
              <a:prstGeom prst="downArrow">
                <a:avLst>
                  <a:gd name="adj1" fmla="val 50000"/>
                  <a:gd name="adj2" fmla="val 60964"/>
                </a:avLst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475920" y="3046680"/>
              <a:ext cx="1564560" cy="1514520"/>
              <a:chOff x="475920" y="3046680"/>
              <a:chExt cx="1564560" cy="1514520"/>
            </a:xfrm>
          </p:grpSpPr>
          <p:sp>
            <p:nvSpPr>
              <p:cNvPr id="222" name=""/>
              <p:cNvSpPr/>
              <p:nvPr/>
            </p:nvSpPr>
            <p:spPr>
              <a:xfrm>
                <a:off x="736560" y="3046680"/>
                <a:ext cx="695160" cy="1221480"/>
              </a:xfrm>
              <a:custGeom>
                <a:avLst/>
                <a:gdLst>
                  <a:gd name="textAreaLeft" fmla="*/ 92880 w 695160"/>
                  <a:gd name="textAreaRight" fmla="*/ 602280 w 695160"/>
                  <a:gd name="textAreaTop" fmla="*/ 213480 h 1221480"/>
                  <a:gd name="textAreaBottom" fmla="*/ 885600 h 1221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75920" y="3444480"/>
                <a:ext cx="1564560" cy="111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 baseline="-25000">
                    <a:solidFill>
                      <a:srgbClr val="ffffff"/>
                    </a:solidFill>
                    <a:latin typeface="Arial"/>
                  </a:rPr>
                  <a:t>Input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 baseline="-25000">
                    <a:solidFill>
                      <a:srgbClr val="ffffff"/>
                    </a:solidFill>
                    <a:latin typeface="Arial"/>
                  </a:rPr>
                  <a:t>Agent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535320" y="4907520"/>
              <a:ext cx="1495800" cy="1385280"/>
              <a:chOff x="535320" y="4907520"/>
              <a:chExt cx="1495800" cy="1385280"/>
            </a:xfrm>
          </p:grpSpPr>
          <p:sp>
            <p:nvSpPr>
              <p:cNvPr id="225" name=""/>
              <p:cNvSpPr/>
              <p:nvPr/>
            </p:nvSpPr>
            <p:spPr>
              <a:xfrm>
                <a:off x="759600" y="4907520"/>
                <a:ext cx="597960" cy="1385280"/>
              </a:xfrm>
              <a:custGeom>
                <a:avLst/>
                <a:gdLst>
                  <a:gd name="textAreaLeft" fmla="*/ 79920 w 597960"/>
                  <a:gd name="textAreaRight" fmla="*/ 518040 w 597960"/>
                  <a:gd name="textAreaTop" fmla="*/ 242280 h 1385280"/>
                  <a:gd name="textAreaBottom" fmla="*/ 1004400 h 138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35320" y="5360040"/>
                <a:ext cx="1495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i-FI" sz="1800" spc="-1" strike="noStrike">
                    <a:solidFill>
                      <a:srgbClr val="ffffff"/>
                    </a:solidFill>
                    <a:latin typeface="Arial"/>
                  </a:rPr>
                  <a:t>Dialogue Agent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5781240" y="2995200"/>
              <a:ext cx="1645200" cy="1530720"/>
              <a:chOff x="5781240" y="2995200"/>
              <a:chExt cx="1645200" cy="1530720"/>
            </a:xfrm>
          </p:grpSpPr>
          <p:grpSp>
            <p:nvGrpSpPr>
              <p:cNvPr id="228" name=""/>
              <p:cNvGrpSpPr/>
              <p:nvPr/>
            </p:nvGrpSpPr>
            <p:grpSpPr>
              <a:xfrm>
                <a:off x="5781240" y="3213720"/>
                <a:ext cx="1645200" cy="1093320"/>
                <a:chOff x="5781240" y="3213720"/>
                <a:chExt cx="1645200" cy="10933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6229800" y="3578040"/>
                  <a:ext cx="747720" cy="729000"/>
                </a:xfrm>
                <a:prstGeom prst="ellipse">
                  <a:avLst/>
                </a:prstGeom>
                <a:solidFill>
                  <a:srgbClr val="0099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800" spc="-1" strike="noStrike">
                      <a:solidFill>
                        <a:srgbClr val="ffffff"/>
                      </a:solidFill>
                      <a:latin typeface="Arial"/>
                    </a:rPr>
                    <a:t>TA</a:t>
                  </a:r>
                  <a:r>
                    <a:rPr b="0" lang="fi-FI" sz="2400" spc="-1" strike="noStrike" baseline="-25000">
                      <a:solidFill>
                        <a:srgbClr val="ffffff"/>
                      </a:solidFill>
                      <a:latin typeface="Arial"/>
                    </a:rPr>
                    <a:t>n2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781240" y="3286440"/>
                  <a:ext cx="672840" cy="655920"/>
                </a:xfrm>
                <a:prstGeom prst="ellipse">
                  <a:avLst/>
                </a:prstGeom>
                <a:solidFill>
                  <a:srgbClr val="0099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800" spc="-1" strike="noStrike">
                      <a:solidFill>
                        <a:srgbClr val="ffffff"/>
                      </a:solidFill>
                      <a:latin typeface="Arial"/>
                    </a:rPr>
                    <a:t>TA</a:t>
                  </a:r>
                  <a:r>
                    <a:rPr b="0" lang="fi-FI" sz="2400" spc="-1" strike="noStrike" baseline="-25000">
                      <a:solidFill>
                        <a:srgbClr val="ffffff"/>
                      </a:solidFill>
                      <a:latin typeface="Arial"/>
                    </a:rPr>
                    <a:t>n1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678720" y="3213720"/>
                  <a:ext cx="747720" cy="729000"/>
                </a:xfrm>
                <a:prstGeom prst="ellipse">
                  <a:avLst/>
                </a:prstGeom>
                <a:solidFill>
                  <a:srgbClr val="0099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800" spc="-1" strike="noStrike">
                      <a:solidFill>
                        <a:srgbClr val="ffffff"/>
                      </a:solidFill>
                      <a:latin typeface="Arial"/>
                    </a:rPr>
                    <a:t>TA</a:t>
                  </a:r>
                  <a:r>
                    <a:rPr b="0" lang="fi-FI" sz="2400" spc="-1" strike="noStrike" baseline="-25000">
                      <a:solidFill>
                        <a:srgbClr val="ffffff"/>
                      </a:solidFill>
                      <a:latin typeface="Arial"/>
                    </a:rPr>
                    <a:t>n3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" name=""/>
              <p:cNvSpPr/>
              <p:nvPr/>
            </p:nvSpPr>
            <p:spPr>
              <a:xfrm>
                <a:off x="5931000" y="3067920"/>
                <a:ext cx="149400" cy="218520"/>
              </a:xfrm>
              <a:prstGeom prst="downArrow">
                <a:avLst>
                  <a:gd name="adj1" fmla="val 50000"/>
                  <a:gd name="adj2" fmla="val 36566"/>
                </a:avLst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54080" y="3067920"/>
                <a:ext cx="149760" cy="510480"/>
              </a:xfrm>
              <a:prstGeom prst="downArrow">
                <a:avLst>
                  <a:gd name="adj1" fmla="val 50000"/>
                  <a:gd name="adj2" fmla="val 85216"/>
                </a:avLst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052760" y="2995200"/>
                <a:ext cx="149400" cy="218520"/>
              </a:xfrm>
              <a:prstGeom prst="downArrow">
                <a:avLst>
                  <a:gd name="adj1" fmla="val 50000"/>
                  <a:gd name="adj2" fmla="val 36566"/>
                </a:avLst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528960" y="4307400"/>
                <a:ext cx="149400" cy="218520"/>
              </a:xfrm>
              <a:prstGeom prst="downArrow">
                <a:avLst>
                  <a:gd name="adj1" fmla="val 50000"/>
                  <a:gd name="adj2" fmla="val 36566"/>
                </a:avLst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3611880" y="3213720"/>
              <a:ext cx="822600" cy="1311840"/>
              <a:chOff x="3611880" y="3213720"/>
              <a:chExt cx="822600" cy="1311840"/>
            </a:xfrm>
          </p:grpSpPr>
          <p:sp>
            <p:nvSpPr>
              <p:cNvPr id="237" name=""/>
              <p:cNvSpPr/>
              <p:nvPr/>
            </p:nvSpPr>
            <p:spPr>
              <a:xfrm>
                <a:off x="3611880" y="3213720"/>
                <a:ext cx="822600" cy="729000"/>
              </a:xfrm>
              <a:prstGeom prst="ellipse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i-FI" sz="1800" spc="-1" strike="noStrike">
                    <a:solidFill>
                      <a:srgbClr val="ffffff"/>
                    </a:solidFill>
                    <a:latin typeface="Arial"/>
                  </a:rPr>
                  <a:t>TOP</a:t>
                </a:r>
                <a:r>
                  <a:rPr b="0" lang="fi-FI" sz="2400" spc="-1" strike="noStrike" baseline="-25000">
                    <a:solidFill>
                      <a:srgbClr val="ffffff"/>
                    </a:solidFill>
                    <a:latin typeface="Arial"/>
                  </a:rPr>
                  <a:t>2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060440" y="3942720"/>
                <a:ext cx="149400" cy="582840"/>
              </a:xfrm>
              <a:prstGeom prst="downArrow">
                <a:avLst>
                  <a:gd name="adj1" fmla="val 50000"/>
                  <a:gd name="adj2" fmla="val 97530"/>
                </a:avLst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4584240" y="3286800"/>
              <a:ext cx="822960" cy="1238760"/>
              <a:chOff x="4584240" y="3286800"/>
              <a:chExt cx="822960" cy="1238760"/>
            </a:xfrm>
          </p:grpSpPr>
          <p:sp>
            <p:nvSpPr>
              <p:cNvPr id="240" name=""/>
              <p:cNvSpPr/>
              <p:nvPr/>
            </p:nvSpPr>
            <p:spPr>
              <a:xfrm>
                <a:off x="4584240" y="3286800"/>
                <a:ext cx="822960" cy="801720"/>
              </a:xfrm>
              <a:prstGeom prst="ellipse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i-FI" sz="1800" spc="-1" strike="noStrike">
                    <a:solidFill>
                      <a:srgbClr val="ffffff"/>
                    </a:solidFill>
                    <a:latin typeface="Arial"/>
                  </a:rPr>
                  <a:t>TOP</a:t>
                </a:r>
                <a:r>
                  <a:rPr b="0" lang="fi-FI" sz="2400" spc="-1" strike="noStrike" baseline="-25000">
                    <a:solidFill>
                      <a:srgbClr val="ffffff"/>
                    </a:solidFill>
                    <a:latin typeface="Arial"/>
                  </a:rPr>
                  <a:t>3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957920" y="4088520"/>
                <a:ext cx="149400" cy="437040"/>
              </a:xfrm>
              <a:prstGeom prst="downArrow">
                <a:avLst>
                  <a:gd name="adj1" fmla="val 50000"/>
                  <a:gd name="adj2" fmla="val 73133"/>
                </a:avLst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2597400" y="5114160"/>
              <a:ext cx="897480" cy="80172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ffffff"/>
                  </a:solidFill>
                  <a:latin typeface="Arial"/>
                </a:rPr>
                <a:t>DA</a:t>
              </a:r>
              <a:r>
                <a:rPr b="0" lang="fi-FI" sz="2400" spc="-1" strike="noStrike" baseline="-25000">
                  <a:solidFill>
                    <a:srgbClr val="ffffff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576320" y="5045760"/>
              <a:ext cx="822960" cy="7902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ffffff"/>
                  </a:solidFill>
                  <a:latin typeface="Arial"/>
                </a:rPr>
                <a:t>TOP</a:t>
              </a:r>
              <a:r>
                <a:rPr b="0" lang="fi-FI" sz="2400" spc="-1" strike="noStrike" baseline="-25000">
                  <a:solidFill>
                    <a:srgbClr val="ffffff"/>
                  </a:solidFill>
                  <a:latin typeface="Arial"/>
                </a:rPr>
                <a:t>2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305040" y="5114160"/>
              <a:ext cx="822600" cy="7974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ffffff"/>
                  </a:solidFill>
                  <a:latin typeface="Arial"/>
                </a:rPr>
                <a:t>TA</a:t>
              </a:r>
              <a:r>
                <a:rPr b="0" lang="fi-FI" sz="2400" spc="-1" strike="noStrike" baseline="-25000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45600" y="3185280"/>
              <a:ext cx="11296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ffffff"/>
                  </a:solidFill>
                  <a:latin typeface="Arial"/>
                </a:rPr>
                <a:t>Analysis of the current utteranc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684360" y="1484280"/>
            <a:ext cx="770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ialogue is modeled as a series of dialogue sta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ach move provides new information to the heare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bout the topic in the context =&gt; Information Structur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e5ffff"/>
                </a:solidFill>
                <a:latin typeface="Tahoma"/>
              </a:rPr>
              <a:t>DUMAS – </a:t>
            </a: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Adaptation </a:t>
            </a:r>
            <a:br>
              <a:rPr sz="4400"/>
            </a:b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in the User Mode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218440" cy="44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1920" indent="-5119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c00"/>
                </a:solidFill>
                <a:latin typeface="Tahoma"/>
              </a:rPr>
              <a:t>D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ynamic </a:t>
            </a:r>
            <a:r>
              <a:rPr b="1" lang="en-GB" sz="2800" spc="-1" strike="noStrike">
                <a:solidFill>
                  <a:srgbClr val="ffcc00"/>
                </a:solidFill>
                <a:latin typeface="Tahoma"/>
              </a:rPr>
              <a:t>U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niversal </a:t>
            </a:r>
            <a:r>
              <a:rPr b="1" lang="en-GB" sz="2800" spc="-1" strike="noStrike">
                <a:solidFill>
                  <a:srgbClr val="ffcc00"/>
                </a:solidFill>
                <a:latin typeface="Tahoma"/>
              </a:rPr>
              <a:t>M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obility for </a:t>
            </a:r>
            <a:r>
              <a:rPr b="1" lang="en-GB" sz="2800" spc="-1" strike="noStrike">
                <a:solidFill>
                  <a:srgbClr val="ffcc00"/>
                </a:solidFill>
                <a:latin typeface="Tahoma"/>
              </a:rPr>
              <a:t>A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daptive </a:t>
            </a:r>
            <a:r>
              <a:rPr b="1" lang="en-GB" sz="2800" spc="-1" strike="noStrike">
                <a:solidFill>
                  <a:srgbClr val="ffcc00"/>
                </a:solidFill>
                <a:latin typeface="Tahoma"/>
              </a:rPr>
              <a:t>S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peech Interfa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77680" indent="-438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uropean 5th Framework IST-proje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77680" indent="-438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thosMai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243440" indent="-3654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Speech-based email-applic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243440" indent="-3654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Finnish, English, Swedis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77680" indent="-438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cc00"/>
                </a:solidFill>
                <a:latin typeface="Tahoma"/>
              </a:rPr>
              <a:t>The busy mobile user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77680" indent="-438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cc00"/>
                </a:solidFill>
                <a:latin typeface="Tahoma"/>
              </a:rPr>
              <a:t>The visually impaired user -&gt; Accessibil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77680" indent="-438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xplore adaptivity and machine-learning techniqu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77680" indent="-438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http://</a:t>
            </a:r>
            <a:r>
              <a:rPr b="0" lang="fi-FI" sz="24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www.sics.se</a:t>
            </a:r>
            <a:r>
              <a:rPr b="0" lang="fi-FI" sz="24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/</a:t>
            </a:r>
            <a:r>
              <a:rPr b="0" lang="fi-FI" sz="24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dumas</a:t>
            </a:r>
            <a:r>
              <a:rPr b="0" lang="fi-FI" sz="2400" spc="-1" strike="noStrike" u="sng">
                <a:solidFill>
                  <a:srgbClr val="00ccff"/>
                </a:solidFill>
                <a:uFillTx/>
                <a:latin typeface="Tahoma"/>
                <a:hlinkClick r:id="rId6"/>
              </a:rPr>
              <a:t>/</a:t>
            </a:r>
            <a:r>
              <a:rPr b="0" lang="fi-FI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7"/>
          <a:stretch/>
        </p:blipFill>
        <p:spPr>
          <a:xfrm>
            <a:off x="7740720" y="189000"/>
            <a:ext cx="1224000" cy="1136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ptation and Dialogue Model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EBBF-3AEE-4FB5-98AE-DE8B3882BA8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05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e5ffff"/>
                </a:solidFill>
                <a:latin typeface="Tahoma"/>
              </a:rPr>
              <a:t>AthosMail Architectur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0" y="2116080"/>
            <a:ext cx="9090000" cy="3576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7667640" y="260280"/>
            <a:ext cx="1224000" cy="113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ptation and Dialogue Model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60F5-F753-4F76-ACEC-BD663D94AED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05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9T04:34:58Z</dcterms:created>
  <dc:creator>Kristiina Jokinen</dc:creator>
  <dc:description/>
  <dc:language>en-US</dc:language>
  <cp:lastModifiedBy>Käännöstieteen laitos</cp:lastModifiedBy>
  <cp:lastPrinted>1999-10-11T09:17:46Z</cp:lastPrinted>
  <dcterms:modified xsi:type="dcterms:W3CDTF">2005-05-10T09:59:00Z</dcterms:modified>
  <cp:revision>827</cp:revision>
  <dc:subject/>
  <dc:title>Keskustelevat dialogijarjestelmat</dc:title>
</cp:coreProperties>
</file>