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F0E-4AA4-4658-8988-25246E08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64C-175D-43D1-9C68-306F0FAD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441-6F75-4141-9267-8B83A9AC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53E-499A-454C-AB33-23EF257E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C60-B592-4FCE-85EB-02EAFDB0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858-BF0D-481E-A022-E04C0CF9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BBF-A4B0-44C3-8348-67B75968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B38-4211-4176-A796-76AFCD54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7AA-A69A-45DA-851D-2FE66597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65A-BF52-4427-B189-5DBECC2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FFE-2529-4127-AFE0-D146D1D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86C-EB20-4A11-AF82-C9D8CBAE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3BF6-DD75-4655-924A-D1582D4D2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emantic Learning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hele Pa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2160" y="1219320"/>
            <a:ext cx="732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he eLearning evolution reflects these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adig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nformation-Transfer vs.  Knowledge-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380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Learning:  e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200400"/>
            <a:ext cx="2666880" cy="1143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495680"/>
            <a:ext cx="3657600" cy="2057400"/>
          </a:xfrm>
          <a:prstGeom prst="rect">
            <a:avLst/>
          </a:prstGeom>
          <a:solidFill>
            <a:srgbClr val="99cc00">
              <a:alpha val="23000"/>
            </a:srgbClr>
          </a:solidFill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 Based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eplication of the rol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utor in content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rietary and speci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-bas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2160" y="1219320"/>
            <a:ext cx="732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he eLearning evolution reflects these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adig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Information-Transfer vs.  Knowledge-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80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Learning:  e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200400"/>
            <a:ext cx="2666880" cy="1143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2666880" cy="1143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429000"/>
            <a:ext cx="53352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572000"/>
            <a:ext cx="4038480" cy="2057400"/>
          </a:xfrm>
          <a:prstGeom prst="rect">
            <a:avLst/>
          </a:prstGeom>
          <a:solidFill>
            <a:srgbClr val="99cc00">
              <a:alpha val="23000"/>
            </a:srgbClr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lligent Tutoring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 delivered in real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ailored to the single us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sequencing control detach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instructional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based distribut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495680"/>
            <a:ext cx="3657600" cy="2057400"/>
          </a:xfrm>
          <a:prstGeom prst="rect">
            <a:avLst/>
          </a:prstGeom>
          <a:solidFill>
            <a:srgbClr val="99cc00">
              <a:alpha val="23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 Based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eplication of the rol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tutor in content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rietary and speci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-base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1066680"/>
            <a:ext cx="7191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semantic web do in the eLearning field right now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 metadata structures for learning objects,  like IEEE LOM, ARIADNE, I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are focuse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urse production gen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hallow mapping of the do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refore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description of the semantic content of the resour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of the relations between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400" y="304920"/>
            <a:ext cx="70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Learning: Semantic Learning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257800"/>
            <a:ext cx="182880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4724280"/>
            <a:ext cx="2743200" cy="1905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ype of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erms of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428280" y="5486400"/>
            <a:ext cx="762120" cy="457200"/>
          </a:xfrm>
          <a:prstGeom prst="rightArrow">
            <a:avLst>
              <a:gd name="adj1" fmla="val 18759"/>
              <a:gd name="adj2" fmla="val 3368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219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really create a real narrative for learning purposes using these metadat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400" y="304920"/>
            <a:ext cx="70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Learning: Semantic Learning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200400"/>
            <a:ext cx="2438280" cy="33526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3352680"/>
            <a:ext cx="1981080" cy="533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Hume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heory&gt;critique of in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441972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Baco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approach&gt;scientific meth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5486400"/>
            <a:ext cx="1981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Popper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concept&gt;falsifi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3962520"/>
            <a:ext cx="304560" cy="304560"/>
          </a:xfrm>
          <a:prstGeom prst="plus">
            <a:avLst>
              <a:gd name="adj" fmla="val 43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5029200"/>
            <a:ext cx="304560" cy="304920"/>
          </a:xfrm>
          <a:prstGeom prst="plus">
            <a:avLst>
              <a:gd name="adj" fmla="val 43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6172200"/>
            <a:ext cx="457200" cy="304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21932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really create a real narrative for learning purposes using these metadat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use of more powerful KR languages (e.g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tolo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express the salient features of a domain, and the 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relations that link its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400" y="304920"/>
            <a:ext cx="70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Learning: Semantic Learning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14600" y="3943440"/>
            <a:ext cx="3733920" cy="279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143000"/>
            <a:ext cx="7772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the semantic web treat a learning resour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the abstract dimensions whose semantics c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sibly and flexibly represent a resour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04920"/>
            <a:ext cx="86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A Learning Resource at the Abstract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952880"/>
            <a:ext cx="8077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logies are particularly suited to pursue the representation         of these dimens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ernal rules enhance the automated reasoning, and support the detachment of the domain knowledge from the application lo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124080"/>
            <a:ext cx="190512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819520"/>
            <a:ext cx="16002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962520"/>
            <a:ext cx="16002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2819520"/>
            <a:ext cx="16002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962520"/>
            <a:ext cx="16002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870280"/>
            <a:ext cx="838080" cy="33012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29200" y="2895480"/>
            <a:ext cx="838080" cy="30492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029200" y="4114080"/>
            <a:ext cx="838080" cy="30492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819520" y="4191120"/>
            <a:ext cx="914400" cy="30456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3657600"/>
            <a:ext cx="719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ystems provide support (also through ontologies) for different sides of the learning proce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t is difficult to find an application that takes care of all these dimensions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. StoryFountain, Topia, Hartmann-200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304920"/>
            <a:ext cx="63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Building on Existing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1905120"/>
            <a:ext cx="190512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600200"/>
            <a:ext cx="16002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743200"/>
            <a:ext cx="16002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600200"/>
            <a:ext cx="16002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2743200"/>
            <a:ext cx="16002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650960"/>
            <a:ext cx="838080" cy="33012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0760" y="1676520"/>
            <a:ext cx="838440" cy="30456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180760" y="2894760"/>
            <a:ext cx="838440" cy="30492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971800" y="2971080"/>
            <a:ext cx="914400" cy="30492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83200" y="304920"/>
            <a:ext cx="63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Building on Existing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14400" y="3657600"/>
          <a:ext cx="7010280" cy="3000240"/>
        </p:xfrm>
        <a:graphic>
          <a:graphicData uri="http://schemas.openxmlformats.org/drawingml/2006/table">
            <a:tbl>
              <a:tblPr/>
              <a:tblGrid>
                <a:gridCol w="1400040"/>
                <a:gridCol w="1405080"/>
                <a:gridCol w="1400040"/>
                <a:gridCol w="1405080"/>
                <a:gridCol w="140004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Lucida Grande"/>
                        </a:rPr>
                        <a:t>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Lucida Grande"/>
                        </a:rPr>
                        <a:t>Nar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Lucida Grande"/>
                        </a:rPr>
                        <a:t>Dis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Lucida Grande"/>
                        </a:rPr>
                        <a:t>Me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n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tma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43200" y="4343400"/>
            <a:ext cx="577800" cy="692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14800" y="4343400"/>
            <a:ext cx="577800" cy="692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486400" y="5105520"/>
            <a:ext cx="577800" cy="691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666880" y="5791320"/>
            <a:ext cx="577800" cy="691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410080" y="5791320"/>
            <a:ext cx="577800" cy="691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010280" y="5791320"/>
            <a:ext cx="577800" cy="691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4038480" y="5105520"/>
            <a:ext cx="577800" cy="691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581280" y="1752480"/>
            <a:ext cx="190512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1447920"/>
            <a:ext cx="16002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2590920"/>
            <a:ext cx="16002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1447920"/>
            <a:ext cx="16002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90920"/>
            <a:ext cx="16002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1498680"/>
            <a:ext cx="838080" cy="33012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80760" y="1523880"/>
            <a:ext cx="838440" cy="30492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180760" y="2742480"/>
            <a:ext cx="838440" cy="30492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971800" y="2819520"/>
            <a:ext cx="914400" cy="304560"/>
          </a:xfrm>
          <a:custGeom>
            <a:avLst/>
            <a:gdLst/>
            <a:ahLst/>
            <a:rect l="l" t="t" r="r" b="b"/>
            <a:pathLst>
              <a:path w="528" h="208">
                <a:moveTo>
                  <a:pt x="0" y="112"/>
                </a:moveTo>
                <a:cubicBezTo>
                  <a:pt x="76" y="56"/>
                  <a:pt x="152" y="0"/>
                  <a:pt x="240" y="16"/>
                </a:cubicBezTo>
                <a:cubicBezTo>
                  <a:pt x="328" y="32"/>
                  <a:pt x="428" y="120"/>
                  <a:pt x="528" y="2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304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An Application Domain: Philosophy (#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695840" cy="50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165" name=""/>
          <p:cNvSpPr/>
          <p:nvPr/>
        </p:nvSpPr>
        <p:spPr>
          <a:xfrm>
            <a:off x="5791320" y="16002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navigating a document, a reference to a concept partially unclear is foun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304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An Application Domain: Philosophy (#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695840" cy="50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1117440" cy="113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152280" y="4876920"/>
            <a:ext cx="1371600" cy="45720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990720" y="3733560"/>
            <a:ext cx="1523880" cy="10666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16002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gpie-like tool allows to highlight the concept in the document, and trigger a set of learning servic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600200"/>
            <a:ext cx="750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, evolution of a search on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semantics for learning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lication domain : 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80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Structure of the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90720" y="304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An Application Domain: Philosophy (#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695840" cy="50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1117440" cy="113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152280" y="4876920"/>
            <a:ext cx="1371600" cy="45720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990720" y="3733560"/>
            <a:ext cx="1523880" cy="10666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1600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2133720"/>
            <a:ext cx="3581280" cy="44193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2362320"/>
            <a:ext cx="1600200" cy="83808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rwin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utio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i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3276720"/>
            <a:ext cx="1600200" cy="83808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marck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utio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otan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5486400"/>
            <a:ext cx="1600200" cy="83808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ncer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utio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etaphysic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4800600"/>
            <a:ext cx="1600200" cy="83808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pper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utio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pistem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124080"/>
            <a:ext cx="685800" cy="152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27432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.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32767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4114800"/>
            <a:ext cx="228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0384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lue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0120" y="48006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lue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2133720"/>
            <a:ext cx="2133720" cy="83808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10" stAng="10800000" swAng="5400000"/>
                <a:lnTo>
                  <a:pt x="14223" y="4050"/>
                </a:lnTo>
                <a:lnTo>
                  <a:pt x="14223" y="0"/>
                </a:lnTo>
                <a:lnTo>
                  <a:pt x="21600" y="6079"/>
                </a:lnTo>
                <a:lnTo>
                  <a:pt x="14223" y="12158"/>
                </a:lnTo>
                <a:lnTo>
                  <a:pt x="14223" y="8108"/>
                </a:lnTo>
                <a:lnTo>
                  <a:pt x="12427" y="8108"/>
                </a:lnTo>
                <a:arcTo wR="8369" hR="4052" stAng="16200000" swAng="-5400000"/>
                <a:lnTo>
                  <a:pt x="4058" y="21600"/>
                </a:lnTo>
                <a:close/>
              </a:path>
            </a:pathLst>
          </a:custGeom>
          <a:solidFill>
            <a:srgbClr val="990000">
              <a:alpha val="66000"/>
            </a:srgbClr>
          </a:solidFill>
          <a:ln w="7632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90720" y="304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An Application Domain: Philosophy (#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695840" cy="50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1117440" cy="113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152280" y="4876920"/>
            <a:ext cx="1371600" cy="45720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90720" y="3733560"/>
            <a:ext cx="1523880" cy="106668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resource level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133720"/>
            <a:ext cx="3581280" cy="4419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2362320"/>
            <a:ext cx="1600200" cy="83808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rwin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utio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i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3276720"/>
            <a:ext cx="1600200" cy="83808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marck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utio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otan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5486400"/>
            <a:ext cx="1600200" cy="83808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ncer’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utio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etaphysic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4800600"/>
            <a:ext cx="1600200" cy="838080"/>
          </a:xfrm>
          <a:prstGeom prst="ellipse">
            <a:avLst/>
          </a:prstGeom>
          <a:solidFill>
            <a:srgbClr val="bbe0e3">
              <a:alpha val="2000"/>
            </a:srgbClr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pper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utio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pistem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124080"/>
            <a:ext cx="685800" cy="152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27432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.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3276720"/>
            <a:ext cx="228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4114800"/>
            <a:ext cx="228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403848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lue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48006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lue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2133720"/>
            <a:ext cx="2133720" cy="83808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10" stAng="10800000" swAng="5400000"/>
                <a:lnTo>
                  <a:pt x="14223" y="4050"/>
                </a:lnTo>
                <a:lnTo>
                  <a:pt x="14223" y="0"/>
                </a:lnTo>
                <a:lnTo>
                  <a:pt x="21600" y="6079"/>
                </a:lnTo>
                <a:lnTo>
                  <a:pt x="14223" y="12158"/>
                </a:lnTo>
                <a:lnTo>
                  <a:pt x="14223" y="8108"/>
                </a:lnTo>
                <a:lnTo>
                  <a:pt x="12427" y="8108"/>
                </a:lnTo>
                <a:arcTo wR="8369" hR="4052" stAng="16200000" swAng="-5400000"/>
                <a:lnTo>
                  <a:pt x="4058" y="21600"/>
                </a:lnTo>
                <a:close/>
              </a:path>
            </a:pathLst>
          </a:custGeom>
          <a:solidFill>
            <a:srgbClr val="990000">
              <a:alpha val="66000"/>
            </a:srgbClr>
          </a:solidFill>
          <a:ln w="7632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2286000"/>
            <a:ext cx="2590560" cy="3962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304812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Darwi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heory&gt;naturalSele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4114800"/>
            <a:ext cx="1981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Lamarck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heory&gt;ev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5181480"/>
            <a:ext cx="1981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Popper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heory&gt;evolutioni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3657600"/>
            <a:ext cx="304560" cy="304920"/>
          </a:xfrm>
          <a:prstGeom prst="plus">
            <a:avLst>
              <a:gd name="adj" fmla="val 43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4724280"/>
            <a:ext cx="304560" cy="304920"/>
          </a:xfrm>
          <a:prstGeom prst="plus">
            <a:avLst>
              <a:gd name="adj" fmla="val 43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5867280"/>
            <a:ext cx="45720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438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rcoal"/>
              </a:rPr>
              <a:t>-Presentati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172200" y="1219320"/>
            <a:ext cx="259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a teaching context, the tutor can provide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ative at the conceptual level, and ask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to map a (set of) resource(s) according to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304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An Application Domain: Philosophy (#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174840" cy="29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143000" y="4800600"/>
            <a:ext cx="2895480" cy="18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 flipV="1">
            <a:off x="228600" y="4343400"/>
            <a:ext cx="914400" cy="1295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1295280"/>
              <a:gd name="textAreaBottom" fmla="*/ 1296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016" stAng="10800000" swAng="5400000"/>
                <a:lnTo>
                  <a:pt x="12427" y="2144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10014"/>
                </a:lnTo>
                <a:lnTo>
                  <a:pt x="12427" y="10014"/>
                </a:lnTo>
                <a:arcTo wR="4557" hR="2146" stAng="16200000" swAng="-5400000"/>
                <a:lnTo>
                  <a:pt x="787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90720" y="304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An Application Domain: Philosophy (#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174840" cy="29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62120" y="4800600"/>
            <a:ext cx="2895480" cy="18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"/>
          <p:cNvSpPr/>
          <p:nvPr/>
        </p:nvSpPr>
        <p:spPr>
          <a:xfrm flipV="1">
            <a:off x="228600" y="4343400"/>
            <a:ext cx="914400" cy="1295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1295280"/>
              <a:gd name="textAreaBottom" fmla="*/ 1296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016" stAng="10800000" swAng="5400000"/>
                <a:lnTo>
                  <a:pt x="12427" y="2144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10014"/>
                </a:lnTo>
                <a:lnTo>
                  <a:pt x="12427" y="10014"/>
                </a:lnTo>
                <a:arcTo wR="4557" hR="2146" stAng="16200000" swAng="-5400000"/>
                <a:lnTo>
                  <a:pt x="787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24280" y="1219320"/>
            <a:ext cx="425952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6" name=""/>
          <p:cNvSpPr/>
          <p:nvPr/>
        </p:nvSpPr>
        <p:spPr>
          <a:xfrm>
            <a:off x="3505320" y="464832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029200" y="320040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e concepts schema is annotated, a presentation can be generated automatically, in order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rrative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resource level, and let the student understand if the annotation makes sense or no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304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An Application Domain: Philosophy (#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25952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30" name=""/>
          <p:cNvSpPr/>
          <p:nvPr/>
        </p:nvSpPr>
        <p:spPr>
          <a:xfrm>
            <a:off x="1447920" y="1523880"/>
            <a:ext cx="2286000" cy="3048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1676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-Presentati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373392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0099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209680"/>
            <a:ext cx="1981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Decarte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concept&gt;tru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429000"/>
            <a:ext cx="1981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Decarte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concept&gt;meth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2895480"/>
            <a:ext cx="304560" cy="304920"/>
          </a:xfrm>
          <a:prstGeom prst="plus">
            <a:avLst>
              <a:gd name="adj" fmla="val 43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4114800"/>
            <a:ext cx="457200" cy="3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1704960" cy="2146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657600" y="16002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0099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019920" y="1219320"/>
            <a:ext cx="1117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248520" y="1143000"/>
            <a:ext cx="223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work on the definition of an ontology for philosophy: vision of the philosophical domain 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roa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The Philosophical “Territor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2578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172200" y="1447920"/>
            <a:ext cx="22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p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resource: the three dimensions should be capable of determining clearly the position of a resource in the philosophical 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The Philosophical “Territor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2578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4572000" cy="481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90720" y="3049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Philosophical “Dimensions” a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56232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9" name=""/>
          <p:cNvSpPr/>
          <p:nvPr/>
        </p:nvSpPr>
        <p:spPr>
          <a:xfrm>
            <a:off x="6019920" y="5105520"/>
            <a:ext cx="2133360" cy="99036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19320" y="152280"/>
            <a:ext cx="6629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First Sketch of an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Optima"/>
              </a:rPr>
              <a:t>(much more work to do…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58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19320" y="152280"/>
            <a:ext cx="6629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First Sketch of an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Optima"/>
              </a:rPr>
              <a:t>(much more work to do…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5715000" cy="51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114800" y="3657600"/>
            <a:ext cx="4495680" cy="29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371600"/>
            <a:ext cx="750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ditional search on the internet (keyword-sty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rch for “Popper”   ---&gt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classifi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ources +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wan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ources (“popcorn-popper”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Intro: the scenario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bright="-44000"/>
          </a:blip>
          <a:stretch/>
        </p:blipFill>
        <p:spPr>
          <a:xfrm>
            <a:off x="4191120" y="3276720"/>
            <a:ext cx="4819680" cy="334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4572000"/>
            <a:ext cx="2654280" cy="8254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352680" y="4648320"/>
            <a:ext cx="53352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38080" y="16765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oo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main ont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drastically make a difference, when used in a semantic web learning environ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work o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i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ntology will improve it; especially we must find ways to represent the recurrent structure between different theories, and define common narratives in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Conclusion and Future 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38080" y="16765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oo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main ont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drastically make a difference, when used in a semantic web learning environ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work o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il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ntology will improve it; especially we must find ways to represent the recurrent structure between different theories, and define common narratives in th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ork on the final output of the system, through the defini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d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tolo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has to be done, and will eventually tailor the final presentation to the user’s profile and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Conclusion and Future 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0720" y="304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The End (for now..) thank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64480" cy="5335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2120" y="1371600"/>
            <a:ext cx="7191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pretative knowledge : refers to what a resource is representative of, within the history of thought; or to how a theory is best represented using simpler concepts. Ultimately, it is a more or less sou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source about Plato is representative of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tiona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ach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earch are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049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Interpretative vs. Factu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2120" y="1371600"/>
            <a:ext cx="7191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pretative knowledge : refers to what a resource is representative of, within the history of thought; or to how a theory is best represented using simpler concepts. Ultimately, it is a more or less sou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in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u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nowledge : refer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 known fa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specially those time and space rel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author, historic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i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he lived or published his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as semantically rich as the other one, but it improves the navigation of the domain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two can generate interesting narra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049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Interpretative vs. Factu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447920"/>
            <a:ext cx="7505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hancements of a semantic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arch for “Popper”   ---&gt;  resources about &lt;person&gt;Popper&lt;/pers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80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Intro: semantic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3352680" cy="114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038480" y="4191120"/>
            <a:ext cx="53352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84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7120" y="1295280"/>
            <a:ext cx="821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semantic web for creating learning experi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e idea of a narrative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resources are collected and organized into a COHERENT NAR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808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Intro: beyond a semantic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724280"/>
            <a:ext cx="2133720" cy="1219320"/>
          </a:xfrm>
          <a:prstGeom prst="wedgeRectCallout">
            <a:avLst>
              <a:gd name="adj1" fmla="val -43305"/>
              <a:gd name="adj2" fmla="val 77606"/>
            </a:avLst>
          </a:prstGeom>
          <a:solidFill>
            <a:srgbClr val="bbe0e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pp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marcation proble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952880"/>
            <a:ext cx="53316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952880"/>
            <a:ext cx="53316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3200400"/>
            <a:ext cx="2438640" cy="33526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35268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Hume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theory&gt;critique of in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419720"/>
            <a:ext cx="198144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Baco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approach&gt;scientific meth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548640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ource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&lt;author&gt;Popper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concept&gt;falsifi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3962520"/>
            <a:ext cx="304920" cy="304560"/>
          </a:xfrm>
          <a:prstGeom prst="plus">
            <a:avLst>
              <a:gd name="adj" fmla="val 43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029200"/>
            <a:ext cx="304920" cy="304920"/>
          </a:xfrm>
          <a:prstGeom prst="plus">
            <a:avLst>
              <a:gd name="adj" fmla="val 43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6172200"/>
            <a:ext cx="457200" cy="304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2361960" cy="177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21932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: what does it really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theories, different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dition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thorita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structivis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by do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80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Learning: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226044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21932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: what does it really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theories, different approach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dition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thorita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structivis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by do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80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Learning: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226044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038480" y="42670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ow many kinds of learning do we poss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57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ow do we transfer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41360" y="1219320"/>
            <a:ext cx="72262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of learning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rr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understanding relies on our ability to deal with “stories”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ly, on the ability of creating semantic indexing between them.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nnection of indexes and stories constitutes a narrative, and w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learn, we basically create a semi-novel narrative about a su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adapted 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. Schank, Tell me a st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808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Learning: stories and narr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3048120" cy="228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4191120" y="548640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7150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1360" y="1219320"/>
            <a:ext cx="722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of learning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rr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understanding relies on our ability to deal with “stories”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ly, on the ability of creating semantic indexing between them.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nnection of indexes and stories constitutes a narrative, and w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learn, we basically create a semi-novel narrative about a su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. Shank, Tell me a st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3808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Optima"/>
              </a:rPr>
              <a:t>Learning: stories and narr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3048120" cy="228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191120" y="548640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733920"/>
            <a:ext cx="205740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57150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4648320"/>
            <a:ext cx="228600" cy="761760"/>
          </a:xfrm>
          <a:prstGeom prst="downArrow">
            <a:avLst>
              <a:gd name="adj1" fmla="val 59722"/>
              <a:gd name="adj2" fmla="val 78447"/>
            </a:avLst>
          </a:prstGeom>
          <a:solidFill>
            <a:srgbClr val="00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181480" y="4648320"/>
            <a:ext cx="228600" cy="761760"/>
          </a:xfrm>
          <a:prstGeom prst="downArrow">
            <a:avLst>
              <a:gd name="adj1" fmla="val 40278"/>
              <a:gd name="adj2" fmla="val 120101"/>
            </a:avLst>
          </a:prstGeom>
          <a:solidFill>
            <a:srgbClr val="00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3733920"/>
            <a:ext cx="1981080" cy="266688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=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7339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04:57Z</dcterms:created>
  <dc:creator>KMi</dc:creator>
  <dc:description/>
  <dc:language>en-US</dc:language>
  <cp:lastModifiedBy>KMi</cp:lastModifiedBy>
  <dcterms:modified xsi:type="dcterms:W3CDTF">2005-03-16T13:07:32Z</dcterms:modified>
  <cp:revision>104</cp:revision>
  <dc:subject/>
  <dc:title>PowerPoint Presentation</dc:title>
</cp:coreProperties>
</file>