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841-A49D-4680-BCC9-8A6D06FF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84D-0205-49CA-806F-45434F75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792-33A9-414A-881C-16BF0609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1E9-CC28-46B6-91C9-9D1E3E28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8D1-C146-49E1-802B-44D8BD41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1A2-EFF7-4832-A4A6-C18F405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B7E-4B84-463D-8103-38D2A446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F53-097F-48DC-BB9C-256879B6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BF2-7184-4E8F-AC52-CCC94AC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1A4-5358-4E64-8434-ED6F138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182-CDDB-4D0E-BA50-6DD06F7C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7AA-7C9B-4C4F-9034-B9DF5F17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50FE-E07A-46C4-AED4-5B8FC4B1CC23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436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C1A6-4210-4DEA-9DB4-07EEC61FAD44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S support for OWL-S and WSM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rshad Hakimpour, John Domingue, Liliana Cabral, Enrico Mo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5737320"/>
            <a:ext cx="12412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e Services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priva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25760" y="1722600"/>
            <a:ext cx="589896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5F0-B1D7-4C57-9125-08AD1036BBA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517F8-734C-4CC4-AF27-F977AD4A5B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site Services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publ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2000" y="1736640"/>
            <a:ext cx="6330960" cy="468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526-D168-4C01-8950-4F60AACD40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BE698-F99D-47CD-A8B4-F40E3453062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1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54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lation is performed in two lev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35280" y="2997360"/>
            <a:ext cx="3846600" cy="33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188-AAD4-468C-8ED4-F3DE6FBBE6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39F15-2418-4367-9412-B0946BA831B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port ut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67040" y="1623960"/>
            <a:ext cx="5413320" cy="50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D4A-34F1-4662-891A-5470061BA99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78290-F6B8-4EA0-99D9-F749BF66D3F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function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 (post-condition &amp; effect) vs. Task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Service Capability vs. PSM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Service Orchestration vs. PSM body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 Chor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D71-B640-4EC7-8AE8-8247E780BE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CA50F-67A7-49C2-B950-8E563A4DDC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-PSM ontology extension supports the Pro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CML supports Split and Join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 additional features (OWL-S 1.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&amp; Task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flow defin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D6F-8D0C-446E-9CBC-7099C31964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69AC9-D36B-4ED0-A2FA-6A9BBF79D3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WL-S 1.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s data flow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r semantics of Simple Process (has potential for task descrip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rther changes to IOP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RL condition in OWL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ised Task-PSM ontology to support WSMO on its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ing WSMO de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BED-7798-40B1-AFEE-6C9BBCEDAB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28100-3C76-4104-839C-6ADF87084A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-II (UPML &amp; Task-PSM ont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L-S servic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pping OWL-S description to Task-P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L-S Trans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SMO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 and ongo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A44-0FDF-4456-AAF2-C140C4FD3F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1251-E46A-408D-BCD5-734B08AC679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 (Internet Reasoning System) is a system to support Semantic Web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uses the Task-PSM ontology (based on UPM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P (WSMO) project started rec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SMO is also influenced b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brow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CB2-A26B-43C4-B3BF-0EB206118B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9A245-83E7-42D1-9B45-055881368C5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WL-S (DAML-S) is a specification for describing semantics of Web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part of DAML program and uses OWL for its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587-AEA7-4280-9D6E-8FB426C7F9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16992-6AF6-4067-863C-8E3DAE16AFA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 is going to support both spec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learn and extend the capabilities of the 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will be on the winner’s side, no matter who wins the r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1BD-0CA5-44BA-B4B8-9BCAFA6B75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3439D-C4E5-42D6-AFA0-A1E3DE9865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sk-PSM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06064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main concep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sk: a general problem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M: a specific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680544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B64-BFF7-4513-B06D-C5C54650BB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9882A-3317-4001-AA9D-76B7DF5054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WL-S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main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Times New Roman"/>
              </a:rPr>
              <a:t>G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51280" y="2205000"/>
            <a:ext cx="4167360" cy="35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1D6-E65E-43D8-8BAB-A08A9B0356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E3CC6-7A13-464B-9FBC-34A86F19BA2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pping OWL-S to Task-P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 vs.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SM vs. Process descrip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OPE vs. IO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omposition Method vs. Composit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ol Construct vs. PSM body       (needs more operator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24360" y="2133720"/>
            <a:ext cx="28872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924360" y="2133720"/>
            <a:ext cx="28872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7800" y="256536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1080" y="306864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720" y="418464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1080" y="472428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27A-A279-4EFE-91A4-236252635C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2B4BA-FA31-44ED-8C04-977CA1BAA99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tended Task-P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4519800" cy="44722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5400720" y="4834080"/>
            <a:ext cx="2411280" cy="502920"/>
            <a:chOff x="5400720" y="4834080"/>
            <a:chExt cx="2411280" cy="502920"/>
          </a:xfrm>
        </p:grpSpPr>
        <p:sp>
          <p:nvSpPr>
            <p:cNvPr id="69" name=""/>
            <p:cNvSpPr/>
            <p:nvPr/>
          </p:nvSpPr>
          <p:spPr>
            <a:xfrm>
              <a:off x="6372360" y="4834080"/>
              <a:ext cx="1439640" cy="502920"/>
            </a:xfrm>
            <a:prstGeom prst="ellipse">
              <a:avLst/>
            </a:pr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00720" y="5086080"/>
              <a:ext cx="97164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FCA-7169-43D4-9CEF-517564A792B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0376C-C131-45C3-B940-547B15CEA9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12:00:26Z</dcterms:created>
  <dc:creator>Harriett ånsell</dc:creator>
  <dc:description/>
  <dc:language>en-US</dc:language>
  <cp:lastModifiedBy>fh522</cp:lastModifiedBy>
  <dcterms:modified xsi:type="dcterms:W3CDTF">2004-06-21T12:27:59Z</dcterms:modified>
  <cp:revision>23</cp:revision>
  <dc:subject/>
  <dc:title>No Slide Title</dc:title>
</cp:coreProperties>
</file>