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D13-8407-48AB-B35A-865F7014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AD7-FD54-4CCA-9FB6-0904F0AD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643-C956-4840-890C-236FE62D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B93-21AB-40BC-809D-FFFB5F2A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7C6-B26E-4C7B-AF0E-E778706C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6F0-E1D1-4378-AF98-1666378E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8C6-8013-4BD6-914E-D65FF91F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3D2-33E3-48BE-A4F8-81C626D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EF6-0296-41CA-B9E7-2B649179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195-6B2E-4B6F-BB15-866A4C9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27C-B477-4942-AC12-5D5A705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B2D-1C11-4571-8C6E-5FB2C158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F31A-FDF0-4617-9D23-FC67386EF2CB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436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B22F-DDEA-45CE-8C8B-6FAFB994D3AE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S support for OWL-S and WSM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rshad Hakimpour, John Domingue, Liliana Cabral, Enrico Mo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5737320"/>
            <a:ext cx="12412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e Services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priva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25760" y="1722600"/>
            <a:ext cx="589896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F3D-4824-458D-B3AA-EFA56166180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454ED-99D9-46F5-82E7-7373FE1C1B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e Services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publ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2000" y="1736640"/>
            <a:ext cx="6330960" cy="468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E9D-6329-49B5-9188-E3811A9CFD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CFBC0-8E85-4580-93D2-FBCF1779B3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1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54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lation is performed in two lev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35280" y="2997360"/>
            <a:ext cx="3846600" cy="33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67B-5049-462E-A11D-DDC5BB69D6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B78ED-4F9F-4E7A-A123-B69E869194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port ut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67040" y="1623960"/>
            <a:ext cx="5413320" cy="50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DC1-4864-4FD8-B334-2490C1FF431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70C13-E72A-4527-BA60-B85F84E36BE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function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 (post-condition &amp; effect) vs. Task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Service Capability vs. PSM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Service Orchestration vs. PSM body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 Chor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C47-96E4-4EBF-9603-344314E4D4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1A0A6-550D-4A42-80AF-AE67B665E5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-PSM ontology extension supports the Pro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CML supports Split and Join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 additional features (OWL-S 1.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&amp; Task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flow defi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09B-8FF4-40FC-8BEC-88E92A02AC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B92C7-DF86-4324-853D-9584B203374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WL-S 1.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s data flow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r semantics of Simple Process (has potential for task descrip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rther changes to IOP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RL condition in OWL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ised Task-PSM ontology to support WSMO on its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ing WSMO de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83A-2252-4001-ACEC-BC6A47C854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EB7E5-DF16-422F-83BF-F699565130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-II (UPML &amp; Task-PSM ont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L-S servic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pping OWL-S description to Task-P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L-S Trans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SMO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 and ongo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20D-C5BB-445B-B4B9-F3CF9E595C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F2634-AE1F-4575-8AD5-4363F67206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 (Internet Reasoning System) is a system to support Semantic Web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uses the Task-PSM ontology (based on UPM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P (WSMO) project started rec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SMO is also influenced b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brow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9CE-003A-4550-A1CB-78167DEA04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FD7BF-2C05-408A-92A8-D5CB85D241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L-S (DAML-S) is a specification for describing semantics of Web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part of DAML program and uses OWL for its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785-4289-43E3-BF8C-4828CE04C8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8767C-392F-496E-9AD0-8AE6A940F2D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 is going to support both spec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learn and extend the capabilities of the 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will be on the winner’s side, no matter who wins the r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739-F5D1-4752-972A-AB2D5AA03D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BCECD-BE7D-4E6E-961C-D93ACB4C0A7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sk-PSM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06064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main concep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sk: a general problem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M: a specific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680544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8D1-3FDA-43BF-A721-6686177D2A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5211F-483D-4534-91AA-65F17D2AC3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WL-S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main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imes New Roman"/>
              </a:rPr>
              <a:t>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51280" y="2205000"/>
            <a:ext cx="4167360" cy="35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469-10D5-4952-858F-DFBA98A291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71E7E-D5E0-4674-9FAF-A4C1AD339D4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pping OWL-S to Task-P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 vs.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SM vs. Process descrip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OPE vs. IO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omposition Method vs. Composit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ol Construct vs. PSM body       (needs more operator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24360" y="2133720"/>
            <a:ext cx="28872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924360" y="2133720"/>
            <a:ext cx="28872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7800" y="256536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1080" y="306864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720" y="418464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1080" y="472428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DF7-B7F5-490B-9FA9-D7E1599351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01DAD-E902-4422-8462-BD1204A92A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tended Task-P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4519800" cy="44722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5400720" y="4834080"/>
            <a:ext cx="2411280" cy="502920"/>
            <a:chOff x="5400720" y="4834080"/>
            <a:chExt cx="2411280" cy="502920"/>
          </a:xfrm>
        </p:grpSpPr>
        <p:sp>
          <p:nvSpPr>
            <p:cNvPr id="69" name=""/>
            <p:cNvSpPr/>
            <p:nvPr/>
          </p:nvSpPr>
          <p:spPr>
            <a:xfrm>
              <a:off x="6372360" y="4834080"/>
              <a:ext cx="1439640" cy="502920"/>
            </a:xfrm>
            <a:prstGeom prst="ellipse">
              <a:avLst/>
            </a:pr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00720" y="5086080"/>
              <a:ext cx="97164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93E-5314-4FB3-A402-44F4C803804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A8379-C635-464F-911C-BFC2BF6BC9E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12:00:26Z</dcterms:created>
  <dc:creator>Harriett ånsell</dc:creator>
  <dc:description/>
  <dc:language>en-US</dc:language>
  <cp:lastModifiedBy>fh522</cp:lastModifiedBy>
  <dcterms:modified xsi:type="dcterms:W3CDTF">2004-06-21T12:27:59Z</dcterms:modified>
  <cp:revision>23</cp:revision>
  <dc:subject/>
  <dc:title>No Slide Title</dc:title>
</cp:coreProperties>
</file>