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5136-BC27-47D1-8557-9C55E2A5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5F21-E203-48A6-AB3E-752AC89A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1A23-932C-41AF-95F0-5191FE52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FDC5-C388-4D89-AC96-220956B7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6B3C-66B1-4025-B5AD-69ADFFF3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C1A2-F9B7-4897-8438-AE98C178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CB0A-A81C-45CE-8F11-1DEFE51F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660B-6DC5-49FB-A06A-32BF4F12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0A4A-1E04-4098-B5F1-B1B665EC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924E-79D5-49D5-96B8-C7BD350D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E7F6-095C-4437-9F5C-077DD60A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906D-167E-4094-9C67-37CD8D3A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AB5D-F241-4506-8280-DF63CECEB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ng Agents Tactics in Automated Nego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ngming H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nowledge Media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pen University,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onlinear regression to learn an opponent’s tac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iminate which of the three families of tactics the opponent has adop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the opponent’s future 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opponent’s tactic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 the opponent’s reservation value and dead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otiation Heu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ee sets of heu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lware, Conceder and Resource tac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: Opponent is a Time-Dependent (min SSR), Conceder (B&gt;1) tac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the opponent’s offer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| offer(tn) - ~max | &lt; 0.5 * ln(~max)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~α  &gt; 0.90 to 0.98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| tn - ~tmax | &lt; 1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| offer(tn) - offer(tn-1) | &lt; ~max *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-depend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der: β = {20, 30, 40},   Linear: β = {1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lware: β = {0.025, 0.1, 0.2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ource-depend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tient: μ = {1},   Steady: μ = {2, 3, 5},   Patient: μ = {6, 8, 10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haviour-depend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erage Tit-For-Tat: γ = {1, 2, 3, 5, 6, 8, 10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ative TFT: δ = {1, 2, 3, 5, 6, 8, 10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ndom TFT: δ = {1, 2, 3, 5, 6, 8, 10}, M = {1, 3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formanc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irwise comparison of 90 paired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yer: Conceder, Linear, Boulware, Impatient, Steady, Patient, Average TFT, Relative TFT, and Random T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ler: Conceder, Linear, Boulware, Impatient, Steady, Patient, Average TFT, Relative TFT, Random TFT, and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11280" y="2205000"/>
                <a:ext cx="806436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V</m:t>
                                  </m:r>
                                </m:e>
                                <m:sup>
                                  <m:r>
                                    <m:t xml:space="preserve">a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eal</m:t>
                                      </m:r>
                                    </m:sub>
                                  </m:sSub>
                                </m:sup>
                              </m:sSubSup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V</m:t>
                                  </m:r>
                                </m:e>
                                <m:sup>
                                  <m:r>
                                    <m:t xml:space="preserve">a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</m:sSubSup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τ</m:t>
                              </m:r>
                              <m:r>
                                <m:t xml:space="preserve">(</m:t>
                              </m:r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sup>
                              </m:sSubSup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as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f</m:t>
                              </m:r>
                              <m:r>
                                <m:t xml:space="preserve"> </m:t>
                              </m:r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sup>
                              </m:sSubSup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ccept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V</m:t>
                                  </m:r>
                                </m:e>
                                <m:sup>
                                  <m:r>
                                    <m:t xml:space="preserve">a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</m:sSubSup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τ</m:t>
                              </m:r>
                              <m:r>
                                <m:t xml:space="preserve">(</m:t>
                              </m:r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sup>
                              </m:sSubSup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ormance –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362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formance of the seller’s learning mechanism against the time-dependent bu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95280" y="2421000"/>
          <a:ext cx="8209080" cy="38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421000"/>
                    <a:ext cx="820908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ormance –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formance of the seller’s learning mechanism against the resource-dependent bu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9280" y="2060640"/>
          <a:ext cx="882036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060640"/>
                    <a:ext cx="882036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ormance – Behavi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formance of the seller’s learning mechanism against the Tit-For-Tat dependent bu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24000" y="2205000"/>
          <a:ext cx="882000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205000"/>
                    <a:ext cx="882000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draw from pointless nego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draw from unprofitable nego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breakdown and make best d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995640" y="1373040"/>
          <a:ext cx="4680000" cy="36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373040"/>
                    <a:ext cx="46800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995640" y="2903400"/>
          <a:ext cx="4837320" cy="383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2903400"/>
                    <a:ext cx="483732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780000" y="4510080"/>
          <a:ext cx="5184720" cy="194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4510080"/>
                    <a:ext cx="518472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opponent’s behavio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ct the pointless negot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ance future gain and c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oid breakdown of negotiation whilst making a the best deal at the opponent’s reservation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prior knowledge about op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ly on the opponent’s previous o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haracteristics give this method significant practical value in nego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o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otiation Heu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o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tly exploring the space of possible deals to reach an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go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nguage and ont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ent communication language (ACL),KQ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ent language: SL,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k, broker, bid, respond, a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cies, strategies, tac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otiation Decisio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arty adopting opposing roles, such as buyer and se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ng off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747880" y="3479760"/>
                <a:ext cx="38372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b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s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b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s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</m:sSubSup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b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p:graphicFrame>
        <p:nvGraphicFramePr>
          <p:cNvPr id="50" name=""/>
          <p:cNvGraphicFramePr/>
          <p:nvPr/>
        </p:nvGraphicFramePr>
        <p:xfrm>
          <a:off x="1835280" y="4157640"/>
          <a:ext cx="5664240" cy="20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4157640"/>
                    <a:ext cx="566424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s common knowledge and perfect ra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-dependent tac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-dependent tac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ur-dependent tac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rvation values for seller and buyer: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, max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offer level: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adline (time available):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te of concession: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β/μ/γ/δ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umber of negotiating agents: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unication cost: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Arial"/>
              </a:rPr>
              <a:t>s↔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484280"/>
            <a:ext cx="8207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281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ynom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28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050920" y="1700280"/>
          <a:ext cx="622620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700280"/>
                    <a:ext cx="62262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916360" y="2747880"/>
          <a:ext cx="425772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2747880"/>
                    <a:ext cx="42577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987640" y="3573360"/>
          <a:ext cx="2840040" cy="83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3573360"/>
                    <a:ext cx="284004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2987640" y="5745240"/>
          <a:ext cx="5776920" cy="852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87640" y="5745240"/>
                    <a:ext cx="577692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987640" y="4869000"/>
          <a:ext cx="3729240" cy="556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87640" y="4869000"/>
                    <a:ext cx="372924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Dependen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68360" y="1484280"/>
          <a:ext cx="7993080" cy="52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99308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 on decision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prior probability distribution of opponent’s deadline and reservation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knowledge of opponent’s tactic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an agent learn the opponent’s tacti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knowledge of the opponent’s tactic be used to achieve the optimal outcome for the predicting ag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09:51:40Z</dcterms:created>
  <dc:creator>cmh296</dc:creator>
  <dc:description/>
  <dc:language>en-US</dc:language>
  <cp:lastModifiedBy>cmh296</cp:lastModifiedBy>
  <dcterms:modified xsi:type="dcterms:W3CDTF">2004-04-19T11:27:13Z</dcterms:modified>
  <cp:revision>13</cp:revision>
  <dc:subject/>
  <dc:title>Predicting Agents Tactics in Automated Negotiation</dc:title>
</cp:coreProperties>
</file>