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e4e4"/>
              </a:solidFill>
              <a:latin typeface="Peinau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62120" y="42858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e4e4"/>
              </a:solidFill>
              <a:latin typeface="Peinau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4800" y="20570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42858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44800" y="42858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e4e4"/>
              </a:solidFill>
              <a:latin typeface="Peinau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90120" y="20570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7760" y="20570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62120" y="42858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90120" y="42858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7760" y="42858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e4e4"/>
              </a:solidFill>
              <a:latin typeface="Peinau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76212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e4e4"/>
              </a:solidFill>
              <a:latin typeface="Peinau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e4e4"/>
              </a:solidFill>
              <a:latin typeface="Peinau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44800" y="20570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e4e4"/>
              </a:solidFill>
              <a:latin typeface="Peinau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e4e4"/>
              </a:solidFill>
              <a:latin typeface="Peinau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44800" y="20570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62120" y="42858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e4e4"/>
              </a:solidFill>
              <a:latin typeface="Peinau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6212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e4e4"/>
              </a:solidFill>
              <a:latin typeface="Peinau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44800" y="20570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44800" y="42858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e4e4"/>
              </a:solidFill>
              <a:latin typeface="Peinau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4800" y="20570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62120" y="42858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e4e4"/>
              </a:solidFill>
              <a:latin typeface="Peinau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62120" y="42858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e4e4"/>
              </a:solidFill>
              <a:latin typeface="Peinau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4800" y="20570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42858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44800" y="42858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e4e4"/>
              </a:solidFill>
              <a:latin typeface="Peinau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90120" y="20570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17760" y="20570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62120" y="42858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90120" y="42858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17760" y="42858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e4e4"/>
              </a:solidFill>
              <a:latin typeface="Peinau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e4e4"/>
              </a:solidFill>
              <a:latin typeface="Peinau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44800" y="20570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e4e4"/>
              </a:solidFill>
              <a:latin typeface="Peinau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e4e4"/>
              </a:solidFill>
              <a:latin typeface="Peinau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4800" y="20570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62120" y="42858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e4e4"/>
              </a:solidFill>
              <a:latin typeface="Peinau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4800" y="20570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4800" y="42858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e4e4"/>
              </a:solidFill>
              <a:latin typeface="Peinau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4800" y="20570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2120" y="42858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e4e4"/>
                </a:solidFill>
                <a:latin typeface="Peinaud"/>
              </a:rPr>
              <a:t>Click to edit the title text format</a:t>
            </a:r>
            <a:endParaRPr b="1" lang="en-US" sz="5400" spc="-1" strike="noStrike">
              <a:solidFill>
                <a:srgbClr val="e4e4e4"/>
              </a:solidFill>
              <a:latin typeface="Peinau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4e4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e8e8e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4e4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e7b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4e4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e7b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4e4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e7b7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4e4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4e4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4e4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e4e4"/>
                </a:solidFill>
                <a:latin typeface="Peinaud"/>
              </a:rPr>
              <a:t>Click to edit the title text format</a:t>
            </a:r>
            <a:endParaRPr b="1" lang="en-US" sz="5400" spc="-1" strike="noStrike">
              <a:solidFill>
                <a:srgbClr val="e4e4e4"/>
              </a:solidFill>
              <a:latin typeface="Peinau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4e4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e8e8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e8e8e8"/>
              </a:solidFill>
              <a:latin typeface="Georgia"/>
            </a:endParaRPr>
          </a:p>
          <a:p>
            <a:pPr lvl="2" marL="914400" algn="ctr">
              <a:spcBef>
                <a:spcPts val="601"/>
              </a:spcBef>
              <a:buClr>
                <a:srgbClr val="ffe7b7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b7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e7b7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e7b7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b7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e7b7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e7b7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b7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e7b7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b7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e7b7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b7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e7b7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Peinaud"/>
              </a:rPr>
              <a:t>Towards Nootropia: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Peinaud"/>
              </a:rPr>
              <a:t>a Non-Linear Approach t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Peinaud"/>
              </a:rPr>
              <a:t>Adaptive Document Filtering</a:t>
            </a:r>
            <a:endParaRPr b="1" lang="en-US" sz="4000" spc="-1" strike="noStrike">
              <a:solidFill>
                <a:srgbClr val="e4e4e4"/>
              </a:solidFill>
              <a:latin typeface="Peinau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4e4e4"/>
                </a:solidFill>
                <a:latin typeface="Georgia"/>
              </a:rPr>
              <a:t>Nikolaos Nanas</a:t>
            </a:r>
            <a:endParaRPr b="0" lang="en-US" sz="2400" spc="-1" strike="noStrike">
              <a:solidFill>
                <a:srgbClr val="e4e4e4"/>
              </a:solidFill>
              <a:latin typeface="Georg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4e4e4"/>
                </a:solidFill>
                <a:latin typeface="Georgia"/>
              </a:rPr>
              <a:t>Knowledge Media Institute</a:t>
            </a:r>
            <a:endParaRPr b="0" lang="en-US" sz="2400" spc="-1" strike="noStrike">
              <a:solidFill>
                <a:srgbClr val="e4e4e4"/>
              </a:solidFill>
              <a:latin typeface="Georgia"/>
            </a:endParaRPr>
          </a:p>
        </p:txBody>
      </p:sp>
      <p:pic>
        <p:nvPicPr>
          <p:cNvPr id="78" name="kmi_logo_big" descr=""/>
          <p:cNvPicPr/>
          <p:nvPr/>
        </p:nvPicPr>
        <p:blipFill>
          <a:blip r:embed="rId2"/>
          <a:stretch/>
        </p:blipFill>
        <p:spPr>
          <a:xfrm>
            <a:off x="7391520" y="5486400"/>
            <a:ext cx="952560" cy="542880"/>
          </a:xfrm>
          <a:prstGeom prst="rect">
            <a:avLst/>
          </a:prstGeom>
          <a:ln w="0">
            <a:noFill/>
          </a:ln>
        </p:spPr>
      </p:pic>
      <p:pic>
        <p:nvPicPr>
          <p:cNvPr id="79" name="ou_logo_big" descr=""/>
          <p:cNvPicPr/>
          <p:nvPr/>
        </p:nvPicPr>
        <p:blipFill>
          <a:blip r:embed="rId3"/>
          <a:stretch/>
        </p:blipFill>
        <p:spPr>
          <a:xfrm>
            <a:off x="685800" y="5562720"/>
            <a:ext cx="1133640" cy="466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e4e4"/>
                </a:solidFill>
                <a:latin typeface="Peinaud"/>
              </a:rPr>
              <a:t>Introducing Nootropia</a:t>
            </a:r>
            <a:endParaRPr b="1" lang="en-US" sz="5400" spc="-1" strike="noStrike">
              <a:solidFill>
                <a:srgbClr val="e4e4e4"/>
              </a:solidFill>
              <a:latin typeface="Peinau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4e4"/>
                </a:solidFill>
                <a:latin typeface="Georgia"/>
              </a:rPr>
              <a:t>Greek word for: “An individual’s or a group’s particular way of thinking, someone’s characteristics of intellect and perception”</a:t>
            </a: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4e4"/>
                </a:solidFill>
                <a:latin typeface="Georgia"/>
              </a:rPr>
              <a:t>AIF with a single profile</a:t>
            </a: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e8e8e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e8e8"/>
                </a:solidFill>
                <a:latin typeface="Georgia"/>
              </a:rPr>
              <a:t>non-linear multi-topic IF</a:t>
            </a:r>
            <a:endParaRPr b="0" lang="en-US" sz="2800" spc="-1" strike="noStrike">
              <a:solidFill>
                <a:srgbClr val="e8e8e8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e8e8e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e8e8"/>
                </a:solidFill>
                <a:latin typeface="Georgia"/>
              </a:rPr>
              <a:t>adaptation through self-organisation</a:t>
            </a:r>
            <a:endParaRPr b="0" lang="en-US" sz="2800" spc="-1" strike="noStrike">
              <a:solidFill>
                <a:srgbClr val="e8e8e8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e4e4"/>
                </a:solidFill>
                <a:latin typeface="Peinaud"/>
              </a:rPr>
              <a:t>Representing Multiple Topics with a Single User Profile</a:t>
            </a:r>
            <a:endParaRPr b="1" lang="en-US" sz="5400" spc="-1" strike="noStrike">
              <a:solidFill>
                <a:srgbClr val="e4e4e4"/>
              </a:solidFill>
              <a:latin typeface="Peinau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4e4"/>
                </a:solidFill>
                <a:latin typeface="Georgia"/>
              </a:rPr>
              <a:t>Hierarchical Term Network</a:t>
            </a: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  <a:p>
            <a:pPr marL="332640" indent="-332640">
              <a:spcBef>
                <a:spcPts val="799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4e4"/>
                </a:solidFill>
                <a:latin typeface="Georgia"/>
              </a:rPr>
              <a:t>Term Dependencies</a:t>
            </a: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  <a:p>
            <a:pPr lvl="1" marL="720720" indent="-277200">
              <a:spcBef>
                <a:spcPts val="700"/>
              </a:spcBef>
              <a:buClr>
                <a:srgbClr val="e8e8e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e8e8"/>
                </a:solidFill>
                <a:latin typeface="Georgia"/>
              </a:rPr>
              <a:t>Lexical Correlations</a:t>
            </a:r>
            <a:endParaRPr b="0" lang="en-US" sz="2800" spc="-1" strike="noStrike">
              <a:solidFill>
                <a:srgbClr val="e8e8e8"/>
              </a:solidFill>
              <a:latin typeface="Georgia"/>
            </a:endParaRPr>
          </a:p>
          <a:p>
            <a:pPr lvl="1" marL="720720" indent="-277200">
              <a:spcBef>
                <a:spcPts val="700"/>
              </a:spcBef>
              <a:buClr>
                <a:srgbClr val="e8e8e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e8e8"/>
                </a:solidFill>
                <a:latin typeface="Georgia"/>
              </a:rPr>
              <a:t>Topical Correlations</a:t>
            </a:r>
            <a:endParaRPr b="0" lang="en-US" sz="2800" spc="-1" strike="noStrike">
              <a:solidFill>
                <a:srgbClr val="e8e8e8"/>
              </a:solidFill>
              <a:latin typeface="Georgia"/>
            </a:endParaRPr>
          </a:p>
          <a:p>
            <a:pPr marL="332640" indent="-332640">
              <a:spcBef>
                <a:spcPts val="799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4e4"/>
                </a:solidFill>
                <a:latin typeface="Georgia"/>
              </a:rPr>
              <a:t>Non-linear Document Evaluation</a:t>
            </a: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  <a:p>
            <a:pPr lvl="1" marL="720720" indent="-277200">
              <a:spcBef>
                <a:spcPts val="700"/>
              </a:spcBef>
              <a:buClr>
                <a:srgbClr val="e8e8e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e8e8"/>
                </a:solidFill>
                <a:latin typeface="Georgia"/>
              </a:rPr>
              <a:t>Directed Spreading Activation Model</a:t>
            </a:r>
            <a:endParaRPr b="0" lang="en-US" sz="2800" spc="-1" strike="noStrike">
              <a:solidFill>
                <a:srgbClr val="e8e8e8"/>
              </a:solidFill>
              <a:latin typeface="Georgia"/>
            </a:endParaRPr>
          </a:p>
          <a:p>
            <a:pPr marL="332640" indent="-332640">
              <a:spcBef>
                <a:spcPts val="799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4e4"/>
                </a:solidFill>
                <a:latin typeface="Georgia"/>
              </a:rPr>
              <a:t>The network is synthesised in three  steps ...</a:t>
            </a: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4e4e4"/>
                </a:solidFill>
                <a:latin typeface="Peinaud"/>
              </a:rPr>
              <a:t>Synthesising the Network: Step 1</a:t>
            </a:r>
            <a:endParaRPr b="1" lang="en-US" sz="5000" spc="-1" strike="noStrike">
              <a:solidFill>
                <a:srgbClr val="e4e4e4"/>
              </a:solidFill>
              <a:latin typeface="Peinau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295280" y="1905120"/>
            <a:ext cx="1019160" cy="1447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752480" y="2209680"/>
            <a:ext cx="1019160" cy="1447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914400" y="2438280"/>
            <a:ext cx="1019160" cy="1447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447920" y="2895480"/>
            <a:ext cx="1019160" cy="1447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762120" y="3352680"/>
            <a:ext cx="1019160" cy="1447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124080" y="2743200"/>
            <a:ext cx="2438640" cy="1676520"/>
          </a:xfrm>
          <a:custGeom>
            <a:avLst/>
            <a:gdLst>
              <a:gd name="textAreaLeft" fmla="*/ 0 w 2438640"/>
              <a:gd name="textAreaRight" fmla="*/ 2438640 w 243864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Peinaud"/>
              </a:rPr>
              <a:t>Term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Peinaud"/>
              </a:rPr>
              <a:t>Weighting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Peinaud"/>
              </a:rPr>
              <a:t>and Extra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15000" y="2438280"/>
            <a:ext cx="609480" cy="30492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24480" y="2971800"/>
            <a:ext cx="609840" cy="30492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2362320"/>
            <a:ext cx="609480" cy="3045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0120" y="2362320"/>
            <a:ext cx="609480" cy="3045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62920" y="2895480"/>
            <a:ext cx="609480" cy="30492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15000" y="3429000"/>
            <a:ext cx="609480" cy="30492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3505320"/>
            <a:ext cx="609480" cy="3045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886200"/>
            <a:ext cx="609480" cy="30492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96080" y="3733920"/>
            <a:ext cx="609840" cy="3045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10280" y="4343400"/>
            <a:ext cx="609840" cy="30492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3600" y="4419720"/>
            <a:ext cx="609480" cy="3045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13320" y="5257800"/>
            <a:ext cx="1992600" cy="825480"/>
          </a:xfrm>
          <a:prstGeom prst="borderCallout1">
            <a:avLst>
              <a:gd name="adj1" fmla="val -823"/>
              <a:gd name="adj2" fmla="val -11120"/>
              <a:gd name="adj3" fmla="val -826"/>
              <a:gd name="adj4" fmla="val 18666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einaud"/>
              </a:rPr>
              <a:t>Weighted Term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3587760" y="4876920"/>
            <a:ext cx="374760" cy="533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3740040" y="5029200"/>
            <a:ext cx="374760" cy="533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3892680" y="5181480"/>
            <a:ext cx="374400" cy="533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0"/>
          <a:stretch/>
        </p:blipFill>
        <p:spPr>
          <a:xfrm>
            <a:off x="4044960" y="4800600"/>
            <a:ext cx="374760" cy="533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1"/>
          <a:stretch/>
        </p:blipFill>
        <p:spPr>
          <a:xfrm>
            <a:off x="4197240" y="5486400"/>
            <a:ext cx="374760" cy="533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2"/>
          <a:stretch/>
        </p:blipFill>
        <p:spPr>
          <a:xfrm>
            <a:off x="4273560" y="5029200"/>
            <a:ext cx="374760" cy="533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3"/>
          <a:stretch/>
        </p:blipFill>
        <p:spPr>
          <a:xfrm>
            <a:off x="4349880" y="5105520"/>
            <a:ext cx="374400" cy="5331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4"/>
          <a:stretch/>
        </p:blipFill>
        <p:spPr>
          <a:xfrm>
            <a:off x="4654440" y="5105520"/>
            <a:ext cx="374760" cy="533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5"/>
          <a:stretch/>
        </p:blipFill>
        <p:spPr>
          <a:xfrm>
            <a:off x="3968640" y="5257800"/>
            <a:ext cx="374760" cy="533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6"/>
          <a:stretch/>
        </p:blipFill>
        <p:spPr>
          <a:xfrm>
            <a:off x="4349880" y="5562720"/>
            <a:ext cx="374400" cy="533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7"/>
          <a:stretch/>
        </p:blipFill>
        <p:spPr>
          <a:xfrm>
            <a:off x="4654440" y="5867280"/>
            <a:ext cx="374760" cy="5335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8"/>
          <a:stretch/>
        </p:blipFill>
        <p:spPr>
          <a:xfrm>
            <a:off x="4883040" y="5257800"/>
            <a:ext cx="374760" cy="5335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9"/>
          <a:stretch/>
        </p:blipFill>
        <p:spPr>
          <a:xfrm>
            <a:off x="4044960" y="5715000"/>
            <a:ext cx="374760" cy="5335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0"/>
          <a:stretch/>
        </p:blipFill>
        <p:spPr>
          <a:xfrm>
            <a:off x="3664080" y="5410080"/>
            <a:ext cx="374400" cy="533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1"/>
          <a:stretch/>
        </p:blipFill>
        <p:spPr>
          <a:xfrm>
            <a:off x="4654440" y="5562720"/>
            <a:ext cx="374760" cy="533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2"/>
          <a:stretch/>
        </p:blipFill>
        <p:spPr>
          <a:xfrm>
            <a:off x="3816360" y="5334120"/>
            <a:ext cx="374760" cy="5331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3"/>
          <a:stretch/>
        </p:blipFill>
        <p:spPr>
          <a:xfrm>
            <a:off x="4807080" y="4800600"/>
            <a:ext cx="374400" cy="533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7000" y="4924440"/>
            <a:ext cx="2176560" cy="703800"/>
          </a:xfrm>
          <a:prstGeom prst="borderCallout1">
            <a:avLst>
              <a:gd name="adj1" fmla="val 22353"/>
              <a:gd name="adj2" fmla="val -16995"/>
              <a:gd name="adj3" fmla="val 22356"/>
              <a:gd name="adj4" fmla="val 15664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einaud"/>
              </a:rPr>
              <a:t>Interesting document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5675400"/>
            <a:ext cx="2209680" cy="703800"/>
          </a:xfrm>
          <a:prstGeom prst="borderCallout1">
            <a:avLst>
              <a:gd name="adj1" fmla="val 25709"/>
              <a:gd name="adj2" fmla="val 15095"/>
              <a:gd name="adj3" fmla="val 1117"/>
              <a:gd name="adj4" fmla="val 2555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einaud"/>
              </a:rPr>
              <a:t>Document collectio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4e4e4"/>
                </a:solidFill>
                <a:latin typeface="Peinaud"/>
              </a:rPr>
              <a:t>Synthesising the Network: Step 2</a:t>
            </a:r>
            <a:endParaRPr b="1" lang="en-US" sz="5000" spc="-1" strike="noStrike">
              <a:solidFill>
                <a:srgbClr val="e4e4e4"/>
              </a:solidFill>
              <a:latin typeface="Peinaud"/>
            </a:endParaRPr>
          </a:p>
        </p:txBody>
      </p:sp>
      <p:sp>
        <p:nvSpPr>
          <p:cNvPr id="142" name=""/>
          <p:cNvSpPr/>
          <p:nvPr/>
        </p:nvSpPr>
        <p:spPr>
          <a:xfrm>
            <a:off x="3505320" y="3048120"/>
            <a:ext cx="1904760" cy="144756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Peinaud"/>
              </a:rPr>
              <a:t>Link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Peinaud"/>
              </a:rPr>
              <a:t>Genera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3581280"/>
            <a:ext cx="380880" cy="15264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40480" y="3505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Palladius"/>
              </a:rPr>
              <a:t>word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3480" y="3505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Palladius"/>
              </a:rPr>
              <a:t>word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23160" y="3505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Palladius"/>
              </a:rPr>
              <a:t>word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21720" y="3505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Palladius"/>
              </a:rPr>
              <a:t>word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4360" y="388620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Palladius"/>
              </a:rPr>
              <a:t>word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57400" y="3581280"/>
            <a:ext cx="380880" cy="15264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75600" y="388620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Palladius"/>
              </a:rPr>
              <a:t>word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90000" y="388620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Palladius"/>
              </a:rPr>
              <a:t>word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480" y="388620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Palladius"/>
              </a:rPr>
              <a:t>word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3880" y="3962520"/>
            <a:ext cx="381240" cy="15228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43" idx="7"/>
            <a:endCxn id="149" idx="1"/>
          </p:cNvCxnSpPr>
          <p:nvPr/>
        </p:nvCxnSpPr>
        <p:spPr>
          <a:xfrm flipH="1" rot="16200000">
            <a:off x="1599480" y="3075480"/>
            <a:ext cx="2160" cy="1026000"/>
          </a:xfrm>
          <a:prstGeom prst="curvedConnector5">
            <a:avLst>
              <a:gd name="adj1" fmla="val -14800000"/>
              <a:gd name="adj2" fmla="val 49982"/>
              <a:gd name="adj3" fmla="val -14800000"/>
            </a:avLst>
          </a:prstGeom>
          <a:ln w="25560">
            <a:solidFill>
              <a:srgbClr val="ffcc99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914400" y="312408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72240" y="2751120"/>
            <a:ext cx="6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ladius"/>
              </a:rPr>
              <a:t>d=3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1905120"/>
            <a:ext cx="1447920" cy="825480"/>
          </a:xfrm>
          <a:prstGeom prst="borderCallout1">
            <a:avLst>
              <a:gd name="adj1" fmla="val 18750"/>
              <a:gd name="adj2" fmla="val -8333"/>
              <a:gd name="adj3" fmla="val 159675"/>
              <a:gd name="adj4" fmla="val -16004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einaud"/>
              </a:rPr>
              <a:t>weighted link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4495680"/>
            <a:ext cx="2438640" cy="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560" y="4546440"/>
            <a:ext cx="292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einaud"/>
              </a:rPr>
              <a:t>sliding window =10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2438280"/>
            <a:ext cx="609480" cy="30492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53080" y="3048120"/>
            <a:ext cx="609840" cy="3045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705720" y="2362320"/>
            <a:ext cx="609480" cy="3045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96080" y="2514600"/>
            <a:ext cx="609840" cy="30492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43800" y="3124080"/>
            <a:ext cx="609480" cy="30492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15000" y="3276720"/>
            <a:ext cx="609480" cy="3045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86600" y="3657600"/>
            <a:ext cx="609480" cy="30492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3886200"/>
            <a:ext cx="609480" cy="30492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48720" y="3962520"/>
            <a:ext cx="609480" cy="3045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238880" y="4495680"/>
            <a:ext cx="609840" cy="30492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91320" y="4572000"/>
            <a:ext cx="609480" cy="30492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"/>
          <p:cNvCxnSpPr>
            <a:stCxn id="160" idx="4"/>
            <a:endCxn id="165" idx="0"/>
          </p:cNvCxnSpPr>
          <p:nvPr/>
        </p:nvCxnSpPr>
        <p:spPr>
          <a:xfrm>
            <a:off x="6019560" y="2759040"/>
            <a:ext cx="1080" cy="5025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172" name=""/>
          <p:cNvCxnSpPr>
            <a:stCxn id="160" idx="4"/>
            <a:endCxn id="161" idx="2"/>
          </p:cNvCxnSpPr>
          <p:nvPr/>
        </p:nvCxnSpPr>
        <p:spPr>
          <a:xfrm>
            <a:off x="6019560" y="2759040"/>
            <a:ext cx="518040" cy="4420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173" name=""/>
          <p:cNvCxnSpPr>
            <a:stCxn id="160" idx="4"/>
            <a:endCxn id="167" idx="0"/>
          </p:cNvCxnSpPr>
          <p:nvPr/>
        </p:nvCxnSpPr>
        <p:spPr>
          <a:xfrm>
            <a:off x="6019560" y="2758680"/>
            <a:ext cx="533880" cy="11120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174" name=""/>
          <p:cNvCxnSpPr>
            <a:stCxn id="161" idx="4"/>
            <a:endCxn id="167" idx="0"/>
          </p:cNvCxnSpPr>
          <p:nvPr/>
        </p:nvCxnSpPr>
        <p:spPr>
          <a:xfrm flipH="1">
            <a:off x="6552360" y="3368520"/>
            <a:ext cx="305640" cy="5025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175" name=""/>
          <p:cNvCxnSpPr>
            <a:stCxn id="168" idx="0"/>
            <a:endCxn id="163" idx="4"/>
          </p:cNvCxnSpPr>
          <p:nvPr/>
        </p:nvCxnSpPr>
        <p:spPr>
          <a:xfrm flipH="1" flipV="1">
            <a:off x="8000280" y="2834640"/>
            <a:ext cx="153000" cy="11120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176" name=""/>
          <p:cNvCxnSpPr>
            <a:stCxn id="162" idx="4"/>
            <a:endCxn id="166" idx="0"/>
          </p:cNvCxnSpPr>
          <p:nvPr/>
        </p:nvCxnSpPr>
        <p:spPr>
          <a:xfrm>
            <a:off x="7009920" y="2682720"/>
            <a:ext cx="381960" cy="9597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177" name=""/>
          <p:cNvCxnSpPr>
            <a:stCxn id="169" idx="0"/>
            <a:endCxn id="166" idx="4"/>
          </p:cNvCxnSpPr>
          <p:nvPr/>
        </p:nvCxnSpPr>
        <p:spPr>
          <a:xfrm flipH="1" flipV="1">
            <a:off x="7390800" y="3978000"/>
            <a:ext cx="153000" cy="5018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178" name=""/>
          <p:cNvCxnSpPr>
            <a:stCxn id="161" idx="0"/>
            <a:endCxn id="162" idx="4"/>
          </p:cNvCxnSpPr>
          <p:nvPr/>
        </p:nvCxnSpPr>
        <p:spPr>
          <a:xfrm flipV="1">
            <a:off x="6857640" y="2682000"/>
            <a:ext cx="153000" cy="3502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179" name=""/>
          <p:cNvCxnSpPr>
            <a:stCxn id="167" idx="1"/>
            <a:endCxn id="165" idx="4"/>
          </p:cNvCxnSpPr>
          <p:nvPr/>
        </p:nvCxnSpPr>
        <p:spPr>
          <a:xfrm flipH="1" flipV="1">
            <a:off x="6019920" y="3597120"/>
            <a:ext cx="317880" cy="3178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180" name=""/>
          <p:cNvCxnSpPr>
            <a:stCxn id="167" idx="4"/>
            <a:endCxn id="170" idx="0"/>
          </p:cNvCxnSpPr>
          <p:nvPr/>
        </p:nvCxnSpPr>
        <p:spPr>
          <a:xfrm flipH="1">
            <a:off x="6095520" y="4206960"/>
            <a:ext cx="457920" cy="3499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181" name=""/>
          <p:cNvCxnSpPr>
            <a:stCxn id="167" idx="4"/>
            <a:endCxn id="169" idx="0"/>
          </p:cNvCxnSpPr>
          <p:nvPr/>
        </p:nvCxnSpPr>
        <p:spPr>
          <a:xfrm>
            <a:off x="6553080" y="4206960"/>
            <a:ext cx="991440" cy="2732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182" name=""/>
          <p:cNvCxnSpPr>
            <a:stCxn id="163" idx="4"/>
            <a:endCxn id="164" idx="0"/>
          </p:cNvCxnSpPr>
          <p:nvPr/>
        </p:nvCxnSpPr>
        <p:spPr>
          <a:xfrm flipH="1">
            <a:off x="7848000" y="2835360"/>
            <a:ext cx="153000" cy="2732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183" name=""/>
          <p:cNvCxnSpPr>
            <a:stCxn id="166" idx="0"/>
            <a:endCxn id="161" idx="4"/>
          </p:cNvCxnSpPr>
          <p:nvPr/>
        </p:nvCxnSpPr>
        <p:spPr>
          <a:xfrm flipH="1" flipV="1">
            <a:off x="6857640" y="3367800"/>
            <a:ext cx="534240" cy="2739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184" name=""/>
          <p:cNvCxnSpPr>
            <a:stCxn id="169" idx="0"/>
            <a:endCxn id="168" idx="4"/>
          </p:cNvCxnSpPr>
          <p:nvPr/>
        </p:nvCxnSpPr>
        <p:spPr>
          <a:xfrm flipV="1">
            <a:off x="7543440" y="4282200"/>
            <a:ext cx="610200" cy="1976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185" name=""/>
          <p:cNvCxnSpPr>
            <a:stCxn id="166" idx="0"/>
            <a:endCxn id="164" idx="4"/>
          </p:cNvCxnSpPr>
          <p:nvPr/>
        </p:nvCxnSpPr>
        <p:spPr>
          <a:xfrm flipV="1">
            <a:off x="7391520" y="3444120"/>
            <a:ext cx="457920" cy="1976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186" name=""/>
          <p:cNvSpPr/>
          <p:nvPr/>
        </p:nvSpPr>
        <p:spPr>
          <a:xfrm>
            <a:off x="4830840" y="5095800"/>
            <a:ext cx="2097000" cy="1191240"/>
          </a:xfrm>
          <a:prstGeom prst="borderCallout1">
            <a:avLst>
              <a:gd name="adj1" fmla="val 22382"/>
              <a:gd name="adj2" fmla="val -13945"/>
              <a:gd name="adj3" fmla="val 22385"/>
              <a:gd name="adj4" fmla="val 18174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einaud"/>
              </a:rPr>
              <a:t>Symmetric associative link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4e4e4"/>
                </a:solidFill>
                <a:latin typeface="Peinaud"/>
              </a:rPr>
              <a:t>Synthesising the Network: Step 2</a:t>
            </a:r>
            <a:endParaRPr b="1" lang="en-US" sz="5000" spc="-1" strike="noStrike">
              <a:solidFill>
                <a:srgbClr val="e4e4e4"/>
              </a:solidFill>
              <a:latin typeface="Peinaud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3505320"/>
            <a:ext cx="1905120" cy="144756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Peinaud"/>
              </a:rPr>
              <a:t>Hierarchical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Peinaud"/>
              </a:rPr>
              <a:t>Ordering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19520" y="2971800"/>
            <a:ext cx="609480" cy="30492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05320" y="3581280"/>
            <a:ext cx="609480" cy="30492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2590920"/>
            <a:ext cx="609480" cy="3045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95680" y="3048120"/>
            <a:ext cx="609840" cy="3045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67080" y="3657600"/>
            <a:ext cx="609840" cy="30492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90920" y="4038480"/>
            <a:ext cx="609480" cy="30492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4419720"/>
            <a:ext cx="609840" cy="3045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00400" y="4648320"/>
            <a:ext cx="609480" cy="3045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800600" y="4724280"/>
            <a:ext cx="609480" cy="30492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91120" y="5257800"/>
            <a:ext cx="609480" cy="30492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43200" y="5334120"/>
            <a:ext cx="609480" cy="3045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stCxn id="189" idx="4"/>
            <a:endCxn id="194" idx="0"/>
          </p:cNvCxnSpPr>
          <p:nvPr/>
        </p:nvCxnSpPr>
        <p:spPr>
          <a:xfrm flipH="1">
            <a:off x="2894760" y="3292560"/>
            <a:ext cx="229320" cy="7308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201" name=""/>
          <p:cNvCxnSpPr>
            <a:stCxn id="189" idx="4"/>
            <a:endCxn id="190" idx="0"/>
          </p:cNvCxnSpPr>
          <p:nvPr/>
        </p:nvCxnSpPr>
        <p:spPr>
          <a:xfrm>
            <a:off x="3123720" y="3292560"/>
            <a:ext cx="686520" cy="2732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202" name=""/>
          <p:cNvCxnSpPr>
            <a:stCxn id="189" idx="4"/>
            <a:endCxn id="196" idx="0"/>
          </p:cNvCxnSpPr>
          <p:nvPr/>
        </p:nvCxnSpPr>
        <p:spPr>
          <a:xfrm>
            <a:off x="3123720" y="3292560"/>
            <a:ext cx="381960" cy="13406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203" name=""/>
          <p:cNvCxnSpPr>
            <a:stCxn id="190" idx="4"/>
            <a:endCxn id="196" idx="0"/>
          </p:cNvCxnSpPr>
          <p:nvPr/>
        </p:nvCxnSpPr>
        <p:spPr>
          <a:xfrm flipH="1">
            <a:off x="3504960" y="3901680"/>
            <a:ext cx="305280" cy="7311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204" name=""/>
          <p:cNvCxnSpPr>
            <a:stCxn id="197" idx="0"/>
            <a:endCxn id="192" idx="4"/>
          </p:cNvCxnSpPr>
          <p:nvPr/>
        </p:nvCxnSpPr>
        <p:spPr>
          <a:xfrm flipH="1" flipV="1">
            <a:off x="4799880" y="3368160"/>
            <a:ext cx="305640" cy="13406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205" name=""/>
          <p:cNvCxnSpPr>
            <a:stCxn id="191" idx="4"/>
            <a:endCxn id="195" idx="0"/>
          </p:cNvCxnSpPr>
          <p:nvPr/>
        </p:nvCxnSpPr>
        <p:spPr>
          <a:xfrm>
            <a:off x="3962520" y="2911320"/>
            <a:ext cx="381600" cy="14932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206" name=""/>
          <p:cNvCxnSpPr>
            <a:stCxn id="198" idx="0"/>
            <a:endCxn id="195" idx="4"/>
          </p:cNvCxnSpPr>
          <p:nvPr/>
        </p:nvCxnSpPr>
        <p:spPr>
          <a:xfrm flipH="1" flipV="1">
            <a:off x="4342680" y="4739760"/>
            <a:ext cx="153000" cy="5025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207" name=""/>
          <p:cNvCxnSpPr>
            <a:stCxn id="190" idx="0"/>
            <a:endCxn id="191" idx="4"/>
          </p:cNvCxnSpPr>
          <p:nvPr/>
        </p:nvCxnSpPr>
        <p:spPr>
          <a:xfrm flipV="1">
            <a:off x="3809880" y="2910600"/>
            <a:ext cx="153360" cy="6548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208" name=""/>
          <p:cNvCxnSpPr>
            <a:stCxn id="196" idx="1"/>
            <a:endCxn id="194" idx="4"/>
          </p:cNvCxnSpPr>
          <p:nvPr/>
        </p:nvCxnSpPr>
        <p:spPr>
          <a:xfrm flipH="1" flipV="1">
            <a:off x="2895120" y="4359240"/>
            <a:ext cx="394560" cy="3178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209" name=""/>
          <p:cNvCxnSpPr>
            <a:stCxn id="196" idx="4"/>
            <a:endCxn id="199" idx="0"/>
          </p:cNvCxnSpPr>
          <p:nvPr/>
        </p:nvCxnSpPr>
        <p:spPr>
          <a:xfrm flipH="1">
            <a:off x="3047760" y="4968360"/>
            <a:ext cx="457920" cy="3502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210" name=""/>
          <p:cNvCxnSpPr>
            <a:stCxn id="196" idx="4"/>
            <a:endCxn id="198" idx="0"/>
          </p:cNvCxnSpPr>
          <p:nvPr/>
        </p:nvCxnSpPr>
        <p:spPr>
          <a:xfrm>
            <a:off x="3504960" y="4968360"/>
            <a:ext cx="991080" cy="2739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211" name=""/>
          <p:cNvCxnSpPr>
            <a:stCxn id="192" idx="4"/>
            <a:endCxn id="193" idx="0"/>
          </p:cNvCxnSpPr>
          <p:nvPr/>
        </p:nvCxnSpPr>
        <p:spPr>
          <a:xfrm flipH="1">
            <a:off x="4571280" y="3368160"/>
            <a:ext cx="229320" cy="2739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212" name=""/>
          <p:cNvCxnSpPr>
            <a:stCxn id="195" idx="0"/>
            <a:endCxn id="190" idx="4"/>
          </p:cNvCxnSpPr>
          <p:nvPr/>
        </p:nvCxnSpPr>
        <p:spPr>
          <a:xfrm flipH="1" flipV="1">
            <a:off x="3809520" y="3901680"/>
            <a:ext cx="534240" cy="5025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213" name=""/>
          <p:cNvCxnSpPr>
            <a:stCxn id="198" idx="0"/>
            <a:endCxn id="197" idx="4"/>
          </p:cNvCxnSpPr>
          <p:nvPr/>
        </p:nvCxnSpPr>
        <p:spPr>
          <a:xfrm flipV="1">
            <a:off x="4495680" y="5044320"/>
            <a:ext cx="610560" cy="1976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214" name=""/>
          <p:cNvCxnSpPr>
            <a:stCxn id="195" idx="0"/>
            <a:endCxn id="193" idx="4"/>
          </p:cNvCxnSpPr>
          <p:nvPr/>
        </p:nvCxnSpPr>
        <p:spPr>
          <a:xfrm flipV="1">
            <a:off x="4343040" y="3978000"/>
            <a:ext cx="229320" cy="4262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215" name=""/>
          <p:cNvSpPr/>
          <p:nvPr/>
        </p:nvSpPr>
        <p:spPr>
          <a:xfrm>
            <a:off x="5562720" y="3581280"/>
            <a:ext cx="609480" cy="30492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324480" y="3809880"/>
            <a:ext cx="609840" cy="30492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3124080"/>
            <a:ext cx="609480" cy="30492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3886200"/>
            <a:ext cx="609480" cy="30492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257800" y="4191120"/>
            <a:ext cx="609480" cy="3045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4419720"/>
            <a:ext cx="609480" cy="3045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19920" y="4648320"/>
            <a:ext cx="609480" cy="3045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10280" y="5257800"/>
            <a:ext cx="609840" cy="30492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34120" y="5257800"/>
            <a:ext cx="609480" cy="30492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"/>
          <p:cNvCxnSpPr>
            <a:stCxn id="215" idx="4"/>
            <a:endCxn id="219" idx="0"/>
          </p:cNvCxnSpPr>
          <p:nvPr/>
        </p:nvCxnSpPr>
        <p:spPr>
          <a:xfrm flipH="1">
            <a:off x="5562360" y="3901680"/>
            <a:ext cx="305280" cy="2739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225" name=""/>
          <p:cNvCxnSpPr>
            <a:stCxn id="215" idx="4"/>
            <a:endCxn id="216" idx="2"/>
          </p:cNvCxnSpPr>
          <p:nvPr/>
        </p:nvCxnSpPr>
        <p:spPr>
          <a:xfrm>
            <a:off x="5867280" y="3902040"/>
            <a:ext cx="442080" cy="612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226" name=""/>
          <p:cNvCxnSpPr>
            <a:stCxn id="215" idx="4"/>
            <a:endCxn id="221" idx="0"/>
          </p:cNvCxnSpPr>
          <p:nvPr/>
        </p:nvCxnSpPr>
        <p:spPr>
          <a:xfrm>
            <a:off x="5867280" y="3901680"/>
            <a:ext cx="457920" cy="7311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227" name=""/>
          <p:cNvCxnSpPr>
            <a:stCxn id="216" idx="4"/>
            <a:endCxn id="221" idx="0"/>
          </p:cNvCxnSpPr>
          <p:nvPr/>
        </p:nvCxnSpPr>
        <p:spPr>
          <a:xfrm flipH="1">
            <a:off x="6323760" y="4130640"/>
            <a:ext cx="305640" cy="5025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228" name=""/>
          <p:cNvCxnSpPr>
            <a:stCxn id="217" idx="4"/>
            <a:endCxn id="220" idx="0"/>
          </p:cNvCxnSpPr>
          <p:nvPr/>
        </p:nvCxnSpPr>
        <p:spPr>
          <a:xfrm>
            <a:off x="6781320" y="3444840"/>
            <a:ext cx="381960" cy="9597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229" name=""/>
          <p:cNvCxnSpPr>
            <a:stCxn id="222" idx="0"/>
            <a:endCxn id="220" idx="4"/>
          </p:cNvCxnSpPr>
          <p:nvPr/>
        </p:nvCxnSpPr>
        <p:spPr>
          <a:xfrm flipH="1" flipV="1">
            <a:off x="7162200" y="4739760"/>
            <a:ext cx="153000" cy="5025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230" name=""/>
          <p:cNvCxnSpPr>
            <a:stCxn id="216" idx="0"/>
            <a:endCxn id="217" idx="4"/>
          </p:cNvCxnSpPr>
          <p:nvPr/>
        </p:nvCxnSpPr>
        <p:spPr>
          <a:xfrm flipV="1">
            <a:off x="6629040" y="3444480"/>
            <a:ext cx="153000" cy="3499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231" name=""/>
          <p:cNvCxnSpPr>
            <a:stCxn id="221" idx="1"/>
            <a:endCxn id="219" idx="4"/>
          </p:cNvCxnSpPr>
          <p:nvPr/>
        </p:nvCxnSpPr>
        <p:spPr>
          <a:xfrm flipH="1" flipV="1">
            <a:off x="5562360" y="4510800"/>
            <a:ext cx="546480" cy="1659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232" name=""/>
          <p:cNvCxnSpPr>
            <a:stCxn id="221" idx="4"/>
            <a:endCxn id="223" idx="0"/>
          </p:cNvCxnSpPr>
          <p:nvPr/>
        </p:nvCxnSpPr>
        <p:spPr>
          <a:xfrm flipH="1">
            <a:off x="5637960" y="4968360"/>
            <a:ext cx="686520" cy="2739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233" name=""/>
          <p:cNvCxnSpPr>
            <a:stCxn id="221" idx="4"/>
            <a:endCxn id="222" idx="0"/>
          </p:cNvCxnSpPr>
          <p:nvPr/>
        </p:nvCxnSpPr>
        <p:spPr>
          <a:xfrm>
            <a:off x="6324480" y="4968360"/>
            <a:ext cx="991440" cy="2739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234" name=""/>
          <p:cNvCxnSpPr>
            <a:stCxn id="220" idx="0"/>
            <a:endCxn id="216" idx="4"/>
          </p:cNvCxnSpPr>
          <p:nvPr/>
        </p:nvCxnSpPr>
        <p:spPr>
          <a:xfrm flipH="1" flipV="1">
            <a:off x="6629040" y="4129920"/>
            <a:ext cx="534240" cy="2739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235" name=""/>
          <p:cNvCxnSpPr>
            <a:stCxn id="220" idx="0"/>
            <a:endCxn id="218" idx="4"/>
          </p:cNvCxnSpPr>
          <p:nvPr/>
        </p:nvCxnSpPr>
        <p:spPr>
          <a:xfrm flipV="1">
            <a:off x="7162920" y="4206240"/>
            <a:ext cx="457920" cy="1976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236" name=""/>
          <p:cNvSpPr/>
          <p:nvPr/>
        </p:nvSpPr>
        <p:spPr>
          <a:xfrm flipV="1">
            <a:off x="3429000" y="2895120"/>
            <a:ext cx="533520" cy="228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"/>
          <p:cNvCxnSpPr>
            <a:stCxn id="236" idx="0"/>
            <a:endCxn id="192" idx="2"/>
          </p:cNvCxnSpPr>
          <p:nvPr/>
        </p:nvCxnSpPr>
        <p:spPr>
          <a:xfrm>
            <a:off x="3960720" y="2885760"/>
            <a:ext cx="519840" cy="3150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238" name=""/>
          <p:cNvCxnSpPr>
            <a:stCxn id="197" idx="0"/>
            <a:endCxn id="219" idx="4"/>
          </p:cNvCxnSpPr>
          <p:nvPr/>
        </p:nvCxnSpPr>
        <p:spPr>
          <a:xfrm flipV="1">
            <a:off x="5105520" y="4510800"/>
            <a:ext cx="457920" cy="1976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239" name=""/>
          <p:cNvCxnSpPr>
            <a:stCxn id="197" idx="4"/>
            <a:endCxn id="223" idx="0"/>
          </p:cNvCxnSpPr>
          <p:nvPr/>
        </p:nvCxnSpPr>
        <p:spPr>
          <a:xfrm>
            <a:off x="5105160" y="5044680"/>
            <a:ext cx="533880" cy="1976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240" name=""/>
          <p:cNvCxnSpPr>
            <a:stCxn id="215" idx="6"/>
            <a:endCxn id="217" idx="4"/>
          </p:cNvCxnSpPr>
          <p:nvPr/>
        </p:nvCxnSpPr>
        <p:spPr>
          <a:xfrm flipV="1">
            <a:off x="6187680" y="3444480"/>
            <a:ext cx="594360" cy="2894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241" name=""/>
          <p:cNvCxnSpPr>
            <a:stCxn id="218" idx="0"/>
            <a:endCxn id="217" idx="4"/>
          </p:cNvCxnSpPr>
          <p:nvPr/>
        </p:nvCxnSpPr>
        <p:spPr>
          <a:xfrm flipH="1" flipV="1">
            <a:off x="6780960" y="3444480"/>
            <a:ext cx="839160" cy="4262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242" name=""/>
          <p:cNvCxnSpPr/>
          <p:nvPr/>
        </p:nvCxnSpPr>
        <p:spPr>
          <a:xfrm>
            <a:off x="8152920" y="2742840"/>
            <a:ext cx="1080" cy="30488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243" name=""/>
          <p:cNvCxnSpPr/>
          <p:nvPr/>
        </p:nvCxnSpPr>
        <p:spPr>
          <a:xfrm>
            <a:off x="8152920" y="2742840"/>
            <a:ext cx="6865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244" name=""/>
          <p:cNvCxnSpPr/>
          <p:nvPr/>
        </p:nvCxnSpPr>
        <p:spPr>
          <a:xfrm flipH="1">
            <a:off x="8457840" y="2742840"/>
            <a:ext cx="381600" cy="30488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245" name=""/>
          <p:cNvCxnSpPr/>
          <p:nvPr/>
        </p:nvCxnSpPr>
        <p:spPr>
          <a:xfrm flipH="1">
            <a:off x="8152560" y="5790960"/>
            <a:ext cx="30564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7940520" y="2314440"/>
            <a:ext cx="11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einaud"/>
              </a:rPr>
              <a:t>weigh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62520" y="2362320"/>
            <a:ext cx="274320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708440" y="19558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einaud"/>
              </a:rPr>
              <a:t>breadth </a:t>
            </a:r>
            <a:r>
              <a:rPr b="0" i="1" lang="en-US" sz="2400" spc="-1" strike="noStrike">
                <a:solidFill>
                  <a:srgbClr val="ffffff"/>
                </a:solidFill>
                <a:latin typeface="Peinaud"/>
              </a:rPr>
              <a:t>b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2743200"/>
            <a:ext cx="0" cy="27432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6200000">
            <a:off x="1598400" y="33886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einaud"/>
              </a:rPr>
              <a:t>depth</a:t>
            </a:r>
            <a:r>
              <a:rPr b="0" lang="en-US" sz="2400" spc="-1" strike="noStrike">
                <a:solidFill>
                  <a:srgbClr val="ffffff"/>
                </a:solidFill>
                <a:latin typeface="Palladius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Palladius"/>
              </a:rPr>
              <a:t>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71600" y="1924200"/>
            <a:ext cx="1957320" cy="825480"/>
          </a:xfrm>
          <a:prstGeom prst="borderCallout1">
            <a:avLst>
              <a:gd name="adj1" fmla="val 18750"/>
              <a:gd name="adj2" fmla="val -8333"/>
              <a:gd name="adj3" fmla="val 88314"/>
              <a:gd name="adj4" fmla="val 117833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einaud"/>
              </a:rPr>
              <a:t>dominant term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4e4e4"/>
                </a:solidFill>
                <a:latin typeface="Peinaud"/>
              </a:rPr>
              <a:t>Non-Linear Document Evaluation</a:t>
            </a:r>
            <a:endParaRPr b="1" lang="en-US" sz="5000" spc="-1" strike="noStrike">
              <a:solidFill>
                <a:srgbClr val="e4e4e4"/>
              </a:solidFill>
              <a:latin typeface="Peinaud"/>
            </a:endParaRPr>
          </a:p>
        </p:txBody>
      </p:sp>
      <p:sp>
        <p:nvSpPr>
          <p:cNvPr id="253" name=""/>
          <p:cNvSpPr/>
          <p:nvPr/>
        </p:nvSpPr>
        <p:spPr>
          <a:xfrm>
            <a:off x="3300480" y="2228760"/>
            <a:ext cx="469800" cy="258840"/>
          </a:xfrm>
          <a:prstGeom prst="ellipse">
            <a:avLst/>
          </a:prstGeom>
          <a:solidFill>
            <a:srgbClr val="ff9900">
              <a:alpha val="50000"/>
            </a:srgbClr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828960" y="2746440"/>
            <a:ext cx="471600" cy="260280"/>
          </a:xfrm>
          <a:prstGeom prst="ellipse">
            <a:avLst/>
          </a:prstGeom>
          <a:solidFill>
            <a:srgbClr val="ff9900">
              <a:alpha val="50000"/>
            </a:srgbClr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46680" y="1905120"/>
            <a:ext cx="471240" cy="258480"/>
          </a:xfrm>
          <a:prstGeom prst="ellipse">
            <a:avLst/>
          </a:prstGeom>
          <a:noFill/>
          <a:ln w="316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94320" y="2293920"/>
            <a:ext cx="469800" cy="258840"/>
          </a:xfrm>
          <a:prstGeom prst="ellipse">
            <a:avLst/>
          </a:prstGeom>
          <a:noFill/>
          <a:ln w="316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17920" y="2811600"/>
            <a:ext cx="470160" cy="258480"/>
          </a:xfrm>
          <a:prstGeom prst="ellipse">
            <a:avLst/>
          </a:prstGeom>
          <a:noFill/>
          <a:ln w="316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3135240"/>
            <a:ext cx="470160" cy="258840"/>
          </a:xfrm>
          <a:prstGeom prst="ellipse">
            <a:avLst/>
          </a:prstGeom>
          <a:solidFill>
            <a:srgbClr val="ff9900">
              <a:alpha val="50000"/>
            </a:srgbClr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41880" y="3459240"/>
            <a:ext cx="469800" cy="258840"/>
          </a:xfrm>
          <a:prstGeom prst="ellipse">
            <a:avLst/>
          </a:prstGeom>
          <a:solidFill>
            <a:srgbClr val="ff9900">
              <a:alpha val="50000"/>
            </a:srgbClr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94240" y="3654360"/>
            <a:ext cx="469800" cy="258840"/>
          </a:xfrm>
          <a:prstGeom prst="ellipse">
            <a:avLst/>
          </a:prstGeom>
          <a:solidFill>
            <a:srgbClr val="ff9900">
              <a:alpha val="50000"/>
            </a:srgbClr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29040" y="3718080"/>
            <a:ext cx="470160" cy="260280"/>
          </a:xfrm>
          <a:prstGeom prst="ellipse">
            <a:avLst/>
          </a:prstGeom>
          <a:noFill/>
          <a:ln w="316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359240" y="4172040"/>
            <a:ext cx="469800" cy="258840"/>
          </a:xfrm>
          <a:prstGeom prst="ellipse">
            <a:avLst/>
          </a:prstGeom>
          <a:solidFill>
            <a:srgbClr val="ff9900">
              <a:alpha val="50000"/>
            </a:srgbClr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41800" y="4237200"/>
            <a:ext cx="469800" cy="258480"/>
          </a:xfrm>
          <a:prstGeom prst="ellipse">
            <a:avLst/>
          </a:prstGeom>
          <a:solidFill>
            <a:srgbClr val="ff9900">
              <a:alpha val="50000"/>
            </a:srgbClr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53" idx="4"/>
            <a:endCxn id="258" idx="0"/>
          </p:cNvCxnSpPr>
          <p:nvPr/>
        </p:nvCxnSpPr>
        <p:spPr>
          <a:xfrm flipH="1">
            <a:off x="3358440" y="2502000"/>
            <a:ext cx="176760" cy="6210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headEnd len="med" type="triangle" w="sm"/>
          </a:ln>
        </p:spPr>
      </p:cxnSp>
      <p:cxnSp>
        <p:nvCxnSpPr>
          <p:cNvPr id="265" name=""/>
          <p:cNvCxnSpPr>
            <a:stCxn id="253" idx="4"/>
            <a:endCxn id="254" idx="0"/>
          </p:cNvCxnSpPr>
          <p:nvPr/>
        </p:nvCxnSpPr>
        <p:spPr>
          <a:xfrm>
            <a:off x="3534840" y="2502000"/>
            <a:ext cx="529200" cy="2325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headEnd len="med" type="triangle" w="sm"/>
          </a:ln>
        </p:spPr>
      </p:cxnSp>
      <p:cxnSp>
        <p:nvCxnSpPr>
          <p:cNvPr id="266" name=""/>
          <p:cNvCxnSpPr>
            <a:stCxn id="253" idx="4"/>
            <a:endCxn id="260" idx="0"/>
          </p:cNvCxnSpPr>
          <p:nvPr/>
        </p:nvCxnSpPr>
        <p:spPr>
          <a:xfrm>
            <a:off x="3535200" y="2501640"/>
            <a:ext cx="294480" cy="11386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headEnd len="med" type="triangle" w="sm"/>
          </a:ln>
        </p:spPr>
      </p:cxnSp>
      <p:cxnSp>
        <p:nvCxnSpPr>
          <p:cNvPr id="267" name=""/>
          <p:cNvCxnSpPr>
            <a:stCxn id="254" idx="4"/>
            <a:endCxn id="260" idx="0"/>
          </p:cNvCxnSpPr>
          <p:nvPr/>
        </p:nvCxnSpPr>
        <p:spPr>
          <a:xfrm flipH="1">
            <a:off x="3828240" y="3019320"/>
            <a:ext cx="235800" cy="6210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headEnd len="med" type="stealth" w="sm"/>
          </a:ln>
        </p:spPr>
      </p:cxnSp>
      <p:cxnSp>
        <p:nvCxnSpPr>
          <p:cNvPr id="268" name=""/>
          <p:cNvCxnSpPr>
            <a:stCxn id="261" idx="0"/>
            <a:endCxn id="256" idx="4"/>
          </p:cNvCxnSpPr>
          <p:nvPr/>
        </p:nvCxnSpPr>
        <p:spPr>
          <a:xfrm flipH="1" flipV="1">
            <a:off x="4828320" y="2566440"/>
            <a:ext cx="235800" cy="1138680"/>
          </a:xfrm>
          <a:prstGeom prst="straightConnector1">
            <a:avLst/>
          </a:prstGeom>
          <a:ln w="19080">
            <a:solidFill>
              <a:srgbClr val="ffffff">
                <a:alpha val="50000"/>
              </a:srgbClr>
            </a:solidFill>
            <a:miter/>
          </a:ln>
        </p:spPr>
      </p:cxnSp>
      <p:cxnSp>
        <p:nvCxnSpPr>
          <p:cNvPr id="269" name=""/>
          <p:cNvCxnSpPr>
            <a:stCxn id="255" idx="4"/>
            <a:endCxn id="259" idx="0"/>
          </p:cNvCxnSpPr>
          <p:nvPr/>
        </p:nvCxnSpPr>
        <p:spPr>
          <a:xfrm>
            <a:off x="4182840" y="2178000"/>
            <a:ext cx="294120" cy="1269360"/>
          </a:xfrm>
          <a:prstGeom prst="straightConnector1">
            <a:avLst/>
          </a:prstGeom>
          <a:ln w="19080">
            <a:solidFill>
              <a:srgbClr val="ffffff">
                <a:alpha val="50000"/>
              </a:srgbClr>
            </a:solidFill>
            <a:miter/>
          </a:ln>
        </p:spPr>
      </p:cxnSp>
      <p:cxnSp>
        <p:nvCxnSpPr>
          <p:cNvPr id="270" name=""/>
          <p:cNvCxnSpPr>
            <a:stCxn id="262" idx="0"/>
            <a:endCxn id="259" idx="4"/>
          </p:cNvCxnSpPr>
          <p:nvPr/>
        </p:nvCxnSpPr>
        <p:spPr>
          <a:xfrm flipH="1" flipV="1">
            <a:off x="4475880" y="3731760"/>
            <a:ext cx="118440" cy="4276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sm"/>
          </a:ln>
        </p:spPr>
      </p:cxnSp>
      <p:cxnSp>
        <p:nvCxnSpPr>
          <p:cNvPr id="271" name=""/>
          <p:cNvCxnSpPr>
            <a:stCxn id="254" idx="0"/>
            <a:endCxn id="255" idx="4"/>
          </p:cNvCxnSpPr>
          <p:nvPr/>
        </p:nvCxnSpPr>
        <p:spPr>
          <a:xfrm flipV="1">
            <a:off x="4063680" y="2177640"/>
            <a:ext cx="119880" cy="556560"/>
          </a:xfrm>
          <a:prstGeom prst="straightConnector1">
            <a:avLst/>
          </a:prstGeom>
          <a:ln w="19080">
            <a:solidFill>
              <a:srgbClr val="ffffff">
                <a:alpha val="50000"/>
              </a:srgbClr>
            </a:solidFill>
            <a:miter/>
          </a:ln>
        </p:spPr>
      </p:cxnSp>
      <p:cxnSp>
        <p:nvCxnSpPr>
          <p:cNvPr id="272" name=""/>
          <p:cNvCxnSpPr>
            <a:stCxn id="260" idx="1"/>
            <a:endCxn id="258" idx="4"/>
          </p:cNvCxnSpPr>
          <p:nvPr/>
        </p:nvCxnSpPr>
        <p:spPr>
          <a:xfrm flipH="1" flipV="1">
            <a:off x="3358800" y="3407760"/>
            <a:ext cx="303840" cy="2703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sm"/>
          </a:ln>
        </p:spPr>
      </p:cxnSp>
      <p:cxnSp>
        <p:nvCxnSpPr>
          <p:cNvPr id="273" name=""/>
          <p:cNvCxnSpPr>
            <a:stCxn id="260" idx="4"/>
            <a:endCxn id="263" idx="0"/>
          </p:cNvCxnSpPr>
          <p:nvPr/>
        </p:nvCxnSpPr>
        <p:spPr>
          <a:xfrm flipH="1">
            <a:off x="3475800" y="3925440"/>
            <a:ext cx="353160" cy="297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headEnd len="med" type="triangle" w="sm"/>
          </a:ln>
        </p:spPr>
      </p:cxnSp>
      <p:cxnSp>
        <p:nvCxnSpPr>
          <p:cNvPr id="274" name=""/>
          <p:cNvCxnSpPr>
            <a:stCxn id="260" idx="4"/>
            <a:endCxn id="262" idx="0"/>
          </p:cNvCxnSpPr>
          <p:nvPr/>
        </p:nvCxnSpPr>
        <p:spPr>
          <a:xfrm>
            <a:off x="3828960" y="3925800"/>
            <a:ext cx="766080" cy="2340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headEnd len="med" type="triangle" w="sm"/>
          </a:ln>
        </p:spPr>
      </p:cxnSp>
      <p:cxnSp>
        <p:nvCxnSpPr>
          <p:cNvPr id="275" name=""/>
          <p:cNvCxnSpPr>
            <a:stCxn id="256" idx="4"/>
            <a:endCxn id="257" idx="0"/>
          </p:cNvCxnSpPr>
          <p:nvPr/>
        </p:nvCxnSpPr>
        <p:spPr>
          <a:xfrm flipH="1">
            <a:off x="4652280" y="2566800"/>
            <a:ext cx="176760" cy="232200"/>
          </a:xfrm>
          <a:prstGeom prst="straightConnector1">
            <a:avLst/>
          </a:prstGeom>
          <a:ln w="19080">
            <a:solidFill>
              <a:srgbClr val="ffffff">
                <a:alpha val="50000"/>
              </a:srgbClr>
            </a:solidFill>
            <a:miter/>
          </a:ln>
        </p:spPr>
      </p:cxnSp>
      <p:cxnSp>
        <p:nvCxnSpPr>
          <p:cNvPr id="276" name=""/>
          <p:cNvCxnSpPr>
            <a:stCxn id="259" idx="0"/>
            <a:endCxn id="254" idx="4"/>
          </p:cNvCxnSpPr>
          <p:nvPr/>
        </p:nvCxnSpPr>
        <p:spPr>
          <a:xfrm flipH="1" flipV="1">
            <a:off x="4063680" y="3018600"/>
            <a:ext cx="413280" cy="4280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sm"/>
          </a:ln>
        </p:spPr>
      </p:cxnSp>
      <p:cxnSp>
        <p:nvCxnSpPr>
          <p:cNvPr id="277" name=""/>
          <p:cNvCxnSpPr>
            <a:stCxn id="262" idx="0"/>
            <a:endCxn id="261" idx="4"/>
          </p:cNvCxnSpPr>
          <p:nvPr/>
        </p:nvCxnSpPr>
        <p:spPr>
          <a:xfrm flipV="1">
            <a:off x="4593960" y="3990240"/>
            <a:ext cx="470520" cy="168840"/>
          </a:xfrm>
          <a:prstGeom prst="straightConnector1">
            <a:avLst/>
          </a:prstGeom>
          <a:ln w="19080">
            <a:solidFill>
              <a:srgbClr val="ffffff">
                <a:alpha val="50000"/>
              </a:srgbClr>
            </a:solidFill>
            <a:miter/>
          </a:ln>
        </p:spPr>
      </p:cxnSp>
      <p:cxnSp>
        <p:nvCxnSpPr>
          <p:cNvPr id="278" name=""/>
          <p:cNvCxnSpPr>
            <a:stCxn id="259" idx="0"/>
            <a:endCxn id="257" idx="4"/>
          </p:cNvCxnSpPr>
          <p:nvPr/>
        </p:nvCxnSpPr>
        <p:spPr>
          <a:xfrm flipV="1">
            <a:off x="4476600" y="3084480"/>
            <a:ext cx="177120" cy="362520"/>
          </a:xfrm>
          <a:prstGeom prst="straightConnector1">
            <a:avLst/>
          </a:prstGeom>
          <a:ln w="19080">
            <a:solidFill>
              <a:srgbClr val="ffffff">
                <a:alpha val="50000"/>
              </a:srgbClr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5416560" y="2746440"/>
            <a:ext cx="469800" cy="260280"/>
          </a:xfrm>
          <a:prstGeom prst="ellipse">
            <a:avLst/>
          </a:prstGeom>
          <a:noFill/>
          <a:ln w="316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04080" y="2941560"/>
            <a:ext cx="471240" cy="258840"/>
          </a:xfrm>
          <a:prstGeom prst="ellipse">
            <a:avLst/>
          </a:prstGeom>
          <a:solidFill>
            <a:srgbClr val="ff9900">
              <a:alpha val="50000"/>
            </a:srgbClr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121440" y="2359080"/>
            <a:ext cx="471600" cy="258840"/>
          </a:xfrm>
          <a:prstGeom prst="ellipse">
            <a:avLst/>
          </a:prstGeom>
          <a:solidFill>
            <a:srgbClr val="ff9900">
              <a:alpha val="50000"/>
            </a:srgbClr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769080" y="3006720"/>
            <a:ext cx="469800" cy="258840"/>
          </a:xfrm>
          <a:prstGeom prst="ellipse">
            <a:avLst/>
          </a:prstGeom>
          <a:solidFill>
            <a:srgbClr val="ff9900">
              <a:alpha val="50000"/>
            </a:srgbClr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181480" y="3265560"/>
            <a:ext cx="470160" cy="258840"/>
          </a:xfrm>
          <a:prstGeom prst="ellipse">
            <a:avLst/>
          </a:prstGeom>
          <a:noFill/>
          <a:ln w="316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416640" y="3459240"/>
            <a:ext cx="469800" cy="258840"/>
          </a:xfrm>
          <a:prstGeom prst="ellipse">
            <a:avLst/>
          </a:prstGeom>
          <a:noFill/>
          <a:ln w="316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69000" y="3654360"/>
            <a:ext cx="471600" cy="258840"/>
          </a:xfrm>
          <a:prstGeom prst="ellipse">
            <a:avLst/>
          </a:prstGeom>
          <a:noFill/>
          <a:ln w="316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534000" y="4172040"/>
            <a:ext cx="470160" cy="258840"/>
          </a:xfrm>
          <a:prstGeom prst="ellipse">
            <a:avLst/>
          </a:prstGeom>
          <a:solidFill>
            <a:srgbClr val="ff9900">
              <a:alpha val="50000"/>
            </a:srgbClr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240160" y="4172040"/>
            <a:ext cx="470160" cy="258840"/>
          </a:xfrm>
          <a:prstGeom prst="ellipse">
            <a:avLst/>
          </a:prstGeom>
          <a:noFill/>
          <a:ln w="316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"/>
          <p:cNvCxnSpPr>
            <a:stCxn id="279" idx="4"/>
            <a:endCxn id="283" idx="0"/>
          </p:cNvCxnSpPr>
          <p:nvPr/>
        </p:nvCxnSpPr>
        <p:spPr>
          <a:xfrm flipH="1">
            <a:off x="5415840" y="3022200"/>
            <a:ext cx="235800" cy="227880"/>
          </a:xfrm>
          <a:prstGeom prst="straightConnector1">
            <a:avLst/>
          </a:prstGeom>
          <a:ln w="19080">
            <a:solidFill>
              <a:srgbClr val="ffffff">
                <a:alpha val="50000"/>
              </a:srgbClr>
            </a:solidFill>
            <a:miter/>
          </a:ln>
        </p:spPr>
      </p:cxnSp>
      <p:cxnSp>
        <p:nvCxnSpPr>
          <p:cNvPr id="289" name=""/>
          <p:cNvCxnSpPr>
            <a:stCxn id="279" idx="4"/>
            <a:endCxn id="280" idx="2"/>
          </p:cNvCxnSpPr>
          <p:nvPr/>
        </p:nvCxnSpPr>
        <p:spPr>
          <a:xfrm>
            <a:off x="5651640" y="3018960"/>
            <a:ext cx="342000" cy="51480"/>
          </a:xfrm>
          <a:prstGeom prst="straightConnector1">
            <a:avLst/>
          </a:prstGeom>
          <a:ln w="19080">
            <a:solidFill>
              <a:srgbClr val="ffffff">
                <a:alpha val="50000"/>
              </a:srgbClr>
            </a:solidFill>
            <a:miter/>
          </a:ln>
        </p:spPr>
      </p:cxnSp>
      <p:cxnSp>
        <p:nvCxnSpPr>
          <p:cNvPr id="290" name=""/>
          <p:cNvCxnSpPr>
            <a:stCxn id="279" idx="4"/>
            <a:endCxn id="285" idx="0"/>
          </p:cNvCxnSpPr>
          <p:nvPr/>
        </p:nvCxnSpPr>
        <p:spPr>
          <a:xfrm>
            <a:off x="5651280" y="3019320"/>
            <a:ext cx="353160" cy="621000"/>
          </a:xfrm>
          <a:prstGeom prst="straightConnector1">
            <a:avLst/>
          </a:prstGeom>
          <a:ln w="19080">
            <a:solidFill>
              <a:srgbClr val="ffffff">
                <a:alpha val="50000"/>
              </a:srgbClr>
            </a:solidFill>
            <a:miter/>
          </a:ln>
        </p:spPr>
      </p:cxnSp>
      <p:cxnSp>
        <p:nvCxnSpPr>
          <p:cNvPr id="291" name=""/>
          <p:cNvCxnSpPr>
            <a:stCxn id="280" idx="4"/>
            <a:endCxn id="285" idx="0"/>
          </p:cNvCxnSpPr>
          <p:nvPr/>
        </p:nvCxnSpPr>
        <p:spPr>
          <a:xfrm flipH="1">
            <a:off x="6003360" y="3214440"/>
            <a:ext cx="237240" cy="425880"/>
          </a:xfrm>
          <a:prstGeom prst="straightConnector1">
            <a:avLst/>
          </a:prstGeom>
          <a:ln w="19080">
            <a:solidFill>
              <a:srgbClr val="ffffff">
                <a:alpha val="50000"/>
              </a:srgbClr>
            </a:solidFill>
            <a:miter/>
          </a:ln>
        </p:spPr>
      </p:cxnSp>
      <p:cxnSp>
        <p:nvCxnSpPr>
          <p:cNvPr id="292" name=""/>
          <p:cNvCxnSpPr>
            <a:stCxn id="281" idx="4"/>
            <a:endCxn id="284" idx="0"/>
          </p:cNvCxnSpPr>
          <p:nvPr/>
        </p:nvCxnSpPr>
        <p:spPr>
          <a:xfrm>
            <a:off x="6357960" y="2630160"/>
            <a:ext cx="294480" cy="8168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293" name=""/>
          <p:cNvCxnSpPr>
            <a:stCxn id="286" idx="0"/>
            <a:endCxn id="284" idx="4"/>
          </p:cNvCxnSpPr>
          <p:nvPr/>
        </p:nvCxnSpPr>
        <p:spPr>
          <a:xfrm flipH="1" flipV="1">
            <a:off x="6651360" y="3731760"/>
            <a:ext cx="118080" cy="427680"/>
          </a:xfrm>
          <a:prstGeom prst="straightConnector1">
            <a:avLst/>
          </a:prstGeom>
          <a:ln w="19080">
            <a:solidFill>
              <a:srgbClr val="ffffff">
                <a:alpha val="50000"/>
              </a:srgbClr>
            </a:solidFill>
            <a:miter/>
          </a:ln>
        </p:spPr>
      </p:cxnSp>
      <p:cxnSp>
        <p:nvCxnSpPr>
          <p:cNvPr id="294" name=""/>
          <p:cNvCxnSpPr>
            <a:stCxn id="280" idx="0"/>
            <a:endCxn id="281" idx="4"/>
          </p:cNvCxnSpPr>
          <p:nvPr/>
        </p:nvCxnSpPr>
        <p:spPr>
          <a:xfrm flipV="1">
            <a:off x="6240600" y="2629800"/>
            <a:ext cx="118080" cy="297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sm"/>
          </a:ln>
        </p:spPr>
      </p:cxnSp>
      <p:cxnSp>
        <p:nvCxnSpPr>
          <p:cNvPr id="295" name=""/>
          <p:cNvCxnSpPr>
            <a:stCxn id="285" idx="1"/>
            <a:endCxn id="283" idx="4"/>
          </p:cNvCxnSpPr>
          <p:nvPr/>
        </p:nvCxnSpPr>
        <p:spPr>
          <a:xfrm flipH="1" flipV="1">
            <a:off x="5415840" y="3538080"/>
            <a:ext cx="421560" cy="140400"/>
          </a:xfrm>
          <a:prstGeom prst="straightConnector1">
            <a:avLst/>
          </a:prstGeom>
          <a:ln w="19080">
            <a:solidFill>
              <a:srgbClr val="ffffff">
                <a:alpha val="50000"/>
              </a:srgbClr>
            </a:solidFill>
            <a:miter/>
          </a:ln>
        </p:spPr>
      </p:cxnSp>
      <p:cxnSp>
        <p:nvCxnSpPr>
          <p:cNvPr id="296" name=""/>
          <p:cNvCxnSpPr>
            <a:stCxn id="285" idx="4"/>
            <a:endCxn id="287" idx="0"/>
          </p:cNvCxnSpPr>
          <p:nvPr/>
        </p:nvCxnSpPr>
        <p:spPr>
          <a:xfrm flipH="1">
            <a:off x="5474880" y="3925800"/>
            <a:ext cx="529200" cy="234000"/>
          </a:xfrm>
          <a:prstGeom prst="straightConnector1">
            <a:avLst/>
          </a:prstGeom>
          <a:ln w="19080">
            <a:solidFill>
              <a:srgbClr val="ffffff">
                <a:alpha val="50000"/>
              </a:srgbClr>
            </a:solidFill>
            <a:miter/>
          </a:ln>
        </p:spPr>
      </p:cxnSp>
      <p:cxnSp>
        <p:nvCxnSpPr>
          <p:cNvPr id="297" name=""/>
          <p:cNvCxnSpPr>
            <a:stCxn id="285" idx="4"/>
            <a:endCxn id="286" idx="0"/>
          </p:cNvCxnSpPr>
          <p:nvPr/>
        </p:nvCxnSpPr>
        <p:spPr>
          <a:xfrm>
            <a:off x="6003720" y="3925800"/>
            <a:ext cx="765720" cy="234000"/>
          </a:xfrm>
          <a:prstGeom prst="straightConnector1">
            <a:avLst/>
          </a:prstGeom>
          <a:ln w="19080">
            <a:solidFill>
              <a:srgbClr val="ffffff">
                <a:alpha val="50000"/>
              </a:srgbClr>
            </a:solidFill>
            <a:miter/>
          </a:ln>
        </p:spPr>
      </p:cxnSp>
      <p:cxnSp>
        <p:nvCxnSpPr>
          <p:cNvPr id="298" name=""/>
          <p:cNvCxnSpPr>
            <a:stCxn id="284" idx="0"/>
            <a:endCxn id="280" idx="4"/>
          </p:cNvCxnSpPr>
          <p:nvPr/>
        </p:nvCxnSpPr>
        <p:spPr>
          <a:xfrm flipH="1" flipV="1">
            <a:off x="6240240" y="3214440"/>
            <a:ext cx="411840" cy="232560"/>
          </a:xfrm>
          <a:prstGeom prst="straightConnector1">
            <a:avLst/>
          </a:prstGeom>
          <a:ln w="19080">
            <a:solidFill>
              <a:srgbClr val="ffffff">
                <a:alpha val="50000"/>
              </a:srgbClr>
            </a:solidFill>
            <a:miter/>
          </a:ln>
        </p:spPr>
      </p:cxnSp>
      <p:cxnSp>
        <p:nvCxnSpPr>
          <p:cNvPr id="299" name=""/>
          <p:cNvCxnSpPr>
            <a:stCxn id="284" idx="0"/>
            <a:endCxn id="282" idx="4"/>
          </p:cNvCxnSpPr>
          <p:nvPr/>
        </p:nvCxnSpPr>
        <p:spPr>
          <a:xfrm flipV="1">
            <a:off x="6651360" y="3277800"/>
            <a:ext cx="353160" cy="169200"/>
          </a:xfrm>
          <a:prstGeom prst="straightConnector1">
            <a:avLst/>
          </a:prstGeom>
          <a:ln w="19080">
            <a:solidFill>
              <a:srgbClr val="ffffff">
                <a:alpha val="50000"/>
              </a:srgbClr>
            </a:solidFill>
            <a:miter/>
          </a:ln>
        </p:spPr>
      </p:cxnSp>
      <p:sp>
        <p:nvSpPr>
          <p:cNvPr id="300" name=""/>
          <p:cNvSpPr/>
          <p:nvPr/>
        </p:nvSpPr>
        <p:spPr>
          <a:xfrm flipV="1">
            <a:off x="3770280" y="2163240"/>
            <a:ext cx="412920" cy="195480"/>
          </a:xfrm>
          <a:prstGeom prst="line">
            <a:avLst/>
          </a:prstGeom>
          <a:ln w="190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"/>
          <p:cNvCxnSpPr>
            <a:stCxn id="300" idx="0"/>
            <a:endCxn id="256" idx="2"/>
          </p:cNvCxnSpPr>
          <p:nvPr/>
        </p:nvCxnSpPr>
        <p:spPr>
          <a:xfrm>
            <a:off x="4181040" y="2155320"/>
            <a:ext cx="400680" cy="267120"/>
          </a:xfrm>
          <a:prstGeom prst="straightConnector1">
            <a:avLst/>
          </a:prstGeom>
          <a:ln w="19080">
            <a:solidFill>
              <a:srgbClr val="ffffff">
                <a:alpha val="50000"/>
              </a:srgbClr>
            </a:solidFill>
            <a:miter/>
          </a:ln>
        </p:spPr>
      </p:cxnSp>
      <p:cxnSp>
        <p:nvCxnSpPr>
          <p:cNvPr id="302" name=""/>
          <p:cNvCxnSpPr>
            <a:stCxn id="261" idx="0"/>
            <a:endCxn id="283" idx="4"/>
          </p:cNvCxnSpPr>
          <p:nvPr/>
        </p:nvCxnSpPr>
        <p:spPr>
          <a:xfrm flipV="1">
            <a:off x="5063760" y="3538080"/>
            <a:ext cx="353160" cy="167040"/>
          </a:xfrm>
          <a:prstGeom prst="straightConnector1">
            <a:avLst/>
          </a:prstGeom>
          <a:ln w="19080">
            <a:solidFill>
              <a:srgbClr val="ffffff">
                <a:alpha val="50000"/>
              </a:srgbClr>
            </a:solidFill>
            <a:miter/>
          </a:ln>
        </p:spPr>
      </p:cxnSp>
      <p:cxnSp>
        <p:nvCxnSpPr>
          <p:cNvPr id="303" name=""/>
          <p:cNvCxnSpPr>
            <a:stCxn id="261" idx="4"/>
            <a:endCxn id="287" idx="0"/>
          </p:cNvCxnSpPr>
          <p:nvPr/>
        </p:nvCxnSpPr>
        <p:spPr>
          <a:xfrm>
            <a:off x="5064120" y="3990600"/>
            <a:ext cx="411840" cy="168840"/>
          </a:xfrm>
          <a:prstGeom prst="straightConnector1">
            <a:avLst/>
          </a:prstGeom>
          <a:ln w="19080">
            <a:solidFill>
              <a:srgbClr val="ffffff">
                <a:alpha val="50000"/>
              </a:srgbClr>
            </a:solidFill>
            <a:miter/>
          </a:ln>
        </p:spPr>
      </p:cxnSp>
      <p:cxnSp>
        <p:nvCxnSpPr>
          <p:cNvPr id="304" name=""/>
          <p:cNvCxnSpPr>
            <a:stCxn id="279" idx="6"/>
            <a:endCxn id="281" idx="4"/>
          </p:cNvCxnSpPr>
          <p:nvPr/>
        </p:nvCxnSpPr>
        <p:spPr>
          <a:xfrm flipV="1">
            <a:off x="5899320" y="2629800"/>
            <a:ext cx="459360" cy="246600"/>
          </a:xfrm>
          <a:prstGeom prst="straightConnector1">
            <a:avLst/>
          </a:prstGeom>
          <a:ln w="19080">
            <a:solidFill>
              <a:srgbClr val="ffffff">
                <a:alpha val="50000"/>
              </a:srgbClr>
            </a:solidFill>
            <a:miter/>
          </a:ln>
        </p:spPr>
      </p:cxnSp>
      <p:cxnSp>
        <p:nvCxnSpPr>
          <p:cNvPr id="305" name=""/>
          <p:cNvCxnSpPr>
            <a:stCxn id="282" idx="0"/>
            <a:endCxn id="281" idx="4"/>
          </p:cNvCxnSpPr>
          <p:nvPr/>
        </p:nvCxnSpPr>
        <p:spPr>
          <a:xfrm flipH="1" flipV="1">
            <a:off x="6357240" y="2629800"/>
            <a:ext cx="646920" cy="3625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sm"/>
          </a:ln>
        </p:spPr>
      </p:cxn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1295280" y="2438280"/>
            <a:ext cx="1287720" cy="18288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380880" y="4952880"/>
            <a:ext cx="3353040" cy="579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/log(NT</a:t>
            </a:r>
            <a:r>
              <a:rPr b="0" lang="en-US" sz="2800" spc="-1" strike="noStrike">
                <a:solidFill>
                  <a:srgbClr val="ffffff"/>
                </a:solidFill>
                <a:latin typeface="Peinaud"/>
              </a:rPr>
              <a:t>)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86200" y="4952880"/>
            <a:ext cx="2057400" cy="579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(1/b)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205320" y="4938840"/>
            <a:ext cx="2841840" cy="579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log(1+a/b)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08680" y="1908000"/>
            <a:ext cx="1497240" cy="703800"/>
          </a:xfrm>
          <a:prstGeom prst="borderCallout1">
            <a:avLst>
              <a:gd name="adj1" fmla="val 18750"/>
              <a:gd name="adj2" fmla="val -8333"/>
              <a:gd name="adj3" fmla="val 55773"/>
              <a:gd name="adj4" fmla="val -27884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einaud"/>
              </a:rPr>
              <a:t>Activated term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e4e4"/>
                </a:solidFill>
                <a:latin typeface="Georgia"/>
              </a:rPr>
              <a:t>Reuters RCV1 (806.791 news stories)</a:t>
            </a:r>
            <a:endParaRPr b="0" lang="en-US" sz="2800" spc="-1" strike="noStrike">
              <a:solidFill>
                <a:srgbClr val="e4e4e4"/>
              </a:solidFill>
              <a:latin typeface="Georgia"/>
            </a:endParaRPr>
          </a:p>
          <a:p>
            <a:pPr marL="318960" indent="-318960">
              <a:spcBef>
                <a:spcPts val="700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e4e4"/>
                </a:solidFill>
                <a:latin typeface="Georgia"/>
              </a:rPr>
              <a:t>84 Topic Categories</a:t>
            </a:r>
            <a:endParaRPr b="0" lang="en-US" sz="2800" spc="-1" strike="noStrike">
              <a:solidFill>
                <a:srgbClr val="e4e4e4"/>
              </a:solidFill>
              <a:latin typeface="Georgia"/>
            </a:endParaRPr>
          </a:p>
          <a:p>
            <a:pPr marL="318960" indent="-318960">
              <a:spcBef>
                <a:spcPts val="700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e4e4"/>
                </a:solidFill>
                <a:latin typeface="Georgia"/>
              </a:rPr>
              <a:t>A separate profile for each topic</a:t>
            </a:r>
            <a:endParaRPr b="0" lang="en-US" sz="2800" spc="-1" strike="noStrike">
              <a:solidFill>
                <a:srgbClr val="e4e4e4"/>
              </a:solidFill>
              <a:latin typeface="Georgia"/>
            </a:endParaRPr>
          </a:p>
          <a:p>
            <a:pPr marL="318960" indent="-318960">
              <a:spcBef>
                <a:spcPts val="700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e4e4"/>
                </a:solidFill>
                <a:latin typeface="Georgia"/>
              </a:rPr>
              <a:t>Complete relevance information provided by the training set </a:t>
            </a:r>
            <a:endParaRPr b="0" lang="en-US" sz="2800" spc="-1" strike="noStrike">
              <a:solidFill>
                <a:srgbClr val="e4e4e4"/>
              </a:solidFill>
              <a:latin typeface="Georgia"/>
            </a:endParaRPr>
          </a:p>
          <a:p>
            <a:pPr marL="318960" indent="-318960">
              <a:spcBef>
                <a:spcPts val="700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e4e4"/>
                </a:solidFill>
                <a:latin typeface="Georgia"/>
              </a:rPr>
              <a:t>Any non-relevance related information</a:t>
            </a:r>
            <a:endParaRPr b="0" lang="en-US" sz="2800" spc="-1" strike="noStrike">
              <a:solidFill>
                <a:srgbClr val="e4e4e4"/>
              </a:solidFill>
              <a:latin typeface="Georgia"/>
            </a:endParaRPr>
          </a:p>
          <a:p>
            <a:pPr marL="318960" indent="-318960">
              <a:spcBef>
                <a:spcPts val="700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e4e4"/>
                </a:solidFill>
                <a:latin typeface="Georgia"/>
              </a:rPr>
              <a:t>Systems are evaluated based on the best 1000 scoring test documents using the </a:t>
            </a:r>
            <a:r>
              <a:rPr b="0" i="1" lang="en-US" sz="2800" spc="-1" strike="noStrike">
                <a:solidFill>
                  <a:srgbClr val="e4e4e4"/>
                </a:solidFill>
                <a:latin typeface="Georgia"/>
              </a:rPr>
              <a:t>Average Uninterpolated Precision </a:t>
            </a:r>
            <a:r>
              <a:rPr b="0" lang="en-US" sz="2800" spc="-1" strike="noStrike">
                <a:solidFill>
                  <a:srgbClr val="e4e4e4"/>
                </a:solidFill>
                <a:latin typeface="Georgia"/>
              </a:rPr>
              <a:t>(AUP) measure</a:t>
            </a:r>
            <a:endParaRPr b="0" lang="en-US" sz="2800" spc="-1" strike="noStrike">
              <a:solidFill>
                <a:srgbClr val="e4e4e4"/>
              </a:solidFill>
              <a:latin typeface="Georg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e4e4"/>
                </a:solidFill>
                <a:latin typeface="Peinaud"/>
              </a:rPr>
              <a:t>The TREC Routing Subtask</a:t>
            </a:r>
            <a:endParaRPr b="1" lang="en-US" sz="5400" spc="-1" strike="noStrike">
              <a:solidFill>
                <a:srgbClr val="e4e4e4"/>
              </a:solidFill>
              <a:latin typeface="Peinau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e4e4"/>
                </a:solidFill>
                <a:latin typeface="Peinaud"/>
              </a:rPr>
              <a:t>Multi-Topic </a:t>
            </a:r>
            <a:br>
              <a:rPr sz="5400"/>
            </a:br>
            <a:r>
              <a:rPr b="1" lang="en-US" sz="5400" spc="-1" strike="noStrike">
                <a:solidFill>
                  <a:srgbClr val="e4e4e4"/>
                </a:solidFill>
                <a:latin typeface="Peinaud"/>
              </a:rPr>
              <a:t>Experimental Methodology</a:t>
            </a:r>
            <a:endParaRPr b="1" lang="en-US" sz="5400" spc="-1" strike="noStrike">
              <a:solidFill>
                <a:srgbClr val="e4e4e4"/>
              </a:solidFill>
              <a:latin typeface="Peinau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4e4e4"/>
                </a:solidFill>
                <a:latin typeface="Georgia"/>
              </a:rPr>
              <a:t>2 and 3 topic combinations</a:t>
            </a:r>
            <a:endParaRPr b="0" lang="en-US" sz="2600" spc="-1" strike="noStrike">
              <a:solidFill>
                <a:srgbClr val="e4e4e4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4e4e4"/>
                </a:solidFill>
                <a:latin typeface="Georgia"/>
              </a:rPr>
              <a:t>30 training documents per topic</a:t>
            </a:r>
            <a:endParaRPr b="0" lang="en-US" sz="2600" spc="-1" strike="noStrike">
              <a:solidFill>
                <a:srgbClr val="e4e4e4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4e4e4"/>
                </a:solidFill>
                <a:latin typeface="Georgia"/>
              </a:rPr>
              <a:t>Evaluation based on the best 3000 documents</a:t>
            </a:r>
            <a:endParaRPr b="0" lang="en-US" sz="2600" spc="-1" strike="noStrike">
              <a:solidFill>
                <a:srgbClr val="e4e4e4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4e4e4"/>
                </a:solidFill>
                <a:latin typeface="Georgia"/>
              </a:rPr>
              <a:t>Separate AUP score for each topic</a:t>
            </a:r>
            <a:endParaRPr b="0" lang="en-US" sz="2600" spc="-1" strike="noStrike">
              <a:solidFill>
                <a:srgbClr val="e4e4e4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4e4e4"/>
                </a:solidFill>
                <a:latin typeface="Georgia"/>
              </a:rPr>
              <a:t>Experimented with:</a:t>
            </a:r>
            <a:endParaRPr b="0" lang="en-US" sz="2600" spc="-1" strike="noStrike">
              <a:solidFill>
                <a:srgbClr val="e4e4e4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e8e8e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e8e8"/>
                </a:solidFill>
                <a:latin typeface="Georgia"/>
              </a:rPr>
              <a:t>unconnected profiles using the inner product (S0)</a:t>
            </a:r>
            <a:endParaRPr b="0" lang="en-US" sz="2400" spc="-1" strike="noStrike">
              <a:solidFill>
                <a:srgbClr val="e8e8e8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e8e8e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e8e8"/>
                </a:solidFill>
                <a:latin typeface="Georgia"/>
              </a:rPr>
              <a:t>connected profiles using S1, S2 or S3</a:t>
            </a:r>
            <a:endParaRPr b="0" lang="en-US" sz="2400" spc="-1" strike="noStrike">
              <a:solidFill>
                <a:srgbClr val="e8e8e8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4e4e4"/>
                </a:solidFill>
                <a:latin typeface="Georgia"/>
              </a:rPr>
              <a:t>IG and RelDF for various thresholds</a:t>
            </a:r>
            <a:endParaRPr b="0" lang="en-US" sz="2600" spc="-1" strike="noStrike">
              <a:solidFill>
                <a:srgbClr val="e4e4e4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e4e4"/>
                </a:solidFill>
                <a:latin typeface="Peinaud"/>
              </a:rPr>
              <a:t>Two-Topic Experiments</a:t>
            </a:r>
            <a:endParaRPr b="1" lang="en-US" sz="5400" spc="-1" strike="noStrike">
              <a:solidFill>
                <a:srgbClr val="e4e4e4"/>
              </a:solidFill>
              <a:latin typeface="Peinaud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533520" y="2362320"/>
            <a:ext cx="3886200" cy="27050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4724280" y="2362320"/>
            <a:ext cx="388620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e4e4"/>
                </a:solidFill>
                <a:latin typeface="Peinaud"/>
              </a:rPr>
              <a:t>Three-Topic Experiments</a:t>
            </a:r>
            <a:endParaRPr b="1" lang="en-US" sz="5400" spc="-1" strike="noStrike">
              <a:solidFill>
                <a:srgbClr val="e4e4e4"/>
              </a:solidFill>
              <a:latin typeface="Peinaud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4038480" cy="28116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4724280" y="2286000"/>
            <a:ext cx="396252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e4e4"/>
                </a:solidFill>
                <a:latin typeface="Peinaud"/>
              </a:rPr>
              <a:t>Overview</a:t>
            </a:r>
            <a:endParaRPr b="1" lang="en-US" sz="5400" spc="-1" strike="noStrike">
              <a:solidFill>
                <a:srgbClr val="e4e4e4"/>
              </a:solidFill>
              <a:latin typeface="Peinau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4e4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e4e4e4"/>
                </a:solidFill>
                <a:latin typeface="Georgia"/>
              </a:rPr>
              <a:t>Adaptive Information Filtering</a:t>
            </a: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4e4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e4e4e4"/>
                </a:solidFill>
                <a:latin typeface="Georgia"/>
              </a:rPr>
              <a:t>Nootropia</a:t>
            </a: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e8e8e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e8e8"/>
                </a:solidFill>
                <a:latin typeface="Georgia"/>
              </a:rPr>
              <a:t>Multi-Topic Document Filtering</a:t>
            </a:r>
            <a:endParaRPr b="0" lang="en-US" sz="2800" spc="-1" strike="noStrike">
              <a:solidFill>
                <a:srgbClr val="e8e8e8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e8e8e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e8e8"/>
                </a:solidFill>
                <a:latin typeface="Georgia"/>
              </a:rPr>
              <a:t>Profile Adaptation through Self-Organisation</a:t>
            </a:r>
            <a:endParaRPr b="0" lang="en-US" sz="2800" spc="-1" strike="noStrike">
              <a:solidFill>
                <a:srgbClr val="e8e8e8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4e4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e4e4e4"/>
                </a:solidFill>
                <a:latin typeface="Georgia"/>
              </a:rPr>
              <a:t>Applications and Projections</a:t>
            </a: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e4e4"/>
                </a:solidFill>
                <a:latin typeface="Peinaud"/>
              </a:rPr>
              <a:t>Findings</a:t>
            </a:r>
            <a:endParaRPr b="1" lang="en-US" sz="5400" spc="-1" strike="noStrike">
              <a:solidFill>
                <a:srgbClr val="e4e4e4"/>
              </a:solidFill>
              <a:latin typeface="Peinau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4e4"/>
                </a:solidFill>
                <a:latin typeface="Georgia"/>
              </a:rPr>
              <a:t>Connected profiles  outperform unconnected profiles for most topics and their combinations</a:t>
            </a: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4e4"/>
                </a:solidFill>
                <a:latin typeface="Georgia"/>
              </a:rPr>
              <a:t>Sensitive to the number of links</a:t>
            </a: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4e4"/>
                </a:solidFill>
                <a:latin typeface="Georgia"/>
              </a:rPr>
              <a:t>Additional evidence</a:t>
            </a: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4e4e4"/>
                </a:solidFill>
                <a:latin typeface="Peinaud"/>
              </a:rPr>
              <a:t>Adaptation </a:t>
            </a:r>
            <a:br>
              <a:rPr sz="5000"/>
            </a:br>
            <a:r>
              <a:rPr b="1" lang="en-US" sz="5000" spc="-1" strike="noStrike">
                <a:solidFill>
                  <a:srgbClr val="e4e4e4"/>
                </a:solidFill>
                <a:latin typeface="Peinaud"/>
              </a:rPr>
              <a:t>Through Self-Organisation</a:t>
            </a:r>
            <a:endParaRPr b="1" lang="en-US" sz="5000" spc="-1" strike="noStrike">
              <a:solidFill>
                <a:srgbClr val="e4e4e4"/>
              </a:solidFill>
              <a:latin typeface="Peinau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4e4"/>
                </a:solidFill>
                <a:latin typeface="Georgia"/>
              </a:rPr>
              <a:t>Process comprising 5 interrelated steps</a:t>
            </a: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4e4"/>
                </a:solidFill>
                <a:latin typeface="Georgia"/>
              </a:rPr>
              <a:t>The profile adjusts structurally in response to changes in feedback</a:t>
            </a: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4e4"/>
                </a:solidFill>
                <a:latin typeface="Georgia"/>
              </a:rPr>
              <a:t>Self-organising characteristics</a:t>
            </a: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4e4"/>
                </a:solidFill>
                <a:latin typeface="Georgia"/>
              </a:rPr>
              <a:t>Adaptation to a variety of simulated changes</a:t>
            </a: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e4e4"/>
                </a:solidFill>
                <a:latin typeface="Peinaud"/>
              </a:rPr>
              <a:t>Adaptation: Step 1</a:t>
            </a:r>
            <a:endParaRPr b="1" lang="en-US" sz="5400" spc="-1" strike="noStrike">
              <a:solidFill>
                <a:srgbClr val="e4e4e4"/>
              </a:solidFill>
              <a:latin typeface="Peinaud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1287360" cy="18288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2438280" y="2895480"/>
            <a:ext cx="2438640" cy="1676520"/>
          </a:xfrm>
          <a:custGeom>
            <a:avLst/>
            <a:gdLst>
              <a:gd name="textAreaLeft" fmla="*/ 0 w 2438640"/>
              <a:gd name="textAreaRight" fmla="*/ 2438640 w 243864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Peinaud"/>
              </a:rPr>
              <a:t>Term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Peinaud"/>
              </a:rPr>
              <a:t>Weighting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Peinaud"/>
              </a:rPr>
              <a:t>and Extra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5410080" y="2514600"/>
            <a:ext cx="2590920" cy="2362320"/>
            <a:chOff x="5410080" y="2514600"/>
            <a:chExt cx="2590920" cy="2362320"/>
          </a:xfrm>
        </p:grpSpPr>
        <p:sp>
          <p:nvSpPr>
            <p:cNvPr id="329" name=""/>
            <p:cNvSpPr/>
            <p:nvPr/>
          </p:nvSpPr>
          <p:spPr>
            <a:xfrm>
              <a:off x="5410080" y="2590920"/>
              <a:ext cx="609480" cy="30456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442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019560" y="3124080"/>
              <a:ext cx="609840" cy="30492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442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400800" y="2514600"/>
              <a:ext cx="609480" cy="3049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42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315200" y="2514600"/>
              <a:ext cx="609480" cy="3049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42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858000" y="3048120"/>
              <a:ext cx="609480" cy="30456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42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10080" y="3581280"/>
              <a:ext cx="609480" cy="3049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42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629400" y="3657600"/>
              <a:ext cx="609480" cy="30492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442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943600" y="4038480"/>
              <a:ext cx="609480" cy="30492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442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391160" y="3886200"/>
              <a:ext cx="609840" cy="3049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42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705360" y="4495680"/>
              <a:ext cx="609840" cy="3049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42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38680" y="4572000"/>
              <a:ext cx="609480" cy="3049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42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4037040" y="1944720"/>
            <a:ext cx="1601640" cy="703800"/>
          </a:xfrm>
          <a:prstGeom prst="borderCallout1">
            <a:avLst>
              <a:gd name="adj1" fmla="val 22624"/>
              <a:gd name="adj2" fmla="val 16034"/>
              <a:gd name="adj3" fmla="val 22628"/>
              <a:gd name="adj4" fmla="val 5184"/>
            </a:avLst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Peinaud"/>
              </a:rPr>
              <a:t>term in profil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112160" y="5057640"/>
            <a:ext cx="1193760" cy="825480"/>
          </a:xfrm>
          <a:prstGeom prst="borderCallout1">
            <a:avLst>
              <a:gd name="adj1" fmla="val -1374"/>
              <a:gd name="adj2" fmla="val -2815"/>
              <a:gd name="adj3" fmla="val -1379"/>
              <a:gd name="adj4" fmla="val 16416"/>
            </a:avLst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Peinaud"/>
              </a:rPr>
              <a:t>new term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471680" y="5002200"/>
            <a:ext cx="2566800" cy="703800"/>
          </a:xfrm>
          <a:prstGeom prst="borderCallout1">
            <a:avLst>
              <a:gd name="adj1" fmla="val -639"/>
              <a:gd name="adj2" fmla="val -18640"/>
              <a:gd name="adj3" fmla="val -641"/>
              <a:gd name="adj4" fmla="val 15664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einaud"/>
              </a:rPr>
              <a:t>Relevant or non-relevant documen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e4e4"/>
                </a:solidFill>
                <a:latin typeface="Peinaud"/>
              </a:rPr>
              <a:t>Adaptation: Step 2</a:t>
            </a:r>
            <a:endParaRPr b="1" lang="en-US" sz="5400" spc="-1" strike="noStrike">
              <a:solidFill>
                <a:srgbClr val="e4e4e4"/>
              </a:solidFill>
              <a:latin typeface="Peinaud"/>
            </a:endParaRPr>
          </a:p>
        </p:txBody>
      </p:sp>
      <p:sp>
        <p:nvSpPr>
          <p:cNvPr id="344" name=""/>
          <p:cNvSpPr/>
          <p:nvPr/>
        </p:nvSpPr>
        <p:spPr>
          <a:xfrm>
            <a:off x="5943600" y="3276720"/>
            <a:ext cx="349200" cy="2505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313320" y="3787920"/>
            <a:ext cx="349560" cy="2505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400800" y="2949480"/>
            <a:ext cx="347760" cy="25092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80320" y="3330720"/>
            <a:ext cx="347400" cy="2505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748560" y="3786120"/>
            <a:ext cx="349200" cy="2523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791320" y="4091040"/>
            <a:ext cx="347400" cy="2523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618240" y="4471920"/>
            <a:ext cx="349200" cy="2523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138720" y="4624560"/>
            <a:ext cx="349560" cy="2523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053120" y="4702320"/>
            <a:ext cx="349560" cy="2505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705720" y="5159520"/>
            <a:ext cx="347400" cy="2505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78440" y="5235480"/>
            <a:ext cx="347760" cy="25092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5" name=""/>
          <p:cNvCxnSpPr>
            <a:stCxn id="344" idx="4"/>
            <a:endCxn id="349" idx="0"/>
          </p:cNvCxnSpPr>
          <p:nvPr/>
        </p:nvCxnSpPr>
        <p:spPr>
          <a:xfrm flipH="1">
            <a:off x="5965200" y="3543120"/>
            <a:ext cx="153000" cy="5324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356" name=""/>
          <p:cNvCxnSpPr>
            <a:stCxn id="344" idx="4"/>
            <a:endCxn id="345" idx="0"/>
          </p:cNvCxnSpPr>
          <p:nvPr/>
        </p:nvCxnSpPr>
        <p:spPr>
          <a:xfrm>
            <a:off x="6118200" y="3543120"/>
            <a:ext cx="370800" cy="2293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357" name=""/>
          <p:cNvCxnSpPr>
            <a:stCxn id="344" idx="4"/>
            <a:endCxn id="351" idx="0"/>
          </p:cNvCxnSpPr>
          <p:nvPr/>
        </p:nvCxnSpPr>
        <p:spPr>
          <a:xfrm>
            <a:off x="6118200" y="3543480"/>
            <a:ext cx="195840" cy="10656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358" name=""/>
          <p:cNvCxnSpPr>
            <a:stCxn id="345" idx="4"/>
            <a:endCxn id="351" idx="0"/>
          </p:cNvCxnSpPr>
          <p:nvPr/>
        </p:nvCxnSpPr>
        <p:spPr>
          <a:xfrm flipH="1">
            <a:off x="6312960" y="4053960"/>
            <a:ext cx="175680" cy="5547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359" name=""/>
          <p:cNvCxnSpPr>
            <a:stCxn id="352" idx="0"/>
            <a:endCxn id="347" idx="4"/>
          </p:cNvCxnSpPr>
          <p:nvPr/>
        </p:nvCxnSpPr>
        <p:spPr>
          <a:xfrm flipH="1" flipV="1">
            <a:off x="7054560" y="3596760"/>
            <a:ext cx="173520" cy="10900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360" name=""/>
          <p:cNvCxnSpPr>
            <a:stCxn id="346" idx="4"/>
            <a:endCxn id="350" idx="0"/>
          </p:cNvCxnSpPr>
          <p:nvPr/>
        </p:nvCxnSpPr>
        <p:spPr>
          <a:xfrm>
            <a:off x="6575400" y="3216240"/>
            <a:ext cx="218160" cy="12405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361" name=""/>
          <p:cNvCxnSpPr>
            <a:stCxn id="353" idx="0"/>
            <a:endCxn id="350" idx="4"/>
          </p:cNvCxnSpPr>
          <p:nvPr/>
        </p:nvCxnSpPr>
        <p:spPr>
          <a:xfrm flipH="1" flipV="1">
            <a:off x="6792480" y="4739400"/>
            <a:ext cx="87840" cy="4042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362" name=""/>
          <p:cNvCxnSpPr>
            <a:stCxn id="345" idx="0"/>
            <a:endCxn id="346" idx="4"/>
          </p:cNvCxnSpPr>
          <p:nvPr/>
        </p:nvCxnSpPr>
        <p:spPr>
          <a:xfrm flipV="1">
            <a:off x="6488280" y="3215880"/>
            <a:ext cx="87840" cy="5565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363" name=""/>
          <p:cNvCxnSpPr>
            <a:stCxn id="351" idx="1"/>
            <a:endCxn id="349" idx="4"/>
          </p:cNvCxnSpPr>
          <p:nvPr/>
        </p:nvCxnSpPr>
        <p:spPr>
          <a:xfrm flipH="1" flipV="1">
            <a:off x="5965560" y="4358880"/>
            <a:ext cx="224640" cy="2865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364" name=""/>
          <p:cNvCxnSpPr>
            <a:stCxn id="351" idx="4"/>
            <a:endCxn id="354" idx="0"/>
          </p:cNvCxnSpPr>
          <p:nvPr/>
        </p:nvCxnSpPr>
        <p:spPr>
          <a:xfrm flipH="1">
            <a:off x="6052320" y="4892760"/>
            <a:ext cx="261000" cy="3276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365" name=""/>
          <p:cNvCxnSpPr>
            <a:stCxn id="351" idx="4"/>
            <a:endCxn id="353" idx="0"/>
          </p:cNvCxnSpPr>
          <p:nvPr/>
        </p:nvCxnSpPr>
        <p:spPr>
          <a:xfrm>
            <a:off x="6312960" y="4892400"/>
            <a:ext cx="567720" cy="2516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366" name=""/>
          <p:cNvCxnSpPr>
            <a:stCxn id="347" idx="4"/>
            <a:endCxn id="348" idx="0"/>
          </p:cNvCxnSpPr>
          <p:nvPr/>
        </p:nvCxnSpPr>
        <p:spPr>
          <a:xfrm flipH="1">
            <a:off x="6922800" y="3596760"/>
            <a:ext cx="132480" cy="1738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367" name=""/>
          <p:cNvCxnSpPr>
            <a:stCxn id="350" idx="0"/>
            <a:endCxn id="345" idx="4"/>
          </p:cNvCxnSpPr>
          <p:nvPr/>
        </p:nvCxnSpPr>
        <p:spPr>
          <a:xfrm flipH="1" flipV="1">
            <a:off x="6487920" y="4053960"/>
            <a:ext cx="305280" cy="4024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368" name=""/>
          <p:cNvCxnSpPr>
            <a:stCxn id="353" idx="0"/>
            <a:endCxn id="352" idx="4"/>
          </p:cNvCxnSpPr>
          <p:nvPr/>
        </p:nvCxnSpPr>
        <p:spPr>
          <a:xfrm flipV="1">
            <a:off x="6879960" y="4968360"/>
            <a:ext cx="347760" cy="1756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369" name=""/>
          <p:cNvCxnSpPr>
            <a:stCxn id="350" idx="0"/>
            <a:endCxn id="348" idx="4"/>
          </p:cNvCxnSpPr>
          <p:nvPr/>
        </p:nvCxnSpPr>
        <p:spPr>
          <a:xfrm flipV="1">
            <a:off x="6792840" y="4053960"/>
            <a:ext cx="131040" cy="4024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370" name=""/>
          <p:cNvSpPr/>
          <p:nvPr/>
        </p:nvSpPr>
        <p:spPr>
          <a:xfrm>
            <a:off x="7467480" y="3505320"/>
            <a:ext cx="347760" cy="250560"/>
          </a:xfrm>
          <a:prstGeom prst="ellipse">
            <a:avLst/>
          </a:prstGeom>
          <a:solidFill>
            <a:srgbClr val="ff9900">
              <a:alpha val="50000"/>
            </a:srgbClr>
          </a:solidFill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924680" y="3940200"/>
            <a:ext cx="347760" cy="25092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01000" y="3124080"/>
            <a:ext cx="347760" cy="252360"/>
          </a:xfrm>
          <a:prstGeom prst="ellipse">
            <a:avLst/>
          </a:prstGeom>
          <a:solidFill>
            <a:srgbClr val="ff9900">
              <a:alpha val="50000"/>
            </a:srgbClr>
          </a:solidFill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534520" y="3581280"/>
            <a:ext cx="347400" cy="252360"/>
          </a:xfrm>
          <a:prstGeom prst="ellipse">
            <a:avLst/>
          </a:prstGeom>
          <a:solidFill>
            <a:srgbClr val="ff9900">
              <a:alpha val="50000"/>
            </a:srgbClr>
          </a:solidFill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315200" y="4245120"/>
            <a:ext cx="347760" cy="2505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381880" y="4191120"/>
            <a:ext cx="347760" cy="252360"/>
          </a:xfrm>
          <a:prstGeom prst="ellipse">
            <a:avLst/>
          </a:prstGeom>
          <a:solidFill>
            <a:srgbClr val="ff9900">
              <a:alpha val="50000"/>
            </a:srgbClr>
          </a:solidFill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750080" y="4624560"/>
            <a:ext cx="349200" cy="2523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317080" y="5159520"/>
            <a:ext cx="347400" cy="2505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358040" y="5159520"/>
            <a:ext cx="349200" cy="2505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"/>
          <p:cNvCxnSpPr>
            <a:stCxn id="370" idx="4"/>
            <a:endCxn id="374" idx="0"/>
          </p:cNvCxnSpPr>
          <p:nvPr/>
        </p:nvCxnSpPr>
        <p:spPr>
          <a:xfrm flipH="1">
            <a:off x="7489080" y="3772080"/>
            <a:ext cx="153000" cy="4579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380" name=""/>
          <p:cNvCxnSpPr>
            <a:stCxn id="370" idx="4"/>
            <a:endCxn id="371" idx="2"/>
          </p:cNvCxnSpPr>
          <p:nvPr/>
        </p:nvCxnSpPr>
        <p:spPr>
          <a:xfrm>
            <a:off x="7641720" y="3771720"/>
            <a:ext cx="267120" cy="2941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381" name=""/>
          <p:cNvCxnSpPr>
            <a:stCxn id="370" idx="4"/>
            <a:endCxn id="376" idx="0"/>
          </p:cNvCxnSpPr>
          <p:nvPr/>
        </p:nvCxnSpPr>
        <p:spPr>
          <a:xfrm>
            <a:off x="7641720" y="3771720"/>
            <a:ext cx="283320" cy="8370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382" name=""/>
          <p:cNvCxnSpPr>
            <a:stCxn id="371" idx="4"/>
            <a:endCxn id="376" idx="0"/>
          </p:cNvCxnSpPr>
          <p:nvPr/>
        </p:nvCxnSpPr>
        <p:spPr>
          <a:xfrm flipH="1">
            <a:off x="7923960" y="4206600"/>
            <a:ext cx="175320" cy="4021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383" name=""/>
          <p:cNvCxnSpPr>
            <a:stCxn id="372" idx="4"/>
            <a:endCxn id="375" idx="0"/>
          </p:cNvCxnSpPr>
          <p:nvPr/>
        </p:nvCxnSpPr>
        <p:spPr>
          <a:xfrm>
            <a:off x="8175600" y="3392640"/>
            <a:ext cx="381600" cy="7833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384" name=""/>
          <p:cNvCxnSpPr>
            <a:stCxn id="377" idx="0"/>
            <a:endCxn id="375" idx="4"/>
          </p:cNvCxnSpPr>
          <p:nvPr/>
        </p:nvCxnSpPr>
        <p:spPr>
          <a:xfrm flipV="1">
            <a:off x="8491680" y="4458600"/>
            <a:ext cx="65520" cy="6850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385" name=""/>
          <p:cNvCxnSpPr>
            <a:stCxn id="371" idx="0"/>
            <a:endCxn id="372" idx="4"/>
          </p:cNvCxnSpPr>
          <p:nvPr/>
        </p:nvCxnSpPr>
        <p:spPr>
          <a:xfrm flipV="1">
            <a:off x="8099280" y="3391920"/>
            <a:ext cx="76680" cy="5324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386" name=""/>
          <p:cNvCxnSpPr>
            <a:stCxn id="376" idx="1"/>
            <a:endCxn id="374" idx="4"/>
          </p:cNvCxnSpPr>
          <p:nvPr/>
        </p:nvCxnSpPr>
        <p:spPr>
          <a:xfrm flipH="1" flipV="1">
            <a:off x="7489440" y="4510800"/>
            <a:ext cx="311760" cy="1342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387" name=""/>
          <p:cNvCxnSpPr>
            <a:stCxn id="376" idx="4"/>
            <a:endCxn id="378" idx="0"/>
          </p:cNvCxnSpPr>
          <p:nvPr/>
        </p:nvCxnSpPr>
        <p:spPr>
          <a:xfrm flipH="1">
            <a:off x="7531920" y="4892400"/>
            <a:ext cx="392760" cy="2516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388" name=""/>
          <p:cNvCxnSpPr>
            <a:stCxn id="376" idx="4"/>
            <a:endCxn id="377" idx="0"/>
          </p:cNvCxnSpPr>
          <p:nvPr/>
        </p:nvCxnSpPr>
        <p:spPr>
          <a:xfrm>
            <a:off x="7924320" y="4892400"/>
            <a:ext cx="567720" cy="2516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389" name=""/>
          <p:cNvCxnSpPr>
            <a:stCxn id="375" idx="2"/>
            <a:endCxn id="371" idx="4"/>
          </p:cNvCxnSpPr>
          <p:nvPr/>
        </p:nvCxnSpPr>
        <p:spPr>
          <a:xfrm flipH="1" flipV="1">
            <a:off x="8098920" y="4206600"/>
            <a:ext cx="267120" cy="1116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390" name=""/>
          <p:cNvCxnSpPr>
            <a:stCxn id="375" idx="0"/>
            <a:endCxn id="373" idx="4"/>
          </p:cNvCxnSpPr>
          <p:nvPr/>
        </p:nvCxnSpPr>
        <p:spPr>
          <a:xfrm flipV="1">
            <a:off x="8556480" y="3849480"/>
            <a:ext cx="153360" cy="3261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391" name=""/>
          <p:cNvCxnSpPr>
            <a:stCxn id="346" idx="4"/>
            <a:endCxn id="347" idx="2"/>
          </p:cNvCxnSpPr>
          <p:nvPr/>
        </p:nvCxnSpPr>
        <p:spPr>
          <a:xfrm>
            <a:off x="6575040" y="3216240"/>
            <a:ext cx="289440" cy="2404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392" name=""/>
          <p:cNvCxnSpPr>
            <a:stCxn id="352" idx="0"/>
            <a:endCxn id="374" idx="4"/>
          </p:cNvCxnSpPr>
          <p:nvPr/>
        </p:nvCxnSpPr>
        <p:spPr>
          <a:xfrm flipV="1">
            <a:off x="7227720" y="4511160"/>
            <a:ext cx="262800" cy="1756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393" name=""/>
          <p:cNvCxnSpPr>
            <a:stCxn id="352" idx="4"/>
            <a:endCxn id="378" idx="0"/>
          </p:cNvCxnSpPr>
          <p:nvPr/>
        </p:nvCxnSpPr>
        <p:spPr>
          <a:xfrm>
            <a:off x="7227360" y="4968720"/>
            <a:ext cx="305640" cy="1756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394" name=""/>
          <p:cNvCxnSpPr>
            <a:stCxn id="370" idx="6"/>
            <a:endCxn id="372" idx="4"/>
          </p:cNvCxnSpPr>
          <p:nvPr/>
        </p:nvCxnSpPr>
        <p:spPr>
          <a:xfrm flipV="1">
            <a:off x="7830720" y="3391920"/>
            <a:ext cx="345240" cy="2386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395" name=""/>
          <p:cNvCxnSpPr>
            <a:stCxn id="373" idx="0"/>
            <a:endCxn id="372" idx="4"/>
          </p:cNvCxnSpPr>
          <p:nvPr/>
        </p:nvCxnSpPr>
        <p:spPr>
          <a:xfrm flipH="1" flipV="1">
            <a:off x="8175240" y="3392280"/>
            <a:ext cx="534240" cy="1735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396" name=""/>
          <p:cNvSpPr/>
          <p:nvPr/>
        </p:nvSpPr>
        <p:spPr>
          <a:xfrm>
            <a:off x="663480" y="3184560"/>
            <a:ext cx="349200" cy="25092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055520" y="3687840"/>
            <a:ext cx="349560" cy="25092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143000" y="2870280"/>
            <a:ext cx="347760" cy="25092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622520" y="3247920"/>
            <a:ext cx="347400" cy="25092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490760" y="3749760"/>
            <a:ext cx="349200" cy="2523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4064040"/>
            <a:ext cx="347400" cy="2523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360440" y="4378320"/>
            <a:ext cx="349200" cy="2523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80920" y="4567320"/>
            <a:ext cx="349560" cy="2523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795320" y="4630680"/>
            <a:ext cx="349560" cy="25092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447920" y="5070600"/>
            <a:ext cx="347400" cy="2505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20640" y="5133960"/>
            <a:ext cx="347760" cy="25092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7" name=""/>
          <p:cNvCxnSpPr>
            <a:stCxn id="396" idx="4"/>
            <a:endCxn id="401" idx="0"/>
          </p:cNvCxnSpPr>
          <p:nvPr/>
        </p:nvCxnSpPr>
        <p:spPr>
          <a:xfrm flipH="1">
            <a:off x="707400" y="3449520"/>
            <a:ext cx="130680" cy="6026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408" name=""/>
          <p:cNvCxnSpPr>
            <a:stCxn id="396" idx="4"/>
            <a:endCxn id="397" idx="0"/>
          </p:cNvCxnSpPr>
          <p:nvPr/>
        </p:nvCxnSpPr>
        <p:spPr>
          <a:xfrm>
            <a:off x="838080" y="3449160"/>
            <a:ext cx="393120" cy="2264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409" name=""/>
          <p:cNvCxnSpPr>
            <a:stCxn id="396" idx="4"/>
            <a:endCxn id="403" idx="0"/>
          </p:cNvCxnSpPr>
          <p:nvPr/>
        </p:nvCxnSpPr>
        <p:spPr>
          <a:xfrm>
            <a:off x="838080" y="3449160"/>
            <a:ext cx="218160" cy="11055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410" name=""/>
          <p:cNvCxnSpPr>
            <a:stCxn id="397" idx="4"/>
            <a:endCxn id="403" idx="0"/>
          </p:cNvCxnSpPr>
          <p:nvPr/>
        </p:nvCxnSpPr>
        <p:spPr>
          <a:xfrm flipH="1">
            <a:off x="1055160" y="3951000"/>
            <a:ext cx="175680" cy="6037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411" name=""/>
          <p:cNvCxnSpPr>
            <a:stCxn id="404" idx="0"/>
            <a:endCxn id="399" idx="4"/>
          </p:cNvCxnSpPr>
          <p:nvPr/>
        </p:nvCxnSpPr>
        <p:spPr>
          <a:xfrm flipH="1" flipV="1">
            <a:off x="1794600" y="3511080"/>
            <a:ext cx="175320" cy="11073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412" name=""/>
          <p:cNvCxnSpPr>
            <a:stCxn id="398" idx="4"/>
            <a:endCxn id="402" idx="0"/>
          </p:cNvCxnSpPr>
          <p:nvPr/>
        </p:nvCxnSpPr>
        <p:spPr>
          <a:xfrm>
            <a:off x="1317600" y="3135240"/>
            <a:ext cx="218160" cy="12312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413" name=""/>
          <p:cNvCxnSpPr>
            <a:stCxn id="405" idx="0"/>
            <a:endCxn id="402" idx="4"/>
          </p:cNvCxnSpPr>
          <p:nvPr/>
        </p:nvCxnSpPr>
        <p:spPr>
          <a:xfrm flipH="1" flipV="1">
            <a:off x="1534680" y="4642560"/>
            <a:ext cx="87840" cy="4150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414" name=""/>
          <p:cNvCxnSpPr>
            <a:stCxn id="397" idx="0"/>
            <a:endCxn id="398" idx="4"/>
          </p:cNvCxnSpPr>
          <p:nvPr/>
        </p:nvCxnSpPr>
        <p:spPr>
          <a:xfrm flipV="1">
            <a:off x="1230480" y="3134880"/>
            <a:ext cx="87840" cy="5407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415" name=""/>
          <p:cNvCxnSpPr>
            <a:stCxn id="403" idx="1"/>
            <a:endCxn id="401" idx="4"/>
          </p:cNvCxnSpPr>
          <p:nvPr/>
        </p:nvCxnSpPr>
        <p:spPr>
          <a:xfrm flipH="1" flipV="1">
            <a:off x="707760" y="4328640"/>
            <a:ext cx="224640" cy="2628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416" name=""/>
          <p:cNvCxnSpPr>
            <a:stCxn id="403" idx="4"/>
            <a:endCxn id="406" idx="0"/>
          </p:cNvCxnSpPr>
          <p:nvPr/>
        </p:nvCxnSpPr>
        <p:spPr>
          <a:xfrm flipH="1">
            <a:off x="794520" y="4832280"/>
            <a:ext cx="261000" cy="2880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417" name=""/>
          <p:cNvCxnSpPr>
            <a:stCxn id="403" idx="4"/>
            <a:endCxn id="405" idx="0"/>
          </p:cNvCxnSpPr>
          <p:nvPr/>
        </p:nvCxnSpPr>
        <p:spPr>
          <a:xfrm>
            <a:off x="1055160" y="4832280"/>
            <a:ext cx="567720" cy="2260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418" name=""/>
          <p:cNvCxnSpPr>
            <a:stCxn id="399" idx="4"/>
            <a:endCxn id="400" idx="0"/>
          </p:cNvCxnSpPr>
          <p:nvPr/>
        </p:nvCxnSpPr>
        <p:spPr>
          <a:xfrm flipH="1">
            <a:off x="1664640" y="3511440"/>
            <a:ext cx="130680" cy="2260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419" name=""/>
          <p:cNvCxnSpPr>
            <a:stCxn id="402" idx="0"/>
            <a:endCxn id="397" idx="4"/>
          </p:cNvCxnSpPr>
          <p:nvPr/>
        </p:nvCxnSpPr>
        <p:spPr>
          <a:xfrm flipH="1" flipV="1">
            <a:off x="1230120" y="3950640"/>
            <a:ext cx="305280" cy="4150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420" name=""/>
          <p:cNvCxnSpPr>
            <a:stCxn id="405" idx="0"/>
            <a:endCxn id="404" idx="4"/>
          </p:cNvCxnSpPr>
          <p:nvPr/>
        </p:nvCxnSpPr>
        <p:spPr>
          <a:xfrm flipV="1">
            <a:off x="1622160" y="4893840"/>
            <a:ext cx="347760" cy="1641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421" name=""/>
          <p:cNvCxnSpPr>
            <a:stCxn id="402" idx="0"/>
            <a:endCxn id="400" idx="4"/>
          </p:cNvCxnSpPr>
          <p:nvPr/>
        </p:nvCxnSpPr>
        <p:spPr>
          <a:xfrm flipV="1">
            <a:off x="1535040" y="4014360"/>
            <a:ext cx="131040" cy="3513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422" name=""/>
          <p:cNvSpPr/>
          <p:nvPr/>
        </p:nvSpPr>
        <p:spPr>
          <a:xfrm>
            <a:off x="2232000" y="3687840"/>
            <a:ext cx="347760" cy="250920"/>
          </a:xfrm>
          <a:prstGeom prst="ellipse">
            <a:avLst/>
          </a:prstGeom>
          <a:solidFill>
            <a:srgbClr val="ff9900">
              <a:alpha val="50000"/>
            </a:srgbClr>
          </a:solidFill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666880" y="3876840"/>
            <a:ext cx="347760" cy="2505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754360" y="3309840"/>
            <a:ext cx="347760" cy="252360"/>
          </a:xfrm>
          <a:prstGeom prst="ellipse">
            <a:avLst/>
          </a:prstGeom>
          <a:solidFill>
            <a:srgbClr val="ff9900">
              <a:alpha val="50000"/>
            </a:srgbClr>
          </a:solidFill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233880" y="3938760"/>
            <a:ext cx="347400" cy="252360"/>
          </a:xfrm>
          <a:prstGeom prst="ellipse">
            <a:avLst/>
          </a:prstGeom>
          <a:solidFill>
            <a:srgbClr val="ff9900">
              <a:alpha val="50000"/>
            </a:srgbClr>
          </a:solidFill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057400" y="4191120"/>
            <a:ext cx="347760" cy="2505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971800" y="4378320"/>
            <a:ext cx="347760" cy="252360"/>
          </a:xfrm>
          <a:prstGeom prst="ellipse">
            <a:avLst/>
          </a:prstGeom>
          <a:solidFill>
            <a:srgbClr val="ff9900">
              <a:alpha val="50000"/>
            </a:srgbClr>
          </a:solidFill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92280" y="4567320"/>
            <a:ext cx="349200" cy="2523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059280" y="5070600"/>
            <a:ext cx="347400" cy="2505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5070600"/>
            <a:ext cx="349200" cy="2505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1" name=""/>
          <p:cNvCxnSpPr>
            <a:stCxn id="422" idx="4"/>
            <a:endCxn id="426" idx="0"/>
          </p:cNvCxnSpPr>
          <p:nvPr/>
        </p:nvCxnSpPr>
        <p:spPr>
          <a:xfrm flipH="1">
            <a:off x="2231280" y="3951360"/>
            <a:ext cx="173880" cy="2260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432" name=""/>
          <p:cNvCxnSpPr>
            <a:stCxn id="422" idx="4"/>
            <a:endCxn id="423" idx="2"/>
          </p:cNvCxnSpPr>
          <p:nvPr/>
        </p:nvCxnSpPr>
        <p:spPr>
          <a:xfrm>
            <a:off x="2404800" y="3951000"/>
            <a:ext cx="253080" cy="514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433" name=""/>
          <p:cNvCxnSpPr>
            <a:stCxn id="422" idx="4"/>
            <a:endCxn id="428" idx="0"/>
          </p:cNvCxnSpPr>
          <p:nvPr/>
        </p:nvCxnSpPr>
        <p:spPr>
          <a:xfrm>
            <a:off x="2404800" y="3951000"/>
            <a:ext cx="262080" cy="6037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434" name=""/>
          <p:cNvCxnSpPr>
            <a:stCxn id="423" idx="4"/>
            <a:endCxn id="428" idx="0"/>
          </p:cNvCxnSpPr>
          <p:nvPr/>
        </p:nvCxnSpPr>
        <p:spPr>
          <a:xfrm flipH="1">
            <a:off x="2666160" y="4140360"/>
            <a:ext cx="175320" cy="4147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435" name=""/>
          <p:cNvCxnSpPr>
            <a:stCxn id="424" idx="4"/>
            <a:endCxn id="427" idx="0"/>
          </p:cNvCxnSpPr>
          <p:nvPr/>
        </p:nvCxnSpPr>
        <p:spPr>
          <a:xfrm>
            <a:off x="2928960" y="3575160"/>
            <a:ext cx="218160" cy="7912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436" name=""/>
          <p:cNvCxnSpPr>
            <a:stCxn id="429" idx="0"/>
            <a:endCxn id="427" idx="4"/>
          </p:cNvCxnSpPr>
          <p:nvPr/>
        </p:nvCxnSpPr>
        <p:spPr>
          <a:xfrm flipH="1" flipV="1">
            <a:off x="3146040" y="4642560"/>
            <a:ext cx="87840" cy="4150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437" name=""/>
          <p:cNvCxnSpPr>
            <a:stCxn id="423" idx="0"/>
            <a:endCxn id="424" idx="4"/>
          </p:cNvCxnSpPr>
          <p:nvPr/>
        </p:nvCxnSpPr>
        <p:spPr>
          <a:xfrm flipV="1">
            <a:off x="2841120" y="3574800"/>
            <a:ext cx="87840" cy="2880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438" name=""/>
          <p:cNvCxnSpPr>
            <a:stCxn id="428" idx="1"/>
            <a:endCxn id="426" idx="4"/>
          </p:cNvCxnSpPr>
          <p:nvPr/>
        </p:nvCxnSpPr>
        <p:spPr>
          <a:xfrm flipH="1" flipV="1">
            <a:off x="2231640" y="4453920"/>
            <a:ext cx="311760" cy="1371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439" name=""/>
          <p:cNvCxnSpPr>
            <a:stCxn id="428" idx="4"/>
            <a:endCxn id="430" idx="0"/>
          </p:cNvCxnSpPr>
          <p:nvPr/>
        </p:nvCxnSpPr>
        <p:spPr>
          <a:xfrm flipH="1">
            <a:off x="2274120" y="4832280"/>
            <a:ext cx="392760" cy="2260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440" name=""/>
          <p:cNvCxnSpPr>
            <a:stCxn id="428" idx="4"/>
            <a:endCxn id="429" idx="0"/>
          </p:cNvCxnSpPr>
          <p:nvPr/>
        </p:nvCxnSpPr>
        <p:spPr>
          <a:xfrm>
            <a:off x="2666520" y="4832280"/>
            <a:ext cx="567720" cy="2260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441" name=""/>
          <p:cNvCxnSpPr>
            <a:stCxn id="427" idx="0"/>
            <a:endCxn id="423" idx="4"/>
          </p:cNvCxnSpPr>
          <p:nvPr/>
        </p:nvCxnSpPr>
        <p:spPr>
          <a:xfrm flipH="1" flipV="1">
            <a:off x="2840760" y="4140000"/>
            <a:ext cx="305640" cy="2260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442" name=""/>
          <p:cNvCxnSpPr>
            <a:stCxn id="427" idx="0"/>
            <a:endCxn id="425" idx="4"/>
          </p:cNvCxnSpPr>
          <p:nvPr/>
        </p:nvCxnSpPr>
        <p:spPr>
          <a:xfrm flipV="1">
            <a:off x="3146040" y="4203360"/>
            <a:ext cx="261000" cy="1627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443" name=""/>
          <p:cNvSpPr/>
          <p:nvPr/>
        </p:nvSpPr>
        <p:spPr>
          <a:xfrm flipV="1">
            <a:off x="1012680" y="3121200"/>
            <a:ext cx="304920" cy="188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4" name=""/>
          <p:cNvCxnSpPr>
            <a:stCxn id="443" idx="0"/>
            <a:endCxn id="399" idx="2"/>
          </p:cNvCxnSpPr>
          <p:nvPr/>
        </p:nvCxnSpPr>
        <p:spPr>
          <a:xfrm>
            <a:off x="1316160" y="3112920"/>
            <a:ext cx="297360" cy="2613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445" name=""/>
          <p:cNvCxnSpPr>
            <a:stCxn id="404" idx="0"/>
            <a:endCxn id="426" idx="4"/>
          </p:cNvCxnSpPr>
          <p:nvPr/>
        </p:nvCxnSpPr>
        <p:spPr>
          <a:xfrm flipV="1">
            <a:off x="1969920" y="4454280"/>
            <a:ext cx="262800" cy="1641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446" name=""/>
          <p:cNvCxnSpPr>
            <a:stCxn id="404" idx="4"/>
            <a:endCxn id="430" idx="0"/>
          </p:cNvCxnSpPr>
          <p:nvPr/>
        </p:nvCxnSpPr>
        <p:spPr>
          <a:xfrm>
            <a:off x="1969560" y="4894200"/>
            <a:ext cx="305640" cy="1641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447" name=""/>
          <p:cNvCxnSpPr>
            <a:stCxn id="422" idx="6"/>
            <a:endCxn id="424" idx="4"/>
          </p:cNvCxnSpPr>
          <p:nvPr/>
        </p:nvCxnSpPr>
        <p:spPr>
          <a:xfrm flipV="1">
            <a:off x="2589120" y="3574440"/>
            <a:ext cx="340200" cy="2386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448" name=""/>
          <p:cNvCxnSpPr>
            <a:stCxn id="425" idx="0"/>
            <a:endCxn id="424" idx="4"/>
          </p:cNvCxnSpPr>
          <p:nvPr/>
        </p:nvCxnSpPr>
        <p:spPr>
          <a:xfrm flipH="1" flipV="1">
            <a:off x="2928240" y="3574800"/>
            <a:ext cx="478440" cy="3513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449" name=""/>
          <p:cNvSpPr/>
          <p:nvPr/>
        </p:nvSpPr>
        <p:spPr>
          <a:xfrm>
            <a:off x="3809880" y="3581280"/>
            <a:ext cx="1905120" cy="152424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Peinaud"/>
              </a:rPr>
              <a:t>Updat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Peinaud"/>
              </a:rPr>
              <a:t>Term Weight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0" name=""/>
          <p:cNvCxnSpPr>
            <a:stCxn id="344" idx="6"/>
            <a:endCxn id="346" idx="4"/>
          </p:cNvCxnSpPr>
          <p:nvPr/>
        </p:nvCxnSpPr>
        <p:spPr>
          <a:xfrm flipV="1">
            <a:off x="6308280" y="3215880"/>
            <a:ext cx="267120" cy="1864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451" name=""/>
          <p:cNvSpPr/>
          <p:nvPr/>
        </p:nvSpPr>
        <p:spPr>
          <a:xfrm>
            <a:off x="4495680" y="2249640"/>
            <a:ext cx="2867040" cy="703800"/>
          </a:xfrm>
          <a:prstGeom prst="borderCallout1">
            <a:avLst>
              <a:gd name="adj1" fmla="val 18750"/>
              <a:gd name="adj2" fmla="val -8333"/>
              <a:gd name="adj3" fmla="val 116152"/>
              <a:gd name="adj4" fmla="val 125796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einaud"/>
              </a:rPr>
              <a:t>Term climbs up the hierarchy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e4e4"/>
                </a:solidFill>
                <a:latin typeface="Peinaud"/>
              </a:rPr>
              <a:t>Adaptation: Step 3</a:t>
            </a:r>
            <a:endParaRPr b="1" lang="en-US" sz="5400" spc="-1" strike="noStrike">
              <a:solidFill>
                <a:srgbClr val="e4e4e4"/>
              </a:solidFill>
              <a:latin typeface="Peinaud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8600" y="2035080"/>
            <a:ext cx="3090960" cy="2559240"/>
            <a:chOff x="228600" y="2035080"/>
            <a:chExt cx="3090960" cy="2559240"/>
          </a:xfrm>
        </p:grpSpPr>
        <p:sp>
          <p:nvSpPr>
            <p:cNvPr id="454" name=""/>
            <p:cNvSpPr/>
            <p:nvPr/>
          </p:nvSpPr>
          <p:spPr>
            <a:xfrm>
              <a:off x="380880" y="2384280"/>
              <a:ext cx="349200" cy="250920"/>
            </a:xfrm>
            <a:prstGeom prst="ellipse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50960" y="2895480"/>
              <a:ext cx="349200" cy="250920"/>
            </a:xfrm>
            <a:prstGeom prst="ellipse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38080" y="2035080"/>
              <a:ext cx="347760" cy="250920"/>
            </a:xfrm>
            <a:prstGeom prst="ellipse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317600" y="2438280"/>
              <a:ext cx="347760" cy="250920"/>
            </a:xfrm>
            <a:prstGeom prst="ellipse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85840" y="2894040"/>
              <a:ext cx="349200" cy="252360"/>
            </a:xfrm>
            <a:prstGeom prst="ellipse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28600" y="3198960"/>
              <a:ext cx="347760" cy="252360"/>
            </a:xfrm>
            <a:prstGeom prst="ellipse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055520" y="3579840"/>
              <a:ext cx="349560" cy="252360"/>
            </a:xfrm>
            <a:prstGeom prst="ellipse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76360" y="3732120"/>
              <a:ext cx="349200" cy="252360"/>
            </a:xfrm>
            <a:prstGeom prst="ellipse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90760" y="3809880"/>
              <a:ext cx="349200" cy="250920"/>
            </a:xfrm>
            <a:prstGeom prst="ellipse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43000" y="4267080"/>
              <a:ext cx="347760" cy="2509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16080" y="4343400"/>
              <a:ext cx="347400" cy="2509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5" name=""/>
            <p:cNvCxnSpPr>
              <a:stCxn id="454" idx="4"/>
              <a:endCxn id="459" idx="0"/>
            </p:cNvCxnSpPr>
            <p:nvPr/>
          </p:nvCxnSpPr>
          <p:spPr>
            <a:xfrm flipH="1">
              <a:off x="402480" y="2650680"/>
              <a:ext cx="153000" cy="5324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466" name=""/>
            <p:cNvCxnSpPr>
              <a:stCxn id="454" idx="4"/>
              <a:endCxn id="455" idx="0"/>
            </p:cNvCxnSpPr>
            <p:nvPr/>
          </p:nvCxnSpPr>
          <p:spPr>
            <a:xfrm>
              <a:off x="555480" y="2650680"/>
              <a:ext cx="37080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467" name=""/>
            <p:cNvCxnSpPr>
              <a:stCxn id="454" idx="4"/>
              <a:endCxn id="461" idx="0"/>
            </p:cNvCxnSpPr>
            <p:nvPr/>
          </p:nvCxnSpPr>
          <p:spPr>
            <a:xfrm>
              <a:off x="555120" y="2650680"/>
              <a:ext cx="196200" cy="10659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468" name=""/>
            <p:cNvCxnSpPr>
              <a:stCxn id="455" idx="4"/>
              <a:endCxn id="461" idx="0"/>
            </p:cNvCxnSpPr>
            <p:nvPr/>
          </p:nvCxnSpPr>
          <p:spPr>
            <a:xfrm flipH="1">
              <a:off x="750240" y="3161880"/>
              <a:ext cx="175320" cy="5547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469" name=""/>
            <p:cNvCxnSpPr>
              <a:stCxn id="462" idx="0"/>
              <a:endCxn id="457" idx="4"/>
            </p:cNvCxnSpPr>
            <p:nvPr/>
          </p:nvCxnSpPr>
          <p:spPr>
            <a:xfrm flipH="1" flipV="1">
              <a:off x="1491480" y="2704320"/>
              <a:ext cx="173880" cy="10897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470" name=""/>
            <p:cNvCxnSpPr>
              <a:stCxn id="456" idx="4"/>
              <a:endCxn id="460" idx="0"/>
            </p:cNvCxnSpPr>
            <p:nvPr/>
          </p:nvCxnSpPr>
          <p:spPr>
            <a:xfrm>
              <a:off x="1012320" y="2301840"/>
              <a:ext cx="218520" cy="126288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471" name=""/>
            <p:cNvCxnSpPr>
              <a:stCxn id="463" idx="0"/>
              <a:endCxn id="460" idx="4"/>
            </p:cNvCxnSpPr>
            <p:nvPr/>
          </p:nvCxnSpPr>
          <p:spPr>
            <a:xfrm flipH="1" flipV="1">
              <a:off x="1230120" y="3847680"/>
              <a:ext cx="87840" cy="4039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472" name=""/>
            <p:cNvCxnSpPr>
              <a:stCxn id="455" idx="0"/>
              <a:endCxn id="456" idx="4"/>
            </p:cNvCxnSpPr>
            <p:nvPr/>
          </p:nvCxnSpPr>
          <p:spPr>
            <a:xfrm flipV="1">
              <a:off x="925560" y="2301120"/>
              <a:ext cx="87840" cy="5785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473" name=""/>
            <p:cNvCxnSpPr>
              <a:stCxn id="461" idx="1"/>
              <a:endCxn id="459" idx="4"/>
            </p:cNvCxnSpPr>
            <p:nvPr/>
          </p:nvCxnSpPr>
          <p:spPr>
            <a:xfrm flipH="1" flipV="1">
              <a:off x="402840" y="3466800"/>
              <a:ext cx="224640" cy="2865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474" name=""/>
            <p:cNvCxnSpPr>
              <a:stCxn id="461" idx="4"/>
              <a:endCxn id="464" idx="0"/>
            </p:cNvCxnSpPr>
            <p:nvPr/>
          </p:nvCxnSpPr>
          <p:spPr>
            <a:xfrm flipH="1">
              <a:off x="489960" y="4000680"/>
              <a:ext cx="261000" cy="32760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475" name=""/>
            <p:cNvCxnSpPr>
              <a:stCxn id="461" idx="4"/>
              <a:endCxn id="463" idx="0"/>
            </p:cNvCxnSpPr>
            <p:nvPr/>
          </p:nvCxnSpPr>
          <p:spPr>
            <a:xfrm>
              <a:off x="750960" y="4000680"/>
              <a:ext cx="567360" cy="2509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476" name=""/>
            <p:cNvCxnSpPr>
              <a:stCxn id="457" idx="4"/>
              <a:endCxn id="458" idx="0"/>
            </p:cNvCxnSpPr>
            <p:nvPr/>
          </p:nvCxnSpPr>
          <p:spPr>
            <a:xfrm flipH="1">
              <a:off x="1360080" y="2704680"/>
              <a:ext cx="132480" cy="17388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477" name=""/>
            <p:cNvCxnSpPr>
              <a:stCxn id="460" idx="0"/>
              <a:endCxn id="455" idx="4"/>
            </p:cNvCxnSpPr>
            <p:nvPr/>
          </p:nvCxnSpPr>
          <p:spPr>
            <a:xfrm flipH="1" flipV="1">
              <a:off x="924840" y="3161880"/>
              <a:ext cx="305640" cy="40248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478" name=""/>
            <p:cNvCxnSpPr>
              <a:stCxn id="463" idx="0"/>
              <a:endCxn id="462" idx="4"/>
            </p:cNvCxnSpPr>
            <p:nvPr/>
          </p:nvCxnSpPr>
          <p:spPr>
            <a:xfrm flipV="1">
              <a:off x="1317600" y="4075920"/>
              <a:ext cx="348480" cy="175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479" name=""/>
            <p:cNvCxnSpPr>
              <a:stCxn id="460" idx="0"/>
              <a:endCxn id="458" idx="4"/>
            </p:cNvCxnSpPr>
            <p:nvPr/>
          </p:nvCxnSpPr>
          <p:spPr>
            <a:xfrm flipV="1">
              <a:off x="1230120" y="3161880"/>
              <a:ext cx="130680" cy="40248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sp>
          <p:nvSpPr>
            <p:cNvPr id="480" name=""/>
            <p:cNvSpPr/>
            <p:nvPr/>
          </p:nvSpPr>
          <p:spPr>
            <a:xfrm>
              <a:off x="1905120" y="2612880"/>
              <a:ext cx="347400" cy="25092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316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362320" y="3048120"/>
              <a:ext cx="347400" cy="250560"/>
            </a:xfrm>
            <a:prstGeom prst="ellipse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438280" y="2232000"/>
              <a:ext cx="347760" cy="25236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316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971800" y="2689200"/>
              <a:ext cx="347760" cy="25236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316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752480" y="3352680"/>
              <a:ext cx="347760" cy="250920"/>
            </a:xfrm>
            <a:prstGeom prst="ellipse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819520" y="3298680"/>
              <a:ext cx="347400" cy="25272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316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187720" y="3732120"/>
              <a:ext cx="349200" cy="252360"/>
            </a:xfrm>
            <a:prstGeom prst="ellipse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754360" y="4267080"/>
              <a:ext cx="347760" cy="2509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95320" y="4267080"/>
              <a:ext cx="349560" cy="2509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9" name=""/>
            <p:cNvCxnSpPr>
              <a:stCxn id="480" idx="4"/>
              <a:endCxn id="484" idx="0"/>
            </p:cNvCxnSpPr>
            <p:nvPr/>
          </p:nvCxnSpPr>
          <p:spPr>
            <a:xfrm flipH="1">
              <a:off x="1926720" y="2879640"/>
              <a:ext cx="153360" cy="4579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490" name=""/>
            <p:cNvCxnSpPr>
              <a:stCxn id="480" idx="4"/>
              <a:endCxn id="481" idx="2"/>
            </p:cNvCxnSpPr>
            <p:nvPr/>
          </p:nvCxnSpPr>
          <p:spPr>
            <a:xfrm>
              <a:off x="2079360" y="2879640"/>
              <a:ext cx="267120" cy="29448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491" name=""/>
            <p:cNvCxnSpPr>
              <a:stCxn id="480" idx="4"/>
              <a:endCxn id="486" idx="0"/>
            </p:cNvCxnSpPr>
            <p:nvPr/>
          </p:nvCxnSpPr>
          <p:spPr>
            <a:xfrm>
              <a:off x="2079360" y="2879640"/>
              <a:ext cx="283320" cy="8373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492" name=""/>
            <p:cNvCxnSpPr>
              <a:stCxn id="481" idx="4"/>
              <a:endCxn id="486" idx="0"/>
            </p:cNvCxnSpPr>
            <p:nvPr/>
          </p:nvCxnSpPr>
          <p:spPr>
            <a:xfrm flipH="1">
              <a:off x="2361600" y="3314520"/>
              <a:ext cx="175320" cy="4021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493" name=""/>
            <p:cNvCxnSpPr>
              <a:stCxn id="482" idx="4"/>
              <a:endCxn id="485" idx="0"/>
            </p:cNvCxnSpPr>
            <p:nvPr/>
          </p:nvCxnSpPr>
          <p:spPr>
            <a:xfrm>
              <a:off x="2612520" y="2500200"/>
              <a:ext cx="381960" cy="7833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494" name=""/>
            <p:cNvCxnSpPr>
              <a:stCxn id="487" idx="0"/>
              <a:endCxn id="485" idx="4"/>
            </p:cNvCxnSpPr>
            <p:nvPr/>
          </p:nvCxnSpPr>
          <p:spPr>
            <a:xfrm flipV="1">
              <a:off x="2928600" y="3566880"/>
              <a:ext cx="65520" cy="6847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495" name=""/>
            <p:cNvCxnSpPr>
              <a:stCxn id="481" idx="0"/>
              <a:endCxn id="482" idx="4"/>
            </p:cNvCxnSpPr>
            <p:nvPr/>
          </p:nvCxnSpPr>
          <p:spPr>
            <a:xfrm flipV="1">
              <a:off x="2536560" y="2499840"/>
              <a:ext cx="76680" cy="53280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496" name=""/>
            <p:cNvCxnSpPr>
              <a:stCxn id="486" idx="1"/>
              <a:endCxn id="484" idx="4"/>
            </p:cNvCxnSpPr>
            <p:nvPr/>
          </p:nvCxnSpPr>
          <p:spPr>
            <a:xfrm flipH="1" flipV="1">
              <a:off x="1926720" y="3618720"/>
              <a:ext cx="311760" cy="13428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497" name=""/>
            <p:cNvCxnSpPr>
              <a:stCxn id="486" idx="4"/>
              <a:endCxn id="488" idx="0"/>
            </p:cNvCxnSpPr>
            <p:nvPr/>
          </p:nvCxnSpPr>
          <p:spPr>
            <a:xfrm flipH="1">
              <a:off x="1969560" y="4000680"/>
              <a:ext cx="393120" cy="2509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498" name=""/>
            <p:cNvCxnSpPr>
              <a:stCxn id="486" idx="4"/>
              <a:endCxn id="487" idx="0"/>
            </p:cNvCxnSpPr>
            <p:nvPr/>
          </p:nvCxnSpPr>
          <p:spPr>
            <a:xfrm>
              <a:off x="2362320" y="4000680"/>
              <a:ext cx="567360" cy="2509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499" name=""/>
            <p:cNvCxnSpPr>
              <a:stCxn id="485" idx="2"/>
              <a:endCxn id="481" idx="4"/>
            </p:cNvCxnSpPr>
            <p:nvPr/>
          </p:nvCxnSpPr>
          <p:spPr>
            <a:xfrm flipH="1" flipV="1">
              <a:off x="2536560" y="3314520"/>
              <a:ext cx="267120" cy="11160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500" name=""/>
            <p:cNvCxnSpPr>
              <a:stCxn id="485" idx="0"/>
              <a:endCxn id="483" idx="4"/>
            </p:cNvCxnSpPr>
            <p:nvPr/>
          </p:nvCxnSpPr>
          <p:spPr>
            <a:xfrm flipV="1">
              <a:off x="2993760" y="2957040"/>
              <a:ext cx="153000" cy="3261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501" name=""/>
            <p:cNvCxnSpPr>
              <a:stCxn id="456" idx="4"/>
              <a:endCxn id="457" idx="2"/>
            </p:cNvCxnSpPr>
            <p:nvPr/>
          </p:nvCxnSpPr>
          <p:spPr>
            <a:xfrm>
              <a:off x="1012320" y="2301840"/>
              <a:ext cx="289440" cy="26280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502" name=""/>
            <p:cNvCxnSpPr>
              <a:stCxn id="462" idx="0"/>
              <a:endCxn id="484" idx="4"/>
            </p:cNvCxnSpPr>
            <p:nvPr/>
          </p:nvCxnSpPr>
          <p:spPr>
            <a:xfrm flipV="1">
              <a:off x="1665000" y="3618720"/>
              <a:ext cx="262080" cy="175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503" name=""/>
            <p:cNvCxnSpPr>
              <a:stCxn id="462" idx="4"/>
              <a:endCxn id="488" idx="0"/>
            </p:cNvCxnSpPr>
            <p:nvPr/>
          </p:nvCxnSpPr>
          <p:spPr>
            <a:xfrm>
              <a:off x="1665360" y="4076280"/>
              <a:ext cx="305280" cy="175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504" name=""/>
            <p:cNvCxnSpPr>
              <a:stCxn id="480" idx="6"/>
              <a:endCxn id="482" idx="4"/>
            </p:cNvCxnSpPr>
            <p:nvPr/>
          </p:nvCxnSpPr>
          <p:spPr>
            <a:xfrm flipV="1">
              <a:off x="2268000" y="2499840"/>
              <a:ext cx="345240" cy="2390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505" name=""/>
            <p:cNvCxnSpPr>
              <a:stCxn id="483" idx="0"/>
              <a:endCxn id="482" idx="4"/>
            </p:cNvCxnSpPr>
            <p:nvPr/>
          </p:nvCxnSpPr>
          <p:spPr>
            <a:xfrm flipH="1" flipV="1">
              <a:off x="2612520" y="2499480"/>
              <a:ext cx="534240" cy="17388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506" name=""/>
            <p:cNvCxnSpPr>
              <a:stCxn id="454" idx="6"/>
              <a:endCxn id="456" idx="4"/>
            </p:cNvCxnSpPr>
            <p:nvPr/>
          </p:nvCxnSpPr>
          <p:spPr>
            <a:xfrm flipV="1">
              <a:off x="746280" y="2301480"/>
              <a:ext cx="267120" cy="20880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</p:grpSp>
      <p:sp>
        <p:nvSpPr>
          <p:cNvPr id="507" name=""/>
          <p:cNvSpPr/>
          <p:nvPr/>
        </p:nvSpPr>
        <p:spPr>
          <a:xfrm>
            <a:off x="3505320" y="2819520"/>
            <a:ext cx="1981080" cy="144756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Peinaud"/>
              </a:rPr>
              <a:t>Purge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Peinaud"/>
              </a:rPr>
              <a:t>Incompetent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Peinaud"/>
              </a:rPr>
              <a:t>Term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5562720" y="2057400"/>
            <a:ext cx="3090600" cy="2025720"/>
            <a:chOff x="5562720" y="2057400"/>
            <a:chExt cx="3090600" cy="2025720"/>
          </a:xfrm>
        </p:grpSpPr>
        <p:sp>
          <p:nvSpPr>
            <p:cNvPr id="509" name=""/>
            <p:cNvSpPr/>
            <p:nvPr/>
          </p:nvSpPr>
          <p:spPr>
            <a:xfrm>
              <a:off x="5715000" y="2406600"/>
              <a:ext cx="349200" cy="250920"/>
            </a:xfrm>
            <a:prstGeom prst="ellipse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084720" y="2917800"/>
              <a:ext cx="349560" cy="250920"/>
            </a:xfrm>
            <a:prstGeom prst="ellipse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172200" y="2057400"/>
              <a:ext cx="347760" cy="250920"/>
            </a:xfrm>
            <a:prstGeom prst="ellipse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651720" y="2460600"/>
              <a:ext cx="347400" cy="250920"/>
            </a:xfrm>
            <a:prstGeom prst="ellipse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519960" y="2916360"/>
              <a:ext cx="349200" cy="252360"/>
            </a:xfrm>
            <a:prstGeom prst="ellipse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562720" y="3220920"/>
              <a:ext cx="347400" cy="252360"/>
            </a:xfrm>
            <a:prstGeom prst="ellipse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389640" y="3602160"/>
              <a:ext cx="349200" cy="252360"/>
            </a:xfrm>
            <a:prstGeom prst="ellipse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910120" y="3754440"/>
              <a:ext cx="349560" cy="252360"/>
            </a:xfrm>
            <a:prstGeom prst="ellipse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824520" y="3832200"/>
              <a:ext cx="349560" cy="250920"/>
            </a:xfrm>
            <a:prstGeom prst="ellipse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8" name=""/>
            <p:cNvCxnSpPr>
              <a:stCxn id="509" idx="4"/>
              <a:endCxn id="514" idx="0"/>
            </p:cNvCxnSpPr>
            <p:nvPr/>
          </p:nvCxnSpPr>
          <p:spPr>
            <a:xfrm flipH="1">
              <a:off x="5736600" y="2673000"/>
              <a:ext cx="153000" cy="5324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519" name=""/>
            <p:cNvCxnSpPr>
              <a:stCxn id="509" idx="4"/>
              <a:endCxn id="510" idx="0"/>
            </p:cNvCxnSpPr>
            <p:nvPr/>
          </p:nvCxnSpPr>
          <p:spPr>
            <a:xfrm>
              <a:off x="5889600" y="2673000"/>
              <a:ext cx="37080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520" name=""/>
            <p:cNvCxnSpPr>
              <a:stCxn id="509" idx="4"/>
              <a:endCxn id="516" idx="0"/>
            </p:cNvCxnSpPr>
            <p:nvPr/>
          </p:nvCxnSpPr>
          <p:spPr>
            <a:xfrm>
              <a:off x="5889600" y="2673000"/>
              <a:ext cx="195840" cy="10659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521" name=""/>
            <p:cNvCxnSpPr>
              <a:stCxn id="510" idx="4"/>
              <a:endCxn id="516" idx="0"/>
            </p:cNvCxnSpPr>
            <p:nvPr/>
          </p:nvCxnSpPr>
          <p:spPr>
            <a:xfrm flipH="1">
              <a:off x="6084360" y="3184200"/>
              <a:ext cx="175680" cy="5547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522" name=""/>
            <p:cNvCxnSpPr>
              <a:stCxn id="517" idx="0"/>
              <a:endCxn id="512" idx="4"/>
            </p:cNvCxnSpPr>
            <p:nvPr/>
          </p:nvCxnSpPr>
          <p:spPr>
            <a:xfrm flipH="1" flipV="1">
              <a:off x="6825960" y="2726640"/>
              <a:ext cx="173520" cy="10897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523" name=""/>
            <p:cNvCxnSpPr>
              <a:stCxn id="511" idx="4"/>
              <a:endCxn id="515" idx="0"/>
            </p:cNvCxnSpPr>
            <p:nvPr/>
          </p:nvCxnSpPr>
          <p:spPr>
            <a:xfrm>
              <a:off x="6346800" y="2324160"/>
              <a:ext cx="218160" cy="126288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524" name=""/>
            <p:cNvCxnSpPr>
              <a:stCxn id="510" idx="0"/>
              <a:endCxn id="511" idx="4"/>
            </p:cNvCxnSpPr>
            <p:nvPr/>
          </p:nvCxnSpPr>
          <p:spPr>
            <a:xfrm flipV="1">
              <a:off x="6259680" y="2323440"/>
              <a:ext cx="87840" cy="5785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525" name=""/>
            <p:cNvCxnSpPr>
              <a:stCxn id="516" idx="1"/>
              <a:endCxn id="514" idx="4"/>
            </p:cNvCxnSpPr>
            <p:nvPr/>
          </p:nvCxnSpPr>
          <p:spPr>
            <a:xfrm flipH="1" flipV="1">
              <a:off x="5736960" y="3488760"/>
              <a:ext cx="224640" cy="28620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526" name=""/>
            <p:cNvCxnSpPr>
              <a:stCxn id="512" idx="4"/>
              <a:endCxn id="513" idx="0"/>
            </p:cNvCxnSpPr>
            <p:nvPr/>
          </p:nvCxnSpPr>
          <p:spPr>
            <a:xfrm flipH="1">
              <a:off x="6694200" y="2727000"/>
              <a:ext cx="132480" cy="17388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527" name=""/>
            <p:cNvCxnSpPr>
              <a:stCxn id="515" idx="0"/>
              <a:endCxn id="510" idx="4"/>
            </p:cNvCxnSpPr>
            <p:nvPr/>
          </p:nvCxnSpPr>
          <p:spPr>
            <a:xfrm flipH="1" flipV="1">
              <a:off x="6259320" y="3184200"/>
              <a:ext cx="305280" cy="40248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528" name=""/>
            <p:cNvCxnSpPr>
              <a:stCxn id="515" idx="0"/>
              <a:endCxn id="513" idx="4"/>
            </p:cNvCxnSpPr>
            <p:nvPr/>
          </p:nvCxnSpPr>
          <p:spPr>
            <a:xfrm flipV="1">
              <a:off x="6564240" y="3184200"/>
              <a:ext cx="131040" cy="40248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sp>
          <p:nvSpPr>
            <p:cNvPr id="529" name=""/>
            <p:cNvSpPr/>
            <p:nvPr/>
          </p:nvSpPr>
          <p:spPr>
            <a:xfrm>
              <a:off x="7238880" y="2635200"/>
              <a:ext cx="347760" cy="25092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316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696080" y="3070080"/>
              <a:ext cx="347760" cy="250920"/>
            </a:xfrm>
            <a:prstGeom prst="ellipse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772400" y="2254320"/>
              <a:ext cx="347760" cy="25236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316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305920" y="2711520"/>
              <a:ext cx="347400" cy="25236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316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086600" y="3375000"/>
              <a:ext cx="347760" cy="250920"/>
            </a:xfrm>
            <a:prstGeom prst="ellipse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153280" y="3321000"/>
              <a:ext cx="347760" cy="25236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316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521480" y="3754440"/>
              <a:ext cx="349200" cy="252360"/>
            </a:xfrm>
            <a:prstGeom prst="ellipse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6" name=""/>
            <p:cNvCxnSpPr>
              <a:stCxn id="529" idx="4"/>
              <a:endCxn id="533" idx="0"/>
            </p:cNvCxnSpPr>
            <p:nvPr/>
          </p:nvCxnSpPr>
          <p:spPr>
            <a:xfrm flipH="1">
              <a:off x="7260480" y="2901960"/>
              <a:ext cx="153000" cy="4579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537" name=""/>
            <p:cNvCxnSpPr>
              <a:stCxn id="529" idx="4"/>
              <a:endCxn id="530" idx="2"/>
            </p:cNvCxnSpPr>
            <p:nvPr/>
          </p:nvCxnSpPr>
          <p:spPr>
            <a:xfrm>
              <a:off x="7413120" y="2901960"/>
              <a:ext cx="267120" cy="29448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538" name=""/>
            <p:cNvCxnSpPr>
              <a:stCxn id="529" idx="4"/>
              <a:endCxn id="535" idx="0"/>
            </p:cNvCxnSpPr>
            <p:nvPr/>
          </p:nvCxnSpPr>
          <p:spPr>
            <a:xfrm>
              <a:off x="7413120" y="2901960"/>
              <a:ext cx="283320" cy="8373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539" name=""/>
            <p:cNvCxnSpPr>
              <a:stCxn id="530" idx="4"/>
              <a:endCxn id="535" idx="0"/>
            </p:cNvCxnSpPr>
            <p:nvPr/>
          </p:nvCxnSpPr>
          <p:spPr>
            <a:xfrm flipH="1">
              <a:off x="7695360" y="3336840"/>
              <a:ext cx="175320" cy="40248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540" name=""/>
            <p:cNvCxnSpPr>
              <a:stCxn id="531" idx="4"/>
              <a:endCxn id="534" idx="0"/>
            </p:cNvCxnSpPr>
            <p:nvPr/>
          </p:nvCxnSpPr>
          <p:spPr>
            <a:xfrm>
              <a:off x="7947000" y="2522520"/>
              <a:ext cx="381600" cy="7833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541" name=""/>
            <p:cNvCxnSpPr>
              <a:stCxn id="530" idx="0"/>
              <a:endCxn id="531" idx="4"/>
            </p:cNvCxnSpPr>
            <p:nvPr/>
          </p:nvCxnSpPr>
          <p:spPr>
            <a:xfrm flipV="1">
              <a:off x="7870680" y="2521800"/>
              <a:ext cx="76680" cy="5324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542" name=""/>
            <p:cNvCxnSpPr>
              <a:stCxn id="535" idx="1"/>
              <a:endCxn id="533" idx="4"/>
            </p:cNvCxnSpPr>
            <p:nvPr/>
          </p:nvCxnSpPr>
          <p:spPr>
            <a:xfrm flipH="1" flipV="1">
              <a:off x="7260840" y="3641760"/>
              <a:ext cx="311760" cy="1335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543" name=""/>
            <p:cNvCxnSpPr>
              <a:stCxn id="534" idx="2"/>
              <a:endCxn id="530" idx="4"/>
            </p:cNvCxnSpPr>
            <p:nvPr/>
          </p:nvCxnSpPr>
          <p:spPr>
            <a:xfrm flipH="1" flipV="1">
              <a:off x="7870320" y="3336120"/>
              <a:ext cx="267120" cy="1119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544" name=""/>
            <p:cNvCxnSpPr>
              <a:stCxn id="534" idx="0"/>
              <a:endCxn id="532" idx="4"/>
            </p:cNvCxnSpPr>
            <p:nvPr/>
          </p:nvCxnSpPr>
          <p:spPr>
            <a:xfrm flipV="1">
              <a:off x="8327880" y="2979360"/>
              <a:ext cx="153360" cy="3261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545" name=""/>
            <p:cNvCxnSpPr>
              <a:stCxn id="511" idx="4"/>
              <a:endCxn id="512" idx="2"/>
            </p:cNvCxnSpPr>
            <p:nvPr/>
          </p:nvCxnSpPr>
          <p:spPr>
            <a:xfrm>
              <a:off x="6346440" y="2323800"/>
              <a:ext cx="289440" cy="26208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546" name=""/>
            <p:cNvCxnSpPr>
              <a:stCxn id="517" idx="0"/>
              <a:endCxn id="533" idx="4"/>
            </p:cNvCxnSpPr>
            <p:nvPr/>
          </p:nvCxnSpPr>
          <p:spPr>
            <a:xfrm flipV="1">
              <a:off x="6999120" y="3641040"/>
              <a:ext cx="262800" cy="175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547" name=""/>
            <p:cNvCxnSpPr>
              <a:stCxn id="529" idx="6"/>
              <a:endCxn id="531" idx="4"/>
            </p:cNvCxnSpPr>
            <p:nvPr/>
          </p:nvCxnSpPr>
          <p:spPr>
            <a:xfrm flipV="1">
              <a:off x="7602120" y="2522160"/>
              <a:ext cx="345240" cy="2390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548" name=""/>
            <p:cNvCxnSpPr>
              <a:stCxn id="532" idx="0"/>
              <a:endCxn id="531" idx="4"/>
            </p:cNvCxnSpPr>
            <p:nvPr/>
          </p:nvCxnSpPr>
          <p:spPr>
            <a:xfrm flipH="1" flipV="1">
              <a:off x="7946640" y="2521800"/>
              <a:ext cx="534240" cy="17388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549" name=""/>
            <p:cNvCxnSpPr>
              <a:stCxn id="509" idx="6"/>
              <a:endCxn id="511" idx="4"/>
            </p:cNvCxnSpPr>
            <p:nvPr/>
          </p:nvCxnSpPr>
          <p:spPr>
            <a:xfrm flipV="1">
              <a:off x="6079680" y="2323800"/>
              <a:ext cx="267120" cy="20880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</p:grpSp>
      <p:sp>
        <p:nvSpPr>
          <p:cNvPr id="550" name=""/>
          <p:cNvSpPr/>
          <p:nvPr/>
        </p:nvSpPr>
        <p:spPr>
          <a:xfrm>
            <a:off x="2241720" y="4952880"/>
            <a:ext cx="3016080" cy="703800"/>
          </a:xfrm>
          <a:prstGeom prst="borderCallout1">
            <a:avLst>
              <a:gd name="adj1" fmla="val 18750"/>
              <a:gd name="adj2" fmla="val -8333"/>
              <a:gd name="adj3" fmla="val -63138"/>
              <a:gd name="adj4" fmla="val -8995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einaud"/>
              </a:rPr>
              <a:t>Term with weight less than zero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e4e4"/>
                </a:solidFill>
                <a:latin typeface="Peinaud"/>
              </a:rPr>
              <a:t>Adaptation: Step 4</a:t>
            </a:r>
            <a:endParaRPr b="1" lang="en-US" sz="5400" spc="-1" strike="noStrike">
              <a:solidFill>
                <a:srgbClr val="e4e4e4"/>
              </a:solidFill>
              <a:latin typeface="Peinaud"/>
            </a:endParaRPr>
          </a:p>
        </p:txBody>
      </p:sp>
      <p:sp>
        <p:nvSpPr>
          <p:cNvPr id="552" name=""/>
          <p:cNvSpPr/>
          <p:nvPr/>
        </p:nvSpPr>
        <p:spPr>
          <a:xfrm>
            <a:off x="4876920" y="2994120"/>
            <a:ext cx="349200" cy="2505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246640" y="3505320"/>
            <a:ext cx="349200" cy="2505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334120" y="2644920"/>
            <a:ext cx="347400" cy="2505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813280" y="3048120"/>
            <a:ext cx="347760" cy="2505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681520" y="3503520"/>
            <a:ext cx="349560" cy="2523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724280" y="3808440"/>
            <a:ext cx="347760" cy="2523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51560" y="4189320"/>
            <a:ext cx="349200" cy="2523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072040" y="4341960"/>
            <a:ext cx="349200" cy="2523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986440" y="4419720"/>
            <a:ext cx="349200" cy="2505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1" name=""/>
          <p:cNvCxnSpPr>
            <a:stCxn id="552" idx="4"/>
            <a:endCxn id="557" idx="0"/>
          </p:cNvCxnSpPr>
          <p:nvPr/>
        </p:nvCxnSpPr>
        <p:spPr>
          <a:xfrm flipH="1">
            <a:off x="4898520" y="3260520"/>
            <a:ext cx="153360" cy="5324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562" name=""/>
          <p:cNvCxnSpPr>
            <a:stCxn id="552" idx="4"/>
            <a:endCxn id="553" idx="0"/>
          </p:cNvCxnSpPr>
          <p:nvPr/>
        </p:nvCxnSpPr>
        <p:spPr>
          <a:xfrm>
            <a:off x="5051160" y="3260520"/>
            <a:ext cx="370440" cy="2293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563" name=""/>
          <p:cNvCxnSpPr>
            <a:stCxn id="552" idx="4"/>
            <a:endCxn id="559" idx="0"/>
          </p:cNvCxnSpPr>
          <p:nvPr/>
        </p:nvCxnSpPr>
        <p:spPr>
          <a:xfrm>
            <a:off x="5051520" y="3260880"/>
            <a:ext cx="195840" cy="10656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564" name=""/>
          <p:cNvCxnSpPr>
            <a:stCxn id="553" idx="4"/>
            <a:endCxn id="559" idx="0"/>
          </p:cNvCxnSpPr>
          <p:nvPr/>
        </p:nvCxnSpPr>
        <p:spPr>
          <a:xfrm flipH="1">
            <a:off x="5245920" y="3772080"/>
            <a:ext cx="175320" cy="5540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565" name=""/>
          <p:cNvCxnSpPr>
            <a:stCxn id="560" idx="0"/>
            <a:endCxn id="555" idx="4"/>
          </p:cNvCxnSpPr>
          <p:nvPr/>
        </p:nvCxnSpPr>
        <p:spPr>
          <a:xfrm flipH="1" flipV="1">
            <a:off x="5987160" y="3314160"/>
            <a:ext cx="173880" cy="10897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566" name=""/>
          <p:cNvCxnSpPr>
            <a:stCxn id="554" idx="4"/>
            <a:endCxn id="558" idx="0"/>
          </p:cNvCxnSpPr>
          <p:nvPr/>
        </p:nvCxnSpPr>
        <p:spPr>
          <a:xfrm>
            <a:off x="5508720" y="2911320"/>
            <a:ext cx="218160" cy="12628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567" name=""/>
          <p:cNvCxnSpPr>
            <a:stCxn id="553" idx="0"/>
            <a:endCxn id="554" idx="4"/>
          </p:cNvCxnSpPr>
          <p:nvPr/>
        </p:nvCxnSpPr>
        <p:spPr>
          <a:xfrm flipV="1">
            <a:off x="5420880" y="2910960"/>
            <a:ext cx="87840" cy="5788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568" name=""/>
          <p:cNvCxnSpPr>
            <a:stCxn id="559" idx="1"/>
            <a:endCxn id="557" idx="4"/>
          </p:cNvCxnSpPr>
          <p:nvPr/>
        </p:nvCxnSpPr>
        <p:spPr>
          <a:xfrm flipH="1" flipV="1">
            <a:off x="4898520" y="4076280"/>
            <a:ext cx="224640" cy="2865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569" name=""/>
          <p:cNvCxnSpPr>
            <a:stCxn id="555" idx="4"/>
            <a:endCxn id="556" idx="0"/>
          </p:cNvCxnSpPr>
          <p:nvPr/>
        </p:nvCxnSpPr>
        <p:spPr>
          <a:xfrm flipH="1">
            <a:off x="5855760" y="3314880"/>
            <a:ext cx="132480" cy="1735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570" name=""/>
          <p:cNvCxnSpPr>
            <a:stCxn id="558" idx="0"/>
            <a:endCxn id="553" idx="4"/>
          </p:cNvCxnSpPr>
          <p:nvPr/>
        </p:nvCxnSpPr>
        <p:spPr>
          <a:xfrm flipH="1" flipV="1">
            <a:off x="5420520" y="3771360"/>
            <a:ext cx="305640" cy="4021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571" name=""/>
          <p:cNvCxnSpPr>
            <a:stCxn id="558" idx="0"/>
            <a:endCxn id="556" idx="4"/>
          </p:cNvCxnSpPr>
          <p:nvPr/>
        </p:nvCxnSpPr>
        <p:spPr>
          <a:xfrm flipV="1">
            <a:off x="5725800" y="3771360"/>
            <a:ext cx="130680" cy="4021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572" name=""/>
          <p:cNvSpPr/>
          <p:nvPr/>
        </p:nvSpPr>
        <p:spPr>
          <a:xfrm>
            <a:off x="6400800" y="3222720"/>
            <a:ext cx="347760" cy="250560"/>
          </a:xfrm>
          <a:prstGeom prst="ellipse">
            <a:avLst/>
          </a:prstGeom>
          <a:solidFill>
            <a:srgbClr val="ff9900">
              <a:alpha val="50000"/>
            </a:srgbClr>
          </a:solidFill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858000" y="3657600"/>
            <a:ext cx="347760" cy="25092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934320" y="2841480"/>
            <a:ext cx="347400" cy="252720"/>
          </a:xfrm>
          <a:prstGeom prst="ellipse">
            <a:avLst/>
          </a:prstGeom>
          <a:solidFill>
            <a:srgbClr val="ff9900">
              <a:alpha val="50000"/>
            </a:srgbClr>
          </a:solidFill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467480" y="3298680"/>
            <a:ext cx="347760" cy="252720"/>
          </a:xfrm>
          <a:prstGeom prst="ellipse">
            <a:avLst/>
          </a:prstGeom>
          <a:solidFill>
            <a:srgbClr val="ff9900">
              <a:alpha val="50000"/>
            </a:srgbClr>
          </a:solidFill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248520" y="3962520"/>
            <a:ext cx="347400" cy="2505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315200" y="3908520"/>
            <a:ext cx="347760" cy="252360"/>
          </a:xfrm>
          <a:prstGeom prst="ellipse">
            <a:avLst/>
          </a:prstGeom>
          <a:solidFill>
            <a:srgbClr val="ff9900">
              <a:alpha val="50000"/>
            </a:srgbClr>
          </a:solidFill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683400" y="4341960"/>
            <a:ext cx="349200" cy="2523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9" name=""/>
          <p:cNvCxnSpPr>
            <a:stCxn id="572" idx="4"/>
            <a:endCxn id="576" idx="0"/>
          </p:cNvCxnSpPr>
          <p:nvPr/>
        </p:nvCxnSpPr>
        <p:spPr>
          <a:xfrm flipH="1">
            <a:off x="6422400" y="3489480"/>
            <a:ext cx="153000" cy="4579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580" name=""/>
          <p:cNvCxnSpPr>
            <a:stCxn id="572" idx="4"/>
            <a:endCxn id="573" idx="2"/>
          </p:cNvCxnSpPr>
          <p:nvPr/>
        </p:nvCxnSpPr>
        <p:spPr>
          <a:xfrm>
            <a:off x="6575040" y="3489120"/>
            <a:ext cx="267120" cy="2941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581" name=""/>
          <p:cNvCxnSpPr>
            <a:stCxn id="572" idx="4"/>
            <a:endCxn id="578" idx="0"/>
          </p:cNvCxnSpPr>
          <p:nvPr/>
        </p:nvCxnSpPr>
        <p:spPr>
          <a:xfrm>
            <a:off x="6575040" y="3489120"/>
            <a:ext cx="283320" cy="8370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582" name=""/>
          <p:cNvCxnSpPr>
            <a:stCxn id="573" idx="4"/>
            <a:endCxn id="578" idx="0"/>
          </p:cNvCxnSpPr>
          <p:nvPr/>
        </p:nvCxnSpPr>
        <p:spPr>
          <a:xfrm flipH="1">
            <a:off x="6857280" y="3924000"/>
            <a:ext cx="175320" cy="4021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583" name=""/>
          <p:cNvCxnSpPr>
            <a:stCxn id="574" idx="4"/>
            <a:endCxn id="577" idx="0"/>
          </p:cNvCxnSpPr>
          <p:nvPr/>
        </p:nvCxnSpPr>
        <p:spPr>
          <a:xfrm>
            <a:off x="7108920" y="3110040"/>
            <a:ext cx="381600" cy="7833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584" name=""/>
          <p:cNvCxnSpPr>
            <a:stCxn id="573" idx="0"/>
            <a:endCxn id="574" idx="4"/>
          </p:cNvCxnSpPr>
          <p:nvPr/>
        </p:nvCxnSpPr>
        <p:spPr>
          <a:xfrm flipV="1">
            <a:off x="7032600" y="3109320"/>
            <a:ext cx="76680" cy="5324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585" name=""/>
          <p:cNvCxnSpPr>
            <a:stCxn id="578" idx="1"/>
            <a:endCxn id="576" idx="4"/>
          </p:cNvCxnSpPr>
          <p:nvPr/>
        </p:nvCxnSpPr>
        <p:spPr>
          <a:xfrm flipH="1" flipV="1">
            <a:off x="6422760" y="4229280"/>
            <a:ext cx="311760" cy="1335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586" name=""/>
          <p:cNvCxnSpPr>
            <a:stCxn id="577" idx="2"/>
            <a:endCxn id="573" idx="4"/>
          </p:cNvCxnSpPr>
          <p:nvPr/>
        </p:nvCxnSpPr>
        <p:spPr>
          <a:xfrm flipH="1" flipV="1">
            <a:off x="7032240" y="3923640"/>
            <a:ext cx="267120" cy="1119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587" name=""/>
          <p:cNvCxnSpPr>
            <a:stCxn id="577" idx="0"/>
            <a:endCxn id="575" idx="4"/>
          </p:cNvCxnSpPr>
          <p:nvPr/>
        </p:nvCxnSpPr>
        <p:spPr>
          <a:xfrm flipV="1">
            <a:off x="7489440" y="3566880"/>
            <a:ext cx="153000" cy="3261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588" name=""/>
          <p:cNvCxnSpPr>
            <a:stCxn id="554" idx="4"/>
            <a:endCxn id="555" idx="2"/>
          </p:cNvCxnSpPr>
          <p:nvPr/>
        </p:nvCxnSpPr>
        <p:spPr>
          <a:xfrm>
            <a:off x="5508720" y="2911320"/>
            <a:ext cx="289440" cy="2628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589" name=""/>
          <p:cNvCxnSpPr>
            <a:stCxn id="560" idx="0"/>
            <a:endCxn id="576" idx="4"/>
          </p:cNvCxnSpPr>
          <p:nvPr/>
        </p:nvCxnSpPr>
        <p:spPr>
          <a:xfrm flipV="1">
            <a:off x="6161040" y="4228560"/>
            <a:ext cx="262800" cy="1753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590" name=""/>
          <p:cNvCxnSpPr>
            <a:stCxn id="572" idx="6"/>
            <a:endCxn id="574" idx="4"/>
          </p:cNvCxnSpPr>
          <p:nvPr/>
        </p:nvCxnSpPr>
        <p:spPr>
          <a:xfrm flipV="1">
            <a:off x="6764040" y="3109320"/>
            <a:ext cx="345240" cy="2386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591" name=""/>
          <p:cNvCxnSpPr>
            <a:stCxn id="575" idx="0"/>
            <a:endCxn id="574" idx="4"/>
          </p:cNvCxnSpPr>
          <p:nvPr/>
        </p:nvCxnSpPr>
        <p:spPr>
          <a:xfrm flipH="1" flipV="1">
            <a:off x="7108200" y="3109680"/>
            <a:ext cx="533880" cy="1735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592" name=""/>
          <p:cNvCxnSpPr>
            <a:stCxn id="552" idx="6"/>
            <a:endCxn id="554" idx="4"/>
          </p:cNvCxnSpPr>
          <p:nvPr/>
        </p:nvCxnSpPr>
        <p:spPr>
          <a:xfrm flipV="1">
            <a:off x="5241600" y="2910960"/>
            <a:ext cx="267120" cy="2088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593" name=""/>
          <p:cNvSpPr/>
          <p:nvPr/>
        </p:nvSpPr>
        <p:spPr>
          <a:xfrm>
            <a:off x="6400800" y="4702320"/>
            <a:ext cx="339840" cy="236520"/>
          </a:xfrm>
          <a:prstGeom prst="ellipse">
            <a:avLst/>
          </a:prstGeom>
          <a:solidFill>
            <a:srgbClr val="99cc00">
              <a:alpha val="50000"/>
            </a:srgbClr>
          </a:solidFill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010280" y="4778280"/>
            <a:ext cx="339840" cy="236520"/>
          </a:xfrm>
          <a:prstGeom prst="ellipse">
            <a:avLst/>
          </a:prstGeom>
          <a:solidFill>
            <a:srgbClr val="99cc00">
              <a:alpha val="50000"/>
            </a:srgbClr>
          </a:solidFill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772400" y="3635280"/>
            <a:ext cx="339840" cy="236520"/>
          </a:xfrm>
          <a:prstGeom prst="ellipse">
            <a:avLst/>
          </a:prstGeom>
          <a:solidFill>
            <a:srgbClr val="99cc00">
              <a:alpha val="50000"/>
            </a:srgbClr>
          </a:solidFill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848720" y="4168800"/>
            <a:ext cx="341280" cy="236520"/>
          </a:xfrm>
          <a:prstGeom prst="ellipse">
            <a:avLst/>
          </a:prstGeom>
          <a:solidFill>
            <a:srgbClr val="99cc00">
              <a:alpha val="50000"/>
            </a:srgbClr>
          </a:solidFill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562720" y="4702320"/>
            <a:ext cx="341280" cy="236520"/>
          </a:xfrm>
          <a:prstGeom prst="ellipse">
            <a:avLst/>
          </a:prstGeom>
          <a:solidFill>
            <a:srgbClr val="99cc00">
              <a:alpha val="50000"/>
            </a:srgbClr>
          </a:solidFill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696080" y="4702320"/>
            <a:ext cx="341280" cy="236520"/>
          </a:xfrm>
          <a:prstGeom prst="ellipse">
            <a:avLst/>
          </a:prstGeom>
          <a:solidFill>
            <a:srgbClr val="99cc00">
              <a:alpha val="50000"/>
            </a:srgbClr>
          </a:solidFill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315200" y="4397400"/>
            <a:ext cx="341280" cy="236520"/>
          </a:xfrm>
          <a:prstGeom prst="ellipse">
            <a:avLst/>
          </a:prstGeom>
          <a:solidFill>
            <a:srgbClr val="99cc00">
              <a:alpha val="50000"/>
            </a:srgbClr>
          </a:solidFill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103400" y="2795760"/>
            <a:ext cx="358560" cy="274320"/>
          </a:xfrm>
          <a:prstGeom prst="ellipse">
            <a:avLst/>
          </a:prstGeom>
          <a:solidFill>
            <a:srgbClr val="99cc00">
              <a:alpha val="50000"/>
            </a:srgbClr>
          </a:solidFill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641600" y="2795760"/>
            <a:ext cx="358560" cy="274320"/>
          </a:xfrm>
          <a:prstGeom prst="ellipse">
            <a:avLst/>
          </a:prstGeom>
          <a:solidFill>
            <a:srgbClr val="99cc00">
              <a:alpha val="50000"/>
            </a:srgbClr>
          </a:solidFill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371600" y="3276720"/>
            <a:ext cx="358920" cy="276120"/>
          </a:xfrm>
          <a:prstGeom prst="ellipse">
            <a:avLst/>
          </a:prstGeom>
          <a:solidFill>
            <a:srgbClr val="99cc00">
              <a:alpha val="50000"/>
            </a:srgbClr>
          </a:solidFill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20560" y="3759120"/>
            <a:ext cx="358920" cy="274680"/>
          </a:xfrm>
          <a:prstGeom prst="ellipse">
            <a:avLst/>
          </a:prstGeom>
          <a:solidFill>
            <a:srgbClr val="99cc00">
              <a:alpha val="50000"/>
            </a:srgbClr>
          </a:solidFill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685880" y="4033800"/>
            <a:ext cx="358920" cy="276120"/>
          </a:xfrm>
          <a:prstGeom prst="ellipse">
            <a:avLst/>
          </a:prstGeom>
          <a:solidFill>
            <a:srgbClr val="99cc00">
              <a:alpha val="50000"/>
            </a:srgbClr>
          </a:solidFill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295280" y="4572000"/>
            <a:ext cx="358920" cy="276120"/>
          </a:xfrm>
          <a:prstGeom prst="ellipse">
            <a:avLst/>
          </a:prstGeom>
          <a:solidFill>
            <a:srgbClr val="99cc00">
              <a:alpha val="50000"/>
            </a:srgbClr>
          </a:solidFill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55560" y="4654440"/>
            <a:ext cx="358920" cy="274680"/>
          </a:xfrm>
          <a:prstGeom prst="ellipse">
            <a:avLst/>
          </a:prstGeom>
          <a:solidFill>
            <a:srgbClr val="99cc00">
              <a:alpha val="50000"/>
            </a:srgbClr>
          </a:solidFill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743200" y="3276720"/>
            <a:ext cx="1752480" cy="137160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Peinaud"/>
              </a:rPr>
              <a:t>Add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Peinaud"/>
              </a:rPr>
              <a:t>New Term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e4e4"/>
                </a:solidFill>
                <a:latin typeface="Peinaud"/>
              </a:rPr>
              <a:t>Adaptation: Step 5</a:t>
            </a:r>
            <a:endParaRPr b="1" lang="en-US" sz="5400" spc="-1" strike="noStrike">
              <a:solidFill>
                <a:srgbClr val="e4e4e4"/>
              </a:solidFill>
              <a:latin typeface="Peinaud"/>
            </a:endParaRPr>
          </a:p>
        </p:txBody>
      </p:sp>
      <p:sp>
        <p:nvSpPr>
          <p:cNvPr id="609" name=""/>
          <p:cNvSpPr/>
          <p:nvPr/>
        </p:nvSpPr>
        <p:spPr>
          <a:xfrm>
            <a:off x="533520" y="3200400"/>
            <a:ext cx="1600200" cy="11430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Peinaud"/>
              </a:rPr>
              <a:t>Generat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Peinaud"/>
              </a:rPr>
              <a:t>Link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971800" y="2940120"/>
            <a:ext cx="349200" cy="24264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341520" y="3451320"/>
            <a:ext cx="349560" cy="24264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429000" y="2590920"/>
            <a:ext cx="347760" cy="24264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908520" y="2994120"/>
            <a:ext cx="347400" cy="24264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776760" y="3449520"/>
            <a:ext cx="349200" cy="24444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819520" y="3754440"/>
            <a:ext cx="347400" cy="24444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646440" y="4135320"/>
            <a:ext cx="349200" cy="24444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166920" y="4287960"/>
            <a:ext cx="349560" cy="24444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081320" y="4365720"/>
            <a:ext cx="349560" cy="24264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9" name=""/>
          <p:cNvCxnSpPr>
            <a:stCxn id="610" idx="4"/>
            <a:endCxn id="615" idx="0"/>
          </p:cNvCxnSpPr>
          <p:nvPr/>
        </p:nvCxnSpPr>
        <p:spPr>
          <a:xfrm flipH="1">
            <a:off x="2993400" y="3198600"/>
            <a:ext cx="153000" cy="5403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620" name=""/>
          <p:cNvCxnSpPr>
            <a:stCxn id="610" idx="4"/>
            <a:endCxn id="611" idx="0"/>
          </p:cNvCxnSpPr>
          <p:nvPr/>
        </p:nvCxnSpPr>
        <p:spPr>
          <a:xfrm>
            <a:off x="3146400" y="3198600"/>
            <a:ext cx="370800" cy="2372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621" name=""/>
          <p:cNvCxnSpPr>
            <a:stCxn id="610" idx="4"/>
            <a:endCxn id="617" idx="0"/>
          </p:cNvCxnSpPr>
          <p:nvPr/>
        </p:nvCxnSpPr>
        <p:spPr>
          <a:xfrm>
            <a:off x="3146400" y="3198600"/>
            <a:ext cx="195840" cy="10735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622" name=""/>
          <p:cNvCxnSpPr>
            <a:stCxn id="611" idx="4"/>
            <a:endCxn id="617" idx="0"/>
          </p:cNvCxnSpPr>
          <p:nvPr/>
        </p:nvCxnSpPr>
        <p:spPr>
          <a:xfrm flipH="1">
            <a:off x="3341160" y="3709800"/>
            <a:ext cx="175680" cy="5626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623" name=""/>
          <p:cNvCxnSpPr>
            <a:stCxn id="618" idx="0"/>
            <a:endCxn id="613" idx="4"/>
          </p:cNvCxnSpPr>
          <p:nvPr/>
        </p:nvCxnSpPr>
        <p:spPr>
          <a:xfrm flipH="1" flipV="1">
            <a:off x="4082760" y="3252240"/>
            <a:ext cx="173520" cy="10976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624" name=""/>
          <p:cNvCxnSpPr>
            <a:stCxn id="612" idx="4"/>
            <a:endCxn id="616" idx="0"/>
          </p:cNvCxnSpPr>
          <p:nvPr/>
        </p:nvCxnSpPr>
        <p:spPr>
          <a:xfrm>
            <a:off x="3603600" y="2849400"/>
            <a:ext cx="218160" cy="12708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625" name=""/>
          <p:cNvCxnSpPr>
            <a:stCxn id="611" idx="0"/>
            <a:endCxn id="612" idx="4"/>
          </p:cNvCxnSpPr>
          <p:nvPr/>
        </p:nvCxnSpPr>
        <p:spPr>
          <a:xfrm flipV="1">
            <a:off x="3516480" y="2849040"/>
            <a:ext cx="87840" cy="5868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626" name=""/>
          <p:cNvCxnSpPr>
            <a:stCxn id="617" idx="1"/>
            <a:endCxn id="615" idx="4"/>
          </p:cNvCxnSpPr>
          <p:nvPr/>
        </p:nvCxnSpPr>
        <p:spPr>
          <a:xfrm flipH="1" flipV="1">
            <a:off x="2993760" y="4014360"/>
            <a:ext cx="224640" cy="2944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627" name=""/>
          <p:cNvCxnSpPr>
            <a:stCxn id="613" idx="4"/>
            <a:endCxn id="614" idx="0"/>
          </p:cNvCxnSpPr>
          <p:nvPr/>
        </p:nvCxnSpPr>
        <p:spPr>
          <a:xfrm flipH="1">
            <a:off x="3951000" y="3252960"/>
            <a:ext cx="132480" cy="1814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628" name=""/>
          <p:cNvCxnSpPr>
            <a:stCxn id="616" idx="0"/>
            <a:endCxn id="611" idx="4"/>
          </p:cNvCxnSpPr>
          <p:nvPr/>
        </p:nvCxnSpPr>
        <p:spPr>
          <a:xfrm flipH="1" flipV="1">
            <a:off x="3516120" y="3709440"/>
            <a:ext cx="305280" cy="4100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629" name=""/>
          <p:cNvCxnSpPr>
            <a:stCxn id="616" idx="0"/>
            <a:endCxn id="614" idx="4"/>
          </p:cNvCxnSpPr>
          <p:nvPr/>
        </p:nvCxnSpPr>
        <p:spPr>
          <a:xfrm flipV="1">
            <a:off x="3821040" y="3709440"/>
            <a:ext cx="131040" cy="4100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630" name=""/>
          <p:cNvSpPr/>
          <p:nvPr/>
        </p:nvSpPr>
        <p:spPr>
          <a:xfrm>
            <a:off x="4495680" y="3168720"/>
            <a:ext cx="347760" cy="242640"/>
          </a:xfrm>
          <a:prstGeom prst="ellipse">
            <a:avLst/>
          </a:prstGeom>
          <a:solidFill>
            <a:srgbClr val="ff9900">
              <a:alpha val="50000"/>
            </a:srgbClr>
          </a:solidFill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952880" y="3603600"/>
            <a:ext cx="347760" cy="24300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029200" y="2787480"/>
            <a:ext cx="347760" cy="244800"/>
          </a:xfrm>
          <a:prstGeom prst="ellipse">
            <a:avLst/>
          </a:prstGeom>
          <a:solidFill>
            <a:srgbClr val="ff9900">
              <a:alpha val="50000"/>
            </a:srgbClr>
          </a:solidFill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562720" y="3244680"/>
            <a:ext cx="347400" cy="244800"/>
          </a:xfrm>
          <a:prstGeom prst="ellipse">
            <a:avLst/>
          </a:prstGeom>
          <a:solidFill>
            <a:srgbClr val="ff9900">
              <a:alpha val="50000"/>
            </a:srgbClr>
          </a:solidFill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343400" y="3908520"/>
            <a:ext cx="347760" cy="24264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10080" y="3854520"/>
            <a:ext cx="347760" cy="244440"/>
          </a:xfrm>
          <a:prstGeom prst="ellipse">
            <a:avLst/>
          </a:prstGeom>
          <a:solidFill>
            <a:srgbClr val="ff9900">
              <a:alpha val="50000"/>
            </a:srgbClr>
          </a:solidFill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778280" y="4287960"/>
            <a:ext cx="349200" cy="24444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7" name=""/>
          <p:cNvCxnSpPr>
            <a:stCxn id="630" idx="4"/>
            <a:endCxn id="634" idx="0"/>
          </p:cNvCxnSpPr>
          <p:nvPr/>
        </p:nvCxnSpPr>
        <p:spPr>
          <a:xfrm flipH="1">
            <a:off x="4517280" y="3427560"/>
            <a:ext cx="153000" cy="4658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638" name=""/>
          <p:cNvCxnSpPr>
            <a:stCxn id="630" idx="4"/>
            <a:endCxn id="631" idx="2"/>
          </p:cNvCxnSpPr>
          <p:nvPr/>
        </p:nvCxnSpPr>
        <p:spPr>
          <a:xfrm>
            <a:off x="4669920" y="3427200"/>
            <a:ext cx="267120" cy="2991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639" name=""/>
          <p:cNvCxnSpPr>
            <a:stCxn id="630" idx="4"/>
            <a:endCxn id="636" idx="0"/>
          </p:cNvCxnSpPr>
          <p:nvPr/>
        </p:nvCxnSpPr>
        <p:spPr>
          <a:xfrm>
            <a:off x="4669920" y="3427560"/>
            <a:ext cx="283320" cy="8452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640" name=""/>
          <p:cNvCxnSpPr>
            <a:stCxn id="631" idx="4"/>
            <a:endCxn id="636" idx="0"/>
          </p:cNvCxnSpPr>
          <p:nvPr/>
        </p:nvCxnSpPr>
        <p:spPr>
          <a:xfrm flipH="1">
            <a:off x="4952160" y="3862440"/>
            <a:ext cx="175320" cy="4104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641" name=""/>
          <p:cNvCxnSpPr>
            <a:stCxn id="632" idx="4"/>
            <a:endCxn id="635" idx="0"/>
          </p:cNvCxnSpPr>
          <p:nvPr/>
        </p:nvCxnSpPr>
        <p:spPr>
          <a:xfrm>
            <a:off x="5203800" y="3048120"/>
            <a:ext cx="381600" cy="7912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642" name=""/>
          <p:cNvCxnSpPr>
            <a:stCxn id="631" idx="0"/>
            <a:endCxn id="632" idx="4"/>
          </p:cNvCxnSpPr>
          <p:nvPr/>
        </p:nvCxnSpPr>
        <p:spPr>
          <a:xfrm flipV="1">
            <a:off x="5127480" y="3047400"/>
            <a:ext cx="76680" cy="5403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643" name=""/>
          <p:cNvCxnSpPr>
            <a:stCxn id="636" idx="1"/>
            <a:endCxn id="634" idx="4"/>
          </p:cNvCxnSpPr>
          <p:nvPr/>
        </p:nvCxnSpPr>
        <p:spPr>
          <a:xfrm flipH="1" flipV="1">
            <a:off x="4517640" y="4167000"/>
            <a:ext cx="311760" cy="1418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644" name=""/>
          <p:cNvCxnSpPr>
            <a:stCxn id="635" idx="2"/>
            <a:endCxn id="631" idx="4"/>
          </p:cNvCxnSpPr>
          <p:nvPr/>
        </p:nvCxnSpPr>
        <p:spPr>
          <a:xfrm flipH="1" flipV="1">
            <a:off x="5127120" y="3861720"/>
            <a:ext cx="267120" cy="1148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645" name=""/>
          <p:cNvCxnSpPr>
            <a:stCxn id="635" idx="0"/>
            <a:endCxn id="633" idx="4"/>
          </p:cNvCxnSpPr>
          <p:nvPr/>
        </p:nvCxnSpPr>
        <p:spPr>
          <a:xfrm flipV="1">
            <a:off x="5584680" y="3504960"/>
            <a:ext cx="153360" cy="3340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646" name=""/>
          <p:cNvCxnSpPr>
            <a:stCxn id="612" idx="4"/>
            <a:endCxn id="613" idx="2"/>
          </p:cNvCxnSpPr>
          <p:nvPr/>
        </p:nvCxnSpPr>
        <p:spPr>
          <a:xfrm>
            <a:off x="3603240" y="2849040"/>
            <a:ext cx="28944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647" name=""/>
          <p:cNvCxnSpPr>
            <a:stCxn id="618" idx="0"/>
            <a:endCxn id="634" idx="4"/>
          </p:cNvCxnSpPr>
          <p:nvPr/>
        </p:nvCxnSpPr>
        <p:spPr>
          <a:xfrm flipV="1">
            <a:off x="4255920" y="4166640"/>
            <a:ext cx="262800" cy="1832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648" name=""/>
          <p:cNvCxnSpPr>
            <a:stCxn id="630" idx="6"/>
            <a:endCxn id="632" idx="4"/>
          </p:cNvCxnSpPr>
          <p:nvPr/>
        </p:nvCxnSpPr>
        <p:spPr>
          <a:xfrm flipV="1">
            <a:off x="4858920" y="3047760"/>
            <a:ext cx="345240" cy="2433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649" name=""/>
          <p:cNvCxnSpPr>
            <a:stCxn id="633" idx="0"/>
            <a:endCxn id="632" idx="4"/>
          </p:cNvCxnSpPr>
          <p:nvPr/>
        </p:nvCxnSpPr>
        <p:spPr>
          <a:xfrm flipH="1" flipV="1">
            <a:off x="5203440" y="3047760"/>
            <a:ext cx="534240" cy="1814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650" name=""/>
          <p:cNvCxnSpPr>
            <a:stCxn id="610" idx="6"/>
            <a:endCxn id="612" idx="4"/>
          </p:cNvCxnSpPr>
          <p:nvPr/>
        </p:nvCxnSpPr>
        <p:spPr>
          <a:xfrm flipV="1">
            <a:off x="3336480" y="2848680"/>
            <a:ext cx="267120" cy="2134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651" name=""/>
          <p:cNvSpPr/>
          <p:nvPr/>
        </p:nvSpPr>
        <p:spPr>
          <a:xfrm>
            <a:off x="4495680" y="4648320"/>
            <a:ext cx="339840" cy="228600"/>
          </a:xfrm>
          <a:prstGeom prst="ellipse">
            <a:avLst/>
          </a:prstGeom>
          <a:solidFill>
            <a:srgbClr val="99cc00">
              <a:alpha val="50000"/>
            </a:srgbClr>
          </a:solidFill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105520" y="4724280"/>
            <a:ext cx="339480" cy="228600"/>
          </a:xfrm>
          <a:prstGeom prst="ellipse">
            <a:avLst/>
          </a:prstGeom>
          <a:solidFill>
            <a:srgbClr val="99cc00">
              <a:alpha val="50000"/>
            </a:srgbClr>
          </a:solidFill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095880" y="3581280"/>
            <a:ext cx="339840" cy="228600"/>
          </a:xfrm>
          <a:prstGeom prst="ellipse">
            <a:avLst/>
          </a:prstGeom>
          <a:solidFill>
            <a:srgbClr val="99cc00">
              <a:alpha val="50000"/>
            </a:srgbClr>
          </a:solidFill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943600" y="4114800"/>
            <a:ext cx="341280" cy="228600"/>
          </a:xfrm>
          <a:prstGeom prst="ellipse">
            <a:avLst/>
          </a:prstGeom>
          <a:solidFill>
            <a:srgbClr val="99cc00">
              <a:alpha val="50000"/>
            </a:srgbClr>
          </a:solidFill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657600" y="4648320"/>
            <a:ext cx="341280" cy="228600"/>
          </a:xfrm>
          <a:prstGeom prst="ellipse">
            <a:avLst/>
          </a:prstGeom>
          <a:solidFill>
            <a:srgbClr val="99cc00">
              <a:alpha val="50000"/>
            </a:srgbClr>
          </a:solidFill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791320" y="4648320"/>
            <a:ext cx="341280" cy="228600"/>
          </a:xfrm>
          <a:prstGeom prst="ellipse">
            <a:avLst/>
          </a:prstGeom>
          <a:solidFill>
            <a:srgbClr val="99cc00">
              <a:alpha val="50000"/>
            </a:srgbClr>
          </a:solidFill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410080" y="4343400"/>
            <a:ext cx="341280" cy="228600"/>
          </a:xfrm>
          <a:prstGeom prst="ellipse">
            <a:avLst/>
          </a:prstGeom>
          <a:solidFill>
            <a:srgbClr val="99cc00">
              <a:alpha val="50000"/>
            </a:srgbClr>
          </a:solidFill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8" name=""/>
          <p:cNvCxnSpPr>
            <a:stCxn id="655" idx="6"/>
            <a:endCxn id="618" idx="4"/>
          </p:cNvCxnSpPr>
          <p:nvPr/>
        </p:nvCxnSpPr>
        <p:spPr>
          <a:xfrm flipV="1">
            <a:off x="4021200" y="4623840"/>
            <a:ext cx="235440" cy="1386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659" name=""/>
          <p:cNvCxnSpPr>
            <a:stCxn id="655" idx="0"/>
            <a:endCxn id="616" idx="4"/>
          </p:cNvCxnSpPr>
          <p:nvPr/>
        </p:nvCxnSpPr>
        <p:spPr>
          <a:xfrm flipH="1" flipV="1">
            <a:off x="3820680" y="4395240"/>
            <a:ext cx="8640" cy="2307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660" name=""/>
          <p:cNvCxnSpPr>
            <a:stCxn id="651" idx="0"/>
            <a:endCxn id="634" idx="4"/>
          </p:cNvCxnSpPr>
          <p:nvPr/>
        </p:nvCxnSpPr>
        <p:spPr>
          <a:xfrm flipH="1" flipV="1">
            <a:off x="4517640" y="4167000"/>
            <a:ext cx="148320" cy="4593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661" name=""/>
          <p:cNvCxnSpPr>
            <a:stCxn id="651" idx="0"/>
            <a:endCxn id="636" idx="4"/>
          </p:cNvCxnSpPr>
          <p:nvPr/>
        </p:nvCxnSpPr>
        <p:spPr>
          <a:xfrm flipV="1">
            <a:off x="4665600" y="4547880"/>
            <a:ext cx="288000" cy="784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662" name=""/>
          <p:cNvCxnSpPr>
            <a:stCxn id="652" idx="0"/>
            <a:endCxn id="636" idx="4"/>
          </p:cNvCxnSpPr>
          <p:nvPr/>
        </p:nvCxnSpPr>
        <p:spPr>
          <a:xfrm flipH="1" flipV="1">
            <a:off x="4952880" y="4547880"/>
            <a:ext cx="322920" cy="1548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663" name=""/>
          <p:cNvCxnSpPr>
            <a:stCxn id="652" idx="0"/>
            <a:endCxn id="631" idx="4"/>
          </p:cNvCxnSpPr>
          <p:nvPr/>
        </p:nvCxnSpPr>
        <p:spPr>
          <a:xfrm flipH="1" flipV="1">
            <a:off x="5126760" y="3861720"/>
            <a:ext cx="148680" cy="8406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664" name=""/>
          <p:cNvCxnSpPr>
            <a:stCxn id="657" idx="0"/>
            <a:endCxn id="635" idx="4"/>
          </p:cNvCxnSpPr>
          <p:nvPr/>
        </p:nvCxnSpPr>
        <p:spPr>
          <a:xfrm flipV="1">
            <a:off x="5581800" y="4114080"/>
            <a:ext cx="3600" cy="2070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665" name=""/>
          <p:cNvCxnSpPr>
            <a:stCxn id="656" idx="0"/>
            <a:endCxn id="654" idx="4"/>
          </p:cNvCxnSpPr>
          <p:nvPr/>
        </p:nvCxnSpPr>
        <p:spPr>
          <a:xfrm flipV="1">
            <a:off x="5962320" y="4365000"/>
            <a:ext cx="153000" cy="2610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666" name=""/>
          <p:cNvCxnSpPr>
            <a:stCxn id="656" idx="2"/>
            <a:endCxn id="657" idx="4"/>
          </p:cNvCxnSpPr>
          <p:nvPr/>
        </p:nvCxnSpPr>
        <p:spPr>
          <a:xfrm flipH="1" flipV="1">
            <a:off x="5581440" y="4593600"/>
            <a:ext cx="187920" cy="1688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667" name=""/>
          <p:cNvCxnSpPr>
            <a:stCxn id="656" idx="0"/>
            <a:endCxn id="633" idx="4"/>
          </p:cNvCxnSpPr>
          <p:nvPr/>
        </p:nvCxnSpPr>
        <p:spPr>
          <a:xfrm flipH="1" flipV="1">
            <a:off x="5736960" y="3504600"/>
            <a:ext cx="226080" cy="11214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668" name=""/>
          <p:cNvCxnSpPr>
            <a:stCxn id="654" idx="0"/>
            <a:endCxn id="633" idx="4"/>
          </p:cNvCxnSpPr>
          <p:nvPr/>
        </p:nvCxnSpPr>
        <p:spPr>
          <a:xfrm flipH="1" flipV="1">
            <a:off x="5736600" y="3504600"/>
            <a:ext cx="378360" cy="5878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669" name=""/>
          <p:cNvCxnSpPr>
            <a:stCxn id="657" idx="0"/>
            <a:endCxn id="653" idx="4"/>
          </p:cNvCxnSpPr>
          <p:nvPr/>
        </p:nvCxnSpPr>
        <p:spPr>
          <a:xfrm flipV="1">
            <a:off x="5581800" y="3831840"/>
            <a:ext cx="684720" cy="4896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670" name=""/>
          <p:cNvCxnSpPr>
            <a:stCxn id="652" idx="0"/>
            <a:endCxn id="635" idx="4"/>
          </p:cNvCxnSpPr>
          <p:nvPr/>
        </p:nvCxnSpPr>
        <p:spPr>
          <a:xfrm flipV="1">
            <a:off x="5275080" y="4114440"/>
            <a:ext cx="309960" cy="5882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671" name=""/>
          <p:cNvCxnSpPr>
            <a:stCxn id="652" idx="0"/>
            <a:endCxn id="657" idx="4"/>
          </p:cNvCxnSpPr>
          <p:nvPr/>
        </p:nvCxnSpPr>
        <p:spPr>
          <a:xfrm flipV="1">
            <a:off x="5275080" y="4593960"/>
            <a:ext cx="306720" cy="1087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672" name=""/>
          <p:cNvCxnSpPr>
            <a:stCxn id="630" idx="4"/>
            <a:endCxn id="651" idx="0"/>
          </p:cNvCxnSpPr>
          <p:nvPr/>
        </p:nvCxnSpPr>
        <p:spPr>
          <a:xfrm flipH="1">
            <a:off x="4664880" y="3427200"/>
            <a:ext cx="5400" cy="11991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673" name=""/>
          <p:cNvCxnSpPr>
            <a:stCxn id="653" idx="2"/>
            <a:endCxn id="633" idx="4"/>
          </p:cNvCxnSpPr>
          <p:nvPr/>
        </p:nvCxnSpPr>
        <p:spPr>
          <a:xfrm flipH="1" flipV="1">
            <a:off x="5736600" y="3504600"/>
            <a:ext cx="337320" cy="1911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e4e4"/>
                </a:solidFill>
                <a:latin typeface="Peinaud"/>
              </a:rPr>
              <a:t>Overall Effect</a:t>
            </a:r>
            <a:endParaRPr b="1" lang="en-US" sz="5400" spc="-1" strike="noStrike">
              <a:solidFill>
                <a:srgbClr val="e4e4e4"/>
              </a:solidFill>
              <a:latin typeface="Peinaud"/>
            </a:endParaRPr>
          </a:p>
        </p:txBody>
      </p:sp>
      <p:sp>
        <p:nvSpPr>
          <p:cNvPr id="675" name=""/>
          <p:cNvSpPr/>
          <p:nvPr/>
        </p:nvSpPr>
        <p:spPr>
          <a:xfrm>
            <a:off x="511200" y="2651040"/>
            <a:ext cx="349200" cy="25092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903240" y="3154320"/>
            <a:ext cx="349200" cy="25092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990720" y="2336760"/>
            <a:ext cx="347400" cy="25092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469880" y="2714760"/>
            <a:ext cx="347760" cy="2505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338120" y="3216240"/>
            <a:ext cx="349560" cy="2523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80880" y="3530520"/>
            <a:ext cx="347760" cy="2523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208160" y="3844800"/>
            <a:ext cx="349200" cy="2523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728640" y="4033800"/>
            <a:ext cx="349200" cy="2523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643040" y="4097160"/>
            <a:ext cx="349200" cy="25092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295280" y="4537080"/>
            <a:ext cx="347760" cy="25092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68360" y="4600440"/>
            <a:ext cx="347760" cy="25092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6" name=""/>
          <p:cNvCxnSpPr>
            <a:stCxn id="675" idx="4"/>
            <a:endCxn id="680" idx="0"/>
          </p:cNvCxnSpPr>
          <p:nvPr/>
        </p:nvCxnSpPr>
        <p:spPr>
          <a:xfrm flipH="1">
            <a:off x="555120" y="2916000"/>
            <a:ext cx="131040" cy="6022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687" name=""/>
          <p:cNvCxnSpPr>
            <a:stCxn id="675" idx="4"/>
            <a:endCxn id="676" idx="0"/>
          </p:cNvCxnSpPr>
          <p:nvPr/>
        </p:nvCxnSpPr>
        <p:spPr>
          <a:xfrm>
            <a:off x="685440" y="2916360"/>
            <a:ext cx="392760" cy="2260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688" name=""/>
          <p:cNvCxnSpPr>
            <a:stCxn id="675" idx="4"/>
            <a:endCxn id="682" idx="0"/>
          </p:cNvCxnSpPr>
          <p:nvPr/>
        </p:nvCxnSpPr>
        <p:spPr>
          <a:xfrm>
            <a:off x="685800" y="2916000"/>
            <a:ext cx="218160" cy="11055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689" name=""/>
          <p:cNvCxnSpPr>
            <a:stCxn id="676" idx="4"/>
            <a:endCxn id="682" idx="0"/>
          </p:cNvCxnSpPr>
          <p:nvPr/>
        </p:nvCxnSpPr>
        <p:spPr>
          <a:xfrm flipH="1">
            <a:off x="902520" y="3417840"/>
            <a:ext cx="175320" cy="6037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690" name=""/>
          <p:cNvCxnSpPr>
            <a:stCxn id="683" idx="0"/>
            <a:endCxn id="678" idx="4"/>
          </p:cNvCxnSpPr>
          <p:nvPr/>
        </p:nvCxnSpPr>
        <p:spPr>
          <a:xfrm flipH="1" flipV="1">
            <a:off x="1642320" y="2977560"/>
            <a:ext cx="175320" cy="11070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691" name=""/>
          <p:cNvCxnSpPr>
            <a:stCxn id="677" idx="4"/>
            <a:endCxn id="681" idx="0"/>
          </p:cNvCxnSpPr>
          <p:nvPr/>
        </p:nvCxnSpPr>
        <p:spPr>
          <a:xfrm>
            <a:off x="1165320" y="2601720"/>
            <a:ext cx="218160" cy="12308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692" name=""/>
          <p:cNvCxnSpPr>
            <a:stCxn id="684" idx="0"/>
            <a:endCxn id="681" idx="4"/>
          </p:cNvCxnSpPr>
          <p:nvPr/>
        </p:nvCxnSpPr>
        <p:spPr>
          <a:xfrm flipH="1" flipV="1">
            <a:off x="1382400" y="4109400"/>
            <a:ext cx="87840" cy="4150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693" name=""/>
          <p:cNvCxnSpPr>
            <a:stCxn id="676" idx="0"/>
            <a:endCxn id="677" idx="4"/>
          </p:cNvCxnSpPr>
          <p:nvPr/>
        </p:nvCxnSpPr>
        <p:spPr>
          <a:xfrm flipV="1">
            <a:off x="1077480" y="2601360"/>
            <a:ext cx="87840" cy="5403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694" name=""/>
          <p:cNvCxnSpPr>
            <a:stCxn id="682" idx="1"/>
            <a:endCxn id="680" idx="4"/>
          </p:cNvCxnSpPr>
          <p:nvPr/>
        </p:nvCxnSpPr>
        <p:spPr>
          <a:xfrm flipH="1" flipV="1">
            <a:off x="555120" y="3795480"/>
            <a:ext cx="224640" cy="2620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695" name=""/>
          <p:cNvCxnSpPr>
            <a:stCxn id="682" idx="4"/>
            <a:endCxn id="685" idx="0"/>
          </p:cNvCxnSpPr>
          <p:nvPr/>
        </p:nvCxnSpPr>
        <p:spPr>
          <a:xfrm flipH="1">
            <a:off x="642240" y="4299120"/>
            <a:ext cx="261000" cy="2880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696" name=""/>
          <p:cNvCxnSpPr>
            <a:stCxn id="682" idx="4"/>
            <a:endCxn id="684" idx="0"/>
          </p:cNvCxnSpPr>
          <p:nvPr/>
        </p:nvCxnSpPr>
        <p:spPr>
          <a:xfrm>
            <a:off x="903240" y="4299120"/>
            <a:ext cx="567360" cy="2260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697" name=""/>
          <p:cNvCxnSpPr>
            <a:stCxn id="678" idx="4"/>
            <a:endCxn id="679" idx="0"/>
          </p:cNvCxnSpPr>
          <p:nvPr/>
        </p:nvCxnSpPr>
        <p:spPr>
          <a:xfrm flipH="1">
            <a:off x="1512360" y="2978280"/>
            <a:ext cx="131040" cy="2260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698" name=""/>
          <p:cNvCxnSpPr>
            <a:stCxn id="681" idx="0"/>
            <a:endCxn id="676" idx="4"/>
          </p:cNvCxnSpPr>
          <p:nvPr/>
        </p:nvCxnSpPr>
        <p:spPr>
          <a:xfrm flipH="1" flipV="1">
            <a:off x="1077120" y="3417120"/>
            <a:ext cx="305640" cy="4150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699" name=""/>
          <p:cNvCxnSpPr>
            <a:stCxn id="684" idx="0"/>
            <a:endCxn id="683" idx="4"/>
          </p:cNvCxnSpPr>
          <p:nvPr/>
        </p:nvCxnSpPr>
        <p:spPr>
          <a:xfrm flipV="1">
            <a:off x="1469880" y="4360680"/>
            <a:ext cx="348480" cy="1641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700" name=""/>
          <p:cNvCxnSpPr>
            <a:stCxn id="681" idx="0"/>
            <a:endCxn id="679" idx="4"/>
          </p:cNvCxnSpPr>
          <p:nvPr/>
        </p:nvCxnSpPr>
        <p:spPr>
          <a:xfrm flipV="1">
            <a:off x="1382400" y="3481200"/>
            <a:ext cx="130680" cy="3513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701" name=""/>
          <p:cNvSpPr/>
          <p:nvPr/>
        </p:nvSpPr>
        <p:spPr>
          <a:xfrm>
            <a:off x="2079720" y="3154320"/>
            <a:ext cx="347400" cy="25092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514600" y="3343320"/>
            <a:ext cx="347760" cy="25092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602080" y="2776680"/>
            <a:ext cx="347400" cy="2523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081240" y="3405240"/>
            <a:ext cx="347760" cy="2523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905120" y="3657600"/>
            <a:ext cx="347400" cy="25092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819520" y="3844800"/>
            <a:ext cx="347400" cy="2523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340000" y="4033800"/>
            <a:ext cx="349200" cy="2523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906640" y="4537080"/>
            <a:ext cx="347760" cy="25092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947960" y="4537080"/>
            <a:ext cx="349200" cy="25092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0" name=""/>
          <p:cNvCxnSpPr>
            <a:stCxn id="701" idx="4"/>
            <a:endCxn id="705" idx="0"/>
          </p:cNvCxnSpPr>
          <p:nvPr/>
        </p:nvCxnSpPr>
        <p:spPr>
          <a:xfrm flipH="1">
            <a:off x="2079360" y="3417840"/>
            <a:ext cx="173520" cy="2260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711" name=""/>
          <p:cNvCxnSpPr>
            <a:stCxn id="701" idx="4"/>
            <a:endCxn id="702" idx="2"/>
          </p:cNvCxnSpPr>
          <p:nvPr/>
        </p:nvCxnSpPr>
        <p:spPr>
          <a:xfrm>
            <a:off x="2252520" y="3417480"/>
            <a:ext cx="253440" cy="514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712" name=""/>
          <p:cNvCxnSpPr>
            <a:stCxn id="701" idx="4"/>
            <a:endCxn id="707" idx="0"/>
          </p:cNvCxnSpPr>
          <p:nvPr/>
        </p:nvCxnSpPr>
        <p:spPr>
          <a:xfrm>
            <a:off x="2252520" y="3417840"/>
            <a:ext cx="262800" cy="6037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713" name=""/>
          <p:cNvCxnSpPr>
            <a:stCxn id="702" idx="4"/>
            <a:endCxn id="707" idx="0"/>
          </p:cNvCxnSpPr>
          <p:nvPr/>
        </p:nvCxnSpPr>
        <p:spPr>
          <a:xfrm flipH="1">
            <a:off x="2513880" y="3606480"/>
            <a:ext cx="175320" cy="4150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714" name=""/>
          <p:cNvCxnSpPr>
            <a:stCxn id="703" idx="4"/>
            <a:endCxn id="706" idx="0"/>
          </p:cNvCxnSpPr>
          <p:nvPr/>
        </p:nvCxnSpPr>
        <p:spPr>
          <a:xfrm>
            <a:off x="2776680" y="3041640"/>
            <a:ext cx="218160" cy="7912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715" name=""/>
          <p:cNvCxnSpPr>
            <a:stCxn id="708" idx="0"/>
            <a:endCxn id="706" idx="4"/>
          </p:cNvCxnSpPr>
          <p:nvPr/>
        </p:nvCxnSpPr>
        <p:spPr>
          <a:xfrm flipH="1" flipV="1">
            <a:off x="2993760" y="4109400"/>
            <a:ext cx="87840" cy="4150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716" name=""/>
          <p:cNvCxnSpPr>
            <a:stCxn id="702" idx="0"/>
            <a:endCxn id="703" idx="4"/>
          </p:cNvCxnSpPr>
          <p:nvPr/>
        </p:nvCxnSpPr>
        <p:spPr>
          <a:xfrm flipV="1">
            <a:off x="2688840" y="3041280"/>
            <a:ext cx="87840" cy="2880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717" name=""/>
          <p:cNvCxnSpPr>
            <a:stCxn id="707" idx="1"/>
            <a:endCxn id="705" idx="4"/>
          </p:cNvCxnSpPr>
          <p:nvPr/>
        </p:nvCxnSpPr>
        <p:spPr>
          <a:xfrm flipH="1" flipV="1">
            <a:off x="2079360" y="3920400"/>
            <a:ext cx="311760" cy="1371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718" name=""/>
          <p:cNvCxnSpPr>
            <a:stCxn id="707" idx="4"/>
            <a:endCxn id="709" idx="0"/>
          </p:cNvCxnSpPr>
          <p:nvPr/>
        </p:nvCxnSpPr>
        <p:spPr>
          <a:xfrm flipH="1">
            <a:off x="2121840" y="4299120"/>
            <a:ext cx="392760" cy="2260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719" name=""/>
          <p:cNvCxnSpPr>
            <a:stCxn id="707" idx="4"/>
            <a:endCxn id="708" idx="0"/>
          </p:cNvCxnSpPr>
          <p:nvPr/>
        </p:nvCxnSpPr>
        <p:spPr>
          <a:xfrm>
            <a:off x="2514600" y="4299120"/>
            <a:ext cx="567360" cy="2260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720" name=""/>
          <p:cNvCxnSpPr>
            <a:stCxn id="706" idx="0"/>
            <a:endCxn id="702" idx="4"/>
          </p:cNvCxnSpPr>
          <p:nvPr/>
        </p:nvCxnSpPr>
        <p:spPr>
          <a:xfrm flipH="1" flipV="1">
            <a:off x="2688480" y="3606480"/>
            <a:ext cx="305640" cy="2260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721" name=""/>
          <p:cNvCxnSpPr>
            <a:stCxn id="706" idx="0"/>
            <a:endCxn id="704" idx="4"/>
          </p:cNvCxnSpPr>
          <p:nvPr/>
        </p:nvCxnSpPr>
        <p:spPr>
          <a:xfrm flipV="1">
            <a:off x="2993760" y="3669840"/>
            <a:ext cx="261000" cy="1627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722" name=""/>
          <p:cNvSpPr/>
          <p:nvPr/>
        </p:nvSpPr>
        <p:spPr>
          <a:xfrm flipV="1">
            <a:off x="860400" y="2587320"/>
            <a:ext cx="304920" cy="189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3" name=""/>
          <p:cNvCxnSpPr>
            <a:stCxn id="722" idx="0"/>
            <a:endCxn id="678" idx="2"/>
          </p:cNvCxnSpPr>
          <p:nvPr/>
        </p:nvCxnSpPr>
        <p:spPr>
          <a:xfrm>
            <a:off x="1163160" y="2579400"/>
            <a:ext cx="297720" cy="2610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724" name=""/>
          <p:cNvCxnSpPr>
            <a:stCxn id="683" idx="0"/>
            <a:endCxn id="705" idx="4"/>
          </p:cNvCxnSpPr>
          <p:nvPr/>
        </p:nvCxnSpPr>
        <p:spPr>
          <a:xfrm flipV="1">
            <a:off x="1817640" y="3920760"/>
            <a:ext cx="262800" cy="1641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725" name=""/>
          <p:cNvCxnSpPr>
            <a:stCxn id="683" idx="4"/>
            <a:endCxn id="709" idx="0"/>
          </p:cNvCxnSpPr>
          <p:nvPr/>
        </p:nvCxnSpPr>
        <p:spPr>
          <a:xfrm>
            <a:off x="1817280" y="4361040"/>
            <a:ext cx="305640" cy="1641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726" name=""/>
          <p:cNvCxnSpPr>
            <a:stCxn id="701" idx="6"/>
            <a:endCxn id="703" idx="4"/>
          </p:cNvCxnSpPr>
          <p:nvPr/>
        </p:nvCxnSpPr>
        <p:spPr>
          <a:xfrm flipV="1">
            <a:off x="2436840" y="3040920"/>
            <a:ext cx="340200" cy="2386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727" name=""/>
          <p:cNvCxnSpPr>
            <a:stCxn id="704" idx="0"/>
            <a:endCxn id="703" idx="4"/>
          </p:cNvCxnSpPr>
          <p:nvPr/>
        </p:nvCxnSpPr>
        <p:spPr>
          <a:xfrm flipH="1" flipV="1">
            <a:off x="2775960" y="3041280"/>
            <a:ext cx="478440" cy="3513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728" name=""/>
          <p:cNvSpPr/>
          <p:nvPr/>
        </p:nvSpPr>
        <p:spPr>
          <a:xfrm>
            <a:off x="3657600" y="3124080"/>
            <a:ext cx="1447920" cy="114300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Peinaud"/>
              </a:rPr>
              <a:t>Five Step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Peinaud"/>
              </a:rPr>
              <a:t>Proces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486400" y="2787480"/>
            <a:ext cx="349200" cy="24300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856120" y="3298680"/>
            <a:ext cx="349560" cy="24300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943600" y="2438280"/>
            <a:ext cx="347760" cy="24300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423120" y="2841480"/>
            <a:ext cx="347400" cy="24300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291360" y="3297240"/>
            <a:ext cx="349200" cy="24444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334120" y="3602160"/>
            <a:ext cx="347400" cy="24444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161040" y="3983040"/>
            <a:ext cx="349200" cy="24444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681520" y="4135320"/>
            <a:ext cx="349560" cy="24444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595920" y="4213080"/>
            <a:ext cx="349560" cy="24300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8" name=""/>
          <p:cNvCxnSpPr>
            <a:stCxn id="729" idx="4"/>
            <a:endCxn id="734" idx="0"/>
          </p:cNvCxnSpPr>
          <p:nvPr/>
        </p:nvCxnSpPr>
        <p:spPr>
          <a:xfrm flipH="1">
            <a:off x="5508000" y="3046320"/>
            <a:ext cx="153000" cy="5407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739" name=""/>
          <p:cNvCxnSpPr>
            <a:stCxn id="729" idx="4"/>
            <a:endCxn id="730" idx="0"/>
          </p:cNvCxnSpPr>
          <p:nvPr/>
        </p:nvCxnSpPr>
        <p:spPr>
          <a:xfrm>
            <a:off x="5661000" y="3045960"/>
            <a:ext cx="370800" cy="2372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740" name=""/>
          <p:cNvCxnSpPr>
            <a:stCxn id="729" idx="4"/>
            <a:endCxn id="736" idx="0"/>
          </p:cNvCxnSpPr>
          <p:nvPr/>
        </p:nvCxnSpPr>
        <p:spPr>
          <a:xfrm>
            <a:off x="5661000" y="3045960"/>
            <a:ext cx="195840" cy="10735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741" name=""/>
          <p:cNvCxnSpPr>
            <a:stCxn id="730" idx="4"/>
            <a:endCxn id="736" idx="0"/>
          </p:cNvCxnSpPr>
          <p:nvPr/>
        </p:nvCxnSpPr>
        <p:spPr>
          <a:xfrm flipH="1">
            <a:off x="5855760" y="3557160"/>
            <a:ext cx="175680" cy="5626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742" name=""/>
          <p:cNvCxnSpPr>
            <a:stCxn id="737" idx="0"/>
            <a:endCxn id="732" idx="4"/>
          </p:cNvCxnSpPr>
          <p:nvPr/>
        </p:nvCxnSpPr>
        <p:spPr>
          <a:xfrm flipH="1" flipV="1">
            <a:off x="6597360" y="3099600"/>
            <a:ext cx="173520" cy="10976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743" name=""/>
          <p:cNvCxnSpPr>
            <a:stCxn id="731" idx="4"/>
            <a:endCxn id="735" idx="0"/>
          </p:cNvCxnSpPr>
          <p:nvPr/>
        </p:nvCxnSpPr>
        <p:spPr>
          <a:xfrm>
            <a:off x="6118200" y="2697120"/>
            <a:ext cx="218160" cy="12708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744" name=""/>
          <p:cNvCxnSpPr>
            <a:stCxn id="730" idx="0"/>
            <a:endCxn id="731" idx="4"/>
          </p:cNvCxnSpPr>
          <p:nvPr/>
        </p:nvCxnSpPr>
        <p:spPr>
          <a:xfrm flipV="1">
            <a:off x="6031080" y="2696400"/>
            <a:ext cx="87840" cy="5864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745" name=""/>
          <p:cNvCxnSpPr>
            <a:stCxn id="736" idx="1"/>
            <a:endCxn id="734" idx="4"/>
          </p:cNvCxnSpPr>
          <p:nvPr/>
        </p:nvCxnSpPr>
        <p:spPr>
          <a:xfrm flipH="1" flipV="1">
            <a:off x="5508360" y="3862080"/>
            <a:ext cx="224640" cy="2944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746" name=""/>
          <p:cNvCxnSpPr>
            <a:stCxn id="732" idx="4"/>
            <a:endCxn id="733" idx="0"/>
          </p:cNvCxnSpPr>
          <p:nvPr/>
        </p:nvCxnSpPr>
        <p:spPr>
          <a:xfrm flipH="1">
            <a:off x="6465600" y="3099960"/>
            <a:ext cx="132480" cy="1818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747" name=""/>
          <p:cNvCxnSpPr>
            <a:stCxn id="735" idx="0"/>
            <a:endCxn id="730" idx="4"/>
          </p:cNvCxnSpPr>
          <p:nvPr/>
        </p:nvCxnSpPr>
        <p:spPr>
          <a:xfrm flipH="1" flipV="1">
            <a:off x="6030720" y="3557160"/>
            <a:ext cx="305280" cy="4104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748" name=""/>
          <p:cNvCxnSpPr>
            <a:stCxn id="735" idx="0"/>
            <a:endCxn id="733" idx="4"/>
          </p:cNvCxnSpPr>
          <p:nvPr/>
        </p:nvCxnSpPr>
        <p:spPr>
          <a:xfrm flipV="1">
            <a:off x="6335640" y="3557160"/>
            <a:ext cx="131040" cy="4104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749" name=""/>
          <p:cNvSpPr/>
          <p:nvPr/>
        </p:nvSpPr>
        <p:spPr>
          <a:xfrm>
            <a:off x="7010280" y="3016080"/>
            <a:ext cx="347760" cy="243000"/>
          </a:xfrm>
          <a:prstGeom prst="ellipse">
            <a:avLst/>
          </a:prstGeom>
          <a:solidFill>
            <a:srgbClr val="ff9900">
              <a:alpha val="50000"/>
            </a:srgbClr>
          </a:solidFill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467480" y="3451320"/>
            <a:ext cx="347760" cy="24264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543800" y="2635200"/>
            <a:ext cx="347760" cy="244440"/>
          </a:xfrm>
          <a:prstGeom prst="ellipse">
            <a:avLst/>
          </a:prstGeom>
          <a:solidFill>
            <a:srgbClr val="ff9900">
              <a:alpha val="50000"/>
            </a:srgbClr>
          </a:solidFill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8077320" y="3092400"/>
            <a:ext cx="347400" cy="244440"/>
          </a:xfrm>
          <a:prstGeom prst="ellipse">
            <a:avLst/>
          </a:prstGeom>
          <a:solidFill>
            <a:srgbClr val="ff9900">
              <a:alpha val="50000"/>
            </a:srgbClr>
          </a:solidFill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0" y="3755880"/>
            <a:ext cx="347760" cy="24300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924680" y="3701880"/>
            <a:ext cx="347760" cy="244800"/>
          </a:xfrm>
          <a:prstGeom prst="ellipse">
            <a:avLst/>
          </a:prstGeom>
          <a:solidFill>
            <a:srgbClr val="ff9900">
              <a:alpha val="50000"/>
            </a:srgbClr>
          </a:solidFill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7292880" y="4135320"/>
            <a:ext cx="349200" cy="24444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6" name=""/>
          <p:cNvCxnSpPr>
            <a:stCxn id="749" idx="4"/>
            <a:endCxn id="753" idx="0"/>
          </p:cNvCxnSpPr>
          <p:nvPr/>
        </p:nvCxnSpPr>
        <p:spPr>
          <a:xfrm flipH="1">
            <a:off x="7031880" y="3274920"/>
            <a:ext cx="153000" cy="4658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757" name=""/>
          <p:cNvCxnSpPr>
            <a:stCxn id="749" idx="4"/>
            <a:endCxn id="750" idx="2"/>
          </p:cNvCxnSpPr>
          <p:nvPr/>
        </p:nvCxnSpPr>
        <p:spPr>
          <a:xfrm>
            <a:off x="7184520" y="3274560"/>
            <a:ext cx="267120" cy="2991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758" name=""/>
          <p:cNvCxnSpPr>
            <a:stCxn id="749" idx="4"/>
            <a:endCxn id="755" idx="0"/>
          </p:cNvCxnSpPr>
          <p:nvPr/>
        </p:nvCxnSpPr>
        <p:spPr>
          <a:xfrm>
            <a:off x="7184520" y="3274920"/>
            <a:ext cx="283320" cy="8452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759" name=""/>
          <p:cNvCxnSpPr>
            <a:stCxn id="750" idx="4"/>
            <a:endCxn id="755" idx="0"/>
          </p:cNvCxnSpPr>
          <p:nvPr/>
        </p:nvCxnSpPr>
        <p:spPr>
          <a:xfrm flipH="1">
            <a:off x="7466760" y="3709800"/>
            <a:ext cx="175320" cy="4100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760" name=""/>
          <p:cNvCxnSpPr>
            <a:stCxn id="751" idx="4"/>
            <a:endCxn id="754" idx="0"/>
          </p:cNvCxnSpPr>
          <p:nvPr/>
        </p:nvCxnSpPr>
        <p:spPr>
          <a:xfrm>
            <a:off x="7718400" y="2895480"/>
            <a:ext cx="381600" cy="7912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761" name=""/>
          <p:cNvCxnSpPr>
            <a:stCxn id="750" idx="0"/>
            <a:endCxn id="751" idx="4"/>
          </p:cNvCxnSpPr>
          <p:nvPr/>
        </p:nvCxnSpPr>
        <p:spPr>
          <a:xfrm flipV="1">
            <a:off x="7642080" y="2895120"/>
            <a:ext cx="76680" cy="5407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762" name=""/>
          <p:cNvCxnSpPr>
            <a:stCxn id="755" idx="1"/>
            <a:endCxn id="753" idx="4"/>
          </p:cNvCxnSpPr>
          <p:nvPr/>
        </p:nvCxnSpPr>
        <p:spPr>
          <a:xfrm flipH="1" flipV="1">
            <a:off x="7032240" y="4014000"/>
            <a:ext cx="311760" cy="1422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763" name=""/>
          <p:cNvCxnSpPr>
            <a:stCxn id="754" idx="2"/>
            <a:endCxn id="750" idx="4"/>
          </p:cNvCxnSpPr>
          <p:nvPr/>
        </p:nvCxnSpPr>
        <p:spPr>
          <a:xfrm flipH="1" flipV="1">
            <a:off x="7641720" y="3709440"/>
            <a:ext cx="267120" cy="1148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764" name=""/>
          <p:cNvCxnSpPr>
            <a:stCxn id="754" idx="0"/>
            <a:endCxn id="752" idx="4"/>
          </p:cNvCxnSpPr>
          <p:nvPr/>
        </p:nvCxnSpPr>
        <p:spPr>
          <a:xfrm flipV="1">
            <a:off x="8099280" y="3352320"/>
            <a:ext cx="153360" cy="3340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765" name=""/>
          <p:cNvCxnSpPr>
            <a:stCxn id="731" idx="4"/>
            <a:endCxn id="732" idx="2"/>
          </p:cNvCxnSpPr>
          <p:nvPr/>
        </p:nvCxnSpPr>
        <p:spPr>
          <a:xfrm>
            <a:off x="6117840" y="2696760"/>
            <a:ext cx="289440" cy="2671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766" name=""/>
          <p:cNvCxnSpPr>
            <a:stCxn id="737" idx="0"/>
            <a:endCxn id="753" idx="4"/>
          </p:cNvCxnSpPr>
          <p:nvPr/>
        </p:nvCxnSpPr>
        <p:spPr>
          <a:xfrm flipV="1">
            <a:off x="6770520" y="4014000"/>
            <a:ext cx="262800" cy="1832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767" name=""/>
          <p:cNvCxnSpPr>
            <a:stCxn id="749" idx="6"/>
            <a:endCxn id="751" idx="4"/>
          </p:cNvCxnSpPr>
          <p:nvPr/>
        </p:nvCxnSpPr>
        <p:spPr>
          <a:xfrm flipV="1">
            <a:off x="7373520" y="2894760"/>
            <a:ext cx="345240" cy="2437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768" name=""/>
          <p:cNvCxnSpPr>
            <a:stCxn id="752" idx="0"/>
            <a:endCxn id="751" idx="4"/>
          </p:cNvCxnSpPr>
          <p:nvPr/>
        </p:nvCxnSpPr>
        <p:spPr>
          <a:xfrm flipH="1" flipV="1">
            <a:off x="7718040" y="2894760"/>
            <a:ext cx="534240" cy="1818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769" name=""/>
          <p:cNvCxnSpPr>
            <a:stCxn id="729" idx="6"/>
            <a:endCxn id="731" idx="4"/>
          </p:cNvCxnSpPr>
          <p:nvPr/>
        </p:nvCxnSpPr>
        <p:spPr>
          <a:xfrm flipV="1">
            <a:off x="5851080" y="2696400"/>
            <a:ext cx="267120" cy="2134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770" name=""/>
          <p:cNvSpPr/>
          <p:nvPr/>
        </p:nvSpPr>
        <p:spPr>
          <a:xfrm>
            <a:off x="7010280" y="4495680"/>
            <a:ext cx="339840" cy="228600"/>
          </a:xfrm>
          <a:prstGeom prst="ellipse">
            <a:avLst/>
          </a:prstGeom>
          <a:solidFill>
            <a:srgbClr val="99cc00">
              <a:alpha val="50000"/>
            </a:srgbClr>
          </a:solidFill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620120" y="4572000"/>
            <a:ext cx="339480" cy="228600"/>
          </a:xfrm>
          <a:prstGeom prst="ellipse">
            <a:avLst/>
          </a:prstGeom>
          <a:solidFill>
            <a:srgbClr val="99cc00">
              <a:alpha val="50000"/>
            </a:srgbClr>
          </a:solidFill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8610480" y="3429000"/>
            <a:ext cx="339840" cy="228600"/>
          </a:xfrm>
          <a:prstGeom prst="ellipse">
            <a:avLst/>
          </a:prstGeom>
          <a:solidFill>
            <a:srgbClr val="99cc00">
              <a:alpha val="50000"/>
            </a:srgbClr>
          </a:solidFill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8458200" y="3962520"/>
            <a:ext cx="341280" cy="228600"/>
          </a:xfrm>
          <a:prstGeom prst="ellipse">
            <a:avLst/>
          </a:prstGeom>
          <a:solidFill>
            <a:srgbClr val="99cc00">
              <a:alpha val="50000"/>
            </a:srgbClr>
          </a:solidFill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6172200" y="4495680"/>
            <a:ext cx="341280" cy="228600"/>
          </a:xfrm>
          <a:prstGeom prst="ellipse">
            <a:avLst/>
          </a:prstGeom>
          <a:solidFill>
            <a:srgbClr val="99cc00">
              <a:alpha val="50000"/>
            </a:srgbClr>
          </a:solidFill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8305920" y="4495680"/>
            <a:ext cx="341280" cy="228600"/>
          </a:xfrm>
          <a:prstGeom prst="ellipse">
            <a:avLst/>
          </a:prstGeom>
          <a:solidFill>
            <a:srgbClr val="99cc00">
              <a:alpha val="50000"/>
            </a:srgbClr>
          </a:solidFill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924680" y="4191120"/>
            <a:ext cx="341280" cy="228600"/>
          </a:xfrm>
          <a:prstGeom prst="ellipse">
            <a:avLst/>
          </a:prstGeom>
          <a:solidFill>
            <a:srgbClr val="99cc00">
              <a:alpha val="50000"/>
            </a:srgbClr>
          </a:solidFill>
          <a:ln w="44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7" name=""/>
          <p:cNvCxnSpPr>
            <a:stCxn id="774" idx="6"/>
            <a:endCxn id="737" idx="4"/>
          </p:cNvCxnSpPr>
          <p:nvPr/>
        </p:nvCxnSpPr>
        <p:spPr>
          <a:xfrm flipV="1">
            <a:off x="6535800" y="4471560"/>
            <a:ext cx="235440" cy="1389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778" name=""/>
          <p:cNvCxnSpPr>
            <a:stCxn id="774" idx="0"/>
            <a:endCxn id="735" idx="4"/>
          </p:cNvCxnSpPr>
          <p:nvPr/>
        </p:nvCxnSpPr>
        <p:spPr>
          <a:xfrm flipH="1" flipV="1">
            <a:off x="6335280" y="4242960"/>
            <a:ext cx="8640" cy="2311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779" name=""/>
          <p:cNvCxnSpPr>
            <a:stCxn id="770" idx="0"/>
            <a:endCxn id="753" idx="4"/>
          </p:cNvCxnSpPr>
          <p:nvPr/>
        </p:nvCxnSpPr>
        <p:spPr>
          <a:xfrm flipH="1" flipV="1">
            <a:off x="7032240" y="4014000"/>
            <a:ext cx="148320" cy="4597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780" name=""/>
          <p:cNvCxnSpPr>
            <a:stCxn id="770" idx="0"/>
            <a:endCxn id="755" idx="4"/>
          </p:cNvCxnSpPr>
          <p:nvPr/>
        </p:nvCxnSpPr>
        <p:spPr>
          <a:xfrm flipV="1">
            <a:off x="7180200" y="4395600"/>
            <a:ext cx="288000" cy="784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781" name=""/>
          <p:cNvCxnSpPr>
            <a:stCxn id="771" idx="0"/>
            <a:endCxn id="755" idx="4"/>
          </p:cNvCxnSpPr>
          <p:nvPr/>
        </p:nvCxnSpPr>
        <p:spPr>
          <a:xfrm flipH="1" flipV="1">
            <a:off x="7467480" y="4395240"/>
            <a:ext cx="322920" cy="1544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782" name=""/>
          <p:cNvCxnSpPr>
            <a:stCxn id="771" idx="0"/>
            <a:endCxn id="750" idx="4"/>
          </p:cNvCxnSpPr>
          <p:nvPr/>
        </p:nvCxnSpPr>
        <p:spPr>
          <a:xfrm flipH="1" flipV="1">
            <a:off x="7641360" y="3709800"/>
            <a:ext cx="148680" cy="8402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783" name=""/>
          <p:cNvCxnSpPr>
            <a:stCxn id="776" idx="0"/>
            <a:endCxn id="754" idx="4"/>
          </p:cNvCxnSpPr>
          <p:nvPr/>
        </p:nvCxnSpPr>
        <p:spPr>
          <a:xfrm flipV="1">
            <a:off x="8096400" y="3961800"/>
            <a:ext cx="3600" cy="2070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784" name=""/>
          <p:cNvCxnSpPr>
            <a:stCxn id="775" idx="0"/>
            <a:endCxn id="773" idx="4"/>
          </p:cNvCxnSpPr>
          <p:nvPr/>
        </p:nvCxnSpPr>
        <p:spPr>
          <a:xfrm flipV="1">
            <a:off x="8476920" y="4212720"/>
            <a:ext cx="153000" cy="2613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785" name=""/>
          <p:cNvCxnSpPr>
            <a:stCxn id="775" idx="2"/>
            <a:endCxn id="776" idx="4"/>
          </p:cNvCxnSpPr>
          <p:nvPr/>
        </p:nvCxnSpPr>
        <p:spPr>
          <a:xfrm flipH="1" flipV="1">
            <a:off x="8096040" y="4441320"/>
            <a:ext cx="187920" cy="1692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786" name=""/>
          <p:cNvCxnSpPr>
            <a:stCxn id="775" idx="0"/>
            <a:endCxn id="752" idx="4"/>
          </p:cNvCxnSpPr>
          <p:nvPr/>
        </p:nvCxnSpPr>
        <p:spPr>
          <a:xfrm flipH="1" flipV="1">
            <a:off x="8251560" y="3352320"/>
            <a:ext cx="226080" cy="11217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787" name=""/>
          <p:cNvCxnSpPr>
            <a:stCxn id="773" idx="0"/>
            <a:endCxn id="752" idx="4"/>
          </p:cNvCxnSpPr>
          <p:nvPr/>
        </p:nvCxnSpPr>
        <p:spPr>
          <a:xfrm flipH="1" flipV="1">
            <a:off x="8251200" y="3352320"/>
            <a:ext cx="378360" cy="5882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788" name=""/>
          <p:cNvCxnSpPr>
            <a:stCxn id="776" idx="0"/>
            <a:endCxn id="772" idx="4"/>
          </p:cNvCxnSpPr>
          <p:nvPr/>
        </p:nvCxnSpPr>
        <p:spPr>
          <a:xfrm flipV="1">
            <a:off x="8096400" y="3679560"/>
            <a:ext cx="684720" cy="4896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789" name=""/>
          <p:cNvCxnSpPr>
            <a:stCxn id="771" idx="0"/>
            <a:endCxn id="754" idx="4"/>
          </p:cNvCxnSpPr>
          <p:nvPr/>
        </p:nvCxnSpPr>
        <p:spPr>
          <a:xfrm flipV="1">
            <a:off x="7789680" y="3961800"/>
            <a:ext cx="309960" cy="5878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790" name=""/>
          <p:cNvCxnSpPr>
            <a:stCxn id="771" idx="0"/>
            <a:endCxn id="776" idx="4"/>
          </p:cNvCxnSpPr>
          <p:nvPr/>
        </p:nvCxnSpPr>
        <p:spPr>
          <a:xfrm flipV="1">
            <a:off x="7789680" y="4441320"/>
            <a:ext cx="306720" cy="1087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791" name=""/>
          <p:cNvCxnSpPr>
            <a:stCxn id="749" idx="4"/>
            <a:endCxn id="770" idx="0"/>
          </p:cNvCxnSpPr>
          <p:nvPr/>
        </p:nvCxnSpPr>
        <p:spPr>
          <a:xfrm flipH="1">
            <a:off x="7179480" y="3274920"/>
            <a:ext cx="5400" cy="11995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792" name=""/>
          <p:cNvCxnSpPr>
            <a:stCxn id="772" idx="2"/>
            <a:endCxn id="752" idx="4"/>
          </p:cNvCxnSpPr>
          <p:nvPr/>
        </p:nvCxnSpPr>
        <p:spPr>
          <a:xfrm flipH="1" flipV="1">
            <a:off x="8251200" y="3352320"/>
            <a:ext cx="337320" cy="1915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e4e4"/>
                </a:solidFill>
                <a:latin typeface="Peinaud"/>
              </a:rPr>
              <a:t>Three Characteristics</a:t>
            </a:r>
            <a:br>
              <a:rPr sz="5400"/>
            </a:br>
            <a:r>
              <a:rPr b="1" lang="en-US" sz="5400" spc="-1" strike="noStrike">
                <a:solidFill>
                  <a:srgbClr val="e4e4e4"/>
                </a:solidFill>
                <a:latin typeface="Peinaud"/>
              </a:rPr>
              <a:t> of Self-Organisation</a:t>
            </a:r>
            <a:endParaRPr b="1" lang="en-US" sz="5400" spc="-1" strike="noStrike">
              <a:solidFill>
                <a:srgbClr val="e4e4e4"/>
              </a:solidFill>
              <a:latin typeface="Peinaud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80769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4e4e4"/>
                </a:solidFill>
                <a:latin typeface="Georgia"/>
              </a:rPr>
              <a:t>Their interconnectedness renders self-organising systems non-linear.</a:t>
            </a:r>
            <a:endParaRPr b="0" lang="en-US" sz="3000" spc="-1" strike="noStrike">
              <a:solidFill>
                <a:srgbClr val="e4e4e4"/>
              </a:solidFill>
              <a:latin typeface="Georgia"/>
            </a:endParaRPr>
          </a:p>
          <a:p>
            <a:pPr marL="335880" indent="-335880">
              <a:spcBef>
                <a:spcPts val="751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4e4e4"/>
                </a:solidFill>
                <a:latin typeface="Georgia"/>
              </a:rPr>
              <a:t>Self-organising systems are open systems--energy and matter flow through the system--that operate far from equilibrium.</a:t>
            </a:r>
            <a:endParaRPr b="0" lang="en-US" sz="3000" spc="-1" strike="noStrike">
              <a:solidFill>
                <a:srgbClr val="e4e4e4"/>
              </a:solidFill>
              <a:latin typeface="Georgia"/>
            </a:endParaRPr>
          </a:p>
          <a:p>
            <a:pPr marL="335880" indent="-335880">
              <a:spcBef>
                <a:spcPts val="751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4e4e4"/>
                </a:solidFill>
                <a:latin typeface="Georgia"/>
              </a:rPr>
              <a:t>New structures and new modes of behaviour are created  in the self-organisation process.</a:t>
            </a:r>
            <a:endParaRPr b="0" lang="en-US" sz="3000" spc="-1" strike="noStrike">
              <a:solidFill>
                <a:srgbClr val="e4e4e4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e4e4"/>
                </a:solidFill>
                <a:latin typeface="Peinaud"/>
              </a:rPr>
              <a:t>Experimental Evaluation</a:t>
            </a:r>
            <a:endParaRPr b="1" lang="en-US" sz="5400" spc="-1" strike="noStrike">
              <a:solidFill>
                <a:srgbClr val="e4e4e4"/>
              </a:solidFill>
              <a:latin typeface="Peinaud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e4e4"/>
                </a:solidFill>
                <a:latin typeface="Georgia"/>
              </a:rPr>
              <a:t>Virtual Users based on RCV1</a:t>
            </a:r>
            <a:endParaRPr b="0" lang="en-US" sz="2800" spc="-1" strike="noStrike">
              <a:solidFill>
                <a:srgbClr val="e4e4e4"/>
              </a:solidFill>
              <a:latin typeface="Georgia"/>
            </a:endParaRPr>
          </a:p>
          <a:p>
            <a:pPr marL="274320" indent="-274320">
              <a:spcBef>
                <a:spcPts val="799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e4e4"/>
                </a:solidFill>
                <a:latin typeface="Georgia"/>
              </a:rPr>
              <a:t>Simulated changes</a:t>
            </a:r>
            <a:r>
              <a:rPr b="0" lang="en-US" sz="3200" spc="-1" strike="noStrike">
                <a:solidFill>
                  <a:srgbClr val="e4e4e4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  <a:p>
            <a:pPr lvl="1" marL="594360" indent="-228600">
              <a:spcBef>
                <a:spcPts val="601"/>
              </a:spcBef>
              <a:buClr>
                <a:srgbClr val="e8e8e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e8e8"/>
                </a:solidFill>
                <a:latin typeface="Georgia"/>
              </a:rPr>
              <a:t>T1/T2</a:t>
            </a:r>
            <a:endParaRPr b="0" lang="en-US" sz="2400" spc="-1" strike="noStrike">
              <a:solidFill>
                <a:srgbClr val="e8e8e8"/>
              </a:solidFill>
              <a:latin typeface="Georgia"/>
            </a:endParaRPr>
          </a:p>
          <a:p>
            <a:pPr lvl="1" marL="594360" indent="-228600">
              <a:spcBef>
                <a:spcPts val="601"/>
              </a:spcBef>
              <a:buClr>
                <a:srgbClr val="e8e8e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e8e8"/>
                </a:solidFill>
                <a:latin typeface="Georgia"/>
              </a:rPr>
              <a:t>T1/T2</a:t>
            </a:r>
            <a:r>
              <a:rPr b="0" lang="en-US" sz="2400" spc="-1" strike="noStrike">
                <a:solidFill>
                  <a:srgbClr val="e8e8e8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8e8e8"/>
                </a:solidFill>
                <a:latin typeface="Georgia"/>
              </a:rPr>
              <a:t>T1/T2/T3</a:t>
            </a:r>
            <a:endParaRPr b="0" lang="en-US" sz="2400" spc="-1" strike="noStrike">
              <a:solidFill>
                <a:srgbClr val="e8e8e8"/>
              </a:solidFill>
              <a:latin typeface="Georgia"/>
            </a:endParaRPr>
          </a:p>
          <a:p>
            <a:pPr lvl="1" marL="594360" indent="-228600">
              <a:spcBef>
                <a:spcPts val="601"/>
              </a:spcBef>
              <a:buClr>
                <a:srgbClr val="e8e8e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e8e8"/>
                </a:solidFill>
                <a:latin typeface="Georgia"/>
              </a:rPr>
              <a:t>T1/T2/T3</a:t>
            </a:r>
            <a:r>
              <a:rPr b="0" lang="en-US" sz="2400" spc="-1" strike="noStrike">
                <a:solidFill>
                  <a:srgbClr val="e8e8e8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8e8e8"/>
                </a:solidFill>
                <a:latin typeface="Georgia"/>
              </a:rPr>
              <a:t>T1/T2</a:t>
            </a:r>
            <a:endParaRPr b="0" lang="en-US" sz="2400" spc="-1" strike="noStrike">
              <a:solidFill>
                <a:srgbClr val="e8e8e8"/>
              </a:solidFill>
              <a:latin typeface="Georgia"/>
            </a:endParaRPr>
          </a:p>
          <a:p>
            <a:pPr lvl="1" marL="594360" indent="-228600">
              <a:spcBef>
                <a:spcPts val="601"/>
              </a:spcBef>
              <a:buClr>
                <a:srgbClr val="e8e8e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e8e8"/>
                </a:solidFill>
                <a:latin typeface="Georgia"/>
              </a:rPr>
              <a:t>T1/T2/T3</a:t>
            </a:r>
            <a:r>
              <a:rPr b="0" lang="en-US" sz="2400" spc="-1" strike="noStrike">
                <a:solidFill>
                  <a:srgbClr val="e8e8e8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8e8e8"/>
                </a:solidFill>
                <a:latin typeface="Georgia"/>
              </a:rPr>
              <a:t>T1/T2/¬T3</a:t>
            </a:r>
            <a:endParaRPr b="0" lang="en-US" sz="2400" spc="-1" strike="noStrike">
              <a:solidFill>
                <a:srgbClr val="e8e8e8"/>
              </a:solidFill>
              <a:latin typeface="Georgia"/>
            </a:endParaRPr>
          </a:p>
          <a:p>
            <a:pPr marL="274320" indent="-274320">
              <a:spcBef>
                <a:spcPts val="700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e4e4"/>
                </a:solidFill>
                <a:latin typeface="Georgia"/>
              </a:rPr>
              <a:t>30 training documents per topic (ordered by publication date)</a:t>
            </a:r>
            <a:endParaRPr b="0" lang="en-US" sz="2800" spc="-1" strike="noStrike">
              <a:solidFill>
                <a:srgbClr val="e4e4e4"/>
              </a:solidFill>
              <a:latin typeface="Georgia"/>
            </a:endParaRPr>
          </a:p>
          <a:p>
            <a:pPr marL="274320" indent="-274320">
              <a:spcBef>
                <a:spcPts val="700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e4e4"/>
                </a:solidFill>
                <a:latin typeface="Georgia"/>
              </a:rPr>
              <a:t>AUP per topic every 5 documents</a:t>
            </a:r>
            <a:endParaRPr b="0" lang="en-US" sz="2800" spc="-1" strike="noStrike">
              <a:solidFill>
                <a:srgbClr val="e4e4e4"/>
              </a:solidFill>
              <a:latin typeface="Georgia"/>
            </a:endParaRPr>
          </a:p>
          <a:p>
            <a:pPr marL="274320" indent="-274320">
              <a:spcBef>
                <a:spcPts val="700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e4e4"/>
                </a:solidFill>
                <a:latin typeface="Georgia"/>
              </a:rPr>
              <a:t>Both unconnected (S0) and connected (S1, S3) profiles</a:t>
            </a:r>
            <a:endParaRPr b="0" lang="en-US" sz="2800" spc="-1" strike="noStrike">
              <a:solidFill>
                <a:srgbClr val="e4e4e4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e4e4"/>
                </a:solidFill>
                <a:latin typeface="Peinaud"/>
              </a:rPr>
              <a:t>Information Overload</a:t>
            </a:r>
            <a:endParaRPr b="1" lang="en-US" sz="5400" spc="-1" strike="noStrike">
              <a:solidFill>
                <a:srgbClr val="e4e4e4"/>
              </a:solidFill>
              <a:latin typeface="Peinaud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655308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4e4e4"/>
                </a:solidFill>
                <a:latin typeface="Peinaud"/>
              </a:rPr>
              <a:t>Learning Two Topics in Parallel</a:t>
            </a:r>
            <a:endParaRPr b="1" lang="en-US" sz="5000" spc="-1" strike="noStrike">
              <a:solidFill>
                <a:srgbClr val="e4e4e4"/>
              </a:solidFill>
              <a:latin typeface="Peinaud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2"/>
          <a:stretch/>
        </p:blipFill>
        <p:spPr>
          <a:xfrm>
            <a:off x="4724280" y="2438280"/>
            <a:ext cx="4114800" cy="2863800"/>
          </a:xfrm>
          <a:prstGeom prst="rect">
            <a:avLst/>
          </a:prstGeom>
          <a:ln w="0">
            <a:noFill/>
          </a:ln>
        </p:spPr>
      </p:pic>
      <p:pic>
        <p:nvPicPr>
          <p:cNvPr id="799" name="" descr=""/>
          <p:cNvPicPr/>
          <p:nvPr/>
        </p:nvPicPr>
        <p:blipFill>
          <a:blip r:embed="rId3"/>
          <a:stretch/>
        </p:blipFill>
        <p:spPr>
          <a:xfrm>
            <a:off x="380880" y="2422440"/>
            <a:ext cx="411480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e4e4"/>
                </a:solidFill>
                <a:latin typeface="Peinaud"/>
              </a:rPr>
              <a:t>Learning an emerging topic</a:t>
            </a:r>
            <a:endParaRPr b="1" lang="en-US" sz="5400" spc="-1" strike="noStrike">
              <a:solidFill>
                <a:srgbClr val="e4e4e4"/>
              </a:solidFill>
              <a:latin typeface="Peinaud"/>
            </a:endParaRPr>
          </a:p>
        </p:txBody>
      </p:sp>
      <p:pic>
        <p:nvPicPr>
          <p:cNvPr id="801" name="" descr=""/>
          <p:cNvPicPr/>
          <p:nvPr/>
        </p:nvPicPr>
        <p:blipFill>
          <a:blip r:embed="rId2"/>
          <a:stretch/>
        </p:blipFill>
        <p:spPr>
          <a:xfrm>
            <a:off x="380880" y="2263680"/>
            <a:ext cx="4191120" cy="2917800"/>
          </a:xfrm>
          <a:prstGeom prst="rect">
            <a:avLst/>
          </a:prstGeom>
          <a:ln w="0">
            <a:noFill/>
          </a:ln>
        </p:spPr>
      </p:pic>
      <p:pic>
        <p:nvPicPr>
          <p:cNvPr id="802" name="" descr=""/>
          <p:cNvPicPr/>
          <p:nvPr/>
        </p:nvPicPr>
        <p:blipFill>
          <a:blip r:embed="rId3"/>
          <a:stretch/>
        </p:blipFill>
        <p:spPr>
          <a:xfrm>
            <a:off x="4724280" y="2286000"/>
            <a:ext cx="41911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e4e4"/>
                </a:solidFill>
                <a:latin typeface="Peinaud"/>
              </a:rPr>
              <a:t>Forgetting a topic</a:t>
            </a:r>
            <a:endParaRPr b="1" lang="en-US" sz="5400" spc="-1" strike="noStrike">
              <a:solidFill>
                <a:srgbClr val="e4e4e4"/>
              </a:solidFill>
              <a:latin typeface="Peinaud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2"/>
          <a:stretch/>
        </p:blipFill>
        <p:spPr>
          <a:xfrm>
            <a:off x="380880" y="2292480"/>
            <a:ext cx="4191120" cy="2917800"/>
          </a:xfrm>
          <a:prstGeom prst="rect">
            <a:avLst/>
          </a:prstGeom>
          <a:ln w="0">
            <a:noFill/>
          </a:ln>
        </p:spPr>
      </p:pic>
      <p:pic>
        <p:nvPicPr>
          <p:cNvPr id="805" name="" descr=""/>
          <p:cNvPicPr/>
          <p:nvPr/>
        </p:nvPicPr>
        <p:blipFill>
          <a:blip r:embed="rId3"/>
          <a:stretch/>
        </p:blipFill>
        <p:spPr>
          <a:xfrm>
            <a:off x="4724280" y="2286000"/>
            <a:ext cx="41911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e4e4"/>
                </a:solidFill>
                <a:latin typeface="Peinaud"/>
              </a:rPr>
              <a:t>Forgetting a topic</a:t>
            </a:r>
            <a:r>
              <a:rPr b="1" lang="en-US" sz="3400" spc="-1" strike="noStrike">
                <a:solidFill>
                  <a:srgbClr val="e4e4e4"/>
                </a:solidFill>
                <a:latin typeface="Peinaud"/>
              </a:rPr>
              <a:t> (with negative feedback)</a:t>
            </a:r>
            <a:endParaRPr b="1" lang="en-US" sz="3400" spc="-1" strike="noStrike">
              <a:solidFill>
                <a:srgbClr val="e4e4e4"/>
              </a:solidFill>
              <a:latin typeface="Peinaud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2"/>
          <a:stretch/>
        </p:blipFill>
        <p:spPr>
          <a:xfrm>
            <a:off x="457200" y="2133720"/>
            <a:ext cx="4191120" cy="2917800"/>
          </a:xfrm>
          <a:prstGeom prst="rect">
            <a:avLst/>
          </a:prstGeom>
          <a:ln w="0">
            <a:noFill/>
          </a:ln>
        </p:spPr>
      </p:pic>
      <p:pic>
        <p:nvPicPr>
          <p:cNvPr id="808" name="" descr=""/>
          <p:cNvPicPr/>
          <p:nvPr/>
        </p:nvPicPr>
        <p:blipFill>
          <a:blip r:embed="rId3"/>
          <a:stretch/>
        </p:blipFill>
        <p:spPr>
          <a:xfrm>
            <a:off x="4724280" y="2133720"/>
            <a:ext cx="41911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e4e4"/>
                </a:solidFill>
                <a:latin typeface="Peinaud"/>
              </a:rPr>
              <a:t>Findings </a:t>
            </a:r>
            <a:endParaRPr b="1" lang="en-US" sz="5400" spc="-1" strike="noStrike">
              <a:solidFill>
                <a:srgbClr val="e4e4e4"/>
              </a:solidFill>
              <a:latin typeface="Peinaud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4e4"/>
                </a:solidFill>
                <a:latin typeface="Georgia"/>
              </a:rPr>
              <a:t>Nootropia can adapt to:</a:t>
            </a: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e8e8e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e8e8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e8e8e8"/>
                </a:solidFill>
                <a:latin typeface="Georgia"/>
              </a:rPr>
              <a:t>short-term variations</a:t>
            </a:r>
            <a:endParaRPr b="0" lang="en-US" sz="2800" spc="-1" strike="noStrike">
              <a:solidFill>
                <a:srgbClr val="e8e8e8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e8e8e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e8e8"/>
                </a:solidFill>
                <a:latin typeface="Georgia"/>
              </a:rPr>
              <a:t>occasional radical changes</a:t>
            </a:r>
            <a:endParaRPr b="0" lang="en-US" sz="2800" spc="-1" strike="noStrike">
              <a:solidFill>
                <a:srgbClr val="e8e8e8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4e4"/>
                </a:solidFill>
                <a:latin typeface="Georgia"/>
              </a:rPr>
              <a:t>S1 and S3 in particular outperform S0 </a:t>
            </a: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e4e4"/>
                </a:solidFill>
                <a:latin typeface="Peinaud"/>
              </a:rPr>
              <a:t>Nootropia’s present</a:t>
            </a:r>
            <a:endParaRPr b="1" lang="en-US" sz="5400" spc="-1" strike="noStrike">
              <a:solidFill>
                <a:srgbClr val="e4e4e4"/>
              </a:solidFill>
              <a:latin typeface="Peinaud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4e4"/>
                </a:solidFill>
                <a:latin typeface="Georgia"/>
              </a:rPr>
              <a:t>Multi-topic IF with a single profile</a:t>
            </a: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e8e8e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e8e8"/>
                </a:solidFill>
                <a:latin typeface="Georgia"/>
              </a:rPr>
              <a:t>experiments show that it outperforms a traditional linear approach</a:t>
            </a:r>
            <a:endParaRPr b="0" lang="en-US" sz="2800" spc="-1" strike="noStrike">
              <a:solidFill>
                <a:srgbClr val="e8e8e8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4e4"/>
                </a:solidFill>
                <a:latin typeface="Georgia"/>
              </a:rPr>
              <a:t>Adaptation through self-organisation</a:t>
            </a: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e8e8e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e8e8"/>
                </a:solidFill>
                <a:latin typeface="Georgia"/>
              </a:rPr>
              <a:t>experiments show that Nootropia is able to adapt to a variety of simulated changes</a:t>
            </a:r>
            <a:endParaRPr b="0" lang="en-US" sz="2800" spc="-1" strike="noStrike">
              <a:solidFill>
                <a:srgbClr val="e8e8e8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4e4"/>
                </a:solidFill>
                <a:latin typeface="Georgia"/>
              </a:rPr>
              <a:t>New evaluation methodology </a:t>
            </a: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e8e8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e4e4"/>
                </a:solidFill>
                <a:latin typeface="Peinaud"/>
              </a:rPr>
              <a:t>Nootropia’s future</a:t>
            </a:r>
            <a:endParaRPr b="1" lang="en-US" sz="5400" spc="-1" strike="noStrike">
              <a:solidFill>
                <a:srgbClr val="e4e4e4"/>
              </a:solidFill>
              <a:latin typeface="Peinaud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4e4"/>
                </a:solidFill>
                <a:latin typeface="Georgia"/>
              </a:rPr>
              <a:t>Personalisation</a:t>
            </a: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e8e8e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e8e8"/>
                </a:solidFill>
                <a:latin typeface="Georgia"/>
              </a:rPr>
              <a:t>tuning &amp; visualisation</a:t>
            </a:r>
            <a:endParaRPr b="0" lang="en-US" sz="2800" spc="-1" strike="noStrike">
              <a:solidFill>
                <a:srgbClr val="e8e8e8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e8e8e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e8e8"/>
                </a:solidFill>
                <a:latin typeface="Georgia"/>
              </a:rPr>
              <a:t>other  services</a:t>
            </a:r>
            <a:endParaRPr b="0" lang="en-US" sz="2800" spc="-1" strike="noStrike">
              <a:solidFill>
                <a:srgbClr val="e8e8e8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e8e8e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e8e8"/>
                </a:solidFill>
                <a:latin typeface="Georgia"/>
              </a:rPr>
              <a:t>other media</a:t>
            </a:r>
            <a:endParaRPr b="0" lang="en-US" sz="2800" spc="-1" strike="noStrike">
              <a:solidFill>
                <a:srgbClr val="e8e8e8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4e4"/>
                </a:solidFill>
                <a:latin typeface="Georgia"/>
              </a:rPr>
              <a:t>Projections</a:t>
            </a: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e8e8e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e8e8"/>
                </a:solidFill>
                <a:latin typeface="Georgia"/>
              </a:rPr>
              <a:t>language networks (corpora evaluation)</a:t>
            </a:r>
            <a:endParaRPr b="0" lang="en-US" sz="2800" spc="-1" strike="noStrike">
              <a:solidFill>
                <a:srgbClr val="e8e8e8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e8e8e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e8e8"/>
                </a:solidFill>
                <a:latin typeface="Georgia"/>
              </a:rPr>
              <a:t>information, self-organisation &amp; adaptation</a:t>
            </a:r>
            <a:endParaRPr b="0" lang="en-US" sz="2800" spc="-1" strike="noStrike">
              <a:solidFill>
                <a:srgbClr val="e8e8e8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e4e4"/>
                </a:solidFill>
                <a:latin typeface="Peinaud"/>
              </a:rPr>
              <a:t>Adaptive Information Filtering</a:t>
            </a:r>
            <a:endParaRPr b="1" lang="en-US" sz="5400" spc="-1" strike="noStrike">
              <a:solidFill>
                <a:srgbClr val="e4e4e4"/>
              </a:solidFill>
              <a:latin typeface="Peinaud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8001000" cy="17524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219320" y="3886200"/>
            <a:ext cx="7010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3581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4e4"/>
                </a:solidFill>
                <a:latin typeface="Georgia"/>
              </a:rPr>
              <a:t>User profile</a:t>
            </a: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4e4"/>
                </a:solidFill>
                <a:latin typeface="Georgia"/>
              </a:rPr>
              <a:t>Evaluation of obtained information</a:t>
            </a: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4e4"/>
                </a:solidFill>
                <a:latin typeface="Georgia"/>
              </a:rPr>
              <a:t>Appropriate presentation</a:t>
            </a: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4e4"/>
                </a:solidFill>
                <a:latin typeface="Georgia"/>
              </a:rPr>
              <a:t>User feedback</a:t>
            </a: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e4e4"/>
                </a:solidFill>
                <a:latin typeface="Peinaud"/>
              </a:rPr>
              <a:t>Adaptive Information Filtering</a:t>
            </a:r>
            <a:endParaRPr b="1" lang="en-US" sz="5400" spc="-1" strike="noStrike">
              <a:solidFill>
                <a:srgbClr val="e4e4e4"/>
              </a:solidFill>
              <a:latin typeface="Peinau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4e4"/>
                </a:solidFill>
                <a:latin typeface="Georgia"/>
              </a:rPr>
              <a:t>Multiple Interests</a:t>
            </a: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e8e8e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e8e8"/>
                </a:solidFill>
                <a:latin typeface="Georgia"/>
              </a:rPr>
              <a:t>More than one topic of interest</a:t>
            </a:r>
            <a:endParaRPr b="0" lang="en-US" sz="2800" spc="-1" strike="noStrike">
              <a:solidFill>
                <a:srgbClr val="e8e8e8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e8e8e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e8e8"/>
                </a:solidFill>
                <a:latin typeface="Georgia"/>
              </a:rPr>
              <a:t>Topic-Subtopic  relations</a:t>
            </a:r>
            <a:endParaRPr b="0" lang="en-US" sz="2800" spc="-1" strike="noStrike">
              <a:solidFill>
                <a:srgbClr val="e8e8e8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4e4"/>
                </a:solidFill>
                <a:latin typeface="Georgia"/>
              </a:rPr>
              <a:t>Changes  over time</a:t>
            </a: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e8e8e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e8e8"/>
                </a:solidFill>
                <a:latin typeface="Georgia"/>
              </a:rPr>
              <a:t>short-term</a:t>
            </a:r>
            <a:endParaRPr b="0" lang="en-US" sz="2800" spc="-1" strike="noStrike">
              <a:solidFill>
                <a:srgbClr val="e8e8e8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e8e8e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e8e8"/>
                </a:solidFill>
                <a:latin typeface="Georgia"/>
              </a:rPr>
              <a:t>long-term</a:t>
            </a:r>
            <a:endParaRPr b="0" lang="en-US" sz="2800" spc="-1" strike="noStrike">
              <a:solidFill>
                <a:srgbClr val="e8e8e8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e4e4"/>
                </a:solidFill>
                <a:latin typeface="Peinaud"/>
              </a:rPr>
              <a:t>Multiple Interests</a:t>
            </a:r>
            <a:endParaRPr b="1" lang="en-US" sz="5400" spc="-1" strike="noStrike">
              <a:solidFill>
                <a:srgbClr val="e4e4e4"/>
              </a:solidFill>
              <a:latin typeface="Peinau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799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4e4"/>
                </a:solidFill>
                <a:latin typeface="Georgia"/>
              </a:rPr>
              <a:t>Term Independence</a:t>
            </a:r>
            <a:r>
              <a:rPr b="0" lang="en-US" sz="3200" spc="-1" strike="noStrike">
                <a:solidFill>
                  <a:srgbClr val="e4e4e4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e4e4e4"/>
                </a:solidFill>
                <a:latin typeface="Georgia"/>
              </a:rPr>
              <a:t>Linear Profile Representations</a:t>
            </a: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  <a:p>
            <a:pPr lvl="1" marL="527400" indent="-202680">
              <a:spcBef>
                <a:spcPts val="700"/>
              </a:spcBef>
              <a:buClr>
                <a:srgbClr val="e8e8e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e8e8"/>
                </a:solidFill>
                <a:latin typeface="Georgia"/>
              </a:rPr>
              <a:t>Vector Space Model</a:t>
            </a:r>
            <a:endParaRPr b="0" lang="en-US" sz="2800" spc="-1" strike="noStrike">
              <a:solidFill>
                <a:srgbClr val="e8e8e8"/>
              </a:solidFill>
              <a:latin typeface="Georgia"/>
            </a:endParaRPr>
          </a:p>
          <a:p>
            <a:pPr lvl="1" marL="527400" indent="-202680">
              <a:spcBef>
                <a:spcPts val="700"/>
              </a:spcBef>
              <a:buClr>
                <a:srgbClr val="e8e8e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e8e8"/>
                </a:solidFill>
                <a:latin typeface="Georgia"/>
              </a:rPr>
              <a:t>Probabilistic IR models</a:t>
            </a:r>
            <a:endParaRPr b="0" lang="en-US" sz="2800" spc="-1" strike="noStrike">
              <a:solidFill>
                <a:srgbClr val="e8e8e8"/>
              </a:solidFill>
              <a:latin typeface="Georgia"/>
            </a:endParaRPr>
          </a:p>
          <a:p>
            <a:pPr lvl="1" marL="527400" indent="-202680">
              <a:spcBef>
                <a:spcPts val="700"/>
              </a:spcBef>
              <a:buClr>
                <a:srgbClr val="e8e8e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e8e8"/>
                </a:solidFill>
                <a:latin typeface="Georgia"/>
              </a:rPr>
              <a:t>Linear Classifiers</a:t>
            </a:r>
            <a:endParaRPr b="0" lang="en-US" sz="2800" spc="-1" strike="noStrike">
              <a:solidFill>
                <a:srgbClr val="e8e8e8"/>
              </a:solidFill>
              <a:latin typeface="Georgia"/>
            </a:endParaRPr>
          </a:p>
          <a:p>
            <a:pPr lvl="1" marL="527400" indent="-202680">
              <a:spcBef>
                <a:spcPts val="700"/>
              </a:spcBef>
              <a:buClr>
                <a:srgbClr val="e8e8e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e8e8"/>
                </a:solidFill>
                <a:latin typeface="Georgia"/>
              </a:rPr>
              <a:t>Connectionist Approaches</a:t>
            </a:r>
            <a:endParaRPr b="0" lang="en-US" sz="2800" spc="-1" strike="noStrike">
              <a:solidFill>
                <a:srgbClr val="e8e8e8"/>
              </a:solidFill>
              <a:latin typeface="Georgia"/>
            </a:endParaRPr>
          </a:p>
          <a:p>
            <a:pPr marL="243360" indent="-243360">
              <a:spcBef>
                <a:spcPts val="799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4e4"/>
                </a:solidFill>
                <a:latin typeface="Georgia"/>
              </a:rPr>
              <a:t>Linear Profile</a:t>
            </a:r>
            <a:r>
              <a:rPr b="0" lang="en-US" sz="3200" spc="-1" strike="noStrike">
                <a:solidFill>
                  <a:srgbClr val="e4e4e4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e4e4e4"/>
                </a:solidFill>
                <a:latin typeface="Georgia"/>
              </a:rPr>
              <a:t>Single-Topic Profile</a:t>
            </a: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62120" y="20570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4e4"/>
                </a:solidFill>
                <a:latin typeface="Georgia"/>
              </a:rPr>
              <a:t>Multiple Profiles</a:t>
            </a: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e8e8e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e8e8"/>
                </a:solidFill>
                <a:latin typeface="Georgia"/>
              </a:rPr>
              <a:t>“</a:t>
            </a:r>
            <a:r>
              <a:rPr b="0" lang="en-US" sz="2800" spc="-1" strike="noStrike">
                <a:solidFill>
                  <a:srgbClr val="e8e8e8"/>
                </a:solidFill>
                <a:latin typeface="Georgia"/>
              </a:rPr>
              <a:t>1-1”</a:t>
            </a:r>
            <a:endParaRPr b="0" lang="en-US" sz="2800" spc="-1" strike="noStrike">
              <a:solidFill>
                <a:srgbClr val="e8e8e8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e8e8e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e8e8"/>
                </a:solidFill>
                <a:latin typeface="Georgia"/>
              </a:rPr>
              <a:t>Clustering </a:t>
            </a:r>
            <a:endParaRPr b="0" lang="en-US" sz="2800" spc="-1" strike="noStrike">
              <a:solidFill>
                <a:srgbClr val="e8e8e8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e8e8e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e8e8"/>
                </a:solidFill>
                <a:latin typeface="Georgia"/>
              </a:rPr>
              <a:t>Population (GAs)</a:t>
            </a:r>
            <a:endParaRPr b="0" lang="en-US" sz="2800" spc="-1" strike="noStrike">
              <a:solidFill>
                <a:srgbClr val="e8e8e8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e4e4"/>
                </a:solidFill>
                <a:latin typeface="Peinaud"/>
              </a:rPr>
              <a:t>Multiple Interests</a:t>
            </a:r>
            <a:endParaRPr b="1" lang="en-US" sz="5400" spc="-1" strike="noStrike">
              <a:solidFill>
                <a:srgbClr val="e4e4e4"/>
              </a:solidFill>
              <a:latin typeface="Peinau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e4e4"/>
                </a:solidFill>
                <a:latin typeface="Peinaud"/>
              </a:rPr>
              <a:t>Profile Adaptation</a:t>
            </a:r>
            <a:endParaRPr b="1" lang="en-US" sz="5400" spc="-1" strike="noStrike">
              <a:solidFill>
                <a:srgbClr val="e4e4e4"/>
              </a:solidFill>
              <a:latin typeface="Peinau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4e4"/>
                </a:solidFill>
                <a:latin typeface="Georgia"/>
              </a:rPr>
              <a:t>Linear Learning Algorithms</a:t>
            </a: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e8e8e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e8e8"/>
                </a:solidFill>
                <a:latin typeface="Georgia"/>
              </a:rPr>
              <a:t>Rocchio’s</a:t>
            </a:r>
            <a:endParaRPr b="0" lang="en-US" sz="2800" spc="-1" strike="noStrike">
              <a:solidFill>
                <a:srgbClr val="e8e8e8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e8e8e8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e8e8"/>
                </a:solidFill>
                <a:latin typeface="Georgia"/>
              </a:rPr>
              <a:t>Reinforcement Learning</a:t>
            </a:r>
            <a:endParaRPr b="0" lang="en-US" sz="2800" spc="-1" strike="noStrike">
              <a:solidFill>
                <a:srgbClr val="e8e8e8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4e4"/>
                </a:solidFill>
                <a:latin typeface="Georgia"/>
              </a:rPr>
              <a:t>Dual Profiles</a:t>
            </a: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4e4"/>
                </a:solidFill>
                <a:latin typeface="Georgia"/>
              </a:rPr>
              <a:t>Genetic Algorithms (GAs)</a:t>
            </a: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4e4"/>
                </a:solidFill>
                <a:latin typeface="Georgia"/>
              </a:rPr>
              <a:t>Memetic Algorithms (MAs)</a:t>
            </a: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e4e4"/>
                </a:solidFill>
                <a:latin typeface="Peinaud"/>
              </a:rPr>
              <a:t>Critique</a:t>
            </a:r>
            <a:endParaRPr b="1" lang="en-US" sz="5400" spc="-1" strike="noStrike">
              <a:solidFill>
                <a:srgbClr val="e4e4e4"/>
              </a:solidFill>
              <a:latin typeface="Peinau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3123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4e4"/>
                </a:solidFill>
                <a:latin typeface="Georgia"/>
              </a:rPr>
              <a:t>User friendly</a:t>
            </a: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4e4"/>
                </a:solidFill>
                <a:latin typeface="Georgia"/>
              </a:rPr>
              <a:t>Efficient</a:t>
            </a: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e4e4e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4e4"/>
                </a:solidFill>
                <a:latin typeface="Georgia"/>
              </a:rPr>
              <a:t>Computationally Cheap (GAs)</a:t>
            </a:r>
            <a:endParaRPr b="0" lang="en-US" sz="3200" spc="-1" strike="noStrike">
              <a:solidFill>
                <a:srgbClr val="e4e4e4"/>
              </a:solidFill>
              <a:latin typeface="Georgia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190512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Breaking down the problem into several single-topic profiles is not: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8:11:43Z</dcterms:created>
  <dc:creator>Nikolaos Nanas</dc:creator>
  <dc:description/>
  <dc:language>en-US</dc:language>
  <cp:lastModifiedBy>Nikolaos Nanas</cp:lastModifiedBy>
  <dcterms:modified xsi:type="dcterms:W3CDTF">2004-02-02T10:34:22Z</dcterms:modified>
  <cp:revision>149</cp:revision>
  <dc:subject/>
  <dc:title>Towards Noo-tropia: Building and Adapting  a Concept Hierarchy for Personalized Information Filtering</dc:title>
</cp:coreProperties>
</file>