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F9217D-09FC-4E0D-BEC5-C7507A90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C1C401-837F-4A91-AFE9-8B7ED8742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26E-221E-4022-9C64-D30A463A4BBC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F0F-78A5-4B02-A462-E49A01416678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88640" y="1104480"/>
            <a:ext cx="878364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IRS-III: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  <a:p>
            <a:pPr marL="4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A framework and platform for building Semantic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  <a:p>
            <a:pPr marL="4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11400" y="4581360"/>
            <a:ext cx="4643280" cy="161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21760" y="382104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John Domingue and Liliana Ca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OWL-S 1.0 Transl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920" y="1989000"/>
            <a:ext cx="1790640" cy="1160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OW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352600"/>
            <a:ext cx="909720" cy="422280"/>
          </a:xfrm>
          <a:prstGeom prst="rightArrow">
            <a:avLst>
              <a:gd name="adj1" fmla="val 50000"/>
              <a:gd name="adj2" fmla="val 53858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89320" y="1990800"/>
            <a:ext cx="1901880" cy="111744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OWL-S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46400" y="3236760"/>
            <a:ext cx="401760" cy="870120"/>
          </a:xfrm>
          <a:prstGeom prst="upDownArrow">
            <a:avLst>
              <a:gd name="adj1" fmla="val 50000"/>
              <a:gd name="adj2" fmla="val 4311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60600" y="4280040"/>
            <a:ext cx="1743120" cy="91440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OWL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07120" y="2352600"/>
            <a:ext cx="909360" cy="422280"/>
          </a:xfrm>
          <a:prstGeom prst="rightArrow">
            <a:avLst>
              <a:gd name="adj1" fmla="val 50000"/>
              <a:gd name="adj2" fmla="val 53836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7280" y="1827360"/>
            <a:ext cx="2261880" cy="1682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(Med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Osaka"/>
              </a:rPr>
              <a:t>and 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OWL Process to Web Servic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5240" y="1628280"/>
            <a:ext cx="865044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IOPEs are translated to: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has-input, has-output, has-precondition and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has-postcondi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in the capability of a Web service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The type and condition definitions at the range of the above roles are translated by the OWL to OCML translator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imple goal and mediators can be generated (optional) as template for later development.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16120" y="2496960"/>
            <a:ext cx="548496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b0707"/>
                </a:solidFill>
                <a:latin typeface="Arial"/>
              </a:rPr>
              <a:t>IRS-III Demo</a:t>
            </a:r>
            <a:r>
              <a:rPr b="0" lang="en-US" sz="5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Arial"/>
            </a:endParaRPr>
          </a:p>
          <a:p>
            <a:pPr marL="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(including OWL-S Import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81240" y="536400"/>
            <a:ext cx="46432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26520" y="442116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John Domingue and Liliana Ca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WS Creation &amp; Usage Step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0240" y="1526760"/>
            <a:ext cx="80265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reate a goal description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(e.g. exchange-rate-goal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dd input and output rol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clude role type and soap binding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reate a wg-mediator description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ource = goa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ossibly add a mediation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Create a web service descrip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Used-mediator of WS capability = wg-mediator abov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pecify Operation &lt;-&gt; Lisp function mapping in Choreography Grounding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Publish against web service descrip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voke web service by ‘achieve goal’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Multiple WS for goa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1526760"/>
            <a:ext cx="8055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Each WS has a mediator for used-mediator slot of capability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ome WS may share a mediator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Define a kappa expression for assumption slot of WS capability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Kappa expression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(kappa (?goal) &lt;ocml relations&gt;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Getting the value of an input rol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(wsmo-role-value ?goal &lt;role-name&gt;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Defining a Mediation Servic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1760" y="1526760"/>
            <a:ext cx="76550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Define a wg-mediator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Source = goa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Mediation-service = goal for mediation servic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Mediation goal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Mediation goal input roles are a subset of goal input rol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Define mediator and WS as norma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Valid Relation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5200" y="1449360"/>
            <a:ext cx="79693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00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lasses are unary re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.g. (country ?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lots are binary re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.g. (is-capital-of ?x ?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700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tandard relations in base (OCML toplevel) ont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=, ==, &lt;, &gt;, 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uropean Currency Assump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4960" y="1790640"/>
            <a:ext cx="779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(kappa (?goal)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(member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(wsmo-role-valu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?goal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'has_source_currency)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404040"/>
                </a:solidFill>
                <a:latin typeface="Arial"/>
              </a:rPr>
              <a:t>'(euro pound)))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Goal Based Invoc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9120" y="2503440"/>
            <a:ext cx="1054080" cy="1044000"/>
            <a:chOff x="249120" y="2503440"/>
            <a:chExt cx="1054080" cy="104400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249120" y="2503440"/>
              <a:ext cx="10540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56320" y="3240360"/>
              <a:ext cx="104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49320" y="2257560"/>
            <a:ext cx="341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antiate Go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hange-rate-g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-source-currency: us-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-target-currency: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6320" y="2257560"/>
            <a:ext cx="36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european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bank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161928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olve Goal</a:t>
            </a:r>
            <a:br>
              <a:rPr sz="1800"/>
            </a:b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Goal -&gt; WG Mediator -&gt; WS/Capability/Used-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0240" y="507672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10800" y="5051520"/>
            <a:ext cx="24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te inpu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’ -&gt; us-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8640" y="440388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WS -&gt; Capability -&gt;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7200" y="46450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85240" y="4975200"/>
            <a:ext cx="27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oke select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4760" y="4594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b0707"/>
                </a:solidFill>
                <a:latin typeface="Arial"/>
              </a:rPr>
              <a:t>Hands-On Session </a:t>
            </a:r>
            <a:br>
              <a:rPr sz="4000"/>
            </a:br>
            <a:r>
              <a:rPr b="0" lang="en-GB" sz="4000" spc="-1" strike="noStrike">
                <a:solidFill>
                  <a:srgbClr val="9b0707"/>
                </a:solidFill>
                <a:latin typeface="Arial"/>
              </a:rPr>
              <a:t>(with IRS III)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21760" y="382104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John Domingue and Liliana Ca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96680" y="843120"/>
            <a:ext cx="750564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The Internet Reasoning Service is an infrastructure for publishing, locating, executing and composing </a:t>
            </a:r>
            <a:r>
              <a:rPr b="0" i="1" lang="en-US" sz="4000" spc="-1" strike="noStrike">
                <a:solidFill>
                  <a:srgbClr val="404040"/>
                </a:solidFill>
                <a:latin typeface="Arial"/>
              </a:rPr>
              <a:t>Semantic Web Service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uropean Travel Scenario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81280" y="1527120"/>
            <a:ext cx="616572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uropean Travel Demo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898640" y="1619280"/>
            <a:ext cx="51181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RS-III Hands On Task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8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velop an application for the European Travel scenario based on SWS. The application should support a person booking a train ticket between 2 European cities at a specific time and dat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spcBef>
                <a:spcPts val="25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reate Goal, Web service and Mediator WSMO descriptions in IRS-III (european-travel-service-descriptions) for available services. Your descriptions should choose a specific service depending on the start and end locations and the type of traveller. Use the assumption slot to do thi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spcBef>
                <a:spcPts val="25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ublish available lisp functions against your description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spcBef>
                <a:spcPts val="25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voke the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spcBef>
                <a:spcPts val="25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olution to be shown at the end of this sess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b0707"/>
                </a:solidFill>
                <a:latin typeface="Arial"/>
              </a:rPr>
              <a:t>Tutorial Setup</a:t>
            </a:r>
            <a:endParaRPr b="0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3800" y="1684440"/>
            <a:ext cx="3790800" cy="410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46080" y="187488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IRS Server (3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98720" y="2560680"/>
            <a:ext cx="323028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Osaka"/>
              </a:rPr>
              <a:t>Domai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98720" y="3246480"/>
            <a:ext cx="3265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eb Service W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Description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+ Registry of Implemen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73160" y="4237200"/>
            <a:ext cx="3306600" cy="71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Goal WSMO Description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+ SOAP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Osaka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72160" y="1846440"/>
            <a:ext cx="226836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Trave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(3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54120" y="3710160"/>
            <a:ext cx="2873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Lisp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99320" y="4697280"/>
            <a:ext cx="38077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-III Knowledg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Browser &amp;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657600" y="1771560"/>
            <a:ext cx="647640" cy="447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6875640" y="1916280"/>
            <a:ext cx="2268360" cy="1129320"/>
            <a:chOff x="6875640" y="1916280"/>
            <a:chExt cx="2268360" cy="1129320"/>
          </a:xfrm>
        </p:grpSpPr>
        <p:graphicFrame>
          <p:nvGraphicFramePr>
            <p:cNvPr id="278" name=""/>
            <p:cNvGraphicFramePr/>
            <p:nvPr/>
          </p:nvGraphicFramePr>
          <p:xfrm>
            <a:off x="7678800" y="1916280"/>
            <a:ext cx="647640" cy="64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78800" y="1916280"/>
                      <a:ext cx="64764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6875640" y="2585880"/>
              <a:ext cx="22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WSM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73160" y="5075280"/>
            <a:ext cx="3319560" cy="5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Mediator WSMO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30351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84600" y="3898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97200" y="5105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0240" y="259920"/>
            <a:ext cx="890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Travel Related Knowledge Model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727280" y="1631880"/>
          <a:ext cx="695952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1631880"/>
                    <a:ext cx="69595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3320" y="132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b0707"/>
                </a:solidFill>
                <a:latin typeface="Arial"/>
              </a:rPr>
              <a:t>Key Classes, Relations, Instances</a:t>
            </a: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80640" y="3266640"/>
            <a:ext cx="769644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s-in-country &lt;city&gt; &lt;country&gt; e.g.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(is-in-country berlin germany) -&gt; tru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(student &lt;person&gt;) -&gt; true, for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john matt micha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(business-person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&lt;person&gt;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-&gt; true, for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liliana micha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927000" y="2021040"/>
          <a:ext cx="36576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21040"/>
                    <a:ext cx="3657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8680" y="1145880"/>
            <a:ext cx="76071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1- Get train timetabl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puts: origin and destination cities (city), date (date-and-time, e.g. (18 4 2004)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Output: timetable (string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2- Book trai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puts: passenger name (person), origin and destination cities, departure time-date (list-date-and-time, e.g. (20 33 16 15 9 2004)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Output: booking information (string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1526760"/>
            <a:ext cx="79884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1 service available for goal 1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No constrain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6 services available for goal 2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As a provider write the constraints applicable to the services to satisfy the goal (assumption logical expressions)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1 wg-mediator mediation-servic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Used to convert time in list format to time in universal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Service constrain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526760"/>
            <a:ext cx="8102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ervices 2-5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rvices for (origin and destination) cities in determined countri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ervice 4-5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Need a mediation service to map goal time-date to service time-dat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Services 6-7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ervices for students or business people in Europ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Available Functions (1/3)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634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1- get-train-time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paris london (18 4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Timetable of trains from PARIS to LONDON on 18, 4, 2004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5:18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23:36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2- book-english-train-journey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christoph milton-keynes london (20 33 16 15 9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British Rail: CHRISTOPH is booked on the 66 going from MILTON-KEYNES to LONDON at 16:49, 15, SEPTEMBER 2004. The price is 169 Euros.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3- book-french-train-journey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sinuhe paris lyon (3 4 6 18 8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SNCF: SINUHE is booked on the 511 going from PARIS to LYON at 6:12, 18, AUGUST 2004. The price is 27 Euros.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Design Principl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8680" y="1485720"/>
            <a:ext cx="8163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ntological separation of User and Web Service Contex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apability Based Invocation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ase of Us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ne Click Publishing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gnostic to Service Implementation Platform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nnected to External Environmen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mplete Description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spectabl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Interoperable with SWS Frameworks and Platform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Available Functions (2/3)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560" y="1526760"/>
            <a:ext cx="79502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4- book-german-train-journey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christoph berlin frankfurt 3304251200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First Class Booking German Rail (Die Bahn): CHRISTOPH is booked on the 323 going from BERLIN to FRANKFURT at 17:11, 15, SEPTEMBER 2004. The price is 35 Euros.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5- book-austrian-train-journey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sinuhe vienna innsbruck 3304251200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Austrian Rail (OBB): SINUHE is booked on the 367 going from VIENNA to INNSBRUCK at 16:47, 15, SEPTEMBER 2004. The price is 36 Euros. 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Available Functions (3/3)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74720" y="1526760"/>
            <a:ext cx="79120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6- book-student-european-train-journey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john london nice (3 4 6 18 8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European Student Rail Travel: JOHN is booked on the 916 going from LONDON to NICE at 6:44, 18, AUGUST 2004. The price is 94 Euros. 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7- book-business-european-train-journey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liliana paris innsbruck (3 4 6 18 8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"Business Europe: LILIANA is booked on the 461 going from PARIS to INNSBRUCK at 6:12, 18, AUGUST 2004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he price is 325 Euros."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040"/>
                </a:solidFill>
                <a:latin typeface="Arial"/>
              </a:rPr>
              <a:t>8- mediate-time</a:t>
            </a: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04040"/>
                </a:solidFill>
                <a:latin typeface="Arial"/>
              </a:rPr>
              <a:t>(lisp function) or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JavaMediateTime/mediate </a:t>
            </a:r>
            <a:r>
              <a:rPr b="1" lang="de-DE" sz="2400" spc="-1" strike="noStrike">
                <a:solidFill>
                  <a:srgbClr val="404040"/>
                </a:solidFill>
                <a:latin typeface="Arial"/>
              </a:rPr>
              <a:t>(java)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404040"/>
                </a:solidFill>
                <a:latin typeface="Arial"/>
              </a:rPr>
              <a:t>(9 30 17 20 9 2004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3304686609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xample: Multiply Goa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980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xample: Multiply Web Servic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89200" y="1628640"/>
            <a:ext cx="52560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Example: Publish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69160" cy="2978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76360" y="4633920"/>
            <a:ext cx="5975280" cy="17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02840" y="1269720"/>
            <a:ext cx="79693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Order matters for input rol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put roles in goal must match order of arguments to fun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Need to specify both input roles and output rol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Be careful with soap binding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expr as defaul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String for one line output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Use xml for multiple line outpu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put roles for web services inherited from goa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Slot names can not be the same as class nam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Goal &lt;-&gt; web service linking mediator in the capability used mediator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09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Closing, Outlook, References, Acknowledgement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65120" y="37926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Michael Stol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b0707"/>
                </a:solidFill>
                <a:latin typeface="Arial"/>
              </a:rPr>
              <a:t>Tutorial Wrap-up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9440" y="1526760"/>
            <a:ext cx="8217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rget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of the presented tutorial were to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derstand aims &amp; challeng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within Semantic Web Service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nderst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WL-S and WSMO: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design principles &amp; paradigms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ontology elements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.. an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verview of ‘hot topics’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 within the Semantic Web and Semantic Web Service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.. OWL-S and WSM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ls and System Present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.. do-it-yourself Hands-On Session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=&gt; you should now be able to correctl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ess emerging technologies &amp; product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for Semantic Web Services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tilize these for your future work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b0707"/>
                </a:solidFill>
                <a:latin typeface="Arial"/>
              </a:rPr>
              <a:t>Features of IRS-III (1/2)</a:t>
            </a:r>
            <a:endParaRPr b="0" lang="en-US" sz="5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3240" y="1692000"/>
            <a:ext cx="805824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Based on Soap messaging standard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Provides Java API for client application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Provides built-in brokering and service discovery suppor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Provides </a:t>
            </a: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capability-centred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service invocation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b0707"/>
                </a:solidFill>
                <a:latin typeface="Arial"/>
              </a:rPr>
              <a:t>Features of IRS-III (2/2)</a:t>
            </a:r>
            <a:endParaRPr b="0" lang="en-US" sz="5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95000"/>
            <a:ext cx="767556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ublishing support for variety of platform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Java, Lisp, Web Applications, Java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nables publication of ‘standard code’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rovides clever wrapper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ne-click publishing of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tegrated with standard Web Services world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mantic web service to IR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rdinary’ web servic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344600" y="1565280"/>
            <a:ext cx="7319880" cy="4582080"/>
            <a:chOff x="1344600" y="1565280"/>
            <a:chExt cx="7319880" cy="4582080"/>
          </a:xfrm>
        </p:grpSpPr>
        <p:grpSp>
          <p:nvGrpSpPr>
            <p:cNvPr id="101" name=""/>
            <p:cNvGrpSpPr/>
            <p:nvPr/>
          </p:nvGrpSpPr>
          <p:grpSpPr>
            <a:xfrm>
              <a:off x="1344600" y="1565280"/>
              <a:ext cx="3575160" cy="3492360"/>
              <a:chOff x="1344600" y="1565280"/>
              <a:chExt cx="3575160" cy="3492360"/>
            </a:xfrm>
          </p:grpSpPr>
          <p:sp>
            <p:nvSpPr>
              <p:cNvPr id="102" name=""/>
              <p:cNvSpPr/>
              <p:nvPr/>
            </p:nvSpPr>
            <p:spPr>
              <a:xfrm>
                <a:off x="1344600" y="1565280"/>
                <a:ext cx="3575160" cy="3492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7240" y="171756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IRS-3 Serv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49520" y="2403360"/>
                <a:ext cx="1846440" cy="507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omain 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49520" y="3089160"/>
                <a:ext cx="3176640" cy="736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Web Service Specifications</a:t>
                </a:r>
                <a:br>
                  <a:rPr sz="1800"/>
                </a:b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+ Registry of Implement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9520" y="4130640"/>
                <a:ext cx="2532240" cy="749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Goal Specifications</a:t>
                </a:r>
                <a:br>
                  <a:rPr sz="1800"/>
                </a:b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+ SOAP </a:t>
                </a: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in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373800" y="1914480"/>
              <a:ext cx="226836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R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19760" y="2165400"/>
              <a:ext cx="142056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97440" y="3003480"/>
              <a:ext cx="144288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4912920" y="3666600"/>
              <a:ext cx="148572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932000" y="4019040"/>
              <a:ext cx="139068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437080" y="1695240"/>
              <a:ext cx="434880" cy="4229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246920" y="3782160"/>
              <a:ext cx="2800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S      O     A     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41360" y="5067360"/>
              <a:ext cx="1781280" cy="1080000"/>
              <a:chOff x="2241360" y="5067360"/>
              <a:chExt cx="1781280" cy="1080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19840" y="5687640"/>
                <a:ext cx="162108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IR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Cl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25520" y="5067360"/>
                <a:ext cx="1260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2241360" y="5227200"/>
                <a:ext cx="1781280" cy="368280"/>
                <a:chOff x="2241360" y="5227200"/>
                <a:chExt cx="1781280" cy="36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241360" y="5268240"/>
                  <a:ext cx="1781280" cy="25344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739960" y="5227200"/>
                  <a:ext cx="82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SOA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6348240" y="2755800"/>
              <a:ext cx="226872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R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6280" y="3597120"/>
              <a:ext cx="226836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R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7720" y="4498920"/>
              <a:ext cx="226872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R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8360" y="23511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  <a:ea typeface="Osaka"/>
                </a:rPr>
                <a:t>L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90840" y="32018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  <a:ea typeface="Osaka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2640" y="4064040"/>
              <a:ext cx="14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  <a:ea typeface="Osaka"/>
                </a:rPr>
                <a:t>Java 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RS-III Framework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03560" y="2657520"/>
            <a:ext cx="4807080" cy="2889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0" y="525132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Lisp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RS-III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5440" y="2913120"/>
            <a:ext cx="33732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3720" y="48798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IRS-II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67440" y="3054240"/>
            <a:ext cx="1506600" cy="52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S Publish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37480" y="3835440"/>
            <a:ext cx="1711080" cy="650880"/>
            <a:chOff x="6837480" y="3835440"/>
            <a:chExt cx="1711080" cy="650880"/>
          </a:xfrm>
        </p:grpSpPr>
        <p:sp>
          <p:nvSpPr>
            <p:cNvPr id="134" name=""/>
            <p:cNvSpPr/>
            <p:nvPr/>
          </p:nvSpPr>
          <p:spPr>
            <a:xfrm>
              <a:off x="6900840" y="3840480"/>
              <a:ext cx="1647720" cy="645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37480" y="3835440"/>
              <a:ext cx="8776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OC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81480" y="4096080"/>
              <a:ext cx="1409040" cy="307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WSMO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853240" y="5781600"/>
            <a:ext cx="1655640" cy="307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OWL(-S)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68720" y="592776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23200" y="4462560"/>
            <a:ext cx="517320" cy="132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91760" y="57690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Osaka"/>
              </a:rPr>
              <a:t>OWL(-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6528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1480" y="2874960"/>
            <a:ext cx="834480" cy="808560"/>
            <a:chOff x="411480" y="2874960"/>
            <a:chExt cx="834480" cy="8085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50800" y="2874960"/>
              <a:ext cx="4874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1480" y="33764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280" y="5006880"/>
            <a:ext cx="1046520" cy="939240"/>
            <a:chOff x="305280" y="5006880"/>
            <a:chExt cx="1046520" cy="93924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515880" y="5006880"/>
              <a:ext cx="625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05280" y="5425920"/>
              <a:ext cx="104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2400" y="3903840"/>
            <a:ext cx="1054080" cy="882000"/>
            <a:chOff x="302400" y="3903840"/>
            <a:chExt cx="1054080" cy="882000"/>
          </a:xfrm>
        </p:grpSpPr>
        <p:sp>
          <p:nvSpPr>
            <p:cNvPr id="149" name=""/>
            <p:cNvSpPr/>
            <p:nvPr/>
          </p:nvSpPr>
          <p:spPr>
            <a:xfrm>
              <a:off x="302400" y="426564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ing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i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399960" y="3903840"/>
              <a:ext cx="77472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 flipV="1">
            <a:off x="2185920" y="4309560"/>
            <a:ext cx="2148120" cy="11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4880" y="3711600"/>
            <a:ext cx="2222280" cy="469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2160" y="2039760"/>
            <a:ext cx="2162160" cy="198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17840" y="3927600"/>
            <a:ext cx="760680" cy="459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OA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52640" y="2476440"/>
            <a:ext cx="609840" cy="301860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  <a:ea typeface="Osaka"/>
              </a:rPr>
              <a:t>SO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62680" y="412740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97160" y="1882800"/>
            <a:ext cx="236700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Publishing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89000" y="2211480"/>
            <a:ext cx="9720" cy="175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2280" y="15796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3160" y="19400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Jav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40120" y="22431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76800" y="3040200"/>
            <a:ext cx="831600" cy="36828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2200" y="2055960"/>
            <a:ext cx="106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8320" y="2157480"/>
            <a:ext cx="1035000" cy="247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54800" y="1716120"/>
            <a:ext cx="1042920" cy="218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416560" y="3168720"/>
            <a:ext cx="1189080" cy="1984320"/>
            <a:chOff x="5416560" y="3168720"/>
            <a:chExt cx="1189080" cy="1984320"/>
          </a:xfrm>
        </p:grpSpPr>
        <p:sp>
          <p:nvSpPr>
            <p:cNvPr id="167" name=""/>
            <p:cNvSpPr/>
            <p:nvPr/>
          </p:nvSpPr>
          <p:spPr>
            <a:xfrm>
              <a:off x="5416560" y="3168720"/>
              <a:ext cx="1189080" cy="198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63080" y="3209760"/>
              <a:ext cx="893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14480" y="3876840"/>
              <a:ext cx="992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5600" y="4543560"/>
              <a:ext cx="107064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610320" y="41241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5160" y="1635120"/>
            <a:ext cx="1160280" cy="4480920"/>
            <a:chOff x="965160" y="1635120"/>
            <a:chExt cx="1160280" cy="4480920"/>
          </a:xfrm>
        </p:grpSpPr>
        <p:sp>
          <p:nvSpPr>
            <p:cNvPr id="173" name=""/>
            <p:cNvSpPr/>
            <p:nvPr/>
          </p:nvSpPr>
          <p:spPr>
            <a:xfrm>
              <a:off x="1606320" y="1635120"/>
              <a:ext cx="519120" cy="448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J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65160" y="1932120"/>
              <a:ext cx="619560" cy="45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9320" y="3119400"/>
              <a:ext cx="452520" cy="144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222920" y="4575240"/>
              <a:ext cx="38232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114560" y="5802480"/>
              <a:ext cx="496800" cy="20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195560" y="2138400"/>
            <a:ext cx="32832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01600" y="3160800"/>
            <a:ext cx="43668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7240" y="4097160"/>
            <a:ext cx="328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176480" y="5145120"/>
            <a:ext cx="39024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33440" y="1763640"/>
            <a:ext cx="792000" cy="891360"/>
            <a:chOff x="433440" y="1763640"/>
            <a:chExt cx="792000" cy="891360"/>
          </a:xfrm>
        </p:grpSpPr>
        <p:graphicFrame>
          <p:nvGraphicFramePr>
            <p:cNvPr id="183" name=""/>
            <p:cNvGraphicFramePr/>
            <p:nvPr/>
          </p:nvGraphicFramePr>
          <p:xfrm>
            <a:off x="506160" y="1763640"/>
            <a:ext cx="64800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6160" y="1763640"/>
                      <a:ext cx="64800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433440" y="23479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WSM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02200" y="5392800"/>
            <a:ext cx="109368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Publishing Platform  Archite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60600" y="2058840"/>
            <a:ext cx="5618160" cy="255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198520"/>
            <a:ext cx="3833640" cy="20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5240" y="3975120"/>
            <a:ext cx="27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RS-III Publishing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7200" y="426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HTT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94880" y="2689200"/>
            <a:ext cx="99288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OA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5080" y="2289240"/>
            <a:ext cx="1191960" cy="1565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0360" y="2427120"/>
            <a:ext cx="111960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Regist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5960" y="3119400"/>
            <a:ext cx="97020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nv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92720" y="2306520"/>
            <a:ext cx="233676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WS Service Regi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01840" y="2982960"/>
            <a:ext cx="1243080" cy="67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6600" y="3484440"/>
            <a:ext cx="1447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RS-II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42840" y="4808520"/>
            <a:ext cx="997200" cy="73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64120" y="548640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Invocation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449360" y="3817800"/>
            <a:ext cx="9720" cy="981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55920" y="3171960"/>
            <a:ext cx="8398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1760" y="4179960"/>
            <a:ext cx="8398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87760" y="2992320"/>
            <a:ext cx="4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11800" y="1600200"/>
            <a:ext cx="1310040" cy="1206000"/>
            <a:chOff x="811800" y="1600200"/>
            <a:chExt cx="1310040" cy="1206000"/>
          </a:xfrm>
        </p:grpSpPr>
        <p:sp>
          <p:nvSpPr>
            <p:cNvPr id="206" name=""/>
            <p:cNvSpPr/>
            <p:nvPr/>
          </p:nvSpPr>
          <p:spPr>
            <a:xfrm>
              <a:off x="811800" y="21636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Publishing 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874080" y="1600200"/>
              <a:ext cx="11836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 flipV="1">
            <a:off x="1460520" y="2688840"/>
            <a:ext cx="0" cy="808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54080" y="2887560"/>
            <a:ext cx="8272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11760" y="4672080"/>
            <a:ext cx="10922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24400" y="4741920"/>
            <a:ext cx="10940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06760" y="5003640"/>
            <a:ext cx="10940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2640" y="5054760"/>
            <a:ext cx="1093680" cy="625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05320" y="5234040"/>
            <a:ext cx="109368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19600" y="5264280"/>
            <a:ext cx="109224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53000" y="4737240"/>
            <a:ext cx="109224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77720" y="49179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98480" y="51577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50560" y="54687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77040" y="3736440"/>
            <a:ext cx="0" cy="993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IRS-III/WSMO differen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1856880"/>
            <a:ext cx="8165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Underlying language OCM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Goals have inputs and outpu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IRS-III broker finds applicable web services via mediator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Used mediator within WS capability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Mediator source = goa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Web services have inputs and outputs ‘inherited’ from goal description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Web service selected via assumption (in capability)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39:37Z</dcterms:modified>
  <cp:revision>597</cp:revision>
  <dc:subject/>
  <dc:title>Semantic Web Services Tutorial  ESWC 2005 </dc:title>
</cp:coreProperties>
</file>