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283-8395-430F-9DBF-49FCA0A25396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01C-BAD8-491B-A766-80C97667A147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b0707"/>
                </a:solidFill>
                <a:latin typeface="Arial"/>
              </a:rPr>
              <a:t>Web Service Execution Environment</a:t>
            </a:r>
            <a:br>
              <a:rPr sz="4000"/>
            </a:br>
            <a:r>
              <a:rPr b="0" lang="en-GB" sz="4000" spc="-1" strike="noStrike">
                <a:solidFill>
                  <a:srgbClr val="9b0707"/>
                </a:solidFill>
                <a:latin typeface="Arial"/>
              </a:rPr>
              <a:t>(WSMX)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Emilia Cimpia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Digital Enterprise Research Institute (DERI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4200" y="147600"/>
          <a:ext cx="1371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7600"/>
                    <a:ext cx="1371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JMX Implement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24920" cy="54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3429000"/>
            <a:ext cx="647640" cy="36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557360"/>
            <a:ext cx="1726920" cy="93492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quest to discover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services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y be sent to adapter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 adapter may extrac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rom backend ap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989000"/>
            <a:ext cx="208908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al expressed in WSML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nt to WSMX Syst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221000"/>
            <a:ext cx="208908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mm Manager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mplements the interfac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 receive WSML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89000"/>
            <a:ext cx="180036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mm Manager tells core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al has been recie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27664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oreography wra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icks up event for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oreography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278136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new choreogr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tance is cr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249228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re is notified tha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oreography instanc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s been cre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20500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arser wrapper picks up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nt for Parser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46080" y="1526760"/>
            <a:ext cx="7740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cope of WSMX Developmen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Arial"/>
              </a:rPr>
              <a:t>System Architecture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Inter-relationship of Componen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Arial"/>
              </a:rPr>
              <a:t>Execution Semantics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Component Interfac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Arial"/>
              </a:rPr>
              <a:t>Data Flow between Components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500280"/>
            <a:ext cx="180036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SML goal is parsed to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ternal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3716280"/>
            <a:ext cx="144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scovery is invok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or parsed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378936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scovery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quires data medi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08000" y="378936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fter data mediation,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scovery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mpletes its tas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cope of WSMX Developmen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reference implementation for WSMO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omplete architecture for SWS discovery, mediation, selection and invocatio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initial functionality - achieving a user-specified goal by invoking WS described with the semantic markup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3789360"/>
            <a:ext cx="1800360" cy="792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fter discovery, th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oreography instance for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al requester is checked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or next step in intera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40000" y="3860640"/>
            <a:ext cx="2016000" cy="79236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xt step in choreography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s to return set of discovered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services to goal reque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042920" y="3284280"/>
            <a:ext cx="1152720" cy="649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360" y="4076640"/>
            <a:ext cx="208908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t of Web Service descriptions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ressed in WSML sent to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ppropriate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1042920" y="3284280"/>
            <a:ext cx="1152720" cy="64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68360" y="3284640"/>
            <a:ext cx="574560" cy="288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2276640"/>
            <a:ext cx="2232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t of Web Service descriptions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ressed in requester’s own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ormat returned to goal requ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Component Interfa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Parameter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Data Mediator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Invoker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Data Mediator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31280" y="1526760"/>
            <a:ext cx="8255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mediateData</a:t>
            </a:r>
            <a:r>
              <a:rPr b="1" lang="en-GB" sz="2800" spc="-1" strike="noStrike">
                <a:solidFill>
                  <a:srgbClr val="404040"/>
                </a:solidFill>
                <a:latin typeface="Courier New"/>
              </a:rPr>
              <a:t> (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URIRef sourceOntologyID,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URIRef targetOntologyID,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Identifiable ontologyFragment )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alls the mediator and returns back the mediated fragment of ontolog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sourceOntologyID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the source ontology ID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targetOntologyID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the target ontology ID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ourier New"/>
              </a:rPr>
              <a:t>ontologyFragment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- the subject of the mediation (instances from the source ontology)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Return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the mediated payload (instances from the target ontology)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Architecture Overview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ystem Architectur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Interrelationship of component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Execution semantic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Component interface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Data flow between componen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nvoker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ourier New"/>
              </a:rPr>
              <a:t>sendWSMLMessage (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ourier New"/>
              </a:rPr>
              <a:t>java.lang.String wsdl,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ourier New"/>
              </a:rPr>
              <a:t>java.lang.String portType,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ourier New"/>
              </a:rPr>
              <a:t>java.lang.String operation,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ourier New"/>
              </a:rPr>
              <a:t>WSMLMessage message</a:t>
            </a:r>
            <a:r>
              <a:rPr b="0" lang="en-GB" sz="2800" spc="-1" strike="noStrike">
                <a:solidFill>
                  <a:srgbClr val="40404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93440" y="1526760"/>
            <a:ext cx="789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vent based component architectur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nceptual model is WSMO (with some add-ons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nd to end functionality for executing SW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Has a formal execution semantic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Real implementation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pen source code base at SourceForg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vent driven component architectur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evelopers welcome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xecution Semantic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Invocation order of component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Process contex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Event-based implementatio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JMX implementatio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nvocation Order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95400" y="1177920"/>
          <a:ext cx="56293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1177920"/>
                    <a:ext cx="56293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Process Contex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0920" y="1203480"/>
          <a:ext cx="56167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03480"/>
                    <a:ext cx="56167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vent-based Implement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152360"/>
          <a:ext cx="6985080" cy="49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52360"/>
                    <a:ext cx="6985080" cy="49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37:24Z</dcterms:modified>
  <cp:revision>597</cp:revision>
  <dc:subject/>
  <dc:title>Semantic Web Services Tutorial  ESWC 2005 </dc:title>
</cp:coreProperties>
</file>