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8024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356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2728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8024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356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8024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356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2728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8024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356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21480" y="493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F5A7-CB67-4927-8DDA-B26DE47EA213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474920" y="6426000"/>
            <a:ext cx="66722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421480" y="493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26C7-88BB-49E1-84C6-E69A6067FD2D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1474920" y="6426000"/>
            <a:ext cx="66722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2" marL="857160" algn="ctr">
              <a:spcBef>
                <a:spcPts val="52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404040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40404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wsi.org/" TargetMode="External"/><Relationship Id="rId2" Type="http://schemas.openxmlformats.org/officeDocument/2006/relationships/hyperlink" Target="http://www.swsi.org/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9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PART IV: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9b0707"/>
                </a:solidFill>
                <a:latin typeface="Arial"/>
              </a:rPr>
              <a:t>Semantic Web Service</a:t>
            </a:r>
            <a:br>
              <a:rPr sz="4000"/>
            </a:br>
            <a:r>
              <a:rPr b="1" lang="en-US" sz="4000" spc="-1" strike="noStrike">
                <a:solidFill>
                  <a:srgbClr val="9b0707"/>
                </a:solidFill>
                <a:latin typeface="Arial"/>
              </a:rPr>
              <a:t>Tools &amp; Systems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Arial"/>
              </a:rPr>
              <a:t>Katia Sycara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Arial"/>
              </a:rPr>
              <a:t>Massimo Mecella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Arial"/>
              </a:rPr>
              <a:t>Emilia Cimpian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OWL-S API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0720" y="1526760"/>
            <a:ext cx="82360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Parser for OWL-S Service descriptions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Transform OWL-S code in an equivalent set of Java classes for easy processing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Based on Jena OWL API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2" marL="1085760" indent="-228600">
              <a:spcBef>
                <a:spcPts val="524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Arial"/>
              </a:rPr>
              <a:t>Jena does all the inferences</a:t>
            </a:r>
            <a:endParaRPr b="0" lang="en-US" sz="2100" spc="-1" strike="noStrike">
              <a:solidFill>
                <a:srgbClr val="404040"/>
              </a:solidFill>
              <a:latin typeface="Arial"/>
            </a:endParaRPr>
          </a:p>
          <a:p>
            <a:pPr lvl="2" marL="1085760" indent="-228600">
              <a:spcBef>
                <a:spcPts val="524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Arial"/>
              </a:rPr>
              <a:t>OWL-S descriptions are not parsed syntactically, but derived from Semantic Model</a:t>
            </a:r>
            <a:endParaRPr b="0" lang="en-US" sz="21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Complete version for OWL-S 1.1 available open source on semwebcentral.org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OWL-S/UDDI Translator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9440" y="1526760"/>
            <a:ext cx="8217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UDDI and OWL-S Profile provide a description of Web services in two very different ways 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UDDI stresses Business/Service/Binding representation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OWL-S stresses capability representation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Mapping OWL-S representation into UDDI allows combination of 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Use of widely accepted industry standard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mantic Service Discovery supported by OWL-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b0707"/>
                </a:solidFill>
                <a:latin typeface="Arial"/>
              </a:rPr>
              <a:t>Expressing capabilities in OWL-S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OWL-S </a:t>
            </a:r>
            <a:r>
              <a:rPr b="0" i="1" lang="en-US" sz="2400" spc="-1" strike="noStrike">
                <a:solidFill>
                  <a:srgbClr val="404040"/>
                </a:solidFill>
                <a:latin typeface="Arial"/>
              </a:rPr>
              <a:t>Profile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describes capabilities of Web service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ree types of representations: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40404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unctional representation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1371600" indent="-514440">
              <a:spcBef>
                <a:spcPts val="476"/>
              </a:spcBef>
              <a:buClr>
                <a:srgbClr val="40404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Input/Output specify the information transformation produced by the Web service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2" marL="1371600" indent="-514440">
              <a:spcBef>
                <a:spcPts val="476"/>
              </a:spcBef>
              <a:buClr>
                <a:srgbClr val="40404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Precondition/Effect specify the domain transformation produced by the Web service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40404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Non-functional propertie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40404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ype of service and product information 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Many capability matching algorithms have been proposed,  here we discuss three.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b0707"/>
                </a:solidFill>
                <a:latin typeface="Arial"/>
              </a:rPr>
              <a:t>Mapping OWL-S into UDDI</a:t>
            </a:r>
            <a:endParaRPr b="0" lang="en-US" sz="46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14440" y="871560"/>
            <a:ext cx="4941720" cy="5538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661000" y="1616040"/>
            <a:ext cx="360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Provenance informat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in the OWL-S Profile is has a direct mapping to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UDDI Business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1640" y="3567240"/>
            <a:ext cx="34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Service Specificat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and features of the service can be added through the specification of a set of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OWL-S specific TModels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720" y="1219320"/>
            <a:ext cx="88596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44400" y="4595760"/>
            <a:ext cx="5308560" cy="15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U UDDI is publicly available 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www.daml.ri.cmu.edu/matchma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on SemWebCen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www.semwebcentral.or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variant of the CMU UDDI is in use at the NTT UDDI Business Registry (The main public UDDI in Japan) (see Kawamura et al 2003, 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66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Tahoma"/>
              </a:rPr>
              <a:t>Semantic UDDI</a:t>
            </a:r>
            <a:br>
              <a:rPr sz="4400"/>
            </a:br>
            <a:r>
              <a:rPr b="0" i="1" lang="en-US" sz="3600" spc="-1" strike="noStrike">
                <a:solidFill>
                  <a:srgbClr val="9b0707"/>
                </a:solidFill>
                <a:latin typeface="Tahoma"/>
              </a:rPr>
              <a:t>Integrating OWL-S and UDDI</a:t>
            </a:r>
            <a:endParaRPr b="0" lang="en-US" sz="36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71520" y="1952640"/>
            <a:ext cx="4267080" cy="2666880"/>
            <a:chOff x="371520" y="1952640"/>
            <a:chExt cx="4267080" cy="2666880"/>
          </a:xfrm>
        </p:grpSpPr>
        <p:grpSp>
          <p:nvGrpSpPr>
            <p:cNvPr id="215" name=""/>
            <p:cNvGrpSpPr/>
            <p:nvPr/>
          </p:nvGrpSpPr>
          <p:grpSpPr>
            <a:xfrm>
              <a:off x="409680" y="1952640"/>
              <a:ext cx="4228920" cy="2666880"/>
              <a:chOff x="409680" y="1952640"/>
              <a:chExt cx="4228920" cy="2666880"/>
            </a:xfrm>
          </p:grpSpPr>
          <p:pic>
            <p:nvPicPr>
              <p:cNvPr id="2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09680" y="1952640"/>
                <a:ext cx="4228920" cy="266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>
                <a:off x="409680" y="1956240"/>
                <a:ext cx="4228920" cy="2662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371520" y="2054160"/>
              <a:ext cx="1306440" cy="266760"/>
            </a:xfrm>
            <a:prstGeom prst="rect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8f8f8"/>
                  </a:solidFill>
                  <a:latin typeface="Tahoma"/>
                </a:rPr>
                <a:t>Publish</a:t>
              </a:r>
              <a:r>
                <a:rPr b="1" lang="en-US" sz="1400" spc="-1" strike="noStrike">
                  <a:solidFill>
                    <a:srgbClr val="f8f8f8"/>
                  </a:solidFill>
                  <a:latin typeface="Tahoma"/>
                </a:rPr>
                <a:t> 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93880" y="2041560"/>
              <a:ext cx="1308240" cy="266760"/>
            </a:xfrm>
            <a:prstGeom prst="rect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8f8f8"/>
                  </a:solidFill>
                  <a:latin typeface="Tahoma"/>
                </a:rPr>
                <a:t>Inquiry</a:t>
              </a:r>
              <a:r>
                <a:rPr b="1" lang="en-US" sz="1400" spc="-1" strike="noStrike">
                  <a:solidFill>
                    <a:srgbClr val="f8f8f8"/>
                  </a:solidFill>
                  <a:latin typeface="Tahoma"/>
                </a:rPr>
                <a:t> 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"/>
            <p:cNvCxnSpPr>
              <a:stCxn id="218" idx="2"/>
              <a:endCxn id="221" idx="1"/>
            </p:cNvCxnSpPr>
            <p:nvPr/>
          </p:nvCxnSpPr>
          <p:spPr>
            <a:xfrm>
              <a:off x="1025280" y="2320560"/>
              <a:ext cx="694440" cy="39924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2" name=""/>
            <p:cNvCxnSpPr>
              <a:stCxn id="221" idx="1"/>
              <a:endCxn id="219" idx="2"/>
            </p:cNvCxnSpPr>
            <p:nvPr/>
          </p:nvCxnSpPr>
          <p:spPr>
            <a:xfrm flipV="1">
              <a:off x="1719360" y="2307960"/>
              <a:ext cx="729360" cy="41184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3" name=""/>
            <p:cNvCxnSpPr>
              <a:stCxn id="221" idx="4"/>
              <a:endCxn id="224" idx="8"/>
            </p:cNvCxnSpPr>
            <p:nvPr/>
          </p:nvCxnSpPr>
          <p:spPr>
            <a:xfrm>
              <a:off x="2583000" y="3627000"/>
              <a:ext cx="753120" cy="1080"/>
            </a:xfrm>
            <a:prstGeom prst="straightConnector1">
              <a:avLst/>
            </a:prstGeom>
            <a:ln w="284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225" name=""/>
            <p:cNvGrpSpPr/>
            <p:nvPr/>
          </p:nvGrpSpPr>
          <p:grpSpPr>
            <a:xfrm>
              <a:off x="873000" y="2662200"/>
              <a:ext cx="1712160" cy="1852560"/>
              <a:chOff x="873000" y="2662200"/>
              <a:chExt cx="1712160" cy="1852560"/>
            </a:xfrm>
          </p:grpSpPr>
          <p:sp>
            <p:nvSpPr>
              <p:cNvPr id="221" name=""/>
              <p:cNvSpPr/>
              <p:nvPr/>
            </p:nvSpPr>
            <p:spPr>
              <a:xfrm>
                <a:off x="873000" y="2738520"/>
                <a:ext cx="1690560" cy="1776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2828"/>
                  </a:gs>
                  <a:gs pos="50000">
                    <a:srgbClr val="009999"/>
                  </a:gs>
                  <a:gs pos="100000">
                    <a:srgbClr val="002828"/>
                  </a:gs>
                </a:gsLst>
                <a:lin ang="108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 rot="10800000">
                <a:off x="1410120" y="3226320"/>
                <a:ext cx="1114200" cy="398520"/>
              </a:xfrm>
              <a:prstGeom prst="foldedCorner">
                <a:avLst>
                  <a:gd name="adj" fmla="val 23435"/>
                </a:avLst>
              </a:prstGeom>
              <a:solidFill>
                <a:srgbClr val="009999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ff00"/>
                    </a:solidFill>
                    <a:latin typeface="Tahoma"/>
                  </a:rPr>
                  <a:t>Green Pag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 rot="10800000">
                <a:off x="1179360" y="3583080"/>
                <a:ext cx="1038240" cy="442800"/>
              </a:xfrm>
              <a:prstGeom prst="foldedCorner">
                <a:avLst>
                  <a:gd name="adj" fmla="val 23435"/>
                </a:avLst>
              </a:prstGeom>
              <a:solidFill>
                <a:srgbClr val="009999"/>
              </a:solidFill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ffff00"/>
                    </a:solidFill>
                    <a:latin typeface="Tahoma"/>
                  </a:rPr>
                  <a:t>Yellow Pag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 rot="10800000">
                <a:off x="947880" y="3935880"/>
                <a:ext cx="1000440" cy="399960"/>
              </a:xfrm>
              <a:prstGeom prst="foldedCorner">
                <a:avLst>
                  <a:gd name="adj" fmla="val 23435"/>
                </a:avLst>
              </a:prstGeom>
              <a:solidFill>
                <a:srgbClr val="009999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f8f8f8"/>
                    </a:solidFill>
                    <a:latin typeface="Tahoma"/>
                  </a:rPr>
                  <a:t>White Pag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000" y="2662200"/>
                <a:ext cx="1694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8f8f8"/>
                    </a:solidFill>
                    <a:latin typeface="Tahoma"/>
                  </a:rPr>
                  <a:t>UDD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8f8f8"/>
                    </a:solidFill>
                    <a:latin typeface="Tahoma"/>
                  </a:rPr>
                  <a:t>Business Registry</a:t>
                </a:r>
                <a:r>
                  <a:rPr b="0" i="1" lang="en-US" sz="1400" spc="-1" strike="noStrike">
                    <a:solidFill>
                      <a:srgbClr val="f8f8f8"/>
                    </a:solidFill>
                    <a:latin typeface="Tahoma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30" name=""/>
            <p:cNvCxnSpPr>
              <a:stCxn id="231" idx="8"/>
              <a:endCxn id="232" idx="2"/>
            </p:cNvCxnSpPr>
            <p:nvPr/>
          </p:nvCxnSpPr>
          <p:spPr>
            <a:xfrm flipV="1">
              <a:off x="3882600" y="2307960"/>
              <a:ext cx="3960" cy="869040"/>
            </a:xfrm>
            <a:prstGeom prst="straightConnector1">
              <a:avLst/>
            </a:prstGeom>
            <a:ln w="284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2" name=""/>
            <p:cNvSpPr/>
            <p:nvPr/>
          </p:nvSpPr>
          <p:spPr>
            <a:xfrm>
              <a:off x="3224160" y="2041560"/>
              <a:ext cx="1324080" cy="26676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8f8f8"/>
                  </a:solidFill>
                  <a:latin typeface="Tahoma"/>
                </a:rPr>
                <a:t>Capability</a:t>
              </a:r>
              <a:r>
                <a:rPr b="1" lang="en-US" sz="1400" spc="-1" strike="noStrike">
                  <a:solidFill>
                    <a:srgbClr val="f8f8f8"/>
                  </a:solidFill>
                  <a:latin typeface="Tahoma"/>
                </a:rPr>
                <a:t> 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205080" y="3174840"/>
              <a:ext cx="1143000" cy="858600"/>
              <a:chOff x="3205080" y="3174840"/>
              <a:chExt cx="1143000" cy="858600"/>
            </a:xfrm>
          </p:grpSpPr>
          <p:sp>
            <p:nvSpPr>
              <p:cNvPr id="231" name="Puzzle3"/>
              <p:cNvSpPr/>
              <p:nvPr/>
            </p:nvSpPr>
            <p:spPr>
              <a:xfrm>
                <a:off x="3690720" y="3174840"/>
                <a:ext cx="393840" cy="449280"/>
              </a:xfrm>
              <a:prstGeom prst="pie">
                <a:avLst/>
              </a:prstGeom>
              <a:solidFill>
                <a:srgbClr val="ff66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Puzzle2"/>
              <p:cNvSpPr/>
              <p:nvPr/>
            </p:nvSpPr>
            <p:spPr>
              <a:xfrm>
                <a:off x="3570120" y="3517560"/>
                <a:ext cx="627120" cy="408240"/>
              </a:xfrm>
              <a:prstGeom prst="pie">
                <a:avLst/>
              </a:prstGeom>
              <a:solidFill>
                <a:srgbClr val="33cc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Puzzle4"/>
              <p:cNvSpPr/>
              <p:nvPr/>
            </p:nvSpPr>
            <p:spPr>
              <a:xfrm>
                <a:off x="3327120" y="3512880"/>
                <a:ext cx="379440" cy="520560"/>
              </a:xfrm>
              <a:prstGeom prst="pie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Puzzle1"/>
              <p:cNvSpPr/>
              <p:nvPr/>
            </p:nvSpPr>
            <p:spPr>
              <a:xfrm>
                <a:off x="3205080" y="3311280"/>
                <a:ext cx="635040" cy="309600"/>
              </a:xfrm>
              <a:prstGeom prst="pie">
                <a:avLst/>
              </a:prstGeom>
              <a:solidFill>
                <a:srgbClr val="6666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271680" y="3601800"/>
                <a:ext cx="1076400" cy="222120"/>
              </a:xfrm>
              <a:prstGeom prst="plus">
                <a:avLst>
                  <a:gd name="adj" fmla="val 25000"/>
                </a:avLst>
              </a:prstGeom>
              <a:solidFill>
                <a:srgbClr val="00000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ahoma"/>
                  </a:rPr>
                  <a:t>OWL-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ahoma"/>
                  </a:rPr>
                  <a:t>Matching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ahoma"/>
                  </a:rPr>
                  <a:t>Engine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"/>
          <p:cNvSpPr/>
          <p:nvPr/>
        </p:nvSpPr>
        <p:spPr>
          <a:xfrm>
            <a:off x="4724280" y="2076480"/>
            <a:ext cx="4286520" cy="228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U OWL-S Matching engine has been integrated within UDD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U UDDI server prov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rmal UDD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Publish/Inquiry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lete interoperability with any UDDI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pability 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provides OWL-S based capability req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e Srinivasan et al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7160" y="132840"/>
            <a:ext cx="863748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Matching Capabiliti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8680" y="1839960"/>
            <a:ext cx="482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Matching of I/O of the request with I/O of the advertisement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ve degrees of match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xact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PlugIn 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404040"/>
                </a:solidFill>
                <a:latin typeface="Symbol"/>
                <a:ea typeface="Symbol"/>
              </a:rPr>
              <a:t>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ubsumed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</a:rPr>
              <a:t> A</a:t>
            </a:r>
            <a:r>
              <a:rPr b="0" i="1" lang="en-US" sz="2000" spc="-1" strike="noStrike">
                <a:solidFill>
                  <a:srgbClr val="404040"/>
                </a:solidFill>
                <a:latin typeface="Symbol"/>
                <a:ea typeface="Symbol"/>
              </a:rPr>
              <a:t>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Intersection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40404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</a:rPr>
              <a:t>(A </a:t>
            </a:r>
            <a:r>
              <a:rPr b="0" i="1" lang="en-US" sz="1800" spc="-1" strike="noStrike">
                <a:solidFill>
                  <a:srgbClr val="404040"/>
                </a:solidFill>
                <a:latin typeface="Symbol"/>
                <a:ea typeface="Symbol"/>
              </a:rPr>
              <a:t>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404040"/>
                </a:solidFill>
                <a:latin typeface="Symbol"/>
                <a:ea typeface="Symbol"/>
              </a:rPr>
              <a:t>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ail when disjoint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</a:rPr>
              <a:t>  A </a:t>
            </a:r>
            <a:r>
              <a:rPr b="0" i="1" lang="en-US" sz="1800" spc="-1" strike="noStrike">
                <a:solidFill>
                  <a:srgbClr val="404040"/>
                </a:solidFill>
                <a:latin typeface="Symbol"/>
                <a:ea typeface="Symbol"/>
              </a:rPr>
              <a:t>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404040"/>
                </a:solidFill>
                <a:latin typeface="Symbol"/>
                <a:ea typeface="Symbol"/>
              </a:rPr>
              <a:t>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Efficient implementat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given correct indexing of advertisement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Match within m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inear complexity on the size of the query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Current work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aims at matching preconditions/effects service and product types and service parameter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2000160"/>
            <a:ext cx="396252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80000" y="4221000"/>
            <a:ext cx="2743200" cy="1360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62720" y="2152800"/>
            <a:ext cx="2819160" cy="1295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2305080"/>
            <a:ext cx="835200" cy="30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718320" y="2990880"/>
            <a:ext cx="987480" cy="30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30880" y="3660840"/>
            <a:ext cx="627120" cy="34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96800" y="3676680"/>
            <a:ext cx="660240" cy="34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705720" y="4362480"/>
            <a:ext cx="838080" cy="30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d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4362480"/>
            <a:ext cx="762120" cy="30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"/>
          <p:cNvCxnSpPr>
            <a:stCxn id="243" idx="2"/>
            <a:endCxn id="244" idx="0"/>
          </p:cNvCxnSpPr>
          <p:nvPr/>
        </p:nvCxnSpPr>
        <p:spPr>
          <a:xfrm flipH="1">
            <a:off x="7211520" y="2606400"/>
            <a:ext cx="750240" cy="384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4" idx="2"/>
            <a:endCxn id="245" idx="0"/>
          </p:cNvCxnSpPr>
          <p:nvPr/>
        </p:nvCxnSpPr>
        <p:spPr>
          <a:xfrm flipH="1">
            <a:off x="6544800" y="3292200"/>
            <a:ext cx="667440" cy="36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4" idx="2"/>
            <a:endCxn id="246" idx="0"/>
          </p:cNvCxnSpPr>
          <p:nvPr/>
        </p:nvCxnSpPr>
        <p:spPr>
          <a:xfrm>
            <a:off x="7211520" y="3292200"/>
            <a:ext cx="816840" cy="384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5" idx="2"/>
            <a:endCxn id="247" idx="0"/>
          </p:cNvCxnSpPr>
          <p:nvPr/>
        </p:nvCxnSpPr>
        <p:spPr>
          <a:xfrm>
            <a:off x="6545160" y="4000320"/>
            <a:ext cx="580320" cy="36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5" idx="2"/>
            <a:endCxn id="248" idx="0"/>
          </p:cNvCxnSpPr>
          <p:nvPr/>
        </p:nvCxnSpPr>
        <p:spPr>
          <a:xfrm flipH="1">
            <a:off x="6019200" y="4000320"/>
            <a:ext cx="525960" cy="36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5791320" y="3753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562720" y="2152800"/>
            <a:ext cx="2880" cy="350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4783680" y="26312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4849200" y="492624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ug-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5007240" y="36741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162920" y="510696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d-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95880" y="510696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x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"/>
          <p:cNvCxnSpPr>
            <a:stCxn id="247" idx="2"/>
            <a:endCxn id="260" idx="0"/>
          </p:cNvCxnSpPr>
          <p:nvPr/>
        </p:nvCxnSpPr>
        <p:spPr>
          <a:xfrm flipH="1">
            <a:off x="6552720" y="4664160"/>
            <a:ext cx="57240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47" idx="2"/>
            <a:endCxn id="259" idx="0"/>
          </p:cNvCxnSpPr>
          <p:nvPr/>
        </p:nvCxnSpPr>
        <p:spPr>
          <a:xfrm>
            <a:off x="7124760" y="4664160"/>
            <a:ext cx="49608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"/>
          <p:cNvSpPr/>
          <p:nvPr/>
        </p:nvSpPr>
        <p:spPr>
          <a:xfrm>
            <a:off x="8458200" y="2990880"/>
            <a:ext cx="620640" cy="34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43" idx="2"/>
            <a:endCxn id="263" idx="0"/>
          </p:cNvCxnSpPr>
          <p:nvPr/>
        </p:nvCxnSpPr>
        <p:spPr>
          <a:xfrm>
            <a:off x="7961400" y="2606400"/>
            <a:ext cx="808560" cy="384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772400" y="2914560"/>
            <a:ext cx="609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3448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42210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38289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OWL-S Virtual Machin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7280" y="1526760"/>
            <a:ext cx="77691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OWL-S VM a generic processor for the OWL-S Process Model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It can interact with any OWL-S Web servic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Based on the Process Model formal semantics(Ankolekar et al 2002)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Exploits Web services technology such as Axis and WSIF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Provide generic client code for Web services described using OWL-S</a:t>
            </a: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362400" y="5203800"/>
            <a:ext cx="1733400" cy="892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Architecture OWL-S VM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200480" y="2066400"/>
            <a:ext cx="0" cy="2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86080" y="203364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62480" y="5295960"/>
            <a:ext cx="1504800" cy="762120"/>
          </a:xfrm>
          <a:prstGeom prst="rect">
            <a:avLst/>
          </a:prstGeom>
          <a:solidFill>
            <a:srgbClr val="c0c0c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05160" y="3333600"/>
            <a:ext cx="2057400" cy="1752840"/>
          </a:xfrm>
          <a:prstGeom prst="rect">
            <a:avLst/>
          </a:prstGeom>
          <a:solidFill>
            <a:srgbClr val="c0c0c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57440" y="4552920"/>
            <a:ext cx="175284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WL Theorem Pr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57440" y="4095720"/>
            <a:ext cx="175284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57440" y="3638520"/>
            <a:ext cx="175284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457440" y="33433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WL-S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48080" y="2343240"/>
            <a:ext cx="1419120" cy="814320"/>
          </a:xfrm>
          <a:prstGeom prst="rect">
            <a:avLst/>
          </a:prstGeom>
          <a:solidFill>
            <a:srgbClr val="c0c0c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76600" y="2462040"/>
            <a:ext cx="1219320" cy="6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71720" y="25527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295880" y="508608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224240" y="3147840"/>
            <a:ext cx="504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loud"/>
          <p:cNvSpPr/>
          <p:nvPr/>
        </p:nvSpPr>
        <p:spPr>
          <a:xfrm>
            <a:off x="2852640" y="1228680"/>
            <a:ext cx="2743200" cy="838080"/>
          </a:xfrm>
          <a:prstGeom prst="pie">
            <a:avLst/>
          </a:prstGeom>
          <a:solidFill>
            <a:srgbClr val="e2f0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71120" y="1471680"/>
            <a:ext cx="1589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895480" y="590544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76400" y="5143680"/>
            <a:ext cx="586080" cy="55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24280" y="4429080"/>
            <a:ext cx="552240" cy="10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746520"/>
            <a:ext cx="1114200" cy="619200"/>
          </a:xfrm>
          <a:prstGeom prst="rect">
            <a:avLst/>
          </a:prstGeom>
          <a:solidFill>
            <a:srgbClr val="c0c0c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52840" y="5362560"/>
            <a:ext cx="1319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62600" y="4381560"/>
            <a:ext cx="1305000" cy="1295280"/>
          </a:xfrm>
          <a:custGeom>
            <a:avLst/>
            <a:gdLst>
              <a:gd name="textAreaLeft" fmla="*/ 83880 w 1305000"/>
              <a:gd name="textAreaRight" fmla="*/ 1227240 w 1305000"/>
              <a:gd name="textAreaTop" fmla="*/ 1113480 h 1295280"/>
              <a:gd name="textAreaBottom" fmla="*/ 121788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9438"/>
                </a:moveTo>
                <a:lnTo>
                  <a:pt x="1389" y="17276"/>
                </a:lnTo>
                <a:lnTo>
                  <a:pt x="1389" y="18567"/>
                </a:lnTo>
                <a:lnTo>
                  <a:pt x="18567" y="18567"/>
                </a:lnTo>
                <a:lnTo>
                  <a:pt x="18567" y="1389"/>
                </a:lnTo>
                <a:lnTo>
                  <a:pt x="17276" y="1389"/>
                </a:lnTo>
                <a:lnTo>
                  <a:pt x="19438" y="0"/>
                </a:lnTo>
                <a:lnTo>
                  <a:pt x="21600" y="1389"/>
                </a:lnTo>
                <a:lnTo>
                  <a:pt x="20309" y="1389"/>
                </a:lnTo>
                <a:lnTo>
                  <a:pt x="20309" y="20309"/>
                </a:lnTo>
                <a:lnTo>
                  <a:pt x="1389" y="20309"/>
                </a:lnTo>
                <a:lnTo>
                  <a:pt x="1389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880240" y="3870000"/>
            <a:ext cx="9396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L KB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276640" y="2270160"/>
            <a:ext cx="761760" cy="6951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109960" y="3746520"/>
            <a:ext cx="914400" cy="7747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L-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38320" y="4651200"/>
            <a:ext cx="914400" cy="8510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L-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33720" y="5575320"/>
            <a:ext cx="914400" cy="8510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L-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57760" y="3746520"/>
            <a:ext cx="1333440" cy="6541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79120" y="2598840"/>
            <a:ext cx="1928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1a09"/>
                </a:solidFill>
                <a:latin typeface="Arial"/>
              </a:rPr>
              <a:t>Knowledge 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1a09"/>
                </a:solidFill>
                <a:latin typeface="Arial"/>
              </a:rPr>
              <a:t>of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300" idx="2"/>
            <a:endCxn id="291" idx="0"/>
          </p:cNvCxnSpPr>
          <p:nvPr/>
        </p:nvCxnSpPr>
        <p:spPr>
          <a:xfrm>
            <a:off x="6343200" y="3239640"/>
            <a:ext cx="5400" cy="506880"/>
          </a:xfrm>
          <a:prstGeom prst="straightConnector1">
            <a:avLst/>
          </a:prstGeom>
          <a:ln w="19080">
            <a:solidFill>
              <a:srgbClr val="fd1a09"/>
            </a:solidFill>
            <a:miter/>
          </a:ln>
        </p:spPr>
      </p:cxnSp>
      <p:sp>
        <p:nvSpPr>
          <p:cNvPr id="302" name=""/>
          <p:cNvSpPr/>
          <p:nvPr/>
        </p:nvSpPr>
        <p:spPr>
          <a:xfrm>
            <a:off x="5334120" y="389556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58320" y="5265720"/>
            <a:ext cx="2783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1a09"/>
                </a:solidFill>
                <a:latin typeface="Arial"/>
              </a:rPr>
              <a:t>make non-determinis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1a09"/>
                </a:solidFill>
                <a:latin typeface="Arial"/>
              </a:rPr>
              <a:t>decisions, and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1a09"/>
                </a:solidFill>
                <a:latin typeface="Arial"/>
              </a:rPr>
              <a:t>data to OWL-S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"/>
          <p:cNvCxnSpPr>
            <a:stCxn id="271" idx="3"/>
            <a:endCxn id="303" idx="1"/>
          </p:cNvCxnSpPr>
          <p:nvPr/>
        </p:nvCxnSpPr>
        <p:spPr>
          <a:xfrm>
            <a:off x="5105160" y="5649480"/>
            <a:ext cx="1251720" cy="75240"/>
          </a:xfrm>
          <a:prstGeom prst="straightConnector1">
            <a:avLst/>
          </a:prstGeom>
          <a:ln w="19080">
            <a:solidFill>
              <a:srgbClr val="fd1a09"/>
            </a:solidFill>
            <a:miter/>
          </a:ln>
        </p:spPr>
      </p:cxnSp>
      <p:sp>
        <p:nvSpPr>
          <p:cNvPr id="305" name=""/>
          <p:cNvSpPr/>
          <p:nvPr/>
        </p:nvSpPr>
        <p:spPr>
          <a:xfrm>
            <a:off x="1647720" y="2238480"/>
            <a:ext cx="495360" cy="4295520"/>
          </a:xfrm>
          <a:custGeom>
            <a:avLst/>
            <a:gdLst>
              <a:gd name="textAreaLeft" fmla="*/ 316440 w 495360"/>
              <a:gd name="textAreaRight" fmla="*/ 495720 w 495360"/>
              <a:gd name="textAreaTop" fmla="*/ 111960 h 4295520"/>
              <a:gd name="textAreaBottom" fmla="*/ 4183560 h 429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d1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3360" y="3925800"/>
            <a:ext cx="1282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1a09"/>
                </a:solidFill>
                <a:latin typeface="Arial"/>
              </a:rPr>
              <a:t>OWL-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1a09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1a09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Beyond OWL-S ID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88480" y="1526760"/>
            <a:ext cx="79981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OWL-S IDE provides the bases for OWL-S development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upport WS implementation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Allow automatic client generation and WS invocation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Integrate WS discovery in the WS implementation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OWL-S IDE has been used to experiment with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urity in OWL-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WS Composition in OWL-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Mediation in OWL-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Security and Polici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21920" y="1526760"/>
            <a:ext cx="85597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No standard OWL-S representation for Security and Policies has been published yet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678600" indent="-226080"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ut experimentation already underway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doption of a solution will depend on WS security standards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282960" indent="-282960"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curity Experiments with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epresenting security capability/requirements for discovery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epresenting security information in Process Model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(See Denker et al 2003)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Policies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xperiments combining OWL-S and Rei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ei statements included in Process Model to constrain the use of a Web service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(see Kagal 2004)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Recent work on Formal Verification of OWL-S Process Models provides a way to certify adherence to a policy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(see Ankolekar et al “</a:t>
            </a:r>
            <a:r>
              <a:rPr b="0" i="1" lang="en-US" sz="1400" spc="-1" strike="noStrike">
                <a:solidFill>
                  <a:srgbClr val="404040"/>
                </a:solidFill>
                <a:latin typeface="Arial"/>
              </a:rPr>
              <a:t>Spinning the OWL-S Process Model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” In Semantic Web Services Workshop at ISWC ’04)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46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7200" y="1365120"/>
            <a:ext cx="79596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CMU OWL-S 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Composer (Rom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WSM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omposition with OWL-S</a:t>
            </a:r>
            <a:br>
              <a:rPr sz="2800"/>
            </a:br>
            <a:r>
              <a:rPr b="0" lang="en-US" sz="4000" spc="-1" strike="noStrike">
                <a:solidFill>
                  <a:srgbClr val="9b0707"/>
                </a:solidFill>
                <a:latin typeface="Tahoma"/>
              </a:rPr>
              <a:t>CMU Composition Architecture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07760" y="1460160"/>
            <a:ext cx="79786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ahoma"/>
              </a:rPr>
              <a:t>It integrates discovery and composition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OWL-S/UDDI Matchmaker for discovery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Retsina planner to control the agen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524"/>
              </a:spcBef>
              <a:buClr>
                <a:srgbClr val="40404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Tahoma"/>
              </a:rPr>
              <a:t>Interleaving of planning and execution to allow communication while planning</a:t>
            </a:r>
            <a:endParaRPr b="0" lang="en-US" sz="21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OWL Reasoner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OWL-S Virtual Machine to communicate with other Web Service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Used in a number of applications: travel domain, supply chain management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Connection with autonomous agent technology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276880" y="5851440"/>
            <a:ext cx="3067200" cy="307080"/>
            <a:chOff x="5276880" y="5851440"/>
            <a:chExt cx="3067200" cy="307080"/>
          </a:xfrm>
        </p:grpSpPr>
        <p:pic>
          <p:nvPicPr>
            <p:cNvPr id="314" name="" descr=""/>
            <p:cNvPicPr/>
            <p:nvPr/>
          </p:nvPicPr>
          <p:blipFill>
            <a:blip r:embed="rId1"/>
            <a:stretch/>
          </p:blipFill>
          <p:spPr>
            <a:xfrm>
              <a:off x="7315200" y="5881320"/>
              <a:ext cx="1028880" cy="2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5276880" y="5851440"/>
              <a:ext cx="224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collaboration wi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Composition Exampl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ask: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Organize trip to Conference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Use DAML-S VM for interaction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alendar Agent schedule trip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PI Meeting Web Service provides information about location dates etc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hecks on calendar stored in MS Outlook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irline and Rental car provide are information sources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AML-S Matchmaker uses UDDI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_MeetingWide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4191120" cy="332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9b0707"/>
                </a:solidFill>
                <a:latin typeface="Arial"/>
              </a:rPr>
              <a:t>Mediation with OWL-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5040" y="1526760"/>
            <a:ext cx="83217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WL-S is orthogonal to mediation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Mediators are architecture component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OWL-S is a language for the description of Web service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</a:rPr>
              <a:t>It works with 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</a:rPr>
              <a:t>any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</a:rPr>
              <a:t> architecture that supports ontology specification 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75b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5b17"/>
                </a:solidFill>
                <a:latin typeface="Arial"/>
              </a:rPr>
              <a:t>To the extent that WSMO mediators are Web services, they can be described in OWL-S.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See Paolucci et al. “</a:t>
            </a:r>
            <a:r>
              <a:rPr b="0" i="1" lang="en-US" sz="1600" spc="-1" strike="noStrike">
                <a:solidFill>
                  <a:srgbClr val="404040"/>
                </a:solidFill>
                <a:latin typeface="Arial"/>
              </a:rPr>
              <a:t>Expressing WSMO Mediators in OWL-S”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In Semantic Web Services Workshop at ISWC ’04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9b0707"/>
                </a:solidFill>
                <a:latin typeface="Arial"/>
              </a:rPr>
              <a:t>Mediation with OWL-S (2)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41520" y="1526760"/>
            <a:ext cx="82454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General schema to represent WSMO mediators: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any xy-mediator is represented by a Web service that takes input x and reports output y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but the mediation is more complex than asserting the need for mapping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Discovery maps advertisements and requests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Planning systems to reconcile discrepancies between Web service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Data type Mapping rules are used in the OWL-S Grounding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OWL-S assumes all these technologies for interoperation and mediation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0707"/>
                </a:solidFill>
                <a:latin typeface="Arial"/>
              </a:rPr>
              <a:t>Conclusion:</a:t>
            </a:r>
            <a:r>
              <a:rPr b="0" lang="en-US" sz="3600" spc="-1" strike="noStrike">
                <a:solidFill>
                  <a:srgbClr val="9b0707"/>
                </a:solidFill>
                <a:latin typeface="Arial"/>
              </a:rPr>
              <a:t> How OWL-S</a:t>
            </a:r>
            <a:br>
              <a:rPr sz="3600"/>
            </a:br>
            <a:r>
              <a:rPr b="0" lang="en-US" sz="3600" spc="-1" strike="noStrike">
                <a:solidFill>
                  <a:srgbClr val="9b0707"/>
                </a:solidFill>
                <a:latin typeface="Arial"/>
              </a:rPr>
              <a:t> Addresses WS problems</a:t>
            </a:r>
            <a:endParaRPr b="0" lang="en-US" sz="3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9520" y="1584000"/>
            <a:ext cx="84801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Discovery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Provide formal representation of capabilities of WSs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Many different types of inferences possible to find Web services using OWL/OWL-S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75b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5b17"/>
                </a:solidFill>
                <a:latin typeface="Arial"/>
              </a:rPr>
              <a:t>Composition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Support formal representation of WS Process Model of Web services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Process Model can be integrated into Planning systems for automatic composition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vocation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Support any type of WS invocation mechanism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Clear separation between WS description and implementation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Guaranteeing Security and Policie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No explicit policy and security specification yet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Proposed solution will interoperate with WS security standards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Mediation and Interoperation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Mediation services can be directly described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Interoperation allowed by ontology-based description of WS descriptions and data 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e solutions are envisioned maintaining a strong relation with existing WS standard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0707"/>
                </a:solidFill>
                <a:latin typeface="Arial"/>
              </a:rPr>
              <a:t>OWL-S IDE (CMU)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38200" y="4266720"/>
            <a:ext cx="64008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Arial"/>
              </a:rPr>
              <a:t>Katia Sycara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825640"/>
            <a:ext cx="77724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b0707"/>
                </a:solidFill>
                <a:latin typeface="Arial"/>
              </a:rPr>
              <a:t>Integration of WS implementation, deployment, discovery, invocation and ver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1480" y="274320"/>
            <a:ext cx="847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WS Development and invocat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1800" y="1279080"/>
            <a:ext cx="79977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Web Service Developmen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Implement Web servic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Produce WSDL and OWL-S WS description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Deploy Web servic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Advertise to available UDDI</a:t>
            </a:r>
            <a:endParaRPr b="0" lang="en-US" sz="1700" spc="-1" strike="noStrike">
              <a:solidFill>
                <a:srgbClr val="40404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Make service available for invocation</a:t>
            </a: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Web Service invocation on client side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ind Web service in UDDI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late internal data representation to WS data representation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Invoke Web service consistently with specification of OWL-S Process Model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1a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1a09"/>
                </a:solidFill>
                <a:latin typeface="Arial"/>
              </a:rPr>
              <a:t>All descriptions should fit together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otherwise interaction with Web service fail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5400" y="274320"/>
            <a:ext cx="89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Integrated WS Development cycl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9120" y="1526760"/>
            <a:ext cx="80074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OWL-S IDE aims at automating WS-Development and invocation cycle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Based on Eclipse to support WS programmer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(Semi) Automated generation of WSDL and OWL-S description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Consistency checking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Automated publication with UDDI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Integrated Semantic discovery in UDDI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Automated generation of client code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67400" y="2838600"/>
            <a:ext cx="1257120" cy="1414440"/>
          </a:xfrm>
          <a:custGeom>
            <a:avLst/>
            <a:gdLst>
              <a:gd name="textAreaLeft" fmla="*/ 61200 w 1257120"/>
              <a:gd name="textAreaRight" fmla="*/ 1195920 w 1257120"/>
              <a:gd name="textAreaTop" fmla="*/ 61200 h 1414440"/>
              <a:gd name="textAreaBottom" fmla="*/ 1353240 h 1414440"/>
            </a:gdLst>
            <a:ahLst/>
            <a:rect l="textAreaLeft" t="textAreaTop" r="textAreaRight" b="textAreaBottom"/>
            <a:pathLst>
              <a:path w="21600" h="24302">
                <a:moveTo>
                  <a:pt x="3600" y="0"/>
                </a:moveTo>
                <a:arcTo wR="3600" hR="3600" stAng="16200000" swAng="-5400000"/>
                <a:lnTo>
                  <a:pt x="0" y="20702"/>
                </a:lnTo>
                <a:arcTo wR="3600" hR="3600" stAng="10800000" swAng="-5400000"/>
                <a:lnTo>
                  <a:pt x="18000" y="243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d1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62840" y="3343320"/>
            <a:ext cx="1457280" cy="485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d1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Overview OWL-S ID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89840" y="2806560"/>
            <a:ext cx="1271520" cy="455760"/>
          </a:xfrm>
          <a:prstGeom prst="roundRect">
            <a:avLst>
              <a:gd name="adj" fmla="val 3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39800" y="2765880"/>
            <a:ext cx="146016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50400" bIns="50400" anchor="ctr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985680"/>
                <a:tab algn="l" pos="1973160"/>
                <a:tab algn="l" pos="2959200"/>
                <a:tab algn="l" pos="3946680"/>
                <a:tab algn="l" pos="4933800"/>
                <a:tab algn="l" pos="5919840"/>
                <a:tab algn="l" pos="6907320"/>
                <a:tab algn="l" pos="7893000"/>
                <a:tab algn="l" pos="8880480"/>
                <a:tab algn="l" pos="9866160"/>
                <a:tab algn="l" pos="108536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Garamond"/>
              </a:rPr>
              <a:t>OWL-S2UD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5680"/>
                <a:tab algn="l" pos="1973160"/>
                <a:tab algn="l" pos="2959200"/>
                <a:tab algn="l" pos="3946680"/>
                <a:tab algn="l" pos="4933800"/>
                <a:tab algn="l" pos="5919840"/>
                <a:tab algn="l" pos="6907320"/>
                <a:tab algn="l" pos="7893000"/>
                <a:tab algn="l" pos="8880480"/>
                <a:tab algn="l" pos="9866160"/>
                <a:tab algn="l" pos="108536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Garamond"/>
              </a:rPr>
              <a:t>Conver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770360" y="2935440"/>
            <a:ext cx="1041480" cy="320040"/>
            <a:chOff x="4770360" y="2935440"/>
            <a:chExt cx="1041480" cy="320040"/>
          </a:xfrm>
        </p:grpSpPr>
        <p:sp>
          <p:nvSpPr>
            <p:cNvPr id="99" name=""/>
            <p:cNvSpPr/>
            <p:nvPr/>
          </p:nvSpPr>
          <p:spPr>
            <a:xfrm>
              <a:off x="4770360" y="2944440"/>
              <a:ext cx="1041480" cy="304920"/>
            </a:xfrm>
            <a:prstGeom prst="roundRect">
              <a:avLst>
                <a:gd name="adj" fmla="val 519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50400" bIns="50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64320" y="2935440"/>
              <a:ext cx="846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50400" bIns="50400" anchor="ctr">
              <a:sp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85680"/>
                  <a:tab algn="l" pos="1973160"/>
                  <a:tab algn="l" pos="2959200"/>
                  <a:tab algn="l" pos="3946680"/>
                  <a:tab algn="l" pos="4933800"/>
                  <a:tab algn="l" pos="5919840"/>
                  <a:tab algn="l" pos="6907320"/>
                  <a:tab algn="l" pos="7893000"/>
                  <a:tab algn="l" pos="8880480"/>
                  <a:tab algn="l" pos="9866160"/>
                  <a:tab algn="l" pos="1085364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Garamond"/>
                </a:rPr>
                <a:t>Profi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70360" y="3313440"/>
            <a:ext cx="1041120" cy="538920"/>
            <a:chOff x="4770360" y="3313440"/>
            <a:chExt cx="1041120" cy="538920"/>
          </a:xfrm>
        </p:grpSpPr>
        <p:sp>
          <p:nvSpPr>
            <p:cNvPr id="102" name=""/>
            <p:cNvSpPr/>
            <p:nvPr/>
          </p:nvSpPr>
          <p:spPr>
            <a:xfrm>
              <a:off x="4770360" y="3428640"/>
              <a:ext cx="1041120" cy="306360"/>
            </a:xfrm>
            <a:prstGeom prst="roundRect">
              <a:avLst>
                <a:gd name="adj" fmla="val 514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50400" bIns="50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75120" y="3313440"/>
              <a:ext cx="82872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50400" bIns="50400" anchor="ctr">
              <a:sp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85680"/>
                  <a:tab algn="l" pos="1973160"/>
                  <a:tab algn="l" pos="2959200"/>
                  <a:tab algn="l" pos="3946680"/>
                  <a:tab algn="l" pos="4933800"/>
                  <a:tab algn="l" pos="5919840"/>
                  <a:tab algn="l" pos="6907320"/>
                  <a:tab algn="l" pos="7893000"/>
                  <a:tab algn="l" pos="8880480"/>
                  <a:tab algn="l" pos="9866160"/>
                  <a:tab algn="l" pos="1085364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Garamond"/>
                </a:rPr>
                <a:t>Proces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624560" y="4678200"/>
            <a:ext cx="1404720" cy="478080"/>
          </a:xfrm>
          <a:prstGeom prst="roundRect">
            <a:avLst>
              <a:gd name="adj" fmla="val 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6520" y="4640760"/>
            <a:ext cx="153468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50400" bIns="50400" anchor="ctr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985680"/>
                <a:tab algn="l" pos="1973160"/>
                <a:tab algn="l" pos="2959200"/>
                <a:tab algn="l" pos="3946680"/>
                <a:tab algn="l" pos="4933800"/>
                <a:tab algn="l" pos="5919840"/>
                <a:tab algn="l" pos="6907320"/>
                <a:tab algn="l" pos="7893000"/>
                <a:tab algn="l" pos="8880480"/>
                <a:tab algn="l" pos="9866160"/>
                <a:tab algn="l" pos="108536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Garamond"/>
              </a:rPr>
              <a:t>WSDL2OWL-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5680"/>
                <a:tab algn="l" pos="1973160"/>
                <a:tab algn="l" pos="2959200"/>
                <a:tab algn="l" pos="3946680"/>
                <a:tab algn="l" pos="4933800"/>
                <a:tab algn="l" pos="5919840"/>
                <a:tab algn="l" pos="6907320"/>
                <a:tab algn="l" pos="7893000"/>
                <a:tab algn="l" pos="8880480"/>
                <a:tab algn="l" pos="9866160"/>
                <a:tab algn="l" pos="108536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Garamond"/>
              </a:rPr>
              <a:t>Conver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261120" y="3421080"/>
            <a:ext cx="1242720" cy="351000"/>
            <a:chOff x="6261120" y="3421080"/>
            <a:chExt cx="1242720" cy="351000"/>
          </a:xfrm>
        </p:grpSpPr>
        <p:sp>
          <p:nvSpPr>
            <p:cNvPr id="107" name=""/>
            <p:cNvSpPr/>
            <p:nvPr/>
          </p:nvSpPr>
          <p:spPr>
            <a:xfrm>
              <a:off x="6261120" y="3421080"/>
              <a:ext cx="1242720" cy="351000"/>
            </a:xfrm>
            <a:prstGeom prst="roundRect">
              <a:avLst>
                <a:gd name="adj" fmla="val 45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50400" bIns="50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61480" y="3437280"/>
              <a:ext cx="1234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50400" bIns="50400" anchor="ctr">
              <a:sp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85680"/>
                  <a:tab algn="l" pos="1973160"/>
                  <a:tab algn="l" pos="2959200"/>
                  <a:tab algn="l" pos="3946680"/>
                  <a:tab algn="l" pos="4933800"/>
                  <a:tab algn="l" pos="5919840"/>
                  <a:tab algn="l" pos="6907320"/>
                  <a:tab algn="l" pos="7893000"/>
                  <a:tab algn="l" pos="8880480"/>
                  <a:tab algn="l" pos="9866160"/>
                  <a:tab algn="l" pos="1085364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Garamond"/>
                </a:rPr>
                <a:t>OWL-S AP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175080" y="4002120"/>
            <a:ext cx="1207080" cy="349200"/>
            <a:chOff x="6175080" y="4002120"/>
            <a:chExt cx="1207080" cy="349200"/>
          </a:xfrm>
        </p:grpSpPr>
        <p:sp>
          <p:nvSpPr>
            <p:cNvPr id="110" name=""/>
            <p:cNvSpPr/>
            <p:nvPr/>
          </p:nvSpPr>
          <p:spPr>
            <a:xfrm>
              <a:off x="6287760" y="4002120"/>
              <a:ext cx="990360" cy="349200"/>
            </a:xfrm>
            <a:prstGeom prst="roundRect">
              <a:avLst>
                <a:gd name="adj" fmla="val 45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50400" bIns="50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5080" y="4016880"/>
              <a:ext cx="12070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50400" bIns="50400" anchor="ctr">
              <a:sp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85680"/>
                  <a:tab algn="l" pos="1973160"/>
                  <a:tab algn="l" pos="2959200"/>
                  <a:tab algn="l" pos="3946680"/>
                  <a:tab algn="l" pos="4933800"/>
                  <a:tab algn="l" pos="5919840"/>
                  <a:tab algn="l" pos="6907320"/>
                  <a:tab algn="l" pos="7893000"/>
                  <a:tab algn="l" pos="8880480"/>
                  <a:tab algn="l" pos="9866160"/>
                  <a:tab algn="l" pos="1085364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Garamond"/>
                </a:rPr>
                <a:t>OWL-S V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41440" y="3154320"/>
            <a:ext cx="990360" cy="641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241880" y="4802040"/>
            <a:ext cx="245880" cy="228600"/>
          </a:xfrm>
          <a:prstGeom prst="rightArrow">
            <a:avLst>
              <a:gd name="adj1" fmla="val 50000"/>
              <a:gd name="adj2" fmla="val 2689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230000">
            <a:off x="5864040" y="3701880"/>
            <a:ext cx="328320" cy="233640"/>
          </a:xfrm>
          <a:prstGeom prst="rightArrow">
            <a:avLst>
              <a:gd name="adj1" fmla="val 50000"/>
              <a:gd name="adj2" fmla="val 3513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42000" y="246384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73360" y="4056120"/>
            <a:ext cx="230040" cy="239760"/>
          </a:xfrm>
          <a:custGeom>
            <a:avLst/>
            <a:gdLst/>
            <a:ahLst/>
            <a:rect l="l" t="t" r="r" b="b"/>
            <a:pathLst>
              <a:path w="641" h="665">
                <a:moveTo>
                  <a:pt x="487" y="4"/>
                </a:moveTo>
                <a:lnTo>
                  <a:pt x="480" y="501"/>
                </a:lnTo>
                <a:lnTo>
                  <a:pt x="640" y="503"/>
                </a:lnTo>
                <a:lnTo>
                  <a:pt x="317" y="664"/>
                </a:lnTo>
                <a:lnTo>
                  <a:pt x="0" y="495"/>
                </a:lnTo>
                <a:lnTo>
                  <a:pt x="160" y="497"/>
                </a:lnTo>
                <a:lnTo>
                  <a:pt x="167" y="0"/>
                </a:lnTo>
                <a:lnTo>
                  <a:pt x="487" y="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84640" y="4208400"/>
            <a:ext cx="228600" cy="405000"/>
          </a:xfrm>
          <a:prstGeom prst="upArrow">
            <a:avLst>
              <a:gd name="adj1" fmla="val 50000"/>
              <a:gd name="adj2" fmla="val 4429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224160" y="4632840"/>
            <a:ext cx="914400" cy="557640"/>
            <a:chOff x="3224160" y="4632840"/>
            <a:chExt cx="914400" cy="557640"/>
          </a:xfrm>
        </p:grpSpPr>
        <p:sp>
          <p:nvSpPr>
            <p:cNvPr id="119" name=""/>
            <p:cNvSpPr/>
            <p:nvPr/>
          </p:nvSpPr>
          <p:spPr>
            <a:xfrm>
              <a:off x="3224160" y="4681440"/>
              <a:ext cx="914400" cy="4568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50400" bIns="50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90400" y="4632840"/>
              <a:ext cx="78048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50400" bIns="50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5680"/>
                  <a:tab algn="l" pos="1973160"/>
                  <a:tab algn="l" pos="2959200"/>
                  <a:tab algn="l" pos="3946680"/>
                  <a:tab algn="l" pos="4933800"/>
                  <a:tab algn="l" pos="5919840"/>
                  <a:tab algn="l" pos="6907320"/>
                  <a:tab algn="l" pos="7893000"/>
                  <a:tab algn="l" pos="8880480"/>
                  <a:tab algn="l" pos="9866160"/>
                  <a:tab algn="l" pos="1085364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Garamond"/>
                </a:rPr>
                <a:t>WSD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85680"/>
                  <a:tab algn="l" pos="1973160"/>
                  <a:tab algn="l" pos="2959200"/>
                  <a:tab algn="l" pos="3946680"/>
                  <a:tab algn="l" pos="4933800"/>
                  <a:tab algn="l" pos="5919840"/>
                  <a:tab algn="l" pos="6907320"/>
                  <a:tab algn="l" pos="7893000"/>
                  <a:tab algn="l" pos="8880480"/>
                  <a:tab algn="l" pos="9866160"/>
                  <a:tab algn="l" pos="1085364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Garamond"/>
                </a:rPr>
                <a:t>Co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848200" y="2959200"/>
            <a:ext cx="304920" cy="217440"/>
          </a:xfrm>
          <a:prstGeom prst="rightArrow">
            <a:avLst>
              <a:gd name="adj1" fmla="val 50000"/>
              <a:gd name="adj2" fmla="val 3505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839000" y="3261240"/>
            <a:ext cx="1000080" cy="557640"/>
            <a:chOff x="7839000" y="3261240"/>
            <a:chExt cx="1000080" cy="557640"/>
          </a:xfrm>
        </p:grpSpPr>
        <p:sp>
          <p:nvSpPr>
            <p:cNvPr id="123" name=""/>
            <p:cNvSpPr/>
            <p:nvPr/>
          </p:nvSpPr>
          <p:spPr>
            <a:xfrm>
              <a:off x="7839000" y="3310200"/>
              <a:ext cx="1000080" cy="4572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50400" bIns="50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2800" y="3261240"/>
              <a:ext cx="67212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50400" bIns="50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5680"/>
                  <a:tab algn="l" pos="1973160"/>
                  <a:tab algn="l" pos="2959200"/>
                  <a:tab algn="l" pos="3946680"/>
                  <a:tab algn="l" pos="4933800"/>
                  <a:tab algn="l" pos="5919840"/>
                  <a:tab algn="l" pos="6907320"/>
                  <a:tab algn="l" pos="7893000"/>
                  <a:tab algn="l" pos="8880480"/>
                  <a:tab algn="l" pos="9866160"/>
                  <a:tab algn="l" pos="1085364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Garamond"/>
                </a:rPr>
                <a:t>Jav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85680"/>
                  <a:tab algn="l" pos="1973160"/>
                  <a:tab algn="l" pos="2959200"/>
                  <a:tab algn="l" pos="3946680"/>
                  <a:tab algn="l" pos="4933800"/>
                  <a:tab algn="l" pos="5919840"/>
                  <a:tab algn="l" pos="6907320"/>
                  <a:tab algn="l" pos="7893000"/>
                  <a:tab algn="l" pos="8880480"/>
                  <a:tab algn="l" pos="9866160"/>
                  <a:tab algn="l" pos="1085364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Garamond"/>
                </a:rPr>
                <a:t>Co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535880" y="3436920"/>
            <a:ext cx="263520" cy="233280"/>
          </a:xfrm>
          <a:prstGeom prst="rightArrow">
            <a:avLst>
              <a:gd name="adj1" fmla="val 50000"/>
              <a:gd name="adj2" fmla="val 2824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947960" y="2592360"/>
            <a:ext cx="2403360" cy="171756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5645160" y="1557360"/>
            <a:ext cx="1805040" cy="858960"/>
            <a:chOff x="5645160" y="1557360"/>
            <a:chExt cx="1805040" cy="858960"/>
          </a:xfrm>
        </p:grpSpPr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5645160" y="1557360"/>
              <a:ext cx="180504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853320" y="1886040"/>
              <a:ext cx="496800" cy="35712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19840" y="1767240"/>
              <a:ext cx="72864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54520" y="1568520"/>
              <a:ext cx="595440" cy="85680"/>
            </a:xfrm>
            <a:prstGeom prst="rect">
              <a:avLst/>
            </a:prstGeom>
            <a:noFill/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54160"/>
                  <a:tab algn="l" pos="507960"/>
                  <a:tab algn="l" pos="762120"/>
                  <a:tab algn="l" pos="1015920"/>
                  <a:tab algn="l" pos="1270080"/>
                  <a:tab algn="l" pos="1523880"/>
                  <a:tab algn="l" pos="1778040"/>
                  <a:tab algn="l" pos="2031840"/>
                  <a:tab algn="l" pos="2286000"/>
                  <a:tab algn="l" pos="2540160"/>
                  <a:tab algn="l" pos="2793960"/>
                  <a:tab algn="l" pos="3048120"/>
                  <a:tab algn="l" pos="3301920"/>
                  <a:tab algn="l" pos="3556080"/>
                  <a:tab algn="l" pos="3809880"/>
                  <a:tab algn="l" pos="4064040"/>
                  <a:tab algn="l" pos="4317840"/>
                  <a:tab algn="l" pos="4572000"/>
                  <a:tab algn="l" pos="4826160"/>
                  <a:tab algn="l" pos="5079960"/>
                </a:tabLst>
              </a:pPr>
              <a:r>
                <a:rPr b="0" i="1" lang="en-US" sz="500" spc="-1" strike="noStrike">
                  <a:solidFill>
                    <a:srgbClr val="ffffcc"/>
                  </a:solidFill>
                  <a:latin typeface="Tahoma"/>
                </a:rPr>
                <a:t>Publish</a:t>
              </a:r>
              <a:r>
                <a:rPr b="0" lang="en-US" sz="700" spc="-1" strike="noStrike">
                  <a:solidFill>
                    <a:srgbClr val="ffffcc"/>
                  </a:solidFill>
                  <a:latin typeface="Tahoma"/>
                </a:rPr>
                <a:t> UDDI Por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86320" y="1568520"/>
              <a:ext cx="563760" cy="85680"/>
            </a:xfrm>
            <a:prstGeom prst="rect">
              <a:avLst/>
            </a:prstGeom>
            <a:noFill/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54160"/>
                  <a:tab algn="l" pos="507960"/>
                  <a:tab algn="l" pos="762120"/>
                  <a:tab algn="l" pos="1015920"/>
                  <a:tab algn="l" pos="1270080"/>
                  <a:tab algn="l" pos="1523880"/>
                  <a:tab algn="l" pos="1778040"/>
                  <a:tab algn="l" pos="2031840"/>
                  <a:tab algn="l" pos="2286000"/>
                  <a:tab algn="l" pos="2540160"/>
                  <a:tab algn="l" pos="2793960"/>
                  <a:tab algn="l" pos="3048120"/>
                  <a:tab algn="l" pos="3301920"/>
                  <a:tab algn="l" pos="3556080"/>
                  <a:tab algn="l" pos="3809880"/>
                  <a:tab algn="l" pos="4064040"/>
                  <a:tab algn="l" pos="4317840"/>
                  <a:tab algn="l" pos="4572000"/>
                  <a:tab algn="l" pos="4826160"/>
                  <a:tab algn="l" pos="5079960"/>
                </a:tabLst>
              </a:pPr>
              <a:r>
                <a:rPr b="0" i="1" lang="en-US" sz="600" spc="-1" strike="noStrike">
                  <a:solidFill>
                    <a:srgbClr val="ffffcc"/>
                  </a:solidFill>
                  <a:latin typeface="Tahoma"/>
                </a:rPr>
                <a:t>Inquiry</a:t>
              </a:r>
              <a:r>
                <a:rPr b="0" lang="en-US" sz="600" spc="-1" strike="noStrike">
                  <a:solidFill>
                    <a:srgbClr val="ffffcc"/>
                  </a:solidFill>
                  <a:latin typeface="Tahoma"/>
                </a:rPr>
                <a:t> UDDI Por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" name=""/>
            <p:cNvCxnSpPr>
              <a:stCxn id="131" idx="2"/>
              <a:endCxn id="130" idx="1"/>
            </p:cNvCxnSpPr>
            <p:nvPr/>
          </p:nvCxnSpPr>
          <p:spPr>
            <a:xfrm>
              <a:off x="5952960" y="1653840"/>
              <a:ext cx="332640" cy="9468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34" name=""/>
            <p:cNvCxnSpPr>
              <a:stCxn id="130" idx="1"/>
              <a:endCxn id="132" idx="2"/>
            </p:cNvCxnSpPr>
            <p:nvPr/>
          </p:nvCxnSpPr>
          <p:spPr>
            <a:xfrm flipV="1">
              <a:off x="6284520" y="1653480"/>
              <a:ext cx="284400" cy="9468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135" name=""/>
            <p:cNvSpPr/>
            <p:nvPr/>
          </p:nvSpPr>
          <p:spPr>
            <a:xfrm>
              <a:off x="6864120" y="2171880"/>
              <a:ext cx="463680" cy="71280"/>
            </a:xfrm>
            <a:prstGeom prst="plus">
              <a:avLst>
                <a:gd name="adj" fmla="val 25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54160"/>
                  <a:tab algn="l" pos="507960"/>
                  <a:tab algn="l" pos="762120"/>
                  <a:tab algn="l" pos="1015920"/>
                  <a:tab algn="l" pos="1270080"/>
                  <a:tab algn="l" pos="1523880"/>
                  <a:tab algn="l" pos="1778040"/>
                  <a:tab algn="l" pos="2031840"/>
                  <a:tab algn="l" pos="2286000"/>
                  <a:tab algn="l" pos="2540160"/>
                  <a:tab algn="l" pos="2793960"/>
                  <a:tab algn="l" pos="3048120"/>
                  <a:tab algn="l" pos="3301920"/>
                  <a:tab algn="l" pos="3556080"/>
                  <a:tab algn="l" pos="3809880"/>
                  <a:tab algn="l" pos="4064040"/>
                  <a:tab algn="l" pos="4317840"/>
                  <a:tab algn="l" pos="4572000"/>
                  <a:tab algn="l" pos="4826160"/>
                  <a:tab algn="l" pos="507996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Tahoma"/>
                </a:rPr>
                <a:t>Matching Engin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"/>
            <p:cNvCxnSpPr>
              <a:stCxn id="130" idx="4"/>
              <a:endCxn id="137" idx="8"/>
            </p:cNvCxnSpPr>
            <p:nvPr/>
          </p:nvCxnSpPr>
          <p:spPr>
            <a:xfrm>
              <a:off x="6652800" y="2052360"/>
              <a:ext cx="283320" cy="252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138" name=""/>
            <p:cNvSpPr/>
            <p:nvPr/>
          </p:nvSpPr>
          <p:spPr>
            <a:xfrm flipH="1" flipV="1" rot="10800000">
              <a:off x="6199560" y="1923120"/>
              <a:ext cx="414360" cy="128520"/>
            </a:xfrm>
            <a:prstGeom prst="foldedCorner">
              <a:avLst>
                <a:gd name="adj" fmla="val 23435"/>
              </a:avLst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54160"/>
                  <a:tab algn="l" pos="507960"/>
                  <a:tab algn="l" pos="762120"/>
                  <a:tab algn="l" pos="1015920"/>
                  <a:tab algn="l" pos="1270080"/>
                  <a:tab algn="l" pos="1523880"/>
                  <a:tab algn="l" pos="1778040"/>
                  <a:tab algn="l" pos="2031840"/>
                  <a:tab algn="l" pos="2286000"/>
                  <a:tab algn="l" pos="2540160"/>
                  <a:tab algn="l" pos="2793960"/>
                  <a:tab algn="l" pos="3048120"/>
                  <a:tab algn="l" pos="3301920"/>
                  <a:tab algn="l" pos="3556080"/>
                  <a:tab algn="l" pos="3809880"/>
                  <a:tab algn="l" pos="4064040"/>
                  <a:tab algn="l" pos="4317840"/>
                  <a:tab algn="l" pos="4572000"/>
                  <a:tab algn="l" pos="4826160"/>
                  <a:tab algn="l" pos="5079960"/>
                </a:tabLst>
              </a:pPr>
              <a:r>
                <a:rPr b="0" i="1" lang="en-US" sz="400" spc="-1" strike="noStrike">
                  <a:solidFill>
                    <a:srgbClr val="000000"/>
                  </a:solidFill>
                  <a:latin typeface="Tahoma"/>
                </a:rPr>
                <a:t>Green Page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54160"/>
                  <a:tab algn="l" pos="507960"/>
                  <a:tab algn="l" pos="762120"/>
                  <a:tab algn="l" pos="1015920"/>
                  <a:tab algn="l" pos="1270080"/>
                  <a:tab algn="l" pos="1523880"/>
                  <a:tab algn="l" pos="1778040"/>
                  <a:tab algn="l" pos="2031840"/>
                  <a:tab algn="l" pos="2286000"/>
                  <a:tab algn="l" pos="2540160"/>
                  <a:tab algn="l" pos="2793960"/>
                  <a:tab algn="l" pos="3048120"/>
                  <a:tab algn="l" pos="3301920"/>
                  <a:tab algn="l" pos="3556080"/>
                  <a:tab algn="l" pos="3809880"/>
                  <a:tab algn="l" pos="4064040"/>
                  <a:tab algn="l" pos="4317840"/>
                  <a:tab algn="l" pos="4572000"/>
                  <a:tab algn="l" pos="4826160"/>
                  <a:tab algn="l" pos="507996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Tahoma"/>
                </a:rPr>
                <a:t>Business Description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 rot="10800000">
              <a:off x="6083640" y="2037600"/>
              <a:ext cx="381240" cy="128520"/>
            </a:xfrm>
            <a:prstGeom prst="foldedCorner">
              <a:avLst>
                <a:gd name="adj" fmla="val 23435"/>
              </a:avLst>
            </a:prstGeom>
            <a:gradFill rotWithShape="0">
              <a:gsLst>
                <a:gs pos="0">
                  <a:srgbClr val="f4f400"/>
                </a:gs>
                <a:gs pos="50000">
                  <a:srgbClr val="ffff00"/>
                </a:gs>
                <a:gs pos="100000">
                  <a:srgbClr val="f4f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54160"/>
                  <a:tab algn="l" pos="507960"/>
                  <a:tab algn="l" pos="762120"/>
                  <a:tab algn="l" pos="1015920"/>
                  <a:tab algn="l" pos="1270080"/>
                  <a:tab algn="l" pos="1523880"/>
                  <a:tab algn="l" pos="1778040"/>
                  <a:tab algn="l" pos="2031840"/>
                  <a:tab algn="l" pos="2286000"/>
                  <a:tab algn="l" pos="2540160"/>
                  <a:tab algn="l" pos="2793960"/>
                  <a:tab algn="l" pos="3048120"/>
                  <a:tab algn="l" pos="3301920"/>
                  <a:tab algn="l" pos="3556080"/>
                  <a:tab algn="l" pos="3809880"/>
                  <a:tab algn="l" pos="4064040"/>
                  <a:tab algn="l" pos="4317840"/>
                  <a:tab algn="l" pos="4572000"/>
                  <a:tab algn="l" pos="4826160"/>
                  <a:tab algn="l" pos="5079960"/>
                </a:tabLst>
              </a:pPr>
              <a:r>
                <a:rPr b="0" i="1" lang="en-US" sz="400" spc="-1" strike="noStrike">
                  <a:solidFill>
                    <a:srgbClr val="000000"/>
                  </a:solidFill>
                  <a:latin typeface="Tahoma"/>
                </a:rPr>
                <a:t>Yellow Page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54160"/>
                  <a:tab algn="l" pos="507960"/>
                  <a:tab algn="l" pos="762120"/>
                  <a:tab algn="l" pos="1015920"/>
                  <a:tab algn="l" pos="1270080"/>
                  <a:tab algn="l" pos="1523880"/>
                  <a:tab algn="l" pos="1778040"/>
                  <a:tab algn="l" pos="2031840"/>
                  <a:tab algn="l" pos="2286000"/>
                  <a:tab algn="l" pos="2540160"/>
                  <a:tab algn="l" pos="2793960"/>
                  <a:tab algn="l" pos="3048120"/>
                  <a:tab algn="l" pos="3301920"/>
                  <a:tab algn="l" pos="3556080"/>
                  <a:tab algn="l" pos="3809880"/>
                  <a:tab algn="l" pos="4064040"/>
                  <a:tab algn="l" pos="4317840"/>
                  <a:tab algn="l" pos="4572000"/>
                  <a:tab algn="l" pos="4826160"/>
                  <a:tab algn="l" pos="507996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Tahoma"/>
                </a:rPr>
                <a:t>Service Properties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 rot="10800000">
              <a:off x="5945760" y="2151720"/>
              <a:ext cx="379080" cy="128520"/>
            </a:xfrm>
            <a:prstGeom prst="foldedCorner">
              <a:avLst>
                <a:gd name="adj" fmla="val 2343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8888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54160"/>
                  <a:tab algn="l" pos="507960"/>
                  <a:tab algn="l" pos="762120"/>
                  <a:tab algn="l" pos="1015920"/>
                  <a:tab algn="l" pos="1270080"/>
                  <a:tab algn="l" pos="1523880"/>
                  <a:tab algn="l" pos="1778040"/>
                  <a:tab algn="l" pos="2031840"/>
                  <a:tab algn="l" pos="2286000"/>
                  <a:tab algn="l" pos="2540160"/>
                  <a:tab algn="l" pos="2793960"/>
                  <a:tab algn="l" pos="3048120"/>
                  <a:tab algn="l" pos="3301920"/>
                  <a:tab algn="l" pos="3556080"/>
                  <a:tab algn="l" pos="3809880"/>
                  <a:tab algn="l" pos="4064040"/>
                  <a:tab algn="l" pos="4317840"/>
                  <a:tab algn="l" pos="4572000"/>
                  <a:tab algn="l" pos="4826160"/>
                  <a:tab algn="l" pos="5079960"/>
                </a:tabLst>
              </a:pPr>
              <a:r>
                <a:rPr b="0" i="1" lang="en-US" sz="400" spc="-1" strike="noStrike">
                  <a:solidFill>
                    <a:srgbClr val="000000"/>
                  </a:solidFill>
                  <a:latin typeface="Tahoma"/>
                </a:rPr>
                <a:t>White Page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54160"/>
                  <a:tab algn="l" pos="507960"/>
                  <a:tab algn="l" pos="762120"/>
                  <a:tab algn="l" pos="1015920"/>
                  <a:tab algn="l" pos="1270080"/>
                  <a:tab algn="l" pos="1523880"/>
                  <a:tab algn="l" pos="1778040"/>
                  <a:tab algn="l" pos="2031840"/>
                  <a:tab algn="l" pos="2286000"/>
                  <a:tab algn="l" pos="2540160"/>
                  <a:tab algn="l" pos="2793960"/>
                  <a:tab algn="l" pos="3048120"/>
                  <a:tab algn="l" pos="3301920"/>
                  <a:tab algn="l" pos="3556080"/>
                  <a:tab algn="l" pos="3809880"/>
                  <a:tab algn="l" pos="4064040"/>
                  <a:tab algn="l" pos="4317840"/>
                  <a:tab algn="l" pos="4572000"/>
                  <a:tab algn="l" pos="4826160"/>
                  <a:tab algn="l" pos="507996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Tahoma"/>
                </a:rPr>
                <a:t>Ports and Bindins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19840" y="1767240"/>
              <a:ext cx="7412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54160"/>
                  <a:tab algn="l" pos="507960"/>
                  <a:tab algn="l" pos="762120"/>
                  <a:tab algn="l" pos="1015920"/>
                  <a:tab algn="l" pos="1270080"/>
                  <a:tab algn="l" pos="1523880"/>
                  <a:tab algn="l" pos="1778040"/>
                  <a:tab algn="l" pos="2031840"/>
                  <a:tab algn="l" pos="2286000"/>
                  <a:tab algn="l" pos="2540160"/>
                  <a:tab algn="l" pos="2793960"/>
                  <a:tab algn="l" pos="3048120"/>
                  <a:tab algn="l" pos="3301920"/>
                  <a:tab algn="l" pos="3556080"/>
                  <a:tab algn="l" pos="3809880"/>
                  <a:tab algn="l" pos="4064040"/>
                  <a:tab algn="l" pos="4317840"/>
                  <a:tab algn="l" pos="4572000"/>
                  <a:tab algn="l" pos="4826160"/>
                  <a:tab algn="l" pos="507996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ahoma"/>
                </a:rPr>
                <a:t>Business Registry</a:t>
              </a:r>
              <a:r>
                <a:rPr b="0" i="1" lang="en-US" sz="700" spc="-1" strike="noStrike">
                  <a:solidFill>
                    <a:srgbClr val="dddddd"/>
                  </a:solidFill>
                  <a:latin typeface="Tahoma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6879960" y="1914840"/>
              <a:ext cx="430560" cy="271440"/>
              <a:chOff x="6879960" y="1914840"/>
              <a:chExt cx="430560" cy="271440"/>
            </a:xfrm>
          </p:grpSpPr>
          <p:sp>
            <p:nvSpPr>
              <p:cNvPr id="143" name="Puzzle3"/>
              <p:cNvSpPr/>
              <p:nvPr/>
            </p:nvSpPr>
            <p:spPr>
              <a:xfrm>
                <a:off x="7089480" y="1914840"/>
                <a:ext cx="169200" cy="14436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Puzzle2"/>
              <p:cNvSpPr/>
              <p:nvPr/>
            </p:nvSpPr>
            <p:spPr>
              <a:xfrm>
                <a:off x="7040520" y="2019960"/>
                <a:ext cx="270000" cy="1314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Puzzle4"/>
              <p:cNvSpPr/>
              <p:nvPr/>
            </p:nvSpPr>
            <p:spPr>
              <a:xfrm>
                <a:off x="6935760" y="2018160"/>
                <a:ext cx="162720" cy="16812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Puzzle1"/>
              <p:cNvSpPr/>
              <p:nvPr/>
            </p:nvSpPr>
            <p:spPr>
              <a:xfrm>
                <a:off x="6879960" y="1958400"/>
                <a:ext cx="273600" cy="10008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46" name=""/>
            <p:cNvCxnSpPr>
              <a:stCxn id="143" idx="8"/>
              <a:endCxn id="147" idx="2"/>
            </p:cNvCxnSpPr>
            <p:nvPr/>
          </p:nvCxnSpPr>
          <p:spPr>
            <a:xfrm flipH="1" flipV="1">
              <a:off x="7169760" y="1656720"/>
              <a:ext cx="2520" cy="243720"/>
            </a:xfrm>
            <a:prstGeom prst="straightConnector1">
              <a:avLst/>
            </a:prstGeom>
            <a:ln w="6480">
              <a:solidFill>
                <a:srgbClr val="ffffcc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148" name=""/>
            <p:cNvSpPr/>
            <p:nvPr/>
          </p:nvSpPr>
          <p:spPr>
            <a:xfrm rot="1712400">
              <a:off x="6768720" y="1982520"/>
              <a:ext cx="644400" cy="1414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54160"/>
                  <a:tab algn="l" pos="507960"/>
                  <a:tab algn="l" pos="762120"/>
                  <a:tab algn="l" pos="1015920"/>
                  <a:tab algn="l" pos="1270080"/>
                  <a:tab algn="l" pos="1523880"/>
                  <a:tab algn="l" pos="1778040"/>
                  <a:tab algn="l" pos="2031840"/>
                  <a:tab algn="l" pos="2286000"/>
                  <a:tab algn="l" pos="2540160"/>
                  <a:tab algn="l" pos="2793960"/>
                  <a:tab algn="l" pos="3048120"/>
                  <a:tab algn="l" pos="3301920"/>
                  <a:tab algn="l" pos="3556080"/>
                  <a:tab algn="l" pos="3809880"/>
                  <a:tab algn="l" pos="4064040"/>
                  <a:tab algn="l" pos="4317840"/>
                  <a:tab algn="l" pos="4572000"/>
                  <a:tab algn="l" pos="4826160"/>
                  <a:tab algn="l" pos="5079960"/>
                </a:tabLst>
              </a:pPr>
              <a:r>
                <a:rPr b="1" i="1" lang="en-US" sz="800" spc="-1" strike="noStrike">
                  <a:solidFill>
                    <a:srgbClr val="ff0000"/>
                  </a:solidFill>
                  <a:latin typeface="Tahoma"/>
                </a:rPr>
                <a:t>OWL inside</a:t>
              </a:r>
              <a:r>
                <a:rPr b="0" i="1" lang="en-US" sz="700" spc="-1" strike="noStrike">
                  <a:solidFill>
                    <a:srgbClr val="66ccff"/>
                  </a:solidFill>
                  <a:latin typeface="Tahoma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23160" y="1571760"/>
              <a:ext cx="493560" cy="85680"/>
            </a:xfrm>
            <a:prstGeom prst="rect">
              <a:avLst/>
            </a:prstGeom>
            <a:noFill/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54160"/>
                  <a:tab algn="l" pos="507960"/>
                  <a:tab algn="l" pos="762120"/>
                  <a:tab algn="l" pos="1015920"/>
                  <a:tab algn="l" pos="1270080"/>
                  <a:tab algn="l" pos="1523880"/>
                  <a:tab algn="l" pos="1778040"/>
                  <a:tab algn="l" pos="2031840"/>
                  <a:tab algn="l" pos="2286000"/>
                  <a:tab algn="l" pos="2540160"/>
                  <a:tab algn="l" pos="2793960"/>
                  <a:tab algn="l" pos="3048120"/>
                  <a:tab algn="l" pos="3301920"/>
                  <a:tab algn="l" pos="3556080"/>
                  <a:tab algn="l" pos="3809880"/>
                  <a:tab algn="l" pos="4064040"/>
                  <a:tab algn="l" pos="4317840"/>
                  <a:tab algn="l" pos="4572000"/>
                  <a:tab algn="l" pos="4826160"/>
                  <a:tab algn="l" pos="5079960"/>
                </a:tabLst>
              </a:pPr>
              <a:r>
                <a:rPr b="0" i="1" lang="en-US" sz="700" spc="-1" strike="noStrike">
                  <a:solidFill>
                    <a:srgbClr val="ffffcc"/>
                  </a:solidFill>
                  <a:latin typeface="Tahoma"/>
                </a:rPr>
                <a:t>Capability </a:t>
              </a:r>
              <a:r>
                <a:rPr b="0" lang="en-US" sz="700" spc="-1" strike="noStrike">
                  <a:solidFill>
                    <a:srgbClr val="ffffcc"/>
                  </a:solidFill>
                  <a:latin typeface="Tahoma"/>
                </a:rPr>
                <a:t>Por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403880" y="2963880"/>
            <a:ext cx="304560" cy="217440"/>
          </a:xfrm>
          <a:prstGeom prst="rightArrow">
            <a:avLst>
              <a:gd name="adj1" fmla="val 50000"/>
              <a:gd name="adj2" fmla="val 350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 rot="19898400">
            <a:off x="1717560" y="2614320"/>
            <a:ext cx="955800" cy="393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20720" y="3397320"/>
            <a:ext cx="304920" cy="217440"/>
          </a:xfrm>
          <a:prstGeom prst="rightArrow">
            <a:avLst>
              <a:gd name="adj1" fmla="val 50000"/>
              <a:gd name="adj2" fmla="val 3505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32160" y="3230640"/>
            <a:ext cx="1108080" cy="208080"/>
          </a:xfrm>
          <a:prstGeom prst="rect">
            <a:avLst/>
          </a:prstGeom>
          <a:solidFill>
            <a:srgbClr val="fbfbfb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12600" bIns="126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v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57440" y="3706920"/>
            <a:ext cx="9352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12600" bIns="126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ated OWL-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70520" y="3451320"/>
            <a:ext cx="304920" cy="217440"/>
          </a:xfrm>
          <a:prstGeom prst="rightArrow">
            <a:avLst>
              <a:gd name="adj1" fmla="val 50000"/>
              <a:gd name="adj2" fmla="val 3505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06760" y="3451320"/>
            <a:ext cx="304920" cy="217440"/>
          </a:xfrm>
          <a:prstGeom prst="rightArrow">
            <a:avLst>
              <a:gd name="adj1" fmla="val 50000"/>
              <a:gd name="adj2" fmla="val 3505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62440" y="3862440"/>
            <a:ext cx="1049400" cy="304920"/>
          </a:xfrm>
          <a:prstGeom prst="roundRect">
            <a:avLst>
              <a:gd name="adj" fmla="val 51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62720" y="3862800"/>
            <a:ext cx="1234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50400" bIns="50400" anchor="ctr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985680"/>
                <a:tab algn="l" pos="1973160"/>
                <a:tab algn="l" pos="2959200"/>
                <a:tab algn="l" pos="3946680"/>
                <a:tab algn="l" pos="4933800"/>
                <a:tab algn="l" pos="5919840"/>
                <a:tab algn="l" pos="6907320"/>
                <a:tab algn="l" pos="7893000"/>
                <a:tab algn="l" pos="8880480"/>
                <a:tab algn="l" pos="9866160"/>
                <a:tab algn="l" pos="108536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Garamond"/>
              </a:rPr>
              <a:t>Groun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06760" y="3878280"/>
            <a:ext cx="304920" cy="217440"/>
          </a:xfrm>
          <a:prstGeom prst="rightArrow">
            <a:avLst>
              <a:gd name="adj1" fmla="val 50000"/>
              <a:gd name="adj2" fmla="val 3505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3946680"/>
            <a:ext cx="304920" cy="217440"/>
          </a:xfrm>
          <a:prstGeom prst="rightArrow">
            <a:avLst>
              <a:gd name="adj1" fmla="val 50000"/>
              <a:gd name="adj2" fmla="val 3505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3612600" y="4390920"/>
            <a:ext cx="288720" cy="228600"/>
          </a:xfrm>
          <a:prstGeom prst="rightArrow">
            <a:avLst>
              <a:gd name="adj1" fmla="val 50000"/>
              <a:gd name="adj2" fmla="val 3157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87600" y="5487840"/>
            <a:ext cx="4403520" cy="7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12600" bIns="12600" anchor="t">
            <a:spAutoFit/>
          </a:bodyPr>
          <a:p>
            <a:pPr lvl="1" marL="12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mbed guided generation 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SD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nd schematic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WL-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rectly from Java exploiting Java2WSDL and WSDL2OWL-S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4950000"/>
            <a:ext cx="1323720" cy="14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12600" bIns="126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WL-S V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vides an execution environment for OWL-S Web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58280" y="1266840"/>
            <a:ext cx="1485720" cy="17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12600" bIns="126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qui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capability-bas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cov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1600" spc="-1" strike="noStrike">
                <a:solidFill>
                  <a:srgbClr val="fd1a09"/>
                </a:solidFill>
                <a:latin typeface="Arial"/>
              </a:rPr>
              <a:t>Semantic </a:t>
            </a:r>
            <a:r>
              <a:rPr b="1" lang="en-US" sz="1600" spc="-1" strike="noStrike">
                <a:solidFill>
                  <a:srgbClr val="fd1a09"/>
                </a:solidFill>
                <a:latin typeface="Arial"/>
              </a:rPr>
              <a:t>UD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7280" y="1655640"/>
            <a:ext cx="3935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L-S Editor integrated with Ec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 rot="5400000">
            <a:off x="4467240" y="3762360"/>
            <a:ext cx="295200" cy="3038400"/>
          </a:xfrm>
          <a:custGeom>
            <a:avLst/>
            <a:gdLst>
              <a:gd name="textAreaLeft" fmla="*/ 0 w 295200"/>
              <a:gd name="textAreaRight" fmla="*/ 106560 w 295200"/>
              <a:gd name="textAreaTop" fmla="*/ 79200 h 3038400"/>
              <a:gd name="textAreaBottom" fmla="*/ 2959200 h 303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d1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15360" y="3819600"/>
            <a:ext cx="218880" cy="342720"/>
          </a:xfrm>
          <a:prstGeom prst="line">
            <a:avLst/>
          </a:prstGeom>
          <a:ln w="28440">
            <a:solidFill>
              <a:srgbClr val="fd1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19720" y="3936960"/>
            <a:ext cx="1104840" cy="460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d1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48560" y="4111560"/>
            <a:ext cx="1324080" cy="99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12600" bIns="126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WL-S AP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vide easy processing in 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858000" y="4390920"/>
            <a:ext cx="9360" cy="547920"/>
          </a:xfrm>
          <a:prstGeom prst="line">
            <a:avLst/>
          </a:prstGeom>
          <a:ln w="28440">
            <a:solidFill>
              <a:srgbClr val="fd1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2149560" y="388800"/>
            <a:ext cx="585720" cy="3957480"/>
          </a:xfrm>
          <a:custGeom>
            <a:avLst/>
            <a:gdLst>
              <a:gd name="textAreaLeft" fmla="*/ 0 w 585720"/>
              <a:gd name="textAreaRight" fmla="*/ 211320 w 585720"/>
              <a:gd name="textAreaTop" fmla="*/ 102960 h 3957480"/>
              <a:gd name="textAreaBottom" fmla="*/ 3854520 h 39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d1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26440" y="1479600"/>
            <a:ext cx="218880" cy="1833480"/>
          </a:xfrm>
          <a:custGeom>
            <a:avLst/>
            <a:gdLst>
              <a:gd name="textAreaLeft" fmla="*/ 0 w 218880"/>
              <a:gd name="textAreaRight" fmla="*/ 78840 w 218880"/>
              <a:gd name="textAreaTop" fmla="*/ 47520 h 1833480"/>
              <a:gd name="textAreaBottom" fmla="*/ 1785960 h 183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d1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6320" y="1500120"/>
            <a:ext cx="1014480" cy="99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12600" bIns="126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editing of all OWL-S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14800" y="2500200"/>
            <a:ext cx="233640" cy="343080"/>
          </a:xfrm>
          <a:prstGeom prst="line">
            <a:avLst/>
          </a:prstGeom>
          <a:ln w="28440">
            <a:solidFill>
              <a:srgbClr val="fd1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722840" y="1569960"/>
            <a:ext cx="4191120" cy="44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2200" y="1579680"/>
            <a:ext cx="4191120" cy="350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OWL-S IDE a close look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20300"/>
          <a:stretch/>
        </p:blipFill>
        <p:spPr>
          <a:xfrm>
            <a:off x="463680" y="2367000"/>
            <a:ext cx="3466800" cy="2521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59360" y="1679400"/>
            <a:ext cx="276624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12600" bIns="12600" anchor="t">
            <a:spAutoFit/>
          </a:bodyPr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mlessly trans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into OWL-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67320" y="2449440"/>
            <a:ext cx="1368720" cy="26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12600" bIns="126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WL-S Men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30240" y="2693880"/>
            <a:ext cx="1882800" cy="208080"/>
          </a:xfrm>
          <a:prstGeom prst="rect">
            <a:avLst/>
          </a:prstGeom>
          <a:solidFill>
            <a:srgbClr val="fbfbfb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12600" bIns="126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va2OWL-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2685960"/>
            <a:ext cx="135000" cy="2174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30240" y="2693880"/>
            <a:ext cx="133560" cy="209520"/>
          </a:xfrm>
          <a:prstGeom prst="rect">
            <a:avLst/>
          </a:prstGeom>
          <a:solidFill>
            <a:srgbClr val="ffff99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05280" y="2352600"/>
            <a:ext cx="183960" cy="933480"/>
          </a:xfrm>
          <a:custGeom>
            <a:avLst/>
            <a:gdLst>
              <a:gd name="textAreaLeft" fmla="*/ 0 w 183960"/>
              <a:gd name="textAreaRight" fmla="*/ 66240 w 183960"/>
              <a:gd name="textAreaTop" fmla="*/ 24120 h 933480"/>
              <a:gd name="textAreaBottom" fmla="*/ 909360 h 93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d1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4190400">
            <a:off x="3965400" y="2655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1a09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295800"/>
            <a:ext cx="183960" cy="1581120"/>
          </a:xfrm>
          <a:custGeom>
            <a:avLst/>
            <a:gdLst>
              <a:gd name="textAreaLeft" fmla="*/ 0 w 183960"/>
              <a:gd name="textAreaRight" fmla="*/ 66240 w 183960"/>
              <a:gd name="textAreaTop" fmla="*/ 41040 h 1581120"/>
              <a:gd name="textAreaBottom" fmla="*/ 1540080 h 158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d1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4190400">
            <a:off x="3812760" y="389916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1a09"/>
                </a:solidFill>
                <a:latin typeface="Arial"/>
              </a:rPr>
              <a:t>OWL-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9194600">
            <a:off x="3290040" y="5006160"/>
            <a:ext cx="20048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1a09"/>
                </a:solidFill>
                <a:latin typeface="Arial"/>
              </a:rPr>
              <a:t>Overview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1a09"/>
                </a:solidFill>
                <a:latin typeface="Arial"/>
              </a:rPr>
              <a:t>OWL-S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1a09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rcRect l="0" t="0" r="0" b="19799"/>
          <a:stretch/>
        </p:blipFill>
        <p:spPr>
          <a:xfrm>
            <a:off x="5146560" y="3057480"/>
            <a:ext cx="3338640" cy="2662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flipH="1">
            <a:off x="5048280" y="4343400"/>
            <a:ext cx="155520" cy="1133640"/>
          </a:xfrm>
          <a:custGeom>
            <a:avLst/>
            <a:gdLst>
              <a:gd name="textAreaLeft" fmla="*/ 0 w 155520"/>
              <a:gd name="textAreaRight" fmla="*/ 56160 w 15552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d1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15160" y="3381480"/>
            <a:ext cx="628560" cy="933480"/>
          </a:xfrm>
          <a:custGeom>
            <a:avLst/>
            <a:gdLst>
              <a:gd name="textAreaLeft" fmla="*/ 30600 w 628560"/>
              <a:gd name="textAreaRight" fmla="*/ 597960 w 628560"/>
              <a:gd name="textAreaTop" fmla="*/ 30600 h 933480"/>
              <a:gd name="textAreaBottom" fmla="*/ 902880 h 933480"/>
            </a:gdLst>
            <a:ahLst/>
            <a:rect l="textAreaLeft" t="textAreaTop" r="textAreaRight" b="textAreaBottom"/>
            <a:pathLst>
              <a:path w="21600" h="32072">
                <a:moveTo>
                  <a:pt x="3600" y="0"/>
                </a:moveTo>
                <a:arcTo wR="3600" hR="3600" stAng="16200000" swAng="-5400000"/>
                <a:lnTo>
                  <a:pt x="0" y="28472"/>
                </a:lnTo>
                <a:arcTo wR="3600" hR="3600" stAng="10800000" swAng="-5400000"/>
                <a:lnTo>
                  <a:pt x="18000" y="320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d1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48480" y="3365640"/>
            <a:ext cx="1752480" cy="780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d1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1583800">
            <a:off x="5948640" y="4656240"/>
            <a:ext cx="28371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1a09"/>
                </a:solidFill>
                <a:latin typeface="Arial"/>
              </a:rPr>
              <a:t>Profile/Proces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1a09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38800" y="4324320"/>
            <a:ext cx="38160" cy="428760"/>
          </a:xfrm>
          <a:prstGeom prst="line">
            <a:avLst/>
          </a:prstGeom>
          <a:ln w="9360">
            <a:solidFill>
              <a:srgbClr val="fd1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515360" y="2819520"/>
            <a:ext cx="9360" cy="523800"/>
          </a:xfrm>
          <a:prstGeom prst="line">
            <a:avLst/>
          </a:prstGeom>
          <a:ln w="19080">
            <a:solidFill>
              <a:srgbClr val="fd1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02120" y="1717560"/>
            <a:ext cx="395280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12600" bIns="12600" anchor="t">
            <a:spAutoFit/>
          </a:bodyPr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herent interface facilitate switching between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21583800">
            <a:off x="6139440" y="2484360"/>
            <a:ext cx="2232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1a09"/>
                </a:solidFill>
                <a:latin typeface="Arial"/>
              </a:rPr>
              <a:t>Detailed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1a09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OWL-S IDE: a look insid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1360" y="1526760"/>
            <a:ext cx="82454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The OWL-S IDE is based on the following component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WSDL2OWL-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987840" indent="-207720">
              <a:lnSpc>
                <a:spcPct val="9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Map WSDL descriptions into OWL-S descriptions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OWL-S API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987840" indent="-207720">
              <a:lnSpc>
                <a:spcPct val="9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Transform OWL-S code in an equivalent set of Java classes for easy processing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OWL-S Virtual Machin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987840" indent="-207720">
              <a:lnSpc>
                <a:spcPct val="9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Control interaction with Web service consistently with Process Model and Grounding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OWL-S/UDDI translator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987840" indent="-207720">
              <a:lnSpc>
                <a:spcPct val="9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Translate OWL-S Profiles in UDDI statements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Semantic UDDI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987840" indent="-207720">
              <a:lnSpc>
                <a:spcPct val="9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Integrate UDDI Registry and OWL reasoning to facilitate discovery of Web services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Tahoma"/>
              </a:rPr>
              <a:t>Mapping WSDL to OWL-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90400" y="1619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ahoma"/>
              </a:rPr>
              <a:t>Exploit relation between WSDL and OWL-S to generate (partial) OWL-S specification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Automatic generation of Grounding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Partial generation of Process Model and Profile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Up to 80% of work required to generate a OWL-S description is done automatically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Allow programmers to concentrate on the information that is really different between the two Web services descriptions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ahoma"/>
              </a:rPr>
              <a:t>Combined with Java2WSDL to provide </a:t>
            </a:r>
            <a:r>
              <a:rPr b="0" lang="en-US" sz="2800" spc="-1" strike="noStrike">
                <a:solidFill>
                  <a:srgbClr val="40404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404040"/>
                </a:solidFill>
                <a:latin typeface="Tahoma"/>
              </a:rPr>
              <a:t>Java2OWL-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0:12:30Z</dcterms:created>
  <dc:creator>Michael Stollberg</dc:creator>
  <dc:description/>
  <dc:language>en-US</dc:language>
  <cp:lastModifiedBy>vt666</cp:lastModifiedBy>
  <dcterms:modified xsi:type="dcterms:W3CDTF">2005-08-31T14:33:17Z</dcterms:modified>
  <cp:revision>597</cp:revision>
  <dc:subject/>
  <dc:title>Semantic Web Services Tutorial  ESWC 2005 </dc:title>
</cp:coreProperties>
</file>