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024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356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2728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024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356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8024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356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2728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8024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356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21480" y="493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CFF1-0C42-47B6-B474-6AA7ED6D6C4E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474920" y="6426000"/>
            <a:ext cx="66722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421480" y="493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7CAF-E8B3-437E-94B6-15EBE3ECECAB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1474920" y="6426000"/>
            <a:ext cx="66722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2" marL="857160" algn="ctr">
              <a:spcBef>
                <a:spcPts val="52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404040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40404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096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0707"/>
                </a:solidFill>
                <a:latin typeface="Arial"/>
              </a:rPr>
              <a:t>Web Service Modeling Ontology </a:t>
            </a:r>
            <a:br>
              <a:rPr sz="4000"/>
            </a:br>
            <a:r>
              <a:rPr b="1" lang="en-US" sz="4000" spc="-1" strike="noStrike">
                <a:solidFill>
                  <a:srgbClr val="9b0707"/>
                </a:solidFill>
                <a:latin typeface="Arial"/>
              </a:rPr>
              <a:t>WSMO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Michael Stollberg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16080" y="1501920"/>
            <a:ext cx="8827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860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18860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Ontologies are used as the ‘data model’ throughout WSMO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18860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ll WSMO element descriptions rely on ontologies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18860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ll data interchanged in Web Service usage are ontologies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18860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mantic information processing &amp; ontology reasoning 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860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18860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SMO Ontology Language WSM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18860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nceptual syntax for describing WSMO elements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18860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ogical language for axiomatic expressions (WSML Layering)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860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18860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WSMO Ontology Design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18860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040"/>
                </a:solidFill>
                <a:uFillTx/>
                <a:latin typeface="Arial"/>
              </a:rPr>
              <a:t>Modularization: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mport / re-using ontologies, modular approach for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ontology design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18860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040"/>
                </a:solidFill>
                <a:uFillTx/>
                <a:latin typeface="Arial"/>
              </a:rPr>
              <a:t>De-Coupling: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eterogeneity handled by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OO Mediator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860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Ontology Usage &amp; Principles 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16080" y="1501920"/>
            <a:ext cx="8827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26"/>
              </a:spcBef>
              <a:buNone/>
              <a:tabLst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40404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Non functional properties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(see before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22200" indent="0">
              <a:buNone/>
              <a:tabLst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40404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mported Ontologie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mporting existing ontologies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where no heterogeneities arise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22200" indent="0">
              <a:spcBef>
                <a:spcPts val="26"/>
              </a:spcBef>
              <a:buNone/>
              <a:tabLst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40404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Used mediators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OO Mediators (ontology import with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erminology mismatch handling)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020600" indent="0">
              <a:spcBef>
                <a:spcPts val="201"/>
              </a:spcBef>
              <a:buNone/>
              <a:tabLst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Ontology Elements: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Concept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t of concepts that belong to the ontology, incl.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ttribute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t of attributes that belong to a concep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Relation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define interrelations between several concept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Function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pecial type of relation (unary range = return value)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nstance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t of instances that belong to the represented ontology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xioms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xiomatic expressions in ontology (logical statement)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Ontology Specifica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b0707"/>
                </a:solidFill>
                <a:latin typeface="Arial"/>
              </a:rPr>
              <a:t>WSMO Web Servic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3141720"/>
            <a:ext cx="2174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Provide the formally specified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of the information used by all othe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99080" y="3141720"/>
            <a:ext cx="2644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emantic description of Web Servic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Capability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(func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Interfaces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(usa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70040" y="501336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nnectors between components with mediation facilities for handling heterogene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97480" y="2781360"/>
            <a:ext cx="2773440" cy="20160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46280" y="2674800"/>
            <a:ext cx="3449880" cy="2060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411280" y="1604880"/>
            <a:ext cx="40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Objectives that a client want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hieve by using 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0707"/>
                </a:solidFill>
                <a:latin typeface="Arial"/>
              </a:rPr>
              <a:t>WSMO Web Service Description 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65800" y="3913200"/>
            <a:ext cx="936720" cy="158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21080" y="3882960"/>
            <a:ext cx="1942920" cy="174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(not of interest in Web Service Descriptio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20920" y="3956040"/>
            <a:ext cx="1152360" cy="17287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51080" y="431640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51080" y="44607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28760" y="5870520"/>
            <a:ext cx="44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oreograph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 Service Interfaces --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7760" y="2844720"/>
            <a:ext cx="2519280" cy="51912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3360" y="2355840"/>
            <a:ext cx="23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p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6160" y="420228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6160" y="46339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26160" y="50673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9" idx="4"/>
            <a:endCxn id="150" idx="0"/>
          </p:cNvCxnSpPr>
          <p:nvPr/>
        </p:nvCxnSpPr>
        <p:spPr>
          <a:xfrm>
            <a:off x="5833800" y="44179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  <a:endCxn id="151" idx="0"/>
          </p:cNvCxnSpPr>
          <p:nvPr/>
        </p:nvCxnSpPr>
        <p:spPr>
          <a:xfrm>
            <a:off x="5833800" y="484992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grpSp>
        <p:nvGrpSpPr>
          <p:cNvPr id="154" name=""/>
          <p:cNvGrpSpPr/>
          <p:nvPr/>
        </p:nvGrpSpPr>
        <p:grpSpPr>
          <a:xfrm>
            <a:off x="6375240" y="4130640"/>
            <a:ext cx="576360" cy="360360"/>
            <a:chOff x="6375240" y="4130640"/>
            <a:chExt cx="576360" cy="360360"/>
          </a:xfrm>
        </p:grpSpPr>
        <p:sp>
          <p:nvSpPr>
            <p:cNvPr id="155" name=""/>
            <p:cNvSpPr/>
            <p:nvPr/>
          </p:nvSpPr>
          <p:spPr>
            <a:xfrm>
              <a:off x="6375240" y="4130640"/>
              <a:ext cx="576360" cy="360360"/>
            </a:xfrm>
            <a:prstGeom prst="donut">
              <a:avLst>
                <a:gd name="adj" fmla="val 119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50840" y="4202280"/>
              <a:ext cx="3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7" name=""/>
          <p:cNvCxnSpPr>
            <a:stCxn id="149" idx="6"/>
            <a:endCxn id="155" idx="2"/>
          </p:cNvCxnSpPr>
          <p:nvPr/>
        </p:nvCxnSpPr>
        <p:spPr>
          <a:xfrm>
            <a:off x="5941800" y="4309560"/>
            <a:ext cx="43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58" name=""/>
          <p:cNvGrpSpPr/>
          <p:nvPr/>
        </p:nvGrpSpPr>
        <p:grpSpPr>
          <a:xfrm>
            <a:off x="6375240" y="4562640"/>
            <a:ext cx="576360" cy="360360"/>
            <a:chOff x="6375240" y="4562640"/>
            <a:chExt cx="576360" cy="360360"/>
          </a:xfrm>
        </p:grpSpPr>
        <p:sp>
          <p:nvSpPr>
            <p:cNvPr id="159" name=""/>
            <p:cNvSpPr/>
            <p:nvPr/>
          </p:nvSpPr>
          <p:spPr>
            <a:xfrm>
              <a:off x="6375240" y="4562640"/>
              <a:ext cx="576360" cy="360360"/>
            </a:xfrm>
            <a:prstGeom prst="donut">
              <a:avLst>
                <a:gd name="adj" fmla="val 119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50840" y="4634280"/>
              <a:ext cx="3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1" name=""/>
          <p:cNvCxnSpPr>
            <a:stCxn id="150" idx="6"/>
            <a:endCxn id="159" idx="2"/>
          </p:cNvCxnSpPr>
          <p:nvPr/>
        </p:nvCxnSpPr>
        <p:spPr>
          <a:xfrm>
            <a:off x="5941800" y="4741920"/>
            <a:ext cx="43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67560" y="1620720"/>
            <a:ext cx="2743920" cy="58068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ertising of 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WS Discov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3757680"/>
            <a:ext cx="2016360" cy="207180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-service interaction interface for consuming 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Vis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Commun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u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Grounding’</a:t>
            </a:r>
            <a:r>
              <a:rPr b="0" lang="en-US" sz="1600" spc="-1" strike="noStrike">
                <a:solidFill>
                  <a:srgbClr val="339933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27920" y="3740040"/>
            <a:ext cx="1998720" cy="179748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ization of functionality by aggrega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Web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ompos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S composition</a:t>
            </a:r>
            <a:r>
              <a:rPr b="0" lang="en-US" sz="16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98720" y="417204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8720" y="46036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8720" y="50371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5" idx="4"/>
            <a:endCxn id="166" idx="0"/>
          </p:cNvCxnSpPr>
          <p:nvPr/>
        </p:nvCxnSpPr>
        <p:spPr>
          <a:xfrm>
            <a:off x="3006360" y="43876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6" idx="4"/>
            <a:endCxn id="167" idx="0"/>
          </p:cNvCxnSpPr>
          <p:nvPr/>
        </p:nvCxnSpPr>
        <p:spPr>
          <a:xfrm>
            <a:off x="3006360" y="481968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251080" y="460548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51080" y="47498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51080" y="503712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51080" y="51814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3200" y="2917800"/>
            <a:ext cx="3371760" cy="5032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3320" y="2413080"/>
            <a:ext cx="33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on-functiona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C + QoS + Version + fina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1477800"/>
            <a:ext cx="2757600" cy="82404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 item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lity asp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 Manag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377040" y="5035680"/>
            <a:ext cx="576360" cy="360360"/>
            <a:chOff x="6377040" y="5035680"/>
            <a:chExt cx="576360" cy="360360"/>
          </a:xfrm>
        </p:grpSpPr>
        <p:sp>
          <p:nvSpPr>
            <p:cNvPr id="178" name=""/>
            <p:cNvSpPr/>
            <p:nvPr/>
          </p:nvSpPr>
          <p:spPr>
            <a:xfrm>
              <a:off x="6377040" y="5035680"/>
              <a:ext cx="576360" cy="360360"/>
            </a:xfrm>
            <a:prstGeom prst="donut">
              <a:avLst>
                <a:gd name="adj" fmla="val 119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52640" y="5107320"/>
              <a:ext cx="3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0" name=""/>
          <p:cNvCxnSpPr>
            <a:endCxn id="178" idx="2"/>
          </p:cNvCxnSpPr>
          <p:nvPr/>
        </p:nvCxnSpPr>
        <p:spPr>
          <a:xfrm>
            <a:off x="5943600" y="5214960"/>
            <a:ext cx="434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565960" y="58816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rchest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74" idx="2"/>
            <a:endCxn id="142" idx="0"/>
          </p:cNvCxnSpPr>
          <p:nvPr/>
        </p:nvCxnSpPr>
        <p:spPr>
          <a:xfrm>
            <a:off x="2358720" y="3420720"/>
            <a:ext cx="203436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" name=""/>
          <p:cNvCxnSpPr>
            <a:stCxn id="147" idx="2"/>
            <a:endCxn id="142" idx="0"/>
          </p:cNvCxnSpPr>
          <p:nvPr/>
        </p:nvCxnSpPr>
        <p:spPr>
          <a:xfrm flipH="1">
            <a:off x="4392000" y="3363840"/>
            <a:ext cx="189612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Capability Specifica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Non functional properties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Imported Ontologies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Used mediators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040"/>
                </a:solidFill>
                <a:latin typeface="Arial"/>
              </a:rPr>
              <a:t>OO Mediator: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importing ontologies with mismatch resolution  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4040"/>
                </a:solidFill>
                <a:latin typeface="Arial"/>
              </a:rPr>
              <a:t>WG Mediator: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 link to a Goal wherefore service is not usable a priori 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Pre-conditions 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What a web service expects in order to be able to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rovide its service. They define conditions over the input.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Assumptions </a:t>
            </a:r>
            <a:br>
              <a:rPr sz="1800"/>
            </a:b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onditions on the state of the world that has to hold before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he Web Service can be executed 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Post-conditions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cribes the result of the Web Service in relation to the input,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nd conditions on it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Effects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onditions on the state of the world that hold after execution of the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Web Service (i.e. changes in the state of the world)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0707"/>
                </a:solidFill>
                <a:latin typeface="Arial"/>
              </a:rPr>
              <a:t>Choreography &amp; Orchestration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1275840"/>
            <a:ext cx="788688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VTA example: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Choreography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interact with the service to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nsume its functionality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Orchestrat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service functionality is achieved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y aggregating other Web Servic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933560" y="1590840"/>
            <a:ext cx="5584680" cy="3276000"/>
            <a:chOff x="1933560" y="1590840"/>
            <a:chExt cx="5584680" cy="3276000"/>
          </a:xfrm>
        </p:grpSpPr>
        <p:sp>
          <p:nvSpPr>
            <p:cNvPr id="189" name=""/>
            <p:cNvSpPr/>
            <p:nvPr/>
          </p:nvSpPr>
          <p:spPr>
            <a:xfrm>
              <a:off x="3521160" y="2562120"/>
              <a:ext cx="1311120" cy="206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V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03280" y="279072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03280" y="320040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9240" y="4384800"/>
              <a:ext cx="10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03280" y="3573360"/>
              <a:ext cx="1092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49440" y="2520720"/>
              <a:ext cx="6555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27120" y="2913120"/>
              <a:ext cx="87480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19120" y="3278160"/>
              <a:ext cx="1231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Flight, Ho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09640" y="3709800"/>
              <a:ext cx="7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Err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58920" y="4068720"/>
              <a:ext cx="1442880" cy="3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Confi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270160" y="3593880"/>
              <a:ext cx="111096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5320" y="2278080"/>
              <a:ext cx="1312920" cy="104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Hotel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86240" y="3814560"/>
              <a:ext cx="1311480" cy="10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Flight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008320" y="2520360"/>
              <a:ext cx="108756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54680" y="2309760"/>
              <a:ext cx="128088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ate, 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97520" y="3036960"/>
              <a:ext cx="1093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13360" y="2741400"/>
              <a:ext cx="1042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Ho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05320" y="3173400"/>
              <a:ext cx="7700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Err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964040" y="3046320"/>
              <a:ext cx="111132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1480" y="3782160"/>
              <a:ext cx="1093680" cy="28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13160" y="3605040"/>
              <a:ext cx="128268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ate, 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64040" y="455292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94280" y="4025880"/>
              <a:ext cx="104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Flig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94080" y="4510080"/>
              <a:ext cx="7718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Err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4680" y="4261320"/>
              <a:ext cx="11304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90680" y="2477880"/>
              <a:ext cx="230400" cy="2306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03560" y="2573280"/>
              <a:ext cx="211320" cy="1072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24440" y="3689280"/>
              <a:ext cx="209520" cy="10728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33560" y="1590840"/>
              <a:ext cx="24145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When the service 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reques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00320" y="2014560"/>
              <a:ext cx="160200" cy="410760"/>
            </a:xfrm>
            <a:prstGeom prst="line">
              <a:avLst/>
            </a:prstGeom>
            <a:ln w="3240">
              <a:solidFill>
                <a:srgbClr val="ff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25920" y="1601640"/>
              <a:ext cx="24145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When the servi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reques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993920" y="1993680"/>
              <a:ext cx="460440" cy="536400"/>
            </a:xfrm>
            <a:prstGeom prst="line">
              <a:avLst/>
            </a:prstGeom>
            <a:ln w="3240">
              <a:solidFill>
                <a:srgbClr val="ff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123880" y="2014560"/>
              <a:ext cx="420840" cy="1611000"/>
            </a:xfrm>
            <a:prstGeom prst="line">
              <a:avLst/>
            </a:prstGeom>
            <a:ln w="3240">
              <a:solidFill>
                <a:srgbClr val="ff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0707"/>
                </a:solidFill>
                <a:latin typeface="Arial"/>
              </a:rPr>
              <a:t>Choreography Aspects 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1400" y="1795320"/>
            <a:ext cx="8048880" cy="40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Arial"/>
              </a:rPr>
              <a:t>External Visible Behavi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those aspects of the workflow of a Web Service where Interaction is requir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described by workflow constructs: sequence, split, loop, parall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Arial"/>
              </a:rPr>
              <a:t>Communication Structure</a:t>
            </a: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messages sent and receiv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their order (communicative behavior for service consumption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Arial"/>
              </a:rPr>
              <a:t>Grounding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executable communication technology for interac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choreography related errors (e.g. input wrong, message timeout, etc.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Arial"/>
              </a:rPr>
              <a:t>Formal Mode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reasoning on Web Service interfaces (service interoperabilit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allow mediation support on Web Service interfac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5600" y="1192320"/>
            <a:ext cx="863136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Arial"/>
              </a:rPr>
              <a:t>Interface for consuming Web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0707"/>
                </a:solidFill>
                <a:latin typeface="Arial"/>
              </a:rPr>
              <a:t>Orchestration Aspects 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72200" y="4033800"/>
            <a:ext cx="332244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180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decomposition of service function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ll service interaction via choreographie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" y="1192320"/>
            <a:ext cx="863136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Arial"/>
              </a:rPr>
              <a:t>Control Structure for aggregation of other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311640" y="4141800"/>
            <a:ext cx="1024920" cy="576360"/>
            <a:chOff x="3311640" y="4141800"/>
            <a:chExt cx="1024920" cy="576360"/>
          </a:xfrm>
        </p:grpSpPr>
        <p:grpSp>
          <p:nvGrpSpPr>
            <p:cNvPr id="229" name=""/>
            <p:cNvGrpSpPr/>
            <p:nvPr/>
          </p:nvGrpSpPr>
          <p:grpSpPr>
            <a:xfrm>
              <a:off x="3427200" y="4141800"/>
              <a:ext cx="909360" cy="576360"/>
              <a:chOff x="3427200" y="4141800"/>
              <a:chExt cx="909360" cy="576360"/>
            </a:xfrm>
          </p:grpSpPr>
          <p:sp>
            <p:nvSpPr>
              <p:cNvPr id="230" name=""/>
              <p:cNvSpPr/>
              <p:nvPr/>
            </p:nvSpPr>
            <p:spPr>
              <a:xfrm>
                <a:off x="3427200" y="4141800"/>
                <a:ext cx="909360" cy="576360"/>
              </a:xfrm>
              <a:prstGeom prst="donut">
                <a:avLst>
                  <a:gd name="adj" fmla="val 1194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607200" y="425628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W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3311640" y="4149720"/>
              <a:ext cx="313920" cy="485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 rot="5400000">
            <a:off x="-526320" y="3281400"/>
            <a:ext cx="3135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ice Business 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90800" y="2733840"/>
            <a:ext cx="371520" cy="276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63720" y="3701880"/>
            <a:ext cx="371520" cy="276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79840" y="3336840"/>
            <a:ext cx="371160" cy="276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4343400"/>
            <a:ext cx="371520" cy="276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4" idx="6"/>
            <a:endCxn id="239" idx="1"/>
          </p:cNvCxnSpPr>
          <p:nvPr/>
        </p:nvCxnSpPr>
        <p:spPr>
          <a:xfrm flipV="1">
            <a:off x="2362320" y="2833200"/>
            <a:ext cx="923040" cy="38880"/>
          </a:xfrm>
          <a:prstGeom prst="straightConnector1">
            <a:avLst/>
          </a:prstGeom>
          <a:ln w="25560">
            <a:solidFill>
              <a:srgbClr val="333399"/>
            </a:solidFill>
            <a:miter/>
          </a:ln>
        </p:spPr>
      </p:cxnSp>
      <p:cxnSp>
        <p:nvCxnSpPr>
          <p:cNvPr id="240" name=""/>
          <p:cNvCxnSpPr>
            <a:stCxn id="235" idx="6"/>
            <a:endCxn id="232" idx="1"/>
          </p:cNvCxnSpPr>
          <p:nvPr/>
        </p:nvCxnSpPr>
        <p:spPr>
          <a:xfrm>
            <a:off x="2235240" y="3840120"/>
            <a:ext cx="112284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</a:ln>
        </p:spPr>
      </p:cxnSp>
      <p:cxnSp>
        <p:nvCxnSpPr>
          <p:cNvPr id="241" name=""/>
          <p:cNvCxnSpPr>
            <a:stCxn id="236" idx="6"/>
            <a:endCxn id="239" idx="3"/>
          </p:cNvCxnSpPr>
          <p:nvPr/>
        </p:nvCxnSpPr>
        <p:spPr>
          <a:xfrm flipV="1">
            <a:off x="3050640" y="3175920"/>
            <a:ext cx="234360" cy="299160"/>
          </a:xfrm>
          <a:prstGeom prst="straightConnector1">
            <a:avLst/>
          </a:prstGeom>
          <a:ln w="25560">
            <a:solidFill>
              <a:srgbClr val="333399"/>
            </a:solidFill>
            <a:miter/>
          </a:ln>
        </p:spPr>
      </p:cxnSp>
      <p:cxnSp>
        <p:nvCxnSpPr>
          <p:cNvPr id="242" name=""/>
          <p:cNvCxnSpPr>
            <a:stCxn id="237" idx="6"/>
            <a:endCxn id="232" idx="2"/>
          </p:cNvCxnSpPr>
          <p:nvPr/>
        </p:nvCxnSpPr>
        <p:spPr>
          <a:xfrm flipV="1">
            <a:off x="2505240" y="4392000"/>
            <a:ext cx="807120" cy="89640"/>
          </a:xfrm>
          <a:prstGeom prst="straightConnector1">
            <a:avLst/>
          </a:prstGeom>
          <a:ln w="25560">
            <a:solidFill>
              <a:srgbClr val="333399"/>
            </a:solidFill>
            <a:miter/>
          </a:ln>
        </p:spPr>
      </p:cxnSp>
      <p:grpSp>
        <p:nvGrpSpPr>
          <p:cNvPr id="243" name=""/>
          <p:cNvGrpSpPr/>
          <p:nvPr/>
        </p:nvGrpSpPr>
        <p:grpSpPr>
          <a:xfrm>
            <a:off x="3238560" y="2706840"/>
            <a:ext cx="1006560" cy="576000"/>
            <a:chOff x="3238560" y="2706840"/>
            <a:chExt cx="1006560" cy="576000"/>
          </a:xfrm>
        </p:grpSpPr>
        <p:grpSp>
          <p:nvGrpSpPr>
            <p:cNvPr id="244" name=""/>
            <p:cNvGrpSpPr/>
            <p:nvPr/>
          </p:nvGrpSpPr>
          <p:grpSpPr>
            <a:xfrm>
              <a:off x="3335400" y="2706840"/>
              <a:ext cx="909720" cy="576000"/>
              <a:chOff x="3335400" y="2706840"/>
              <a:chExt cx="909720" cy="576000"/>
            </a:xfrm>
          </p:grpSpPr>
          <p:sp>
            <p:nvSpPr>
              <p:cNvPr id="245" name=""/>
              <p:cNvSpPr/>
              <p:nvPr/>
            </p:nvSpPr>
            <p:spPr>
              <a:xfrm>
                <a:off x="3335400" y="2706840"/>
                <a:ext cx="909720" cy="576000"/>
              </a:xfrm>
              <a:prstGeom prst="donut">
                <a:avLst>
                  <a:gd name="adj" fmla="val 1194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16120" y="282096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W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3238560" y="2761920"/>
              <a:ext cx="314280" cy="485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638360" y="2152800"/>
            <a:ext cx="1724040" cy="3105000"/>
          </a:xfrm>
          <a:prstGeom prst="ellipse">
            <a:avLst/>
          </a:prstGeom>
          <a:blipFill rotWithShape="0">
            <a:blip r:embed="rId1">
              <a:alphaModFix amt="1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34" idx="4"/>
            <a:endCxn id="235" idx="0"/>
          </p:cNvCxnSpPr>
          <p:nvPr/>
        </p:nvCxnSpPr>
        <p:spPr>
          <a:xfrm flipH="1">
            <a:off x="2048760" y="3009960"/>
            <a:ext cx="12780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35" idx="7"/>
            <a:endCxn id="236" idx="2"/>
          </p:cNvCxnSpPr>
          <p:nvPr/>
        </p:nvCxnSpPr>
        <p:spPr>
          <a:xfrm flipV="1">
            <a:off x="2180880" y="3474720"/>
            <a:ext cx="4993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5" idx="4"/>
            <a:endCxn id="237" idx="0"/>
          </p:cNvCxnSpPr>
          <p:nvPr/>
        </p:nvCxnSpPr>
        <p:spPr>
          <a:xfrm>
            <a:off x="2049480" y="3978360"/>
            <a:ext cx="27072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 flipH="1">
            <a:off x="1447920" y="2857680"/>
            <a:ext cx="504720" cy="9360"/>
          </a:xfrm>
          <a:prstGeom prst="line">
            <a:avLst/>
          </a:prstGeom>
          <a:ln w="158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444320" y="3454560"/>
            <a:ext cx="1219320" cy="9360"/>
          </a:xfrm>
          <a:prstGeom prst="line">
            <a:avLst/>
          </a:prstGeom>
          <a:ln w="158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450800" y="3832200"/>
            <a:ext cx="447840" cy="0"/>
          </a:xfrm>
          <a:prstGeom prst="line">
            <a:avLst/>
          </a:prstGeom>
          <a:ln w="158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488960" y="4489560"/>
            <a:ext cx="666720" cy="0"/>
          </a:xfrm>
          <a:prstGeom prst="line">
            <a:avLst/>
          </a:prstGeom>
          <a:ln w="158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"/>
          <p:cNvCxnSpPr>
            <a:stCxn id="234" idx="2"/>
            <a:endCxn id="235" idx="2"/>
          </p:cNvCxnSpPr>
          <p:nvPr/>
        </p:nvCxnSpPr>
        <p:spPr>
          <a:xfrm flipV="1" rot="10800000">
            <a:off x="1863000" y="2871360"/>
            <a:ext cx="127800" cy="969120"/>
          </a:xfrm>
          <a:prstGeom prst="curvedConnector5">
            <a:avLst>
              <a:gd name="adj1" fmla="val 174858"/>
              <a:gd name="adj2" fmla="val 49981"/>
              <a:gd name="adj3" fmla="val 174858"/>
            </a:avLst>
          </a:prstGeom>
          <a:ln w="12600">
            <a:solidFill>
              <a:srgbClr val="993300"/>
            </a:solidFill>
            <a:prstDash val="dash"/>
            <a:miter/>
            <a:tailEnd len="med" type="triangle" w="med"/>
          </a:ln>
        </p:spPr>
      </p:cxnSp>
      <p:cxnSp>
        <p:nvCxnSpPr>
          <p:cNvPr id="256" name=""/>
          <p:cNvCxnSpPr>
            <a:stCxn id="235" idx="7"/>
            <a:endCxn id="236" idx="0"/>
          </p:cNvCxnSpPr>
          <p:nvPr/>
        </p:nvCxnSpPr>
        <p:spPr>
          <a:xfrm flipH="1" flipV="1" rot="5400000">
            <a:off x="2320560" y="3196440"/>
            <a:ext cx="405720" cy="685080"/>
          </a:xfrm>
          <a:prstGeom prst="curvedConnector5">
            <a:avLst>
              <a:gd name="adj1" fmla="val 113676"/>
              <a:gd name="adj2" fmla="val 50000"/>
              <a:gd name="adj3" fmla="val 113676"/>
            </a:avLst>
          </a:prstGeom>
          <a:ln w="12600">
            <a:solidFill>
              <a:srgbClr val="993300"/>
            </a:solidFill>
            <a:prstDash val="dash"/>
            <a:miter/>
            <a:tailEnd len="med" type="triangle" w="med"/>
          </a:ln>
        </p:spPr>
      </p:cxnSp>
      <p:cxnSp>
        <p:nvCxnSpPr>
          <p:cNvPr id="257" name=""/>
          <p:cNvCxnSpPr>
            <a:stCxn id="235" idx="3"/>
            <a:endCxn id="237" idx="1"/>
          </p:cNvCxnSpPr>
          <p:nvPr/>
        </p:nvCxnSpPr>
        <p:spPr>
          <a:xfrm flipH="1" rot="16200000">
            <a:off x="1830600" y="4025520"/>
            <a:ext cx="444960" cy="270720"/>
          </a:xfrm>
          <a:prstGeom prst="curvedConnector5">
            <a:avLst>
              <a:gd name="adj1" fmla="val 92793"/>
              <a:gd name="adj2" fmla="val 49933"/>
              <a:gd name="adj3" fmla="val 92793"/>
            </a:avLst>
          </a:prstGeom>
          <a:ln w="12600">
            <a:solidFill>
              <a:srgbClr val="993300"/>
            </a:solidFill>
            <a:prstDash val="dash"/>
            <a:miter/>
            <a:tailEnd len="med" type="triangle" w="med"/>
          </a:ln>
        </p:spPr>
      </p:cxnSp>
      <p:grpSp>
        <p:nvGrpSpPr>
          <p:cNvPr id="258" name=""/>
          <p:cNvGrpSpPr/>
          <p:nvPr/>
        </p:nvGrpSpPr>
        <p:grpSpPr>
          <a:xfrm>
            <a:off x="5663880" y="2254320"/>
            <a:ext cx="2203920" cy="1023840"/>
            <a:chOff x="5663880" y="2254320"/>
            <a:chExt cx="2203920" cy="1023840"/>
          </a:xfrm>
        </p:grpSpPr>
        <p:sp>
          <p:nvSpPr>
            <p:cNvPr id="259" name=""/>
            <p:cNvSpPr/>
            <p:nvPr/>
          </p:nvSpPr>
          <p:spPr>
            <a:xfrm>
              <a:off x="5673960" y="2254320"/>
              <a:ext cx="37116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>
              <a:off x="5673960" y="3192120"/>
              <a:ext cx="398880" cy="1080"/>
            </a:xfrm>
            <a:prstGeom prst="straightConnector1">
              <a:avLst/>
            </a:prstGeom>
            <a:ln w="25560">
              <a:solidFill>
                <a:srgbClr val="333399"/>
              </a:solidFill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 flipV="1">
              <a:off x="5663880" y="2922480"/>
              <a:ext cx="369000" cy="3600"/>
            </a:xfrm>
            <a:prstGeom prst="straightConnector1">
              <a:avLst/>
            </a:prstGeom>
            <a:ln w="12600">
              <a:solidFill>
                <a:srgbClr val="9933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62" name=""/>
            <p:cNvCxnSpPr/>
            <p:nvPr/>
          </p:nvCxnSpPr>
          <p:spPr>
            <a:xfrm flipV="1">
              <a:off x="5673960" y="2652480"/>
              <a:ext cx="37512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5869080" y="2268720"/>
              <a:ext cx="1998720" cy="10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32640" indent="-165960">
                <a:lnSpc>
                  <a:spcPct val="12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"/>
                </a:rPr>
                <a:t>State in Orchestr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32640" indent="-165960">
                <a:lnSpc>
                  <a:spcPct val="12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"/>
                </a:rPr>
                <a:t>Control Flo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32640" indent="-165960">
                <a:lnSpc>
                  <a:spcPct val="12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"/>
                </a:rPr>
                <a:t>Data Flo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32640" indent="-165960">
                <a:lnSpc>
                  <a:spcPct val="12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Arial"/>
                </a:rPr>
                <a:t>Service Intera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WSMO Web Service Interfac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0880" y="1327320"/>
            <a:ext cx="8121600" cy="45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service interfaces are concerned with service consumption and interaction 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horeography and Orchestration as sub-concepts of Service Interface 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</a:rPr>
              <a:t>common requirements for service interface description: </a:t>
            </a:r>
            <a:endParaRPr b="0" lang="en-US" sz="2200" spc="-1" strike="noStrike">
              <a:solidFill>
                <a:srgbClr val="404040"/>
              </a:solidFill>
              <a:latin typeface="Arial"/>
            </a:endParaRPr>
          </a:p>
          <a:p>
            <a:pPr lvl="1" marL="981000" indent="-533160">
              <a:spcBef>
                <a:spcPts val="451"/>
              </a:spcBef>
              <a:buClr>
                <a:srgbClr val="40404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epresent the dynamics of information interchange during service consumption and interaction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981000" indent="-533160">
              <a:spcBef>
                <a:spcPts val="451"/>
              </a:spcBef>
              <a:buClr>
                <a:srgbClr val="40404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upport ontologies as the underlying data model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981000" indent="-533160">
              <a:spcBef>
                <a:spcPts val="451"/>
              </a:spcBef>
              <a:buClr>
                <a:srgbClr val="40404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ppropriate communication technology for information interchange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981000" indent="-533160">
              <a:spcBef>
                <a:spcPts val="451"/>
              </a:spcBef>
              <a:buClr>
                <a:srgbClr val="40404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ound formal model / semantics of service interface specifications in order to allow operations on them.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Service Interface Description 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0880" y="1327320"/>
            <a:ext cx="8121600" cy="45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Arial"/>
              </a:rPr>
              <a:t>Ontologies as data model: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85160" indent="-25992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all data elements interchanged are ontology instances 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85160" indent="-25992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service interface = evolving ontology 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851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Arial"/>
              </a:rPr>
              <a:t>Abstract State Machines (ASM) as formal framework: 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85160" indent="-25992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dynamics representation: high expressiveness &amp; low ontological commitment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85160" indent="-25992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core principles: state-based, state definition by formal algebra, guarded transitions for state changes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85160" indent="-25992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overcome the “Frame Problem” 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851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Arial"/>
              </a:rPr>
              <a:t>further characteristics: 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85160" indent="-25992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not restricted to any specific communication technology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85160" indent="-25992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ontology reasoning for service interoperability determination  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1" marL="785160" indent="-259920">
              <a:lnSpc>
                <a:spcPct val="9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basis for declarative mediation techniques on service interfaces  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b0707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98560" y="1526760"/>
            <a:ext cx="7788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Arial"/>
              </a:rPr>
              <a:t>WSMO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040"/>
                </a:solidFill>
                <a:latin typeface="Arial"/>
              </a:rPr>
              <a:t>aims &amp; objectives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040"/>
                </a:solidFill>
                <a:latin typeface="Arial"/>
              </a:rPr>
              <a:t>working structure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Design Principles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Top Level Notion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Ontologies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04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Mediators 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0707"/>
                </a:solidFill>
                <a:latin typeface="Arial"/>
              </a:rPr>
              <a:t>Service Interface Description Model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880" y="1327320"/>
            <a:ext cx="8121600" cy="45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Vocabulary </a:t>
            </a:r>
            <a:r>
              <a:rPr b="0" lang="en-US" sz="2400" spc="-1" strike="noStrike">
                <a:solidFill>
                  <a:srgbClr val="3c56a4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ontology schema(s) used in service interface description 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usage for information interchange: in, out, shared, controlled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tates </a:t>
            </a:r>
            <a:r>
              <a:rPr b="0" lang="en-US" sz="2400" spc="-1" strike="noStrike">
                <a:solidFill>
                  <a:srgbClr val="3c56a4"/>
                </a:solidFill>
                <a:latin typeface="Arial"/>
              </a:rPr>
              <a:t>ω(Ω)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 stable status in the information space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defined by attribute values of ontology instances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Guarded Transition </a:t>
            </a:r>
            <a:r>
              <a:rPr b="0" lang="en-US" sz="2400" spc="-1" strike="noStrike">
                <a:solidFill>
                  <a:srgbClr val="3c56a4"/>
                </a:solidFill>
                <a:latin typeface="Arial"/>
              </a:rPr>
              <a:t>GT(ω)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tate transition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general structure: </a:t>
            </a:r>
            <a:r>
              <a:rPr b="1" i="1" lang="en-US" sz="2000" spc="-1" strike="noStrike">
                <a:solidFill>
                  <a:srgbClr val="40404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(condition) </a:t>
            </a:r>
            <a:r>
              <a:rPr b="1" i="1" lang="en-US" sz="2000" spc="-1" strike="noStrike">
                <a:solidFill>
                  <a:srgbClr val="40404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(action)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different for Choreography and Orchestration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Service Interface Exampl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82760" y="1917720"/>
            <a:ext cx="1542960" cy="1225440"/>
          </a:xfrm>
          <a:prstGeom prst="rect">
            <a:avLst/>
          </a:prstGeom>
          <a:solidFill>
            <a:srgbClr val="c0c0c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Valu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p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Y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97080" y="3746520"/>
            <a:ext cx="186048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ber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Valu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Valu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80280" y="3755880"/>
            <a:ext cx="1616040" cy="14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ber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Valu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Valu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ber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Valu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32280" y="3727440"/>
            <a:ext cx="1698480" cy="1139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ber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Valu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ber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Valu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8760" y="3403440"/>
            <a:ext cx="9586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ω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51200" y="3451320"/>
            <a:ext cx="2460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arded Transition GT(ω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88200" y="3465360"/>
            <a:ext cx="12348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ω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32320" y="1905120"/>
            <a:ext cx="1542960" cy="1216080"/>
          </a:xfrm>
          <a:prstGeom prst="rect">
            <a:avLst/>
          </a:prstGeom>
          <a:solidFill>
            <a:srgbClr val="c0c0c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sValu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p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 [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Z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68040" y="1827360"/>
            <a:ext cx="2108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Vocabular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- Concept A in Ω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- Concept B in Ω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0120" y="517032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eceived ont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stance </a:t>
            </a:r>
            <a:r>
              <a:rPr b="1" i="1" lang="en-US" sz="1800" spc="-1" strike="noStrike">
                <a:solidFill>
                  <a:srgbClr val="40404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" y="1192320"/>
            <a:ext cx="8631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Arial"/>
              </a:rPr>
              <a:t>Communication Behavior of a Web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18000" y="530064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ent ont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stance </a:t>
            </a:r>
            <a:r>
              <a:rPr b="1" i="1" lang="en-US" sz="1800" spc="-1" strike="noStrike">
                <a:solidFill>
                  <a:srgbClr val="40404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24240" y="424800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11760" y="423540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90400" y="5533920"/>
            <a:ext cx="3277440" cy="550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ologies as data mode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every resource description based on ontolog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every data element interchanged is ontology in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4552920"/>
            <a:ext cx="2743200" cy="550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 description of service interfac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ASM-based approach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allows reasoning &amp; medi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33680" y="3619440"/>
            <a:ext cx="4075200" cy="550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flow constructs as basis for describing service interfac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workflow based process models for describing behavior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on basis of generic workflow constructs (e.g. van der Aal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040" y="1181160"/>
            <a:ext cx="3440520" cy="85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reograph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interaction of services / service and clien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a „choreography interface“ describes the behavior of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b Service for client-service interaction for consum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ervic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7880" y="1181160"/>
            <a:ext cx="3807720" cy="85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chestr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how the functionality of a Web Service is achieved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gregating other  Web Servi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extends Choreography descriptions by control &amp; data fl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tructs between orchestrating WS and orchestrated WSs.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43720" y="5524560"/>
            <a:ext cx="2472840" cy="550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nd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making service interfaces executable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currently grounding to WSDL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"/>
          <p:cNvCxnSpPr>
            <a:stCxn id="286" idx="0"/>
            <a:endCxn id="287" idx="2"/>
          </p:cNvCxnSpPr>
          <p:nvPr/>
        </p:nvCxnSpPr>
        <p:spPr>
          <a:xfrm flipH="1" flipV="1" rot="5400000">
            <a:off x="3639240" y="4600800"/>
            <a:ext cx="423000" cy="144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7" idx="3"/>
            <a:endCxn id="291" idx="0"/>
          </p:cNvCxnSpPr>
          <p:nvPr/>
        </p:nvCxnSpPr>
        <p:spPr>
          <a:xfrm>
            <a:off x="5943600" y="4831920"/>
            <a:ext cx="937440" cy="693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88" idx="2"/>
            <a:endCxn id="287" idx="0"/>
          </p:cNvCxnSpPr>
          <p:nvPr/>
        </p:nvCxnSpPr>
        <p:spPr>
          <a:xfrm>
            <a:off x="4571640" y="4177800"/>
            <a:ext cx="1080" cy="37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96" idx="0"/>
            <a:endCxn id="289" idx="2"/>
          </p:cNvCxnSpPr>
          <p:nvPr/>
        </p:nvCxnSpPr>
        <p:spPr>
          <a:xfrm flipV="1" rot="16200000">
            <a:off x="3052440" y="1175760"/>
            <a:ext cx="651600" cy="238824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6" idx="0"/>
            <a:endCxn id="290" idx="2"/>
          </p:cNvCxnSpPr>
          <p:nvPr/>
        </p:nvCxnSpPr>
        <p:spPr>
          <a:xfrm flipH="1" flipV="1" rot="5400000">
            <a:off x="5276520" y="1339560"/>
            <a:ext cx="651600" cy="20613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812040" y="2171880"/>
            <a:ext cx="126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ceptual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14600" y="2695680"/>
            <a:ext cx="4114800" cy="550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r langu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based on UML2  activity diagram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graphical Tool for Editing &amp; Browsing Service Interface Descri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6" idx="2"/>
            <a:endCxn id="288" idx="0"/>
          </p:cNvCxnSpPr>
          <p:nvPr/>
        </p:nvCxnSpPr>
        <p:spPr>
          <a:xfrm>
            <a:off x="4571640" y="3254400"/>
            <a:ext cx="10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b0707"/>
                </a:solidFill>
                <a:latin typeface="Arial"/>
              </a:rPr>
              <a:t>WSMO Goals 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3141720"/>
            <a:ext cx="2174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Provide the formally specified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of the information used by all othe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99080" y="3141720"/>
            <a:ext cx="2644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emantic description of Web Servic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Capability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(func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Interfaces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(usa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70040" y="501336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nnectors between components with mediation facilities for handling heterogene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40000" y="1557360"/>
            <a:ext cx="4176720" cy="13064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614680" y="2712960"/>
            <a:ext cx="3870360" cy="20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411280" y="1604880"/>
            <a:ext cx="40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Objectives that a client want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hieve by using 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b0707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38040" y="1500120"/>
            <a:ext cx="845496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Ontological De-coupling of Requester and Provider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Goal-driven Approach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, derived from AI rational agent approach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equester formulates objective independently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telligent’ mechanisms detect suitable services for solving the Goal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ows re-use of Services for different purposes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826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Usage of Goals within Semantic Web Servic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 Requester (human or machine) defines a Goal to be resolved 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Web Service Discovery detects suitable Web Services for solving the Goal automatically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Goal Resolution Management is realized in implementations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Goal Specifica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4800" y="1526760"/>
            <a:ext cx="79916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Arial"/>
              </a:rPr>
              <a:t>Non functional properties 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Arial"/>
              </a:rPr>
              <a:t>Imported Ontologies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Arial"/>
              </a:rPr>
              <a:t>Used mediators 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OO Mediators: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 importing ontologies with heterogeneity resolution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GG Mediator: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Goal definition by reusing an already existing goal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ows definition of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Goal Ontologies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Arial"/>
              </a:rPr>
              <a:t>Requested Capability 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cribes service functionality expected to resolve the objective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fined as capability description from the requester perspective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4040"/>
                </a:solidFill>
                <a:latin typeface="Arial"/>
              </a:rPr>
              <a:t>Requested Interface 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cribes communication behaviour supported by the requester for consuming a Web Service (Choreography)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estrictions / preferences on orchestrations of acceptable Web Services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b0707"/>
                </a:solidFill>
                <a:latin typeface="Arial"/>
              </a:rPr>
              <a:t>WSMO </a:t>
            </a: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Mediator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0920" y="3141720"/>
            <a:ext cx="2174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Provide the formally specified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of the information used by all othe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99080" y="3141720"/>
            <a:ext cx="2514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emantic description of Web Servic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Capability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(func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Interfaces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(usa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97240" y="499284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nnectors between components with mediation facilities for handling heterogene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70160" y="4570560"/>
            <a:ext cx="4032360" cy="14396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433600" y="2408400"/>
            <a:ext cx="3586320" cy="20602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411280" y="1604880"/>
            <a:ext cx="40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Objectives that a client want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hieve by using 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Mediation 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5075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Heterogeneity …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ismatches on structural / semantic / conceptual / level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Occur between different components that shall interoperate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8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specially in distributed &amp; open environments like the Internet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Concept of Mediation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(Wiederhold, 94):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ial"/>
              </a:rPr>
              <a:t>Mediator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as components that resolve mismatch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8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040"/>
                </a:solidFill>
                <a:uFillTx/>
                <a:latin typeface="Arial"/>
              </a:rPr>
              <a:t>Declarative Approach: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257480" indent="-260640">
              <a:lnSpc>
                <a:spcPct val="80000"/>
              </a:lnSpc>
              <a:spcBef>
                <a:spcPts val="425"/>
              </a:spcBef>
              <a:buClr>
                <a:srgbClr val="404040"/>
              </a:buClr>
              <a:buFont typeface="Arial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Semantic description of resources 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  <a:p>
            <a:pPr lvl="2" marL="1257480" indent="-260640">
              <a:lnSpc>
                <a:spcPct val="80000"/>
              </a:lnSpc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‘</a:t>
            </a:r>
            <a:r>
              <a:rPr b="0" lang="en-US" sz="1700" spc="-1" strike="noStrike">
                <a:solidFill>
                  <a:srgbClr val="404040"/>
                </a:solidFill>
                <a:latin typeface="Arial"/>
              </a:rPr>
              <a:t>Intelligent’ mechanisms that resolve mismatches independent of content</a:t>
            </a: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Mediation cannot be fully automated (integration decision)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Levels of Mediation within Semantic Web Services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(WSMF):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AutoNum type="arabicParenR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Data Level: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ediate heterogeneous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</a:rPr>
              <a:t>Data Sources 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AutoNum type="arabicParenR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Protocol Level: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ediate heterogeneous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</a:rPr>
              <a:t>Communication Patterns 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AutoNum type="arabicParenR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Process Level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ediate heterogeneous </a:t>
            </a:r>
            <a:r>
              <a:rPr b="0" lang="en-US" sz="1800" spc="-1" strike="noStrike" u="sng">
                <a:solidFill>
                  <a:srgbClr val="404040"/>
                </a:solidFill>
                <a:uFillTx/>
                <a:latin typeface="Arial"/>
              </a:rPr>
              <a:t>Business Processes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b0707"/>
                </a:solidFill>
                <a:latin typeface="Arial"/>
              </a:rPr>
              <a:t>WSMO </a:t>
            </a: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Mediators Overview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960480" y="1306440"/>
            <a:ext cx="7272360" cy="4583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193760" y="2900520"/>
            <a:ext cx="1368360" cy="360360"/>
          </a:xfrm>
          <a:prstGeom prst="ellipse">
            <a:avLst/>
          </a:prstGeom>
          <a:solidFill>
            <a:srgbClr val="3366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73720" y="4616280"/>
            <a:ext cx="1295280" cy="360360"/>
          </a:xfrm>
          <a:prstGeom prst="ellipse">
            <a:avLst/>
          </a:prstGeom>
          <a:solidFill>
            <a:srgbClr val="3366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86280" y="4160880"/>
            <a:ext cx="1224000" cy="288720"/>
          </a:xfrm>
          <a:prstGeom prst="ellipse">
            <a:avLst/>
          </a:prstGeom>
          <a:solidFill>
            <a:srgbClr val="3366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57920" y="3508200"/>
            <a:ext cx="1296720" cy="289080"/>
          </a:xfrm>
          <a:prstGeom prst="ellipse">
            <a:avLst/>
          </a:prstGeom>
          <a:solidFill>
            <a:srgbClr val="3366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024520" y="2727360"/>
            <a:ext cx="1368360" cy="360360"/>
          </a:xfrm>
          <a:prstGeom prst="ellipse">
            <a:avLst/>
          </a:prstGeom>
          <a:solidFill>
            <a:srgbClr val="3366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2200320"/>
            <a:ext cx="1368360" cy="360360"/>
          </a:xfrm>
          <a:prstGeom prst="ellipse">
            <a:avLst/>
          </a:prstGeom>
          <a:solidFill>
            <a:srgbClr val="3366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00080" y="4659480"/>
            <a:ext cx="3168720" cy="12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03800" y="5146560"/>
            <a:ext cx="1295280" cy="360360"/>
          </a:xfrm>
          <a:prstGeom prst="ellipse">
            <a:avLst/>
          </a:prstGeom>
          <a:solidFill>
            <a:srgbClr val="00ff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10480" y="3467160"/>
            <a:ext cx="1295280" cy="360360"/>
          </a:xfrm>
          <a:prstGeom prst="ellipse">
            <a:avLst/>
          </a:prstGeom>
          <a:solidFill>
            <a:srgbClr val="ffcc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91040" y="1666800"/>
            <a:ext cx="1295640" cy="360360"/>
          </a:xfrm>
          <a:prstGeom prst="ellipse">
            <a:avLst/>
          </a:prstGeom>
          <a:solidFill>
            <a:srgbClr val="ff66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Mediator Structur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32000" y="1376280"/>
            <a:ext cx="288000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300480" y="1663560"/>
            <a:ext cx="2603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SMO 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tion Servic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5080" y="1663560"/>
            <a:ext cx="1515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mpon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9760" y="2813040"/>
            <a:ext cx="1515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mpon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35" idx="3"/>
            <a:endCxn id="333" idx="2"/>
          </p:cNvCxnSpPr>
          <p:nvPr/>
        </p:nvCxnSpPr>
        <p:spPr>
          <a:xfrm>
            <a:off x="2206800" y="1988640"/>
            <a:ext cx="925920" cy="288360"/>
          </a:xfrm>
          <a:prstGeom prst="bentConnector3">
            <a:avLst>
              <a:gd name="adj1" fmla="val 499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6" idx="3"/>
            <a:endCxn id="333" idx="2"/>
          </p:cNvCxnSpPr>
          <p:nvPr/>
        </p:nvCxnSpPr>
        <p:spPr>
          <a:xfrm flipV="1">
            <a:off x="2211120" y="2276280"/>
            <a:ext cx="921240" cy="862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6665040" y="2166840"/>
            <a:ext cx="1515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mpon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"/>
          <p:cNvCxnSpPr>
            <a:stCxn id="333" idx="6"/>
            <a:endCxn id="339" idx="1"/>
          </p:cNvCxnSpPr>
          <p:nvPr/>
        </p:nvCxnSpPr>
        <p:spPr>
          <a:xfrm>
            <a:off x="6011640" y="2276280"/>
            <a:ext cx="648360" cy="216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122920" y="2367000"/>
            <a:ext cx="5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 ..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6840" y="2166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80000" y="4713120"/>
            <a:ext cx="1655640" cy="10083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3240" y="490536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ed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"/>
          <p:cNvCxnSpPr>
            <a:stCxn id="334" idx="2"/>
            <a:endCxn id="343" idx="1"/>
          </p:cNvCxnSpPr>
          <p:nvPr/>
        </p:nvCxnSpPr>
        <p:spPr>
          <a:xfrm>
            <a:off x="4601880" y="2517840"/>
            <a:ext cx="6840" cy="2196000"/>
          </a:xfrm>
          <a:prstGeom prst="straightConnector1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46" name=""/>
          <p:cNvSpPr/>
          <p:nvPr/>
        </p:nvSpPr>
        <p:spPr>
          <a:xfrm>
            <a:off x="4572000" y="324972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Go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ly incl. Med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b0707"/>
                </a:solidFill>
                <a:latin typeface="Arial"/>
              </a:rPr>
              <a:t>WSMO</a:t>
            </a:r>
            <a:r>
              <a:rPr b="0" lang="de-DE" sz="4000" spc="-1" strike="noStrike">
                <a:solidFill>
                  <a:srgbClr val="9b0707"/>
                </a:solidFill>
                <a:latin typeface="Arial"/>
              </a:rPr>
              <a:t> is ..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4080" y="1546200"/>
            <a:ext cx="844524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a conceptual model for Semantic Web Services :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ntology of core elements for Semantic Web Services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a formal description language (WSML)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execution environment (WSMX)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derived from and based on the Web Service Modeling Framework WSMF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a SDK-Cluster Working Group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(joint European research and development initiative)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b0707"/>
                </a:solidFill>
                <a:latin typeface="Arial"/>
              </a:rPr>
              <a:t>OO </a:t>
            </a: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Mediator - Exampl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32000" y="2133720"/>
            <a:ext cx="2880000" cy="179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42120" y="2314440"/>
            <a:ext cx="17978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O 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tion Servi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1480" y="2276640"/>
            <a:ext cx="2062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ain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ntology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9920" y="3213000"/>
            <a:ext cx="165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urch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ntology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50" idx="3"/>
            <a:endCxn id="348" idx="2"/>
          </p:cNvCxnSpPr>
          <p:nvPr/>
        </p:nvCxnSpPr>
        <p:spPr>
          <a:xfrm>
            <a:off x="2479680" y="2601720"/>
            <a:ext cx="653040" cy="432360"/>
          </a:xfrm>
          <a:prstGeom prst="bentConnector3">
            <a:avLst>
              <a:gd name="adj1" fmla="val 498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51" idx="3"/>
            <a:endCxn id="348" idx="2"/>
          </p:cNvCxnSpPr>
          <p:nvPr/>
        </p:nvCxnSpPr>
        <p:spPr>
          <a:xfrm flipV="1">
            <a:off x="2280960" y="3033360"/>
            <a:ext cx="851400" cy="505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6284160" y="2852640"/>
            <a:ext cx="2277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ain Tic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urchase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"/>
          <p:cNvCxnSpPr>
            <a:stCxn id="348" idx="6"/>
            <a:endCxn id="354" idx="1"/>
          </p:cNvCxnSpPr>
          <p:nvPr/>
        </p:nvCxnSpPr>
        <p:spPr>
          <a:xfrm>
            <a:off x="6012000" y="3033360"/>
            <a:ext cx="267120" cy="14472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780000" y="5013360"/>
            <a:ext cx="1512720" cy="1008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91600" y="530064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ed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14560" y="3213000"/>
            <a:ext cx="324180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321300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Go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merge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1, s2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1.ticket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subclassof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2.product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95640" y="4459320"/>
            <a:ext cx="1081080" cy="409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65400" y="4502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58" idx="4"/>
            <a:endCxn id="360" idx="0"/>
          </p:cNvCxnSpPr>
          <p:nvPr/>
        </p:nvCxnSpPr>
        <p:spPr>
          <a:xfrm>
            <a:off x="4535640" y="4221000"/>
            <a:ext cx="216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60" idx="2"/>
            <a:endCxn id="356" idx="1"/>
          </p:cNvCxnSpPr>
          <p:nvPr/>
        </p:nvCxnSpPr>
        <p:spPr>
          <a:xfrm flipV="1" rot="10800000">
            <a:off x="4536360" y="4868280"/>
            <a:ext cx="1080" cy="14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49" idx="2"/>
            <a:endCxn id="358" idx="0"/>
          </p:cNvCxnSpPr>
          <p:nvPr/>
        </p:nvCxnSpPr>
        <p:spPr>
          <a:xfrm rot="5400000">
            <a:off x="4393440" y="3065400"/>
            <a:ext cx="289440" cy="684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3246120" y="162864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Merging 2 ontolog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b0707"/>
                </a:solidFill>
                <a:latin typeface="Arial"/>
              </a:rPr>
              <a:t>GG </a:t>
            </a: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Mediator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Aim: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upport specification of Goals by re-using existing Goals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ow definition of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Goal Ontologies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(collection of pre-defined Goals)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-26820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erminology mismatches handled by OO Mediators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809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Example: Goal Refinement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32000" y="3789360"/>
            <a:ext cx="2880000" cy="12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42120" y="3970440"/>
            <a:ext cx="17978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G 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tion Servi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3200" y="4076640"/>
            <a:ext cx="1738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ource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 a tick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"/>
          <p:cNvCxnSpPr>
            <a:stCxn id="370" idx="3"/>
            <a:endCxn id="368" idx="2"/>
          </p:cNvCxnSpPr>
          <p:nvPr/>
        </p:nvCxnSpPr>
        <p:spPr>
          <a:xfrm flipV="1">
            <a:off x="2411280" y="4400280"/>
            <a:ext cx="721440" cy="2160"/>
          </a:xfrm>
          <a:prstGeom prst="bentConnector3">
            <a:avLst>
              <a:gd name="adj1" fmla="val 49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378480" y="4065480"/>
            <a:ext cx="2238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arget Go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 a Train Ticket”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"/>
          <p:cNvCxnSpPr>
            <a:stCxn id="368" idx="6"/>
            <a:endCxn id="372" idx="1"/>
          </p:cNvCxnSpPr>
          <p:nvPr/>
        </p:nvCxnSpPr>
        <p:spPr>
          <a:xfrm flipV="1">
            <a:off x="6011640" y="4390200"/>
            <a:ext cx="361080" cy="1044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2843280" y="5249880"/>
            <a:ext cx="3384360" cy="82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32000" y="5321160"/>
            <a:ext cx="295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postcondi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Ticket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memberof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trainticket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"/>
          <p:cNvCxnSpPr>
            <a:stCxn id="369" idx="2"/>
            <a:endCxn id="374" idx="0"/>
          </p:cNvCxnSpPr>
          <p:nvPr/>
        </p:nvCxnSpPr>
        <p:spPr>
          <a:xfrm rot="5400000">
            <a:off x="4203000" y="4911480"/>
            <a:ext cx="670680" cy="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b0707"/>
                </a:solidFill>
                <a:latin typeface="Arial"/>
              </a:rPr>
              <a:t>WG &amp; WW </a:t>
            </a: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Mediator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2560" y="1494000"/>
            <a:ext cx="8213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WG Medi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link a Web Service to a Goal and resolve occurring mismat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atch Web Service and Goals that do not match a pri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handle terminology mismatches between Web Services and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roader range of Goals solvable by a Web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WW Medi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nable interoperability of heterogeneous 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upport automated collaboration between Web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OO Mediators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terminology import with data level me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rotocol Mediation for establishing valid multi-party collabo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rocess Mediation for making Business Processes interop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b0707"/>
                </a:solidFill>
                <a:latin typeface="Arial"/>
              </a:rPr>
              <a:t>WSMO Working Group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1840" y="154296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92640" y="3048120"/>
            <a:ext cx="900000" cy="684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V="1">
            <a:off x="2889360" y="236196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049360" y="236196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30720" y="4287960"/>
            <a:ext cx="3024000" cy="9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348000" y="1994040"/>
            <a:ext cx="17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28600" y="176364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ptual Model for S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89360" y="459576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84280" y="5100480"/>
            <a:ext cx="324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Formal Language for W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096640" y="459576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15920" y="5459400"/>
            <a:ext cx="38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Rule-based Language for S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67640" y="4548240"/>
            <a:ext cx="36972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91240" y="51004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Environment for W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387680" y="1687680"/>
            <a:ext cx="64800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2611440" y="3967200"/>
          <a:ext cx="6476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1440" y="3967200"/>
                    <a:ext cx="647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338880" y="3919680"/>
          <a:ext cx="64764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38880" y="3919680"/>
                    <a:ext cx="647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57160" y="1697040"/>
            <a:ext cx="797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</a:rPr>
              <a:t>Web Compliance</a:t>
            </a: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</a:rPr>
              <a:t>Ontology-Based</a:t>
            </a: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</a:rPr>
              <a:t>Strict Decoupling</a:t>
            </a: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</a:rPr>
              <a:t>Centrality of Mediation</a:t>
            </a: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</a:rPr>
              <a:t>Ontological Role Separation</a:t>
            </a: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</a:rPr>
              <a:t>Description versus Implementation</a:t>
            </a: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Arial"/>
              </a:rPr>
              <a:t>Execution Semantics</a:t>
            </a: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WSMO Design Principl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WSMO Top Level Notion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604880"/>
            <a:ext cx="40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Objectives that a client want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hieve by using 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901960"/>
            <a:ext cx="2174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Provide the formally specified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of the information used by all othe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47920" y="2397240"/>
            <a:ext cx="3895560" cy="2060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99080" y="2901960"/>
            <a:ext cx="2644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emantic description of Web Servic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Capability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(func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Interfaces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(usa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70040" y="477360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onnectors between components with mediation facilities for handling heterogene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570640"/>
            <a:ext cx="87138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09640" indent="-268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61800"/>
                <a:tab algn="l" pos="8096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800000"/>
                </a:solidFill>
                <a:latin typeface="Arial"/>
              </a:rPr>
              <a:t>WSMO D2, version 1.2, 13 April 2005 (W3C submissio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b0707"/>
                </a:solidFill>
                <a:latin typeface="Arial"/>
              </a:rPr>
              <a:t>Non-Functional Properti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0400" y="1346040"/>
            <a:ext cx="778824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every WSMO elements is described by properties that contain relevant, non-functional asp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Dublin Core Metadata S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mplete item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used for resour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Versioning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olution sup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Quality of Service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vailability,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th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Owner, finan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Non-Functional Properties Lis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60400" y="1127160"/>
            <a:ext cx="333072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Dublin Core Meta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ntribu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ove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rea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Descri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rm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dent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angu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Publis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Righ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our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ub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it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y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05200" y="1123920"/>
            <a:ext cx="333072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Quality of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ccur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NetworkRelated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Reliabilit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cal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ac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4920" y="4576680"/>
            <a:ext cx="3330360" cy="17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nan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Own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ypeOfMat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Ver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9b0707"/>
                </a:solidFill>
                <a:latin typeface="Arial"/>
              </a:rPr>
              <a:t>WSMO Ontologi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41720"/>
            <a:ext cx="2175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Provide the formally specified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of the information used by all othe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99080" y="3141720"/>
            <a:ext cx="2644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emantic description of Web Servic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Capability 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(func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</a:rPr>
              <a:t>Interfaces</a:t>
            </a: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 (usa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70040" y="5013360"/>
            <a:ext cx="3946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nnectors between components with mediation facilities for handling heterogene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440" y="2781360"/>
            <a:ext cx="2104920" cy="20160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36800" y="2744640"/>
            <a:ext cx="3384720" cy="2060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11280" y="1604880"/>
            <a:ext cx="40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Objectives that a client want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hieve by using 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0:12:30Z</dcterms:created>
  <dc:creator>Michael Stollberg</dc:creator>
  <dc:description/>
  <dc:language>en-US</dc:language>
  <cp:lastModifiedBy>vt666</cp:lastModifiedBy>
  <dcterms:modified xsi:type="dcterms:W3CDTF">2005-08-31T14:27:36Z</dcterms:modified>
  <cp:revision>597</cp:revision>
  <dc:subject/>
  <dc:title>Semantic Web Services Tutorial  ESWC 2005 </dc:title>
</cp:coreProperties>
</file>