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27280" y="392904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9380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8024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356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2728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8024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356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9380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27280" y="392904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9380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8024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356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2728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8024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356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9380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21480" y="493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3D67-E895-4D10-B455-340A53355BA8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474920" y="6426000"/>
            <a:ext cx="66722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421480" y="493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D432-6E49-4A27-BD6B-4DB3CA1A9AA1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1474920" y="6426000"/>
            <a:ext cx="66722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2" marL="857160" algn="ctr">
              <a:spcBef>
                <a:spcPts val="524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404040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4" marL="1542960" algn="ctr">
              <a:spcBef>
                <a:spcPts val="499"/>
              </a:spcBef>
              <a:buClr>
                <a:srgbClr val="40404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0707"/>
                </a:solidFill>
                <a:latin typeface="Arial"/>
              </a:rPr>
              <a:t>OWL-S 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Arial"/>
              </a:rPr>
              <a:t>Katia Sycara 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35344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Definition of Process</a:t>
            </a:r>
            <a:r>
              <a:rPr b="0" lang="en-GB" sz="3200" spc="-1" strike="noStrike">
                <a:solidFill>
                  <a:srgbClr val="9b070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640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A Process represents a transformation (function).  It is characterized by four parameter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404040"/>
                </a:solidFill>
                <a:latin typeface="Arial"/>
              </a:rPr>
              <a:t>Inputs</a:t>
            </a: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: the inputs that the process requires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404040"/>
                </a:solidFill>
                <a:latin typeface="Arial"/>
              </a:rPr>
              <a:t>Preconditions</a:t>
            </a: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: the conditions that are required for the process to run correctly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404040"/>
                </a:solidFill>
                <a:latin typeface="Arial"/>
              </a:rPr>
              <a:t>Outputs</a:t>
            </a: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: the information that results from (and is returned from) the execution of the proces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404040"/>
                </a:solidFill>
                <a:latin typeface="Arial"/>
              </a:rPr>
              <a:t>Results</a:t>
            </a: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: a process may have different outcomes depending on some condition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404040"/>
                </a:solidFill>
                <a:latin typeface="Arial"/>
              </a:rPr>
              <a:t>Condition</a:t>
            </a:r>
            <a:r>
              <a:rPr b="0" lang="en-GB" sz="1900" spc="-1" strike="noStrike">
                <a:solidFill>
                  <a:srgbClr val="404040"/>
                </a:solidFill>
                <a:latin typeface="Arial"/>
              </a:rPr>
              <a:t>: under what condition the result occurs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404040"/>
                </a:solidFill>
                <a:latin typeface="Arial"/>
              </a:rPr>
              <a:t>Constraints on Outputs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404040"/>
                </a:solidFill>
                <a:latin typeface="Arial"/>
              </a:rPr>
              <a:t>Effects</a:t>
            </a:r>
            <a:r>
              <a:rPr b="0" lang="en-GB" sz="1900" spc="-1" strike="noStrike">
                <a:solidFill>
                  <a:srgbClr val="404040"/>
                </a:solidFill>
                <a:latin typeface="Arial"/>
              </a:rPr>
              <a:t>: real world changes resulting from the execution of the process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Motivation for Result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8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Processes may terminate in exceptional states: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e credit company may fail to charge the credit card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e book may be out of stock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e deliver of the goods may fai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Results support modeling of non-deterministic outcomes of Web services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e condition specifies when an outcome is generated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Each outcome is characterized by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Arial"/>
              </a:rPr>
              <a:t>a set of constraints on outputs </a:t>
            </a:r>
            <a:endParaRPr b="0" lang="en-US" sz="21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Arial"/>
              </a:rPr>
              <a:t>a set of effects</a:t>
            </a:r>
            <a:endParaRPr b="0" lang="en-US" sz="21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Example of Proces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90600" y="1219320"/>
            <a:ext cx="65628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&lt;</a:t>
            </a:r>
            <a:r>
              <a:rPr b="1" lang="en-US" sz="1300" spc="-1" strike="noStrike">
                <a:solidFill>
                  <a:srgbClr val="0099ff"/>
                </a:solidFill>
                <a:latin typeface="Courier New"/>
              </a:rPr>
              <a:t>process:AtomicProcess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 rdf:ID="LogIn"&gt;</a:t>
            </a:r>
            <a:endParaRPr b="0" lang="en-US" sz="13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&lt;</a:t>
            </a:r>
            <a:r>
              <a:rPr b="1" lang="en-US" sz="1300" spc="-1" strike="noStrike">
                <a:solidFill>
                  <a:srgbClr val="009900"/>
                </a:solidFill>
                <a:latin typeface="Courier New"/>
              </a:rPr>
              <a:t>process:hasInput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 rdf:resource="#AcctName"/&gt;</a:t>
            </a:r>
            <a:endParaRPr b="0" lang="en-US" sz="13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&lt;</a:t>
            </a:r>
            <a:r>
              <a:rPr b="1" lang="en-US" sz="1300" spc="-1" strike="noStrike">
                <a:solidFill>
                  <a:srgbClr val="009900"/>
                </a:solidFill>
                <a:latin typeface="Courier New"/>
              </a:rPr>
              <a:t>process:hasInput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 rdf:resource="#Password"/&gt;</a:t>
            </a:r>
            <a:endParaRPr b="0" lang="en-US" sz="13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&lt;</a:t>
            </a:r>
            <a:r>
              <a:rPr b="1" lang="en-US" sz="1300" spc="-1" strike="noStrike">
                <a:solidFill>
                  <a:srgbClr val="009900"/>
                </a:solidFill>
                <a:latin typeface="Courier New"/>
              </a:rPr>
              <a:t>process:hasOutput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 rdf:resource="#Ack"/&gt;</a:t>
            </a:r>
            <a:endParaRPr b="0" lang="en-US" sz="13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&lt;</a:t>
            </a:r>
            <a:r>
              <a:rPr b="1" lang="en-US" sz="1300" spc="-1" strike="noStrike">
                <a:solidFill>
                  <a:srgbClr val="3333cc"/>
                </a:solidFill>
                <a:latin typeface="Courier New"/>
              </a:rPr>
              <a:t>process:hasPrecondition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 </a:t>
            </a:r>
            <a:r>
              <a:rPr b="1" i="1" lang="en-US" sz="1300" spc="-1" strike="noStrike">
                <a:solidFill>
                  <a:srgbClr val="404040"/>
                </a:solidFill>
                <a:latin typeface="Courier New"/>
              </a:rPr>
              <a:t>isMember(AccName)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/&gt;</a:t>
            </a:r>
            <a:endParaRPr b="0" lang="en-US" sz="13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&lt;</a:t>
            </a:r>
            <a:r>
              <a:rPr b="1" lang="en-US" sz="1300" spc="-1" strike="noStrike">
                <a:solidFill>
                  <a:srgbClr val="ff9900"/>
                </a:solidFill>
                <a:latin typeface="Courier New"/>
              </a:rPr>
              <a:t>process:hasResult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&gt;</a:t>
            </a:r>
            <a:endParaRPr b="0" lang="en-US" sz="13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     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&lt;process:Result&gt;</a:t>
            </a:r>
            <a:endParaRPr b="0" lang="en-US" sz="13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&lt;</a:t>
            </a:r>
            <a:r>
              <a:rPr b="1" lang="en-US" sz="1300" spc="-1" strike="noStrike">
                <a:solidFill>
                  <a:srgbClr val="ff3399"/>
                </a:solidFill>
                <a:latin typeface="Courier New"/>
              </a:rPr>
              <a:t>process:inCondition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&gt;</a:t>
            </a:r>
            <a:endParaRPr b="0" lang="en-US" sz="13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&lt;expr:SWRL-Condition&gt;</a:t>
            </a:r>
            <a:endParaRPr b="0" lang="en-US" sz="13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     </a:t>
            </a:r>
            <a:r>
              <a:rPr b="1" i="1" lang="en-US" sz="1300" spc="-1" strike="noStrike">
                <a:solidFill>
                  <a:srgbClr val="ff3399"/>
                </a:solidFill>
                <a:latin typeface="Courier New"/>
              </a:rPr>
              <a:t>correctLoginInfo(AccName,Password)</a:t>
            </a:r>
            <a:endParaRPr b="0" lang="en-US" sz="13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&lt;/expr:SWRL-Condition&gt;</a:t>
            </a:r>
            <a:endParaRPr b="0" lang="en-US" sz="13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&lt;/</a:t>
            </a:r>
            <a:r>
              <a:rPr b="1" lang="en-US" sz="1300" spc="-1" strike="noStrike">
                <a:solidFill>
                  <a:srgbClr val="ff3399"/>
                </a:solidFill>
                <a:latin typeface="Courier New"/>
              </a:rPr>
              <a:t>process:inCondition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&gt;</a:t>
            </a:r>
            <a:endParaRPr b="0" lang="en-US" sz="13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&lt;</a:t>
            </a:r>
            <a:r>
              <a:rPr b="1" lang="en-US" sz="1300" spc="-1" strike="noStrike">
                <a:solidFill>
                  <a:srgbClr val="009900"/>
                </a:solidFill>
                <a:latin typeface="Courier New"/>
              </a:rPr>
              <a:t>process:withOutput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 rdf:resource=“</a:t>
            </a:r>
            <a:r>
              <a:rPr b="1" lang="en-US" sz="1300" spc="-1" strike="noStrike">
                <a:solidFill>
                  <a:srgbClr val="33cc33"/>
                </a:solidFill>
                <a:latin typeface="Courier New"/>
              </a:rPr>
              <a:t>#Ack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“&gt;</a:t>
            </a:r>
            <a:br>
              <a:rPr sz="1300"/>
            </a:b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33cc33"/>
                </a:solidFill>
                <a:latin typeface="Courier New"/>
              </a:rPr>
              <a:t>&lt;valueType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 rdr:resource=“#</a:t>
            </a:r>
            <a:r>
              <a:rPr b="1" lang="en-US" sz="1300" spc="-1" strike="noStrike">
                <a:solidFill>
                  <a:srgbClr val="33cc33"/>
                </a:solidFill>
                <a:latin typeface="Courier New"/>
              </a:rPr>
              <a:t>LoginAcceptMsg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”&gt;</a:t>
            </a:r>
            <a:br>
              <a:rPr sz="1300"/>
            </a:b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    &lt;/</a:t>
            </a:r>
            <a:r>
              <a:rPr b="1" lang="en-US" sz="1300" spc="-1" strike="noStrike">
                <a:solidFill>
                  <a:srgbClr val="009900"/>
                </a:solidFill>
                <a:latin typeface="Courier New"/>
              </a:rPr>
              <a:t>process:withOutput&gt;</a:t>
            </a:r>
            <a:br>
              <a:rPr sz="1300"/>
            </a:b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    &lt;</a:t>
            </a:r>
            <a:r>
              <a:rPr b="1" lang="en-US" sz="1300" spc="-1" strike="noStrike">
                <a:solidFill>
                  <a:srgbClr val="cc3300"/>
                </a:solidFill>
                <a:latin typeface="Courier New"/>
              </a:rPr>
              <a:t>process:hasEffect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&gt;</a:t>
            </a:r>
            <a:endParaRPr b="0" lang="en-US" sz="13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&lt;expr:SWRL-Condition&gt;</a:t>
            </a:r>
            <a:endParaRPr b="0" lang="en-US" sz="13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          </a:t>
            </a:r>
            <a:r>
              <a:rPr b="1" i="1" lang="en-US" sz="1300" spc="-1" strike="noStrike">
                <a:solidFill>
                  <a:srgbClr val="cc3300"/>
                </a:solidFill>
                <a:latin typeface="Courier New"/>
              </a:rPr>
              <a:t>loggedIn(AccName,Password)</a:t>
            </a:r>
            <a:endParaRPr b="0" lang="en-US" sz="13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&lt;/expr:SWRL-Condition&gt;</a:t>
            </a:r>
            <a:endParaRPr b="0" lang="en-US" sz="13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&lt;/</a:t>
            </a:r>
            <a:r>
              <a:rPr b="1" lang="en-US" sz="1300" spc="-1" strike="noStrike">
                <a:solidFill>
                  <a:srgbClr val="cc3300"/>
                </a:solidFill>
                <a:latin typeface="Courier New"/>
              </a:rPr>
              <a:t>process:hasEffect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&gt;</a:t>
            </a:r>
            <a:endParaRPr b="0" lang="en-US" sz="13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     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&lt;/process:Result&gt;</a:t>
            </a:r>
            <a:endParaRPr b="0" lang="en-US" sz="13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&lt;/</a:t>
            </a:r>
            <a:r>
              <a:rPr b="1" lang="en-US" sz="1300" spc="-1" strike="noStrike">
                <a:solidFill>
                  <a:srgbClr val="ff9900"/>
                </a:solidFill>
                <a:latin typeface="Courier New"/>
              </a:rPr>
              <a:t>process:hasResult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&gt;</a:t>
            </a:r>
            <a:endParaRPr b="0" lang="en-US" sz="13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&lt;/</a:t>
            </a:r>
            <a:r>
              <a:rPr b="1" lang="en-US" sz="1300" spc="-1" strike="noStrike">
                <a:solidFill>
                  <a:srgbClr val="0099ff"/>
                </a:solidFill>
                <a:latin typeface="Courier New"/>
              </a:rPr>
              <a:t>process:AtomicProcess</a:t>
            </a:r>
            <a:r>
              <a:rPr b="1" lang="en-US" sz="1300" spc="-1" strike="noStrike">
                <a:solidFill>
                  <a:srgbClr val="404040"/>
                </a:solidFill>
                <a:latin typeface="Courier New"/>
              </a:rPr>
              <a:t>&gt;</a:t>
            </a:r>
            <a:endParaRPr b="0" lang="en-US" sz="13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63840" y="1563840"/>
            <a:ext cx="152280" cy="417240"/>
          </a:xfrm>
          <a:custGeom>
            <a:avLst/>
            <a:gdLst>
              <a:gd name="textAreaLeft" fmla="*/ 44640 w 152280"/>
              <a:gd name="textAreaRight" fmla="*/ 152640 w 152280"/>
              <a:gd name="textAreaTop" fmla="*/ 17280 h 417240"/>
              <a:gd name="textAreaBottom" fmla="*/ 399960 h 41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1680" y="155736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Inputs /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76200" y="2376360"/>
            <a:ext cx="1217880" cy="3086280"/>
          </a:xfrm>
          <a:custGeom>
            <a:avLst/>
            <a:gdLst>
              <a:gd name="textAreaLeft" fmla="*/ 357840 w 1217880"/>
              <a:gd name="textAreaRight" fmla="*/ 1218240 w 1217880"/>
              <a:gd name="textAreaTop" fmla="*/ 128520 h 3086280"/>
              <a:gd name="textAreaBottom" fmla="*/ 2957760 h 3086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9480" y="35132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03600" y="2752560"/>
            <a:ext cx="247680" cy="838440"/>
          </a:xfrm>
          <a:custGeom>
            <a:avLst/>
            <a:gdLst>
              <a:gd name="textAreaLeft" fmla="*/ 72720 w 247680"/>
              <a:gd name="textAreaRight" fmla="*/ 248040 w 24768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51080" y="296388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32040" y="4183200"/>
            <a:ext cx="228600" cy="826920"/>
          </a:xfrm>
          <a:custGeom>
            <a:avLst/>
            <a:gdLst>
              <a:gd name="textAreaLeft" fmla="*/ 66960 w 228600"/>
              <a:gd name="textAreaRight" fmla="*/ 228960 w 228600"/>
              <a:gd name="textAreaTop" fmla="*/ 34200 h 826920"/>
              <a:gd name="textAreaBottom" fmla="*/ 792720 h 8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24680" y="44449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19760" y="3587760"/>
            <a:ext cx="130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Output</a:t>
            </a:r>
            <a:br>
              <a:rPr sz="1600"/>
            </a:b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5760" y="194328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re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31960" y="3662280"/>
            <a:ext cx="228600" cy="425520"/>
          </a:xfrm>
          <a:custGeom>
            <a:avLst/>
            <a:gdLst>
              <a:gd name="textAreaLeft" fmla="*/ 66960 w 228600"/>
              <a:gd name="textAreaRight" fmla="*/ 228960 w 228600"/>
              <a:gd name="textAreaTop" fmla="*/ 17640 h 425520"/>
              <a:gd name="textAreaBottom" fmla="*/ 407880 h 42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Ontology of Processe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05320" y="1447920"/>
            <a:ext cx="205740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2590920"/>
            <a:ext cx="205740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05320" y="3292560"/>
            <a:ext cx="205740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4070520"/>
            <a:ext cx="220968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3"/>
            <a:endCxn id="124" idx="7"/>
          </p:cNvCxnSpPr>
          <p:nvPr/>
        </p:nvCxnSpPr>
        <p:spPr>
          <a:xfrm flipH="1">
            <a:off x="2898000" y="2107800"/>
            <a:ext cx="909000" cy="585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3" idx="4"/>
            <a:endCxn id="125" idx="0"/>
          </p:cNvCxnSpPr>
          <p:nvPr/>
        </p:nvCxnSpPr>
        <p:spPr>
          <a:xfrm>
            <a:off x="4533480" y="2219400"/>
            <a:ext cx="1080" cy="1064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3" idx="5"/>
            <a:endCxn id="126" idx="1"/>
          </p:cNvCxnSpPr>
          <p:nvPr/>
        </p:nvCxnSpPr>
        <p:spPr>
          <a:xfrm>
            <a:off x="5261040" y="2107800"/>
            <a:ext cx="1464480" cy="2064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2973960" y="4054320"/>
            <a:ext cx="311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Provides abstrac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encapsulation et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76760" y="4908600"/>
            <a:ext cx="336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Defines a workflow </a:t>
            </a:r>
            <a:br>
              <a:rPr sz="2400"/>
            </a:b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composed of process per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000" y="3124080"/>
            <a:ext cx="28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Invok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bound to gro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Process Model Organization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e7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e7100"/>
                </a:solidFill>
                <a:latin typeface="Arial"/>
              </a:rPr>
              <a:t>Process Model is described as a tree structure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omposite processes are internal node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mple and Atomic Processes are the leave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imple processes represent an abstraction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Placeholders of processes that aren’t specified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Or that may be expressed in many different way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tomic Processes correspond to the basic actions that the Web service performs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Hide the details of how the process is implemented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orrespond to WSDL operation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Composite Processe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9440" y="1526760"/>
            <a:ext cx="8217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7316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Composite Processes specify how processes work together to compute a complex function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indent="17316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Composite processes define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576360" indent="-289080"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ol Flow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2" marL="690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</a:rPr>
              <a:t>Specify the temporal relations between the executions of the different sub-processes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1" marL="576360" indent="-289080">
              <a:spcBef>
                <a:spcPts val="700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ata Flow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2" marL="690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</a:rPr>
              <a:t>Specify how the data produced by one process is transferred to another process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226120" y="4040280"/>
            <a:ext cx="3449520" cy="1332000"/>
          </a:xfrm>
          <a:prstGeom prst="rect">
            <a:avLst/>
          </a:prstGeom>
          <a:solidFill>
            <a:srgbClr val="00ff00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58920" y="4041720"/>
            <a:ext cx="3457440" cy="1332000"/>
          </a:xfrm>
          <a:prstGeom prst="rect">
            <a:avLst/>
          </a:prstGeom>
          <a:solidFill>
            <a:srgbClr val="00ff00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Example of Composite Proces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36920" y="1484280"/>
            <a:ext cx="2209680" cy="928440"/>
          </a:xfrm>
          <a:prstGeom prst="rect">
            <a:avLst/>
          </a:prstGeom>
          <a:solidFill>
            <a:srgbClr val="8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ok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40" idx="2"/>
            <a:endCxn id="138" idx="0"/>
          </p:cNvCxnSpPr>
          <p:nvPr/>
        </p:nvCxnSpPr>
        <p:spPr>
          <a:xfrm rot="5400000">
            <a:off x="2865240" y="2365920"/>
            <a:ext cx="1797840" cy="1554840"/>
          </a:xfrm>
          <a:prstGeom prst="bentConnector3">
            <a:avLst>
              <a:gd name="adj1" fmla="val 29581"/>
            </a:avLst>
          </a:prstGeom>
          <a:ln w="38160">
            <a:solidFill>
              <a:srgbClr val="333399"/>
            </a:solidFill>
            <a:miter/>
          </a:ln>
        </p:spPr>
      </p:cxnSp>
      <p:cxnSp>
        <p:nvCxnSpPr>
          <p:cNvPr id="142" name=""/>
          <p:cNvCxnSpPr>
            <a:stCxn id="140" idx="2"/>
            <a:endCxn id="137" idx="0"/>
          </p:cNvCxnSpPr>
          <p:nvPr/>
        </p:nvCxnSpPr>
        <p:spPr>
          <a:xfrm flipH="1" rot="16200000">
            <a:off x="4848840" y="1937160"/>
            <a:ext cx="1796400" cy="2410560"/>
          </a:xfrm>
          <a:prstGeom prst="bentConnector3">
            <a:avLst>
              <a:gd name="adj1" fmla="val 29605"/>
            </a:avLst>
          </a:prstGeom>
          <a:ln w="38160">
            <a:solidFill>
              <a:srgbClr val="333399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1262880" y="46688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4160" y="49356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94760" y="45784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5" idx="3"/>
            <a:endCxn id="147" idx="1"/>
          </p:cNvCxnSpPr>
          <p:nvPr/>
        </p:nvCxnSpPr>
        <p:spPr>
          <a:xfrm flipV="1">
            <a:off x="4649760" y="4760640"/>
            <a:ext cx="650160" cy="2160"/>
          </a:xfrm>
          <a:prstGeom prst="straightConnector1">
            <a:avLst/>
          </a:prstGeom>
          <a:ln w="38160">
            <a:solidFill>
              <a:srgbClr val="cc3300"/>
            </a:solidFill>
            <a:miter/>
            <a:tailEnd len="lg" type="triangle" w="lg"/>
          </a:ln>
        </p:spPr>
      </p:cxnSp>
      <p:sp>
        <p:nvSpPr>
          <p:cNvPr id="148" name=""/>
          <p:cNvSpPr/>
          <p:nvPr/>
        </p:nvSpPr>
        <p:spPr>
          <a:xfrm>
            <a:off x="1334880" y="438624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ir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03160" y="164952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ir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2"/>
            <a:endCxn id="148" idx="1"/>
          </p:cNvCxnSpPr>
          <p:nvPr/>
        </p:nvCxnSpPr>
        <p:spPr>
          <a:xfrm rot="5400000">
            <a:off x="892800" y="2454120"/>
            <a:ext cx="2555280" cy="1678680"/>
          </a:xfrm>
          <a:prstGeom prst="bentConnector4">
            <a:avLst>
              <a:gd name="adj1" fmla="val 24545"/>
              <a:gd name="adj2" fmla="val 113620"/>
            </a:avLst>
          </a:prstGeom>
          <a:ln w="38160">
            <a:solidFill>
              <a:srgbClr val="cc3300"/>
            </a:solidFill>
            <a:miter/>
            <a:tailEnd len="lg" type="triangle" w="lg"/>
          </a:ln>
        </p:spPr>
      </p:cxnSp>
      <p:sp>
        <p:nvSpPr>
          <p:cNvPr id="151" name=""/>
          <p:cNvSpPr/>
          <p:nvPr/>
        </p:nvSpPr>
        <p:spPr>
          <a:xfrm>
            <a:off x="5582160" y="16495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3" idx="3"/>
            <a:endCxn id="151" idx="2"/>
          </p:cNvCxnSpPr>
          <p:nvPr/>
        </p:nvCxnSpPr>
        <p:spPr>
          <a:xfrm flipH="1" flipV="1">
            <a:off x="5950800" y="2015640"/>
            <a:ext cx="2616840" cy="2748960"/>
          </a:xfrm>
          <a:prstGeom prst="bentConnector4">
            <a:avLst>
              <a:gd name="adj1" fmla="val -8723"/>
              <a:gd name="adj2" fmla="val 76948"/>
            </a:avLst>
          </a:prstGeom>
          <a:ln w="38160">
            <a:solidFill>
              <a:srgbClr val="cc3300"/>
            </a:solidFill>
            <a:miter/>
            <a:tailEnd len="lg" type="triangle" w="lg"/>
          </a:ln>
        </p:spPr>
      </p:cxnSp>
      <p:sp>
        <p:nvSpPr>
          <p:cNvPr id="154" name=""/>
          <p:cNvSpPr/>
          <p:nvPr/>
        </p:nvSpPr>
        <p:spPr>
          <a:xfrm>
            <a:off x="1208520" y="400680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28680" y="4510080"/>
            <a:ext cx="1729080" cy="838080"/>
          </a:xfrm>
          <a:prstGeom prst="rect">
            <a:avLst/>
          </a:prstGeom>
          <a:solidFill>
            <a:srgbClr val="0033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t F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27120" y="45799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20360" y="400536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61040" y="4437000"/>
            <a:ext cx="1728720" cy="929520"/>
          </a:xfrm>
          <a:prstGeom prst="rect">
            <a:avLst/>
          </a:prstGeom>
          <a:solidFill>
            <a:srgbClr val="0033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01360" y="45766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91960" y="1341360"/>
            <a:ext cx="2276280" cy="947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trol Flow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pecify order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2"/>
          </p:cNvCxnSpPr>
          <p:nvPr/>
        </p:nvCxnSpPr>
        <p:spPr>
          <a:xfrm flipH="1">
            <a:off x="6948000" y="2296800"/>
            <a:ext cx="783360" cy="48492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160" name=""/>
          <p:cNvSpPr/>
          <p:nvPr/>
        </p:nvSpPr>
        <p:spPr>
          <a:xfrm>
            <a:off x="3635280" y="3035160"/>
            <a:ext cx="2592360" cy="6732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ata-Flow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pecify transfer of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60" idx="1"/>
          </p:cNvCxnSpPr>
          <p:nvPr/>
        </p:nvCxnSpPr>
        <p:spPr>
          <a:xfrm flipH="1" flipV="1">
            <a:off x="1186920" y="2923920"/>
            <a:ext cx="2448720" cy="452880"/>
          </a:xfrm>
          <a:prstGeom prst="straightConnector1">
            <a:avLst/>
          </a:prstGeom>
          <a:ln w="9360">
            <a:solidFill>
              <a:srgbClr val="cc3300"/>
            </a:solidFill>
            <a:miter/>
            <a:tailEnd len="lg" type="stealth" w="lg"/>
          </a:ln>
        </p:spPr>
      </p:cxnSp>
      <p:cxnSp>
        <p:nvCxnSpPr>
          <p:cNvPr id="162" name=""/>
          <p:cNvCxnSpPr>
            <a:endCxn id="160" idx="2"/>
          </p:cNvCxnSpPr>
          <p:nvPr/>
        </p:nvCxnSpPr>
        <p:spPr>
          <a:xfrm flipV="1">
            <a:off x="4932000" y="3715920"/>
            <a:ext cx="1080" cy="1008720"/>
          </a:xfrm>
          <a:prstGeom prst="straightConnector1">
            <a:avLst/>
          </a:prstGeom>
          <a:ln w="9360">
            <a:solidFill>
              <a:srgbClr val="cc3300"/>
            </a:solidFill>
            <a:miter/>
            <a:headEnd len="lg" type="stealth" w="lg"/>
          </a:ln>
        </p:spPr>
      </p:cxnSp>
      <p:cxnSp>
        <p:nvCxnSpPr>
          <p:cNvPr id="163" name=""/>
          <p:cNvCxnSpPr>
            <a:stCxn id="160" idx="3"/>
          </p:cNvCxnSpPr>
          <p:nvPr/>
        </p:nvCxnSpPr>
        <p:spPr>
          <a:xfrm flipV="1">
            <a:off x="6227280" y="2923920"/>
            <a:ext cx="2521800" cy="452880"/>
          </a:xfrm>
          <a:prstGeom prst="straightConnector1">
            <a:avLst/>
          </a:prstGeom>
          <a:ln w="9360">
            <a:solidFill>
              <a:srgbClr val="cc3300"/>
            </a:solidFill>
            <a:miter/>
            <a:tailEnd len="lg" type="stealth" w="lg"/>
          </a:ln>
        </p:spPr>
      </p:cxnSp>
      <p:cxnSp>
        <p:nvCxnSpPr>
          <p:cNvPr id="164" name=""/>
          <p:cNvCxnSpPr>
            <a:endCxn id="138" idx="2"/>
          </p:cNvCxnSpPr>
          <p:nvPr/>
        </p:nvCxnSpPr>
        <p:spPr>
          <a:xfrm flipH="1" flipV="1">
            <a:off x="2986920" y="5373360"/>
            <a:ext cx="1934280" cy="187920"/>
          </a:xfrm>
          <a:prstGeom prst="straightConnector1">
            <a:avLst/>
          </a:prstGeom>
          <a:ln w="9360">
            <a:solidFill>
              <a:srgbClr val="228a22"/>
            </a:solidFill>
            <a:miter/>
            <a:tailEnd len="lg" type="stealth" w="lg"/>
          </a:ln>
        </p:spPr>
      </p:cxnSp>
      <p:cxnSp>
        <p:nvCxnSpPr>
          <p:cNvPr id="165" name=""/>
          <p:cNvCxnSpPr>
            <a:endCxn id="137" idx="2"/>
          </p:cNvCxnSpPr>
          <p:nvPr/>
        </p:nvCxnSpPr>
        <p:spPr>
          <a:xfrm flipV="1">
            <a:off x="4922640" y="5371920"/>
            <a:ext cx="2029320" cy="189360"/>
          </a:xfrm>
          <a:prstGeom prst="straightConnector1">
            <a:avLst/>
          </a:prstGeom>
          <a:ln w="9360">
            <a:solidFill>
              <a:srgbClr val="228a22"/>
            </a:solidFill>
            <a:miter/>
            <a:tailEnd len="lg" type="stealth" w="lg"/>
          </a:ln>
        </p:spPr>
      </p:cxnSp>
      <p:sp>
        <p:nvSpPr>
          <p:cNvPr id="166" name=""/>
          <p:cNvSpPr/>
          <p:nvPr/>
        </p:nvSpPr>
        <p:spPr>
          <a:xfrm>
            <a:off x="3121200" y="5560920"/>
            <a:ext cx="4008240" cy="673200"/>
          </a:xfrm>
          <a:prstGeom prst="rect">
            <a:avLst/>
          </a:prstGeom>
          <a:noFill/>
          <a:ln w="9360">
            <a:solidFill>
              <a:srgbClr val="228a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8a22"/>
                </a:solidFill>
                <a:latin typeface="Arial"/>
              </a:rPr>
              <a:t>Perform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8a22"/>
                </a:solidFill>
                <a:latin typeface="Arial"/>
              </a:rPr>
              <a:t>Specify the execution of a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b0707"/>
                </a:solidFill>
                <a:latin typeface="Arial"/>
              </a:rPr>
              <a:t>Perform</a:t>
            </a: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 Construct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36240" y="1526760"/>
            <a:ext cx="83502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Arial"/>
              </a:rPr>
              <a:t>Perform</a:t>
            </a: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 provides invocation mechanism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Specify context of process execution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</a:rPr>
              <a:t>input data flow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</a:rPr>
              <a:t>hooks for output data flow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Distinction between definition and invocation of a process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Definition specifies the process’ I/P/R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Perform specify when the process is invoked and with what parameters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Control Flow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03040" y="1526760"/>
            <a:ext cx="84837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Processes can be chained to form a workflow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OWL-S supports the following control flow construct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9900"/>
                </a:solidFill>
                <a:latin typeface="Arial"/>
              </a:rPr>
              <a:t>Sequence/Any-Order</a:t>
            </a: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: represents a list of processes that are executed in sequence or arbitrary order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cc3300"/>
                </a:solidFill>
                <a:latin typeface="Arial"/>
              </a:rPr>
              <a:t>Conditionals</a:t>
            </a: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: if-then-else statement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66ff"/>
                </a:solidFill>
                <a:latin typeface="Arial"/>
              </a:rPr>
              <a:t>Loops</a:t>
            </a: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: while and repeat-until statements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9900"/>
                </a:solidFill>
                <a:latin typeface="Arial"/>
              </a:rPr>
              <a:t>Multithreading and synchronization</a:t>
            </a: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: split process in multiple threads, and rendezvous (joint) point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3399"/>
                </a:solidFill>
                <a:latin typeface="Arial"/>
              </a:rPr>
              <a:t>Non-deterministic choices</a:t>
            </a: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:  (arbitrarily) select one process of a se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Data Flow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Dataflow allows information that is transferred from process to process.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6200"/>
                </a:solidFill>
                <a:latin typeface="Arial"/>
              </a:rPr>
              <a:t>Output</a:t>
            </a:r>
            <a:r>
              <a:rPr b="1" lang="en-US" sz="2400" spc="-1" strike="noStrike">
                <a:solidFill>
                  <a:srgbClr val="4862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486200"/>
                </a:solidFill>
                <a:latin typeface="Arial"/>
              </a:rPr>
              <a:t>Input:</a:t>
            </a:r>
            <a:r>
              <a:rPr b="0" lang="en-US" sz="2400" spc="-1" strike="noStrike">
                <a:solidFill>
                  <a:srgbClr val="4862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he information produced by one process is transferred to another in the same control construct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put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put: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he information received by a composite process is transferred to the sub-processe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Output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he information produced by a subprocess is transferred to a super-process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OWL-S Ontology</a:t>
            </a:r>
            <a:r>
              <a:rPr b="0" lang="en-US" sz="3200" spc="-1" strike="noStrike">
                <a:solidFill>
                  <a:srgbClr val="9b070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1520" y="1526760"/>
            <a:ext cx="80452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OWL-S is an OWL ontology to describe Web service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OWL-S leverages on OWL to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upport capability based discovery of Web service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upport automatic composition of Web Service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upport automatic invocation of Web service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Complete do not compete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OWL-S does not aim to replace the Web services standard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rather OWL-S attempts to provide a semantic layer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Arial"/>
              </a:rPr>
              <a:t>OWL-S relies on WSDL for Web service invocation </a:t>
            </a:r>
            <a:r>
              <a:rPr b="0" i="1" lang="en-US" sz="1700" spc="-1" strike="noStrike">
                <a:solidFill>
                  <a:srgbClr val="404040"/>
                </a:solidFill>
                <a:latin typeface="Arial"/>
              </a:rPr>
              <a:t>(see Grounding)</a:t>
            </a:r>
            <a:endParaRPr b="0" lang="en-US" sz="17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Arial"/>
              </a:rPr>
              <a:t>OWL-s Expands UDDI for Web service discovery </a:t>
            </a:r>
            <a:r>
              <a:rPr b="0" i="1" lang="en-US" sz="1700" spc="-1" strike="noStrike">
                <a:solidFill>
                  <a:srgbClr val="404040"/>
                </a:solidFill>
                <a:latin typeface="Arial"/>
              </a:rPr>
              <a:t>(OWL-S/UDDI mapping) </a:t>
            </a:r>
            <a:endParaRPr b="0" lang="en-US" sz="1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b0707"/>
                </a:solidFill>
                <a:latin typeface="Arial"/>
              </a:rPr>
              <a:t>Process Model: take home lesson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79120" y="1526760"/>
            <a:ext cx="78073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Service Model describes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Set of processes that define the operations performed by the Web service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Control flow describing the temporal flow of processes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Data flow describing the transfer of information between sub-processes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30120" y="1569960"/>
            <a:ext cx="5897520" cy="4221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Service Grounding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419720" y="2370240"/>
            <a:ext cx="441936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ervice Grounding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Provides a specification of service access information.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ervice Model + Grounding give everything needed for using the service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uilds upon 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WSDL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to define message structure and physical binding layer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pecifies: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ommunication protocols, transport mechanisms, communication languages, etc.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Rationale of Service Grounding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Provides a specification of service access information.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Service Model + Grounding give everything needed for using the service 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rvice description is for reasoning about the service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</a:rPr>
              <a:t>Decide what information to send and what to expect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rvice Grounding is for message passing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</a:rPr>
              <a:t>Generate outgoing messages, and get incoming messages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</a:rPr>
              <a:t>Mapping XML Schemata to OWL concepts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Builds upon </a:t>
            </a:r>
            <a:r>
              <a:rPr b="1" lang="en-US" sz="2800" spc="-1" strike="noStrike">
                <a:solidFill>
                  <a:srgbClr val="404040"/>
                </a:solidFill>
                <a:latin typeface="Arial"/>
              </a:rPr>
              <a:t>WSDL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 to define message structure and physical binding layer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Mapping OWL-S / WSDL 1.1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31440" y="1545840"/>
            <a:ext cx="2568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orrespond to Atomic Processe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messages correspond to Inputs/Outputs of processe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6248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421080" y="1662120"/>
            <a:ext cx="4322880" cy="383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081760" y="2887560"/>
            <a:ext cx="3449520" cy="13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49400" y="2889360"/>
            <a:ext cx="3529080" cy="13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Example of Grounding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92560" y="1312920"/>
            <a:ext cx="2209680" cy="928440"/>
          </a:xfrm>
          <a:prstGeom prst="rect">
            <a:avLst/>
          </a:prstGeom>
          <a:solidFill>
            <a:srgbClr val="8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ok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7" idx="2"/>
            <a:endCxn id="185" idx="0"/>
          </p:cNvCxnSpPr>
          <p:nvPr/>
        </p:nvCxnSpPr>
        <p:spPr>
          <a:xfrm rot="5400000">
            <a:off x="3197160" y="1689480"/>
            <a:ext cx="816840" cy="1583640"/>
          </a:xfrm>
          <a:prstGeom prst="bentConnector3">
            <a:avLst>
              <a:gd name="adj1" fmla="val 49206"/>
            </a:avLst>
          </a:prstGeom>
          <a:ln w="38160">
            <a:solidFill>
              <a:srgbClr val="333399"/>
            </a:solidFill>
            <a:miter/>
          </a:ln>
        </p:spPr>
      </p:cxnSp>
      <p:cxnSp>
        <p:nvCxnSpPr>
          <p:cNvPr id="189" name=""/>
          <p:cNvCxnSpPr>
            <a:stCxn id="187" idx="2"/>
            <a:endCxn id="184" idx="0"/>
          </p:cNvCxnSpPr>
          <p:nvPr/>
        </p:nvCxnSpPr>
        <p:spPr>
          <a:xfrm flipH="1" rot="16200000">
            <a:off x="5195160" y="1275120"/>
            <a:ext cx="815040" cy="2410560"/>
          </a:xfrm>
          <a:prstGeom prst="bentConnector3">
            <a:avLst>
              <a:gd name="adj1" fmla="val 49094"/>
            </a:avLst>
          </a:prstGeom>
          <a:ln w="38160">
            <a:solidFill>
              <a:srgbClr val="333399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1118520" y="3516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9440" y="37828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50400" y="34257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2" idx="3"/>
            <a:endCxn id="194" idx="1"/>
          </p:cNvCxnSpPr>
          <p:nvPr/>
        </p:nvCxnSpPr>
        <p:spPr>
          <a:xfrm flipV="1">
            <a:off x="4505040" y="3607560"/>
            <a:ext cx="649800" cy="2520"/>
          </a:xfrm>
          <a:prstGeom prst="straightConnector1">
            <a:avLst/>
          </a:prstGeom>
          <a:ln w="38160">
            <a:solidFill>
              <a:srgbClr val="cc3300"/>
            </a:solidFill>
            <a:miter/>
            <a:tailEnd len="lg" type="triangle" w="lg"/>
          </a:ln>
        </p:spPr>
      </p:cxnSp>
      <p:sp>
        <p:nvSpPr>
          <p:cNvPr id="195" name=""/>
          <p:cNvSpPr/>
          <p:nvPr/>
        </p:nvSpPr>
        <p:spPr>
          <a:xfrm>
            <a:off x="1190160" y="323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ir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58800" y="14778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ir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6" idx="2"/>
            <a:endCxn id="195" idx="1"/>
          </p:cNvCxnSpPr>
          <p:nvPr/>
        </p:nvCxnSpPr>
        <p:spPr>
          <a:xfrm rot="5400000">
            <a:off x="1239120" y="1792080"/>
            <a:ext cx="1573920" cy="1679040"/>
          </a:xfrm>
          <a:prstGeom prst="bentConnector4">
            <a:avLst>
              <a:gd name="adj1" fmla="val 23999"/>
              <a:gd name="adj2" fmla="val 113617"/>
            </a:avLst>
          </a:prstGeom>
          <a:ln w="38160">
            <a:solidFill>
              <a:srgbClr val="cc3300"/>
            </a:solidFill>
            <a:miter/>
            <a:tailEnd len="lg" type="triangle" w="lg"/>
          </a:ln>
        </p:spPr>
      </p:cxnSp>
      <p:sp>
        <p:nvSpPr>
          <p:cNvPr id="198" name=""/>
          <p:cNvSpPr/>
          <p:nvPr/>
        </p:nvSpPr>
        <p:spPr>
          <a:xfrm>
            <a:off x="5437800" y="1477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200" idx="3"/>
            <a:endCxn id="198" idx="2"/>
          </p:cNvCxnSpPr>
          <p:nvPr/>
        </p:nvCxnSpPr>
        <p:spPr>
          <a:xfrm flipH="1" flipV="1">
            <a:off x="5806440" y="1844280"/>
            <a:ext cx="2616840" cy="1767600"/>
          </a:xfrm>
          <a:prstGeom prst="bentConnector4">
            <a:avLst>
              <a:gd name="adj1" fmla="val -8723"/>
              <a:gd name="adj2" fmla="val 78875"/>
            </a:avLst>
          </a:prstGeom>
          <a:ln w="38160">
            <a:solidFill>
              <a:srgbClr val="cc3300"/>
            </a:solidFill>
            <a:miter/>
            <a:tailEnd len="lg" type="triangle" w="lg"/>
          </a:ln>
        </p:spPr>
      </p:cxnSp>
      <p:sp>
        <p:nvSpPr>
          <p:cNvPr id="201" name=""/>
          <p:cNvSpPr/>
          <p:nvPr/>
        </p:nvSpPr>
        <p:spPr>
          <a:xfrm>
            <a:off x="1042920" y="28544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4320" y="3357720"/>
            <a:ext cx="1728720" cy="838080"/>
          </a:xfrm>
          <a:prstGeom prst="rect">
            <a:avLst/>
          </a:prstGeom>
          <a:solidFill>
            <a:srgbClr val="0033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t F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82400" y="34275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75280" y="28526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16680" y="3284640"/>
            <a:ext cx="1728720" cy="929520"/>
          </a:xfrm>
          <a:prstGeom prst="rect">
            <a:avLst/>
          </a:prstGeom>
          <a:solidFill>
            <a:srgbClr val="0033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56640" y="3424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6920" y="4724280"/>
            <a:ext cx="7704360" cy="1482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79640" y="4940280"/>
            <a:ext cx="1871640" cy="865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t Flights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16720" y="5157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87280" y="486900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82160" y="51894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7920" y="58705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90160" y="54450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ir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76280" y="51894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10200" y="5024520"/>
            <a:ext cx="1728720" cy="92952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ight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50520" y="51894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"/>
          <p:cNvCxnSpPr>
            <a:stCxn id="195" idx="1"/>
            <a:endCxn id="211" idx="1"/>
          </p:cNvCxnSpPr>
          <p:nvPr/>
        </p:nvCxnSpPr>
        <p:spPr>
          <a:xfrm flipH="1" flipV="1" rot="10800000">
            <a:off x="1186200" y="3416760"/>
            <a:ext cx="2520" cy="2212200"/>
          </a:xfrm>
          <a:prstGeom prst="curvedConnector5">
            <a:avLst>
              <a:gd name="adj1" fmla="val -33600000"/>
              <a:gd name="adj2" fmla="val 50000"/>
              <a:gd name="adj3" fmla="val -33600000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16" name=""/>
          <p:cNvCxnSpPr>
            <a:stCxn id="190" idx="1"/>
            <a:endCxn id="207" idx="1"/>
          </p:cNvCxnSpPr>
          <p:nvPr/>
        </p:nvCxnSpPr>
        <p:spPr>
          <a:xfrm flipV="1" rot="10800000">
            <a:off x="1113840" y="3700080"/>
            <a:ext cx="2160" cy="1642320"/>
          </a:xfrm>
          <a:prstGeom prst="curvedConnector5">
            <a:avLst>
              <a:gd name="adj1" fmla="val 17600000"/>
              <a:gd name="adj2" fmla="val 49989"/>
              <a:gd name="adj3" fmla="val 17600000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17" name=""/>
          <p:cNvCxnSpPr>
            <a:stCxn id="191" idx="1"/>
            <a:endCxn id="208" idx="1"/>
          </p:cNvCxnSpPr>
          <p:nvPr/>
        </p:nvCxnSpPr>
        <p:spPr>
          <a:xfrm flipH="1" flipV="1" rot="10800000">
            <a:off x="1186200" y="3966840"/>
            <a:ext cx="2520" cy="1086480"/>
          </a:xfrm>
          <a:prstGeom prst="curvedConnector5">
            <a:avLst>
              <a:gd name="adj1" fmla="val -14400000"/>
              <a:gd name="adj2" fmla="val 49983"/>
              <a:gd name="adj3" fmla="val -14400000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18" name=""/>
          <p:cNvCxnSpPr>
            <a:stCxn id="209" idx="3"/>
            <a:endCxn id="192" idx="2"/>
          </p:cNvCxnSpPr>
          <p:nvPr/>
        </p:nvCxnSpPr>
        <p:spPr>
          <a:xfrm flipH="1" flipV="1">
            <a:off x="4075920" y="3792240"/>
            <a:ext cx="561240" cy="1581840"/>
          </a:xfrm>
          <a:prstGeom prst="curvedConnector5">
            <a:avLst>
              <a:gd name="adj1" fmla="val -24903"/>
              <a:gd name="adj2" fmla="val 27908"/>
              <a:gd name="adj3" fmla="val -24903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19" name=""/>
          <p:cNvCxnSpPr>
            <a:stCxn id="194" idx="2"/>
            <a:endCxn id="214" idx="1"/>
          </p:cNvCxnSpPr>
          <p:nvPr/>
        </p:nvCxnSpPr>
        <p:spPr>
          <a:xfrm rot="5400000">
            <a:off x="4573800" y="4364640"/>
            <a:ext cx="1583640" cy="435600"/>
          </a:xfrm>
          <a:prstGeom prst="curvedConnector5">
            <a:avLst>
              <a:gd name="adj1" fmla="val 44133"/>
              <a:gd name="adj2" fmla="val 67493"/>
              <a:gd name="adj3" fmla="val 44133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20" name=""/>
          <p:cNvCxnSpPr>
            <a:stCxn id="212" idx="3"/>
            <a:endCxn id="200" idx="3"/>
          </p:cNvCxnSpPr>
          <p:nvPr/>
        </p:nvCxnSpPr>
        <p:spPr>
          <a:xfrm flipV="1">
            <a:off x="8416800" y="3610800"/>
            <a:ext cx="7200" cy="1762920"/>
          </a:xfrm>
          <a:prstGeom prst="curvedConnector5">
            <a:avLst>
              <a:gd name="adj1" fmla="val 3700000"/>
              <a:gd name="adj2" fmla="val 50000"/>
              <a:gd name="adj3" fmla="val 3700000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Result of using the Grounding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3760" y="1526760"/>
            <a:ext cx="83026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Invocation mechanism for OWL-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Invocation based on WSD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Different types of invocation supported by WSDL can be used with OWL-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lear separation between service description and invocation/implementation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rvice description is needed to reason about the service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Arial"/>
              </a:rPr>
              <a:t>Decide how to use it</a:t>
            </a:r>
            <a:endParaRPr b="0" lang="en-US" sz="1700" spc="-1" strike="noStrike">
              <a:solidFill>
                <a:srgbClr val="40404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Arial"/>
              </a:rPr>
              <a:t>Decide how what information to send and what to expect</a:t>
            </a:r>
            <a:endParaRPr b="0" lang="en-US" sz="1700" spc="-1" strike="noStrike">
              <a:solidFill>
                <a:srgbClr val="40404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rvice implementation may be based on SOAP an XSD type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he crucial point is that the information that travels on the wires and the information used in the ontologies is the same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llows any web service to be represented using OWL-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or example: Amazon.com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b0707"/>
                </a:solidFill>
                <a:latin typeface="Arial"/>
              </a:rPr>
              <a:t>Handling stateful vs stateless </a:t>
            </a:r>
            <a:br>
              <a:rPr sz="4000"/>
            </a:br>
            <a:r>
              <a:rPr b="0" lang="en-US" sz="4000" spc="-1" strike="noStrike">
                <a:solidFill>
                  <a:srgbClr val="9b0707"/>
                </a:solidFill>
                <a:latin typeface="Arial"/>
              </a:rPr>
              <a:t>Web services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7600" y="1526760"/>
            <a:ext cx="8178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Arial"/>
              </a:rPr>
              <a:t>Stateless Web services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774720" indent="-31752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The server does not maintain the state of the computation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74720" indent="-31752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Dataflow links specify how the client communicate the state to the service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Arial"/>
              </a:rPr>
              <a:t>Stateful Web services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774720" indent="-31752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The service does maintain the state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74720" indent="-31752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No need of dataflow links since transfer of information is opaque to the client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076720" y="4365720"/>
            <a:ext cx="3743280" cy="1584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1341360"/>
            <a:ext cx="8424720" cy="2737080"/>
          </a:xfrm>
          <a:prstGeom prst="rect">
            <a:avLst/>
          </a:prstGeom>
          <a:solidFill>
            <a:srgbClr val="66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81760" y="2670120"/>
            <a:ext cx="3449520" cy="111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49400" y="2671920"/>
            <a:ext cx="3529080" cy="11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Representing Stateful </a:t>
            </a:r>
            <a:br>
              <a:rPr sz="4400"/>
            </a:b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Web service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92560" y="1455840"/>
            <a:ext cx="2209680" cy="928440"/>
          </a:xfrm>
          <a:prstGeom prst="rect">
            <a:avLst/>
          </a:prstGeom>
          <a:solidFill>
            <a:srgbClr val="8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ok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"/>
          <p:cNvCxnSpPr>
            <a:stCxn id="230" idx="2"/>
            <a:endCxn id="228" idx="0"/>
          </p:cNvCxnSpPr>
          <p:nvPr/>
        </p:nvCxnSpPr>
        <p:spPr>
          <a:xfrm rot="5400000">
            <a:off x="3377160" y="1652400"/>
            <a:ext cx="456480" cy="1583640"/>
          </a:xfrm>
          <a:prstGeom prst="bentConnector3">
            <a:avLst>
              <a:gd name="adj1" fmla="val 48382"/>
            </a:avLst>
          </a:prstGeom>
          <a:ln w="38160">
            <a:solidFill>
              <a:srgbClr val="333399"/>
            </a:solidFill>
            <a:miter/>
          </a:ln>
        </p:spPr>
      </p:cxnSp>
      <p:cxnSp>
        <p:nvCxnSpPr>
          <p:cNvPr id="232" name=""/>
          <p:cNvCxnSpPr>
            <a:stCxn id="230" idx="2"/>
            <a:endCxn id="227" idx="0"/>
          </p:cNvCxnSpPr>
          <p:nvPr/>
        </p:nvCxnSpPr>
        <p:spPr>
          <a:xfrm flipH="1" rot="16200000">
            <a:off x="5375160" y="1237680"/>
            <a:ext cx="454680" cy="2410560"/>
          </a:xfrm>
          <a:prstGeom prst="bentConnector3">
            <a:avLst>
              <a:gd name="adj1" fmla="val 48573"/>
            </a:avLst>
          </a:prstGeom>
          <a:ln w="38160">
            <a:solidFill>
              <a:srgbClr val="333399"/>
            </a:solidFill>
            <a:miter/>
          </a:ln>
        </p:spPr>
      </p:cxnSp>
      <p:sp>
        <p:nvSpPr>
          <p:cNvPr id="233" name=""/>
          <p:cNvSpPr/>
          <p:nvPr/>
        </p:nvSpPr>
        <p:spPr>
          <a:xfrm>
            <a:off x="3650400" y="31608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"/>
          <p:cNvCxnSpPr>
            <a:stCxn id="233" idx="3"/>
            <a:endCxn id="235" idx="1"/>
          </p:cNvCxnSpPr>
          <p:nvPr/>
        </p:nvCxnSpPr>
        <p:spPr>
          <a:xfrm>
            <a:off x="4505040" y="3344400"/>
            <a:ext cx="649800" cy="1080"/>
          </a:xfrm>
          <a:prstGeom prst="straightConnector1">
            <a:avLst/>
          </a:prstGeom>
          <a:ln w="38160">
            <a:solidFill>
              <a:srgbClr val="cc3300"/>
            </a:solidFill>
            <a:miter/>
            <a:tailEnd len="lg" type="triangle" w="lg"/>
          </a:ln>
        </p:spPr>
      </p:cxnSp>
      <p:sp>
        <p:nvSpPr>
          <p:cNvPr id="236" name=""/>
          <p:cNvSpPr/>
          <p:nvPr/>
        </p:nvSpPr>
        <p:spPr>
          <a:xfrm>
            <a:off x="1190160" y="31608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ir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58800" y="162072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ir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2"/>
            <a:endCxn id="236" idx="1"/>
          </p:cNvCxnSpPr>
          <p:nvPr/>
        </p:nvCxnSpPr>
        <p:spPr>
          <a:xfrm rot="5400000">
            <a:off x="1347120" y="1827000"/>
            <a:ext cx="1357920" cy="1679040"/>
          </a:xfrm>
          <a:prstGeom prst="bentConnector4">
            <a:avLst>
              <a:gd name="adj1" fmla="val 20684"/>
              <a:gd name="adj2" fmla="val 113617"/>
            </a:avLst>
          </a:prstGeom>
          <a:ln w="38160">
            <a:solidFill>
              <a:srgbClr val="cc3300"/>
            </a:solidFill>
            <a:miter/>
            <a:tailEnd len="lg" type="triangle" w="lg"/>
          </a:ln>
        </p:spPr>
      </p:cxnSp>
      <p:sp>
        <p:nvSpPr>
          <p:cNvPr id="239" name=""/>
          <p:cNvSpPr/>
          <p:nvPr/>
        </p:nvSpPr>
        <p:spPr>
          <a:xfrm>
            <a:off x="5437800" y="1620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41" idx="3"/>
            <a:endCxn id="239" idx="2"/>
          </p:cNvCxnSpPr>
          <p:nvPr/>
        </p:nvCxnSpPr>
        <p:spPr>
          <a:xfrm flipH="1" flipV="1">
            <a:off x="5806440" y="1987200"/>
            <a:ext cx="2616840" cy="1357920"/>
          </a:xfrm>
          <a:prstGeom prst="bentConnector4">
            <a:avLst>
              <a:gd name="adj1" fmla="val -8723"/>
              <a:gd name="adj2" fmla="val 80800"/>
            </a:avLst>
          </a:prstGeom>
          <a:ln w="38160">
            <a:solidFill>
              <a:srgbClr val="cc3300"/>
            </a:solidFill>
            <a:miter/>
            <a:tailEnd len="lg" type="triangle" w="lg"/>
          </a:ln>
        </p:spPr>
      </p:cxnSp>
      <p:sp>
        <p:nvSpPr>
          <p:cNvPr id="242" name=""/>
          <p:cNvSpPr/>
          <p:nvPr/>
        </p:nvSpPr>
        <p:spPr>
          <a:xfrm>
            <a:off x="1042920" y="263700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84320" y="3057480"/>
            <a:ext cx="1728720" cy="777240"/>
          </a:xfrm>
          <a:prstGeom prst="rect">
            <a:avLst/>
          </a:prstGeom>
          <a:solidFill>
            <a:srgbClr val="0033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t F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82400" y="3160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075280" y="263520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6680" y="2995560"/>
            <a:ext cx="1728720" cy="929520"/>
          </a:xfrm>
          <a:prstGeom prst="rect">
            <a:avLst/>
          </a:prstGeom>
          <a:solidFill>
            <a:srgbClr val="0033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56640" y="31608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4360" y="4365720"/>
            <a:ext cx="4032000" cy="1584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79640" y="4822920"/>
            <a:ext cx="1871640" cy="64584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t Flights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87280" y="496260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82160" y="49626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537372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76280" y="49626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10200" y="4797360"/>
            <a:ext cx="1728720" cy="92952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ight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50520" y="49626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"/>
          <p:cNvCxnSpPr>
            <a:stCxn id="236" idx="2"/>
            <a:endCxn id="248" idx="1"/>
          </p:cNvCxnSpPr>
          <p:nvPr/>
        </p:nvCxnSpPr>
        <p:spPr>
          <a:xfrm rot="5400000">
            <a:off x="581760" y="4132080"/>
            <a:ext cx="1620000" cy="410400"/>
          </a:xfrm>
          <a:prstGeom prst="curvedConnector5">
            <a:avLst>
              <a:gd name="adj1" fmla="val 44298"/>
              <a:gd name="adj2" fmla="val 77875"/>
              <a:gd name="adj3" fmla="val 4429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55" name=""/>
          <p:cNvCxnSpPr>
            <a:stCxn id="249" idx="3"/>
            <a:endCxn id="233" idx="2"/>
          </p:cNvCxnSpPr>
          <p:nvPr/>
        </p:nvCxnSpPr>
        <p:spPr>
          <a:xfrm flipH="1" flipV="1">
            <a:off x="4075920" y="3526920"/>
            <a:ext cx="561240" cy="1620000"/>
          </a:xfrm>
          <a:prstGeom prst="curvedConnector5">
            <a:avLst>
              <a:gd name="adj1" fmla="val -40757"/>
              <a:gd name="adj2" fmla="val 27828"/>
              <a:gd name="adj3" fmla="val -40757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56" name=""/>
          <p:cNvCxnSpPr>
            <a:stCxn id="235" idx="2"/>
            <a:endCxn id="253" idx="1"/>
          </p:cNvCxnSpPr>
          <p:nvPr/>
        </p:nvCxnSpPr>
        <p:spPr>
          <a:xfrm rot="5400000">
            <a:off x="4555440" y="4119480"/>
            <a:ext cx="1620000" cy="435600"/>
          </a:xfrm>
          <a:prstGeom prst="curvedConnector5">
            <a:avLst>
              <a:gd name="adj1" fmla="val 44298"/>
              <a:gd name="adj2" fmla="val 76261"/>
              <a:gd name="adj3" fmla="val 4429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57" name=""/>
          <p:cNvCxnSpPr>
            <a:stCxn id="251" idx="3"/>
            <a:endCxn id="241" idx="2"/>
          </p:cNvCxnSpPr>
          <p:nvPr/>
        </p:nvCxnSpPr>
        <p:spPr>
          <a:xfrm flipH="1" flipV="1">
            <a:off x="8051400" y="3526920"/>
            <a:ext cx="365760" cy="1620000"/>
          </a:xfrm>
          <a:prstGeom prst="curvedConnector5">
            <a:avLst>
              <a:gd name="adj1" fmla="val -62561"/>
              <a:gd name="adj2" fmla="val 27828"/>
              <a:gd name="adj3" fmla="val -6256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58" name=""/>
          <p:cNvSpPr/>
          <p:nvPr/>
        </p:nvSpPr>
        <p:spPr>
          <a:xfrm>
            <a:off x="1838160" y="5661000"/>
            <a:ext cx="5829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l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o information is transferred between the two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8560" y="1324080"/>
            <a:ext cx="116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29400" y="543096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68360" y="1339920"/>
            <a:ext cx="8424720" cy="2736720"/>
          </a:xfrm>
          <a:prstGeom prst="rect">
            <a:avLst/>
          </a:prstGeom>
          <a:solidFill>
            <a:srgbClr val="66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81760" y="2670120"/>
            <a:ext cx="3449520" cy="111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49400" y="2671920"/>
            <a:ext cx="3529080" cy="11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Representing Stateless </a:t>
            </a:r>
            <a:br>
              <a:rPr sz="4400"/>
            </a:b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Web service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92560" y="1455840"/>
            <a:ext cx="2209680" cy="928440"/>
          </a:xfrm>
          <a:prstGeom prst="rect">
            <a:avLst/>
          </a:prstGeom>
          <a:solidFill>
            <a:srgbClr val="8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ok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"/>
          <p:cNvCxnSpPr>
            <a:stCxn id="265" idx="2"/>
            <a:endCxn id="263" idx="0"/>
          </p:cNvCxnSpPr>
          <p:nvPr/>
        </p:nvCxnSpPr>
        <p:spPr>
          <a:xfrm rot="5400000">
            <a:off x="3377160" y="1652400"/>
            <a:ext cx="456480" cy="1583640"/>
          </a:xfrm>
          <a:prstGeom prst="bentConnector3">
            <a:avLst>
              <a:gd name="adj1" fmla="val 48382"/>
            </a:avLst>
          </a:prstGeom>
          <a:ln w="38160">
            <a:solidFill>
              <a:srgbClr val="333399"/>
            </a:solidFill>
            <a:miter/>
          </a:ln>
        </p:spPr>
      </p:cxnSp>
      <p:cxnSp>
        <p:nvCxnSpPr>
          <p:cNvPr id="267" name=""/>
          <p:cNvCxnSpPr>
            <a:stCxn id="265" idx="2"/>
            <a:endCxn id="262" idx="0"/>
          </p:cNvCxnSpPr>
          <p:nvPr/>
        </p:nvCxnSpPr>
        <p:spPr>
          <a:xfrm flipH="1" rot="16200000">
            <a:off x="5375160" y="1237680"/>
            <a:ext cx="454680" cy="2410560"/>
          </a:xfrm>
          <a:prstGeom prst="bentConnector3">
            <a:avLst>
              <a:gd name="adj1" fmla="val 48573"/>
            </a:avLst>
          </a:prstGeom>
          <a:ln w="38160">
            <a:solidFill>
              <a:srgbClr val="333399"/>
            </a:solidFill>
            <a:miter/>
          </a:ln>
        </p:spPr>
      </p:cxnSp>
      <p:sp>
        <p:nvSpPr>
          <p:cNvPr id="268" name=""/>
          <p:cNvSpPr/>
          <p:nvPr/>
        </p:nvSpPr>
        <p:spPr>
          <a:xfrm>
            <a:off x="3650400" y="31608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90160" y="31608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ir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58800" y="162072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ir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"/>
          <p:cNvCxnSpPr>
            <a:stCxn id="270" idx="2"/>
            <a:endCxn id="269" idx="1"/>
          </p:cNvCxnSpPr>
          <p:nvPr/>
        </p:nvCxnSpPr>
        <p:spPr>
          <a:xfrm rot="5400000">
            <a:off x="1347120" y="1827000"/>
            <a:ext cx="1357920" cy="1679040"/>
          </a:xfrm>
          <a:prstGeom prst="bentConnector4">
            <a:avLst>
              <a:gd name="adj1" fmla="val 20684"/>
              <a:gd name="adj2" fmla="val 113617"/>
            </a:avLst>
          </a:prstGeom>
          <a:ln w="38160">
            <a:solidFill>
              <a:srgbClr val="cc3300"/>
            </a:solidFill>
            <a:miter/>
            <a:tailEnd len="lg" type="triangle" w="lg"/>
          </a:ln>
        </p:spPr>
      </p:cxnSp>
      <p:sp>
        <p:nvSpPr>
          <p:cNvPr id="272" name=""/>
          <p:cNvSpPr/>
          <p:nvPr/>
        </p:nvSpPr>
        <p:spPr>
          <a:xfrm>
            <a:off x="5437800" y="1620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"/>
          <p:cNvCxnSpPr>
            <a:stCxn id="274" idx="3"/>
            <a:endCxn id="272" idx="2"/>
          </p:cNvCxnSpPr>
          <p:nvPr/>
        </p:nvCxnSpPr>
        <p:spPr>
          <a:xfrm flipH="1" flipV="1">
            <a:off x="5806440" y="1987200"/>
            <a:ext cx="2616840" cy="1357920"/>
          </a:xfrm>
          <a:prstGeom prst="bentConnector4">
            <a:avLst>
              <a:gd name="adj1" fmla="val -8723"/>
              <a:gd name="adj2" fmla="val 80217"/>
            </a:avLst>
          </a:prstGeom>
          <a:ln w="38160">
            <a:solidFill>
              <a:srgbClr val="cc3300"/>
            </a:solidFill>
            <a:miter/>
            <a:tailEnd len="lg" type="triangle" w="lg"/>
          </a:ln>
        </p:spPr>
      </p:cxnSp>
      <p:sp>
        <p:nvSpPr>
          <p:cNvPr id="275" name=""/>
          <p:cNvSpPr/>
          <p:nvPr/>
        </p:nvSpPr>
        <p:spPr>
          <a:xfrm>
            <a:off x="1042920" y="263700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84320" y="3057480"/>
            <a:ext cx="1728720" cy="777240"/>
          </a:xfrm>
          <a:prstGeom prst="rect">
            <a:avLst/>
          </a:prstGeom>
          <a:solidFill>
            <a:srgbClr val="0033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t F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82400" y="3160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75280" y="263520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16680" y="2995560"/>
            <a:ext cx="1728720" cy="929520"/>
          </a:xfrm>
          <a:prstGeom prst="rect">
            <a:avLst/>
          </a:prstGeom>
          <a:solidFill>
            <a:srgbClr val="0033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4360" y="4365720"/>
            <a:ext cx="8064360" cy="1584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79640" y="4822920"/>
            <a:ext cx="1871640" cy="64584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t Flights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87280" y="496260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82160" y="49626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537372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676280" y="49626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10200" y="4797360"/>
            <a:ext cx="1728720" cy="92952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ight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150520" y="49626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69" idx="2"/>
            <a:endCxn id="281" idx="1"/>
          </p:cNvCxnSpPr>
          <p:nvPr/>
        </p:nvCxnSpPr>
        <p:spPr>
          <a:xfrm rot="5400000">
            <a:off x="581760" y="4132080"/>
            <a:ext cx="1620000" cy="410400"/>
          </a:xfrm>
          <a:prstGeom prst="curvedConnector5">
            <a:avLst>
              <a:gd name="adj1" fmla="val 44298"/>
              <a:gd name="adj2" fmla="val 77875"/>
              <a:gd name="adj3" fmla="val 4429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88" name=""/>
          <p:cNvCxnSpPr>
            <a:stCxn id="282" idx="3"/>
            <a:endCxn id="268" idx="2"/>
          </p:cNvCxnSpPr>
          <p:nvPr/>
        </p:nvCxnSpPr>
        <p:spPr>
          <a:xfrm flipH="1" flipV="1">
            <a:off x="4075920" y="3526920"/>
            <a:ext cx="561240" cy="1620000"/>
          </a:xfrm>
          <a:prstGeom prst="curvedConnector5">
            <a:avLst>
              <a:gd name="adj1" fmla="val -40757"/>
              <a:gd name="adj2" fmla="val 27828"/>
              <a:gd name="adj3" fmla="val -40757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89" name=""/>
          <p:cNvCxnSpPr>
            <a:stCxn id="284" idx="3"/>
            <a:endCxn id="274" idx="2"/>
          </p:cNvCxnSpPr>
          <p:nvPr/>
        </p:nvCxnSpPr>
        <p:spPr>
          <a:xfrm flipH="1" flipV="1">
            <a:off x="8051400" y="3526920"/>
            <a:ext cx="365760" cy="1620000"/>
          </a:xfrm>
          <a:prstGeom prst="curvedConnector5">
            <a:avLst>
              <a:gd name="adj1" fmla="val -62561"/>
              <a:gd name="adj2" fmla="val 27828"/>
              <a:gd name="adj3" fmla="val -6256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90" name=""/>
          <p:cNvSpPr/>
          <p:nvPr/>
        </p:nvSpPr>
        <p:spPr>
          <a:xfrm>
            <a:off x="448560" y="1324080"/>
            <a:ext cx="116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"/>
          <p:cNvCxnSpPr>
            <a:stCxn id="282" idx="3"/>
            <a:endCxn id="286" idx="1"/>
          </p:cNvCxnSpPr>
          <p:nvPr/>
        </p:nvCxnSpPr>
        <p:spPr>
          <a:xfrm>
            <a:off x="4637160" y="5146200"/>
            <a:ext cx="511920" cy="108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2030400" y="5559480"/>
            <a:ext cx="65739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fu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nformation is recorded by the server, no need of transfer between the two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Conclusion  OWL-S section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OWL-S provides a language for the description of Web service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rvice Profile provides description of capabilities of Web Service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9900"/>
                </a:solidFill>
                <a:latin typeface="Arial"/>
              </a:rPr>
              <a:t>Allows capability-based discovery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Process Model provides the description of how to use a Web service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00"/>
                </a:solidFill>
                <a:latin typeface="Arial"/>
              </a:rPr>
              <a:t>Allows automatic invocation of Web service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rvice Grounding maps Atomic Processes into WSDL operation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cc"/>
                </a:solidFill>
                <a:latin typeface="Arial"/>
              </a:rPr>
              <a:t>Allows separation between description and implementation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3399"/>
                </a:solidFill>
                <a:latin typeface="Arial"/>
              </a:rPr>
              <a:t>Supports description of arbitrary Web services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OWL-S Upper Ontology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760" y="4543560"/>
            <a:ext cx="42692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Mapping to 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communication protocol  (RPC, HTTP, 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marshalling/seri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transformation to and from XSD to OW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04840" y="1846440"/>
            <a:ext cx="6934320" cy="3163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638680" y="4876920"/>
            <a:ext cx="312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Control flow of the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Black/Grey/Glass Box 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Protocol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Abstract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33520" y="2851200"/>
            <a:ext cx="28764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Capability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General features of the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Quality of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Classification in 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taxonom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Service Profile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62520" y="2819520"/>
            <a:ext cx="4876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rvice Profile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Presented by a service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Represent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Arial"/>
              </a:rPr>
              <a:t>what the service provides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wo main uses: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76"/>
              </a:spcBef>
              <a:buClr>
                <a:srgbClr val="40404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</a:rPr>
              <a:t>Advertisements of Web Services capabilities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76"/>
              </a:spcBef>
              <a:buClr>
                <a:srgbClr val="40404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</a:rPr>
              <a:t>Request of Web services with a given set of capabilities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8080" y="1590840"/>
            <a:ext cx="6354720" cy="378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OWL-S Profile in a Nutshell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Describes Web service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What capabilities it provides: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Arial"/>
              </a:rPr>
              <a:t>What transformation the service computes</a:t>
            </a:r>
            <a:endParaRPr b="0" lang="en-US" sz="17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Arial"/>
              </a:rPr>
              <a:t>Type of service and products</a:t>
            </a:r>
            <a:endParaRPr b="0" lang="en-US" sz="17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General features such a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Arial"/>
              </a:rPr>
              <a:t>Agent providing the service</a:t>
            </a:r>
            <a:endParaRPr b="0" lang="en-US" sz="17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Arial"/>
              </a:rPr>
              <a:t>Security requirements</a:t>
            </a:r>
            <a:endParaRPr b="0" lang="en-US" sz="17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Arial"/>
              </a:rPr>
              <a:t>Quality guarantees of service</a:t>
            </a:r>
            <a:endParaRPr b="0" lang="en-US" sz="17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Primary role: to assist discovery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llows capability based search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llows selection based on requirements of the requester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rofile does not specify use/invocation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0707"/>
                </a:solidFill>
                <a:latin typeface="Arial"/>
              </a:rPr>
              <a:t>OWL-S Service Profile</a:t>
            </a:r>
            <a:br>
              <a:rPr sz="3200"/>
            </a:br>
            <a:r>
              <a:rPr b="1" lang="en-US" sz="3600" spc="-1" strike="noStrike">
                <a:solidFill>
                  <a:srgbClr val="9b0707"/>
                </a:solidFill>
                <a:latin typeface="Arial"/>
              </a:rPr>
              <a:t>Capability Description</a:t>
            </a:r>
            <a:endParaRPr b="0" lang="en-US" sz="3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2400" y="1526760"/>
            <a:ext cx="84740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Preconditions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et of conditions that should hold prior to service invocation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Inputs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et of necessary inputs that the requester should provide to invoke the service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Outputs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esults that the requester should expect after interaction with the service provider is completed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Effects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et of statements that should hold true if the service is invoked successfully.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Service type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What kind of service is provided (eg selling vs distribution)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Product associated with the service (eg travel vs books vs auto parts)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0707"/>
                </a:solidFill>
                <a:latin typeface="Arial"/>
              </a:rPr>
              <a:t>OWL-S Service Profile</a:t>
            </a:r>
            <a:br>
              <a:rPr sz="3200"/>
            </a:br>
            <a:r>
              <a:rPr b="1" lang="en-US" sz="3600" spc="-1" strike="noStrike">
                <a:solidFill>
                  <a:srgbClr val="9b0707"/>
                </a:solidFill>
                <a:latin typeface="Arial"/>
              </a:rPr>
              <a:t>Additional Properties</a:t>
            </a:r>
            <a:endParaRPr b="0" lang="en-US" sz="3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8720" y="1526760"/>
            <a:ext cx="83977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ecurity Parameter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pecify the security capabilities of a Web service (eg support X509 Encryption)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pecify the security requirements of a Web service (eg a client should be able to provide X509 Encryption)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Quality rating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What level of service quality does the Web service provide?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Description with standard business taxonomie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would the service be classified in standard taxonomies such as UNSPSC or NAICS?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This is not a closed set, new properties can be added using existing ontologie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49360" y="1836720"/>
            <a:ext cx="5622840" cy="3679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Process Model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3760" y="2445840"/>
            <a:ext cx="35924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Process Model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Describes how a service works: internal processes of the service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Specifies service interaction protocol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Specifies abstract messages: ontological type of information transmitted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acilitates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Web service invocation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Composition of Web services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Monitoring of interaction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Viewpoints of Process Model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1200" y="1526760"/>
            <a:ext cx="8445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Three viewpoints of a Web service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lass Box: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</a:rPr>
              <a:t>The Web service reveals all its internal structure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</a:rPr>
              <a:t>Which parts of the service it performs in-house, which one it subcontracts, etc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lack Box: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</a:rPr>
              <a:t>The Web service model does not reveal anything about the internal working of the service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</a:rPr>
              <a:t>It just specifies what data it gathers and what data it sends back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Grey Box: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</a:rPr>
              <a:t>The Web service selectively hides some parts of its Process Model, while it publicizes others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0:12:30Z</dcterms:created>
  <dc:creator>Michael Stollberg</dc:creator>
  <dc:description/>
  <dc:language>en-US</dc:language>
  <cp:lastModifiedBy>vt666</cp:lastModifiedBy>
  <dcterms:modified xsi:type="dcterms:W3CDTF">2005-08-31T14:24:58Z</dcterms:modified>
  <cp:revision>597</cp:revision>
  <dc:subject/>
  <dc:title>Semantic Web Services Tutorial  ESWC 2005 </dc:title>
</cp:coreProperties>
</file>