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A62C-5AFB-48C0-AF38-72F91585FA4C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63FC-5994-45B6-A007-760F298F7738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image" Target="../media/image7.jpe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jpeg"/><Relationship Id="rId1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782800" y="5634000"/>
          <a:ext cx="1225800" cy="113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82800" y="5634000"/>
                    <a:ext cx="1225800" cy="11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3189240" y="351000"/>
          <a:ext cx="568440" cy="56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89240" y="351000"/>
                    <a:ext cx="5684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5345280" y="320760"/>
          <a:ext cx="568080" cy="56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45280" y="320760"/>
                    <a:ext cx="56808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7242120" y="0"/>
            <a:ext cx="1473120" cy="1150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9"/>
          <a:stretch/>
        </p:blipFill>
        <p:spPr>
          <a:xfrm>
            <a:off x="3997440" y="122400"/>
            <a:ext cx="1025280" cy="102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10"/>
          <a:stretch/>
        </p:blipFill>
        <p:spPr>
          <a:xfrm>
            <a:off x="398520" y="152280"/>
            <a:ext cx="1766880" cy="865440"/>
          </a:xfrm>
          <a:prstGeom prst="rect">
            <a:avLst/>
          </a:prstGeom>
          <a:ln w="0">
            <a:noFill/>
          </a:ln>
        </p:spPr>
      </p:pic>
      <p:grpSp>
        <p:nvGrpSpPr>
          <p:cNvPr id="92" name=""/>
          <p:cNvGrpSpPr/>
          <p:nvPr/>
        </p:nvGrpSpPr>
        <p:grpSpPr>
          <a:xfrm>
            <a:off x="228600" y="5676840"/>
            <a:ext cx="1800360" cy="967680"/>
            <a:chOff x="228600" y="5676840"/>
            <a:chExt cx="1800360" cy="967680"/>
          </a:xfrm>
        </p:grpSpPr>
        <p:pic>
          <p:nvPicPr>
            <p:cNvPr id="93" name="" descr=""/>
            <p:cNvPicPr/>
            <p:nvPr/>
          </p:nvPicPr>
          <p:blipFill>
            <a:blip r:embed="rId11"/>
            <a:stretch/>
          </p:blipFill>
          <p:spPr>
            <a:xfrm>
              <a:off x="228600" y="5676840"/>
              <a:ext cx="180036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50280" y="6210000"/>
              <a:ext cx="155700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Carnegie Mell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0033"/>
                  </a:solidFill>
                  <a:latin typeface="Arial"/>
                </a:rPr>
                <a:t>Univers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" name="" descr=""/>
          <p:cNvPicPr/>
          <p:nvPr/>
        </p:nvPicPr>
        <p:blipFill>
          <a:blip r:embed="rId12"/>
          <a:stretch/>
        </p:blipFill>
        <p:spPr>
          <a:xfrm>
            <a:off x="4788000" y="5708520"/>
            <a:ext cx="1690560" cy="952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3"/>
          <a:stretch/>
        </p:blipFill>
        <p:spPr>
          <a:xfrm>
            <a:off x="6827760" y="5889600"/>
            <a:ext cx="2163960" cy="6573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49200" y="3492360"/>
            <a:ext cx="1650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Katia Syca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Massimo Paoluc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03520" y="3492360"/>
            <a:ext cx="161280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Christoph Buss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Emilia Cimpia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Matthew Mor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Michael Stoll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Michal Zarem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26160" y="3492360"/>
            <a:ext cx="1612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Liliana Cabr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John Doming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61040" y="3484440"/>
            <a:ext cx="1613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Daniela Berar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b0707"/>
                </a:solidFill>
                <a:latin typeface="Arial"/>
              </a:rPr>
              <a:t>Massimo Mece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ntology Definition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95280" y="11426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formal, explicit specification of a shared conzeptualization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  <a:p>
            <a:pPr marL="889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8320" y="4127400"/>
            <a:ext cx="236196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mmonly accepted understa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79132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2057400"/>
            <a:ext cx="198144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ceptual model of a domain (ontological the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31520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2133720"/>
            <a:ext cx="2514600" cy="50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unambiguous terminology defin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811600" y="265752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257720"/>
            <a:ext cx="2361960" cy="752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hine-readability with computational semantic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86120" y="3914640"/>
            <a:ext cx="9360" cy="27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828800" y="3914640"/>
            <a:ext cx="2133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828800" y="361008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962520" y="361008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Ontology Tech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7200" y="1365120"/>
            <a:ext cx="795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To make the Semantic Web working we need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Ontology Languages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expressiv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reasoning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web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Ontology Reasoning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large scale knowledge handl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fault-tolera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stable &amp; scalable inference mach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Ontology Management Techniques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editing and brows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storage and retrie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versioning and evolution Suppo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Ontology Integration Techniques</a:t>
            </a: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ontology mapping, alignment, merg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Arial"/>
              </a:rPr>
              <a:t>semantic interoperability determ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4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Arial"/>
              </a:rPr>
              <a:t>and … </a:t>
            </a: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Applic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eb Services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loosely coupled, reusable component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encapsulate discrete functionality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distributed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programmatically accessible over standard internet protocols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4040"/>
                </a:solidFill>
                <a:latin typeface="Arial"/>
              </a:rPr>
              <a:t>add new level of functionality on top of the current web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The Promise of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085760" y="1876320"/>
            <a:ext cx="7010640" cy="4114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12680" y="1373040"/>
            <a:ext cx="7537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Arial"/>
              </a:rPr>
              <a:t>web-based SOA as new system design paradi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WSDL 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640" y="1184040"/>
            <a:ext cx="8156880" cy="49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Web Service Description Language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W3C effort, WSDL 2 final construction phase 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18080" y="2217600"/>
            <a:ext cx="3809880" cy="3765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-6840" y="2773440"/>
            <a:ext cx="47253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describes interface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consuming a Web Serv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Interface: operations (in- &amp; outp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Access (protocol binding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Endpoint (location of service)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UDDI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279440"/>
            <a:ext cx="8413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Universal Description, Discovery, and Integration Protocol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OASIS driven standardization effort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2960" y="2754360"/>
            <a:ext cx="300168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Registry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Web Servi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provid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servi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technic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68760" y="2149560"/>
            <a:ext cx="4565520" cy="403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OAP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2676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imple Object Access Protocol 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W3C Recommendation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soapfig06" descr="Figure 6 The Other ORPC Request"/>
          <p:cNvPicPr/>
          <p:nvPr/>
        </p:nvPicPr>
        <p:blipFill>
          <a:blip r:embed="rId1"/>
          <a:stretch/>
        </p:blipFill>
        <p:spPr>
          <a:xfrm>
            <a:off x="5000760" y="2825640"/>
            <a:ext cx="3333600" cy="3289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05680" y="3011400"/>
            <a:ext cx="352584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Arial"/>
              </a:rPr>
              <a:t>XML data transp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sender / rece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protocol bi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communication a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  <a:ea typeface="Arial"/>
              </a:rPr>
              <a:t>- cont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9b0707"/>
                </a:solidFill>
                <a:latin typeface="Arial"/>
              </a:rPr>
              <a:t>Lacks of Web Service Technology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8240" y="1526760"/>
            <a:ext cx="81882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current technologies allow usage of Web Services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but: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lvl="1" marL="83520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404040"/>
                </a:solidFill>
                <a:latin typeface="Arial"/>
              </a:rPr>
              <a:t>only syntactical information description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520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yntactic support for discovery, composition and execu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ial"/>
              </a:rPr>
              <a:t>=&gt; Web Service usability, usage, and integration needs to be inspected manually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520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o semantically marked up content / service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520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o support for the Semantic Web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3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=&gt; current Web Service Technology Stack failed to 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realize the promise of Web Services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204480" y="1182240"/>
            <a:ext cx="8426520" cy="29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mantic Web Technology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+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Web Service Technology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mantic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1640" y="4651200"/>
            <a:ext cx="84171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516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Arial"/>
              </a:rPr>
              <a:t>=&gt; Semantic Web Services as integrated solution for realizing the vision of the next generation of the We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80840" y="2008080"/>
            <a:ext cx="47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ow machine supported data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ontologies as data mod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05160" y="384336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utomated discovery, selection, composi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nd web-based execution of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mantic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1360" y="1526760"/>
            <a:ext cx="82454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efine exhaustive description frameworks for describing Web Services and related aspec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Web Service Description Ontologies)</a:t>
            </a: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upport ontologies as underlying data model to allow machine supported data interpretation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Semantic Web aspect)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define semantically driven technologies for automation of the Web Service usage process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Web Service aspect)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7200" y="1317600"/>
            <a:ext cx="79596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art I: Introduction to Semantic Web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art II: Semantic Web Service Ont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OWL-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WS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differences &amp; commonaliti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Coffee Break: 10.30 – 11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art III: Addressing Semantic Web Service Challeng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Discove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Compos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Lunch: 12.30 – 14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art IV: Semantic Web Service Tools &amp;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CMU OWL-S Brow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Service Compo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404040"/>
                </a:solidFill>
                <a:latin typeface="Arial"/>
              </a:rPr>
              <a:t>WSM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404040"/>
                </a:solidFill>
                <a:latin typeface="Arial"/>
              </a:rPr>
              <a:t>Coffee Break: 15.30 – 16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Part V: Hands-On Ses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mantic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3840" y="1628640"/>
            <a:ext cx="857088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sage Process: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ublication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 Make available the description of the capability of a service 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overy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Locate different services suitable for a given task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lection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hoose the most appropriate services among the available ones 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osition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ombine services to achieve a goal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ediation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Solve mismatches (data, protocol, process) among the combined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ecution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Invoke services following programmatic conventions </a:t>
            </a: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Semantic Web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3840" y="1628640"/>
            <a:ext cx="84261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040"/>
                </a:solidFill>
                <a:latin typeface="Arial"/>
              </a:rPr>
              <a:t>Execution support: </a:t>
            </a: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nitoring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Control the execution proces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ensation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Provide transactional support and undo or mitigate unwanted effec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placement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Facilitate the substitution of services by equivalent one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diting: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Verify that service execution occurred in the expected way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ART II: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Semantic Web Service Ontologie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Katia Sycara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Michael Stollberg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Dumitru Roman</a:t>
            </a: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08120" y="1117440"/>
            <a:ext cx="795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OWL-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Upper Ontolo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Service Pro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Process Mo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Service Ground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WSMO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WSMO top level no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Choreography and Me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400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404040"/>
                </a:solidFill>
                <a:latin typeface="Arial"/>
              </a:rPr>
              <a:t>Medi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Differences and Commona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PART I: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9b0707"/>
                </a:solidFill>
                <a:latin typeface="Arial"/>
              </a:rPr>
              <a:t>Introduction to Semantic Web Services</a:t>
            </a:r>
            <a:r>
              <a:rPr b="0" lang="en-US" sz="40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4295880"/>
            <a:ext cx="640080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04040"/>
                </a:solidFill>
                <a:latin typeface="Arial"/>
              </a:rPr>
              <a:t>Michael Stollberg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Conte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27200" y="1365120"/>
            <a:ext cx="795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The vision of the Semantic We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Ontologies as the basic building 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Current Web Service Technologi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76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4040"/>
                </a:solidFill>
                <a:latin typeface="Arial"/>
              </a:rPr>
              <a:t>Vision and Challenges for Semantic Web Servi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03120" y="4915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-625320" y="-2399400"/>
            <a:ext cx="8839080" cy="731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0" y="0"/>
                </a:moveTo>
                <a:arcTo wR="10800" hR="10800" stAng="-5415826" swAng="5415826"/>
                <a:lnTo>
                  <a:pt x="10800" y="10800"/>
                </a:lnTo>
                <a:close/>
              </a:path>
              <a:path fill="none" w="21600" h="21600">
                <a:moveTo>
                  <a:pt x="10750" y="0"/>
                </a:moveTo>
                <a:arcTo wR="10800" hR="10800" stAng="-5415826" swAng="5415826"/>
              </a:path>
            </a:pathLst>
          </a:cu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53444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212720" y="1411200"/>
            <a:ext cx="3816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500 million users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more than 3 billion pages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3800" y="467676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68360" y="2203560"/>
            <a:ext cx="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The Vis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childTnLst>
                                    <p:set>
                                      <p:cBhvr>
                                        <p:cTn id="6" dur="1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423160" y="467676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0440" y="5011560"/>
            <a:ext cx="7207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43520" y="3571920"/>
            <a:ext cx="14292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14440" y="1410840"/>
            <a:ext cx="3887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Serious Problems in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information finding,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information extracting,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information representing,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information interpreting and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  <a:p>
            <a:pPr lvl="2" marL="1143000" indent="-228600">
              <a:spcBef>
                <a:spcPts val="374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04040"/>
                </a:solidFill>
                <a:latin typeface="Arial"/>
              </a:rPr>
              <a:t>and information maintaining.</a:t>
            </a:r>
            <a:endParaRPr b="0" lang="en-US" sz="15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696280" y="4676760"/>
            <a:ext cx="278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212840" y="49150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78080" y="2203560"/>
            <a:ext cx="0" cy="3627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The Vis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432880" y="464832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7440" y="2174760"/>
            <a:ext cx="0" cy="362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79800" y="4983120"/>
            <a:ext cx="7210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057280" y="273384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285880" y="2966760"/>
            <a:ext cx="35910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ringing the computer back as a device for computation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4648320"/>
            <a:ext cx="278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6520" y="260676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2880" y="2416320"/>
            <a:ext cx="26571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DDI, WSDL,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079800" y="3325680"/>
            <a:ext cx="0" cy="11527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22200" y="48862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The Vis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413800" y="4629240"/>
            <a:ext cx="2271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W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RI, HTML, HT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68360" y="2155680"/>
            <a:ext cx="0" cy="362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61080" y="4964040"/>
            <a:ext cx="72072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21440" y="201132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088800" y="1554120"/>
            <a:ext cx="461196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ringing the web to its full potential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686560" y="4629240"/>
            <a:ext cx="2783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DF, RDF(S), O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7440" y="25876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13080" y="2397240"/>
            <a:ext cx="2663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DDI, WSDL, SO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60720" y="3306600"/>
            <a:ext cx="0" cy="115272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03120" y="486720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726160" y="2324160"/>
            <a:ext cx="27838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mantic We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21440" y="2874960"/>
            <a:ext cx="36036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373800" y="3451320"/>
            <a:ext cx="0" cy="1008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The Vis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246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b0707"/>
                </a:solidFill>
                <a:latin typeface="Arial"/>
              </a:rPr>
              <a:t>The Semantic We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7200" y="1365120"/>
            <a:ext cx="79596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the next generation of the WW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nformation has machine-processable and machine-understandable semanti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not a separate Web but an augmentation of the curren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4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404040"/>
                </a:solidFill>
                <a:latin typeface="Arial"/>
              </a:rPr>
              <a:t>Ontologies as basic building blo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23:23Z</dcterms:modified>
  <cp:revision>597</cp:revision>
  <dc:subject/>
  <dc:title>Semantic Web Services Tutorial  ESWC 2005 </dc:title>
</cp:coreProperties>
</file>