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95480" y="1609200"/>
            <a:ext cx="75088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5480" y="4064040"/>
            <a:ext cx="75088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95480" y="160920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3160" y="160920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95480" y="406404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3160" y="406404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5480" y="1609200"/>
            <a:ext cx="24177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34560" y="1609200"/>
            <a:ext cx="24177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3640" y="1609200"/>
            <a:ext cx="24177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95480" y="4064040"/>
            <a:ext cx="24177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34560" y="4064040"/>
            <a:ext cx="24177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3640" y="4064040"/>
            <a:ext cx="241776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95480" y="1609200"/>
            <a:ext cx="75088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95480" y="1609200"/>
            <a:ext cx="75088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5480" y="1609200"/>
            <a:ext cx="36640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3160" y="1609200"/>
            <a:ext cx="36640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09560" y="190440"/>
            <a:ext cx="63914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5480" y="160920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3160" y="1609200"/>
            <a:ext cx="36640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95480" y="406404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5480" y="1609200"/>
            <a:ext cx="36640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3160" y="160920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3160" y="406404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95480" y="160920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3160" y="1609200"/>
            <a:ext cx="36640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95480" y="4064040"/>
            <a:ext cx="750888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9560" y="19044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5480" y="1609200"/>
            <a:ext cx="75088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e1e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5517360" y="3949560"/>
            <a:ext cx="3565440" cy="1911240"/>
            <a:chOff x="5517360" y="3949560"/>
            <a:chExt cx="3565440" cy="1911240"/>
          </a:xfrm>
        </p:grpSpPr>
        <p:sp>
          <p:nvSpPr>
            <p:cNvPr id="40" name=""/>
            <p:cNvSpPr/>
            <p:nvPr/>
          </p:nvSpPr>
          <p:spPr>
            <a:xfrm>
              <a:off x="5517360" y="3949560"/>
              <a:ext cx="2734920" cy="8254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English Train Ticket 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ooking Web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57120" y="4322520"/>
              <a:ext cx="2738160" cy="8254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Austrian Train Ticket 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ooking Web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094080" y="4751280"/>
              <a:ext cx="2734920" cy="8254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German Train Ticket 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ooking Web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47880" y="5035320"/>
              <a:ext cx="2734920" cy="8254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French Train Ticket 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ooking Web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37880" y="2200320"/>
            <a:ext cx="892440" cy="1154160"/>
            <a:chOff x="137880" y="2200320"/>
            <a:chExt cx="892440" cy="11541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69920" y="2200320"/>
              <a:ext cx="58608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7880" y="307800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817280" y="3414600"/>
            <a:ext cx="3268080" cy="3443400"/>
            <a:chOff x="1817280" y="3414600"/>
            <a:chExt cx="3268080" cy="34434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1847880" y="4834080"/>
              <a:ext cx="2111400" cy="20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1817280" y="3414600"/>
              <a:ext cx="3268080" cy="1304280"/>
              <a:chOff x="1817280" y="3414600"/>
              <a:chExt cx="3268080" cy="1304280"/>
            </a:xfrm>
          </p:grpSpPr>
          <p:sp>
            <p:nvSpPr>
              <p:cNvPr id="50" name=""/>
              <p:cNvSpPr/>
              <p:nvPr/>
            </p:nvSpPr>
            <p:spPr>
              <a:xfrm>
                <a:off x="1817280" y="3414600"/>
                <a:ext cx="190116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Arial Narrow"/>
                    <a:ea typeface="Osaka"/>
                  </a:rPr>
                  <a:t>Buy book go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953360" y="3697200"/>
                <a:ext cx="213912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Arial Narrow"/>
                    <a:ea typeface="Osaka"/>
                  </a:rPr>
                  <a:t>Book Flight go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56320" y="3978000"/>
                <a:ext cx="302904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Arial Narrow"/>
                    <a:ea typeface="Osaka"/>
                  </a:rPr>
                  <a:t>Buy cinema tickets go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72320" y="4259160"/>
                <a:ext cx="257184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Arial Narrow"/>
                    <a:ea typeface="Osaka"/>
                  </a:rPr>
                  <a:t>Buy train ticket go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4275000" y="2249640"/>
            <a:ext cx="1689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3760" y="2625840"/>
            <a:ext cx="884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63680" y="1042920"/>
            <a:ext cx="0" cy="5050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59320" y="1190520"/>
            <a:ext cx="0" cy="505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125960" y="5905440"/>
            <a:ext cx="2489040" cy="674280"/>
            <a:chOff x="4125960" y="5905440"/>
            <a:chExt cx="2489040" cy="674280"/>
          </a:xfrm>
        </p:grpSpPr>
        <p:graphicFrame>
          <p:nvGraphicFramePr>
            <p:cNvPr id="59" name=""/>
            <p:cNvGraphicFramePr/>
            <p:nvPr/>
          </p:nvGraphicFramePr>
          <p:xfrm>
            <a:off x="4719240" y="6163920"/>
            <a:ext cx="384120" cy="41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19240" y="6163920"/>
                      <a:ext cx="38412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5587920" y="6179040"/>
            <a:ext cx="356760" cy="386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87920" y="6179040"/>
                      <a:ext cx="356760" cy="3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5098680" y="5905440"/>
              <a:ext cx="494280" cy="53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"/>
            <p:cNvGrpSpPr/>
            <p:nvPr/>
          </p:nvGrpSpPr>
          <p:grpSpPr>
            <a:xfrm>
              <a:off x="4125960" y="6038280"/>
              <a:ext cx="524160" cy="320760"/>
              <a:chOff x="4125960" y="6038280"/>
              <a:chExt cx="524160" cy="320760"/>
            </a:xfrm>
          </p:grpSpPr>
          <p:sp>
            <p:nvSpPr>
              <p:cNvPr id="65" name=""/>
              <p:cNvSpPr/>
              <p:nvPr/>
            </p:nvSpPr>
            <p:spPr>
              <a:xfrm>
                <a:off x="4125960" y="6038280"/>
                <a:ext cx="0" cy="3207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127400" y="6343920"/>
                <a:ext cx="522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6602400" y="6013440"/>
              <a:ext cx="0" cy="320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08480" y="6319440"/>
              <a:ext cx="506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391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SWS Applications in IRS III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26040" y="1198440"/>
            <a:ext cx="2538720" cy="2647440"/>
            <a:chOff x="6026040" y="1198440"/>
            <a:chExt cx="2538720" cy="2647440"/>
          </a:xfrm>
        </p:grpSpPr>
        <p:sp>
          <p:nvSpPr>
            <p:cNvPr id="71" name=""/>
            <p:cNvSpPr/>
            <p:nvPr/>
          </p:nvSpPr>
          <p:spPr>
            <a:xfrm>
              <a:off x="6093360" y="3386160"/>
              <a:ext cx="24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Development T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6026040" y="1309680"/>
              <a:ext cx="77760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6608520" y="1198440"/>
              <a:ext cx="7779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1"/>
            <a:stretch/>
          </p:blipFill>
          <p:spPr>
            <a:xfrm>
              <a:off x="6797520" y="1987560"/>
              <a:ext cx="7779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6167160" y="2066760"/>
              <a:ext cx="77796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1893600" y="1266840"/>
            <a:ext cx="2068920" cy="2063160"/>
            <a:chOff x="1893600" y="1266840"/>
            <a:chExt cx="2068920" cy="2063160"/>
          </a:xfrm>
        </p:grpSpPr>
        <p:pic>
          <p:nvPicPr>
            <p:cNvPr id="77" name="" descr=""/>
            <p:cNvPicPr/>
            <p:nvPr/>
          </p:nvPicPr>
          <p:blipFill>
            <a:blip r:embed="rId13"/>
            <a:stretch/>
          </p:blipFill>
          <p:spPr>
            <a:xfrm>
              <a:off x="2230560" y="1353960"/>
              <a:ext cx="7048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4"/>
            <a:stretch/>
          </p:blipFill>
          <p:spPr>
            <a:xfrm>
              <a:off x="2131920" y="1911240"/>
              <a:ext cx="7048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5"/>
            <a:stretch/>
          </p:blipFill>
          <p:spPr>
            <a:xfrm>
              <a:off x="2744640" y="1266840"/>
              <a:ext cx="7048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6"/>
            <a:stretch/>
          </p:blipFill>
          <p:spPr>
            <a:xfrm>
              <a:off x="2797200" y="1800360"/>
              <a:ext cx="704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893600" y="2870280"/>
              <a:ext cx="20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</a:rPr>
                <a:t>Customer T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12:00:26Z</dcterms:created>
  <dc:creator> </dc:creator>
  <dc:description/>
  <dc:language>en-US</dc:language>
  <cp:lastModifiedBy>John Domingue</cp:lastModifiedBy>
  <dcterms:modified xsi:type="dcterms:W3CDTF">2005-01-27T18:05:43Z</dcterms:modified>
  <cp:revision>9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627485</vt:r8>
  </property>
  <property fmtid="{D5CDD505-2E9C-101B-9397-08002B2CF9AE}" pid="3" name="_AuthorEmail">
    <vt:lpwstr>maria.smyth@deri.org</vt:lpwstr>
  </property>
  <property fmtid="{D5CDD505-2E9C-101B-9397-08002B2CF9AE}" pid="4" name="_AuthorEmailDisplayName">
    <vt:lpwstr>Maria Smyth</vt:lpwstr>
  </property>
  <property fmtid="{D5CDD505-2E9C-101B-9397-08002B2CF9AE}" pid="5" name="_EmailSubject">
    <vt:lpwstr>Final Template for Presentation _  Prereview Dec 3rd, Dec, 2004</vt:lpwstr>
  </property>
  <property fmtid="{D5CDD505-2E9C-101B-9397-08002B2CF9AE}" pid="6" name="_NewReviewCycle">
    <vt:lpwstr/>
  </property>
  <property fmtid="{D5CDD505-2E9C-101B-9397-08002B2CF9AE}" pid="7" name="_PreviousAdHocReviewCycleID">
    <vt:r8>-1964188345</vt:r8>
  </property>
  <property fmtid="{D5CDD505-2E9C-101B-9397-08002B2CF9AE}" pid="8" name="_ReviewingToolsShownOnce">
    <vt:lpwstr/>
  </property>
</Properties>
</file>